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9E3-5F73-4171-B4EF-04DCDB7C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C99-56D1-4894-B749-E54C64CD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201-007F-4019-AC58-59D5E12C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03D-BDEE-43FF-BFA9-2362636E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709-B23A-470B-8E37-AD90F55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DE6-4B4E-49B5-93F0-24DCDA46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FCB-E638-4772-B390-725BF204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9D2-DDFB-45DB-83F6-9D423B17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495-9808-4E18-98AE-51A6F8BB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7EC-23B9-48A2-9477-632C78F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223-2B0F-4211-9739-4AEA85B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1AD-A8D6-4B96-A064-5EF7D5C0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D5AD-4E2C-4A05-933D-8081706C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38:00Z</dcterms:created>
  <dc:creator>Cytometry Laboratories</dc:creator>
  <dc:description/>
  <dc:language>en-US</dc:language>
  <cp:lastModifiedBy>Cytometry Laboratories</cp:lastModifiedBy>
  <dcterms:modified xsi:type="dcterms:W3CDTF">1998-04-22T14:46:18Z</dcterms:modified>
  <cp:revision>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