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F523-9B06-4EDB-B8A2-EAA10776B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1820-B32A-4B7C-AAE2-13D50D2C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D952-B1ED-4CCD-8EB4-0D9594702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D4F2-DC14-4182-B53C-DFD20E10E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023C-1627-44BB-9A39-CDB4462A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7840-4B7E-431E-B1E3-36224136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3063-7FFA-4A33-A3B5-4C7D607A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AC57-FA81-46F8-918F-5140C393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D72F-47BB-40DF-87E7-E6E9974D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FCEE-0D90-4B81-A568-81120FF5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A668-7237-4EC0-8A0A-7D322A10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6278-AB99-4585-A32D-EEEB5E18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2490-B7B7-4882-BEB3-D75C331D5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MCASPEC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TXRDSPEC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FITCSPEC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APCSPEC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CY5SPEC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ECY5SP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FITCPEDE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FITCPECY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FRET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2T14:54:34Z</dcterms:created>
  <dc:creator>Cytometry Laboratories</dc:creator>
  <dc:description/>
  <dc:language>en-US</dc:language>
  <cp:lastModifiedBy>Cytometry Laboratories</cp:lastModifiedBy>
  <dcterms:modified xsi:type="dcterms:W3CDTF">1998-04-22T15:05:12Z</dcterms:modified>
  <cp:revision>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TelfordW@hss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K:\htdocs\flowcyt\educate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