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E4F-17A8-4F58-90AD-BF3A3E11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9BA-F9E6-4474-A4EE-2CE24850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0BD-3256-49BC-8924-BF68A93C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824-7282-4DAB-8665-18C82792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23B-B3BB-451F-9E88-B70AB998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8DE-A2D2-4806-8B09-FD350350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FCF-4370-4B85-932C-FAA6A94B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77F-027D-41DE-8535-CDC86295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0A8-79E5-4899-BF18-7BA35500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E33-215E-45D7-8E69-E7E952C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E66-0110-4DDE-AC8B-16CAAFFF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C7E-5251-4284-96DF-BC06D2C1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E88F-906C-4FCE-94C6-7FBD26475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SDETEC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SDETEC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5COLOR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3:55:51Z</dcterms:created>
  <dc:creator>Cytometry Laboratories</dc:creator>
  <dc:description/>
  <dc:language>en-US</dc:language>
  <cp:lastModifiedBy>Cytometry Laboratories</cp:lastModifiedBy>
  <dcterms:modified xsi:type="dcterms:W3CDTF">1998-04-22T14:28:36Z</dcterms:modified>
  <cp:revision>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