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0.wmf" ContentType="image/x-wmf"/>
  <Override PartName="/ppt/media/image28.wmf" ContentType="image/x-wmf"/>
  <Override PartName="/ppt/media/image14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3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7920" y="77760"/>
            <a:ext cx="6772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ALYSIS OF IMMUNOFLUORESC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736560" y="987480"/>
            <a:ext cx="56674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D MULTIPARAMETER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87440" y="1662120"/>
            <a:ext cx="46450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leton C. Stewart, Ph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8400" y="6918480"/>
            <a:ext cx="6835680" cy="1860480"/>
            <a:chOff x="68400" y="6918480"/>
            <a:chExt cx="6835680" cy="1860480"/>
          </a:xfrm>
        </p:grpSpPr>
        <p:sp>
          <p:nvSpPr>
            <p:cNvPr id="42" name=""/>
            <p:cNvSpPr txBox="1"/>
            <p:nvPr/>
          </p:nvSpPr>
          <p:spPr>
            <a:xfrm>
              <a:off x="68400" y="6918480"/>
              <a:ext cx="68356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DEPARTMENT OF HEALTH, STATE OF NEW Y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934920" y="7213680"/>
              <a:ext cx="4148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ELM AND CARLTON STRE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1352520" y="7502400"/>
              <a:ext cx="2909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BUFFALO, NY 142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333440" y="7799400"/>
              <a:ext cx="2940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phone 716-845-84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424160" y="8096400"/>
              <a:ext cx="2681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FAX 716-845-880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360" y="8385120"/>
              <a:ext cx="5337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email:stewart@sc3101.med.buffalo.e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314360" y="2976480"/>
            <a:ext cx="3702240" cy="3178080"/>
            <a:chOff x="1314360" y="2976480"/>
            <a:chExt cx="3702240" cy="3178080"/>
          </a:xfrm>
        </p:grpSpPr>
        <p:sp>
          <p:nvSpPr>
            <p:cNvPr id="49" name=""/>
            <p:cNvSpPr txBox="1"/>
            <p:nvPr/>
          </p:nvSpPr>
          <p:spPr>
            <a:xfrm>
              <a:off x="1428840" y="2976480"/>
              <a:ext cx="63828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1962000" y="2976480"/>
              <a:ext cx="35244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2308320" y="3378240"/>
              <a:ext cx="9050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AR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198960" y="3002040"/>
              <a:ext cx="60012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095640" y="3062160"/>
              <a:ext cx="46044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892160" y="3100320"/>
              <a:ext cx="115236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OSW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846440" y="3306600"/>
              <a:ext cx="5619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5760" y="3262320"/>
              <a:ext cx="0" cy="2476440"/>
            </a:xfrm>
            <a:prstGeom prst="line">
              <a:avLst/>
            </a:prstGeom>
            <a:ln w="38160">
              <a:solidFill>
                <a:srgbClr val="008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1314360" y="4127400"/>
              <a:ext cx="60012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20884"/>
                  </a:solidFill>
                  <a:latin typeface="Times New Roman"/>
                  <a:ea typeface="Times New Roman"/>
                </a:rPr>
                <a:t>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638520" y="4505400"/>
              <a:ext cx="13111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8011"/>
                  </a:solidFill>
                  <a:latin typeface="Times New Roman"/>
                  <a:ea typeface="Times New Roman"/>
                </a:rPr>
                <a:t>Cancer Instit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569960" y="4325760"/>
              <a:ext cx="1057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20884"/>
                  </a:solidFill>
                  <a:latin typeface="Times New Roman"/>
                  <a:ea typeface="Times New Roman"/>
                </a:rPr>
                <a:t>abora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06480" y="4782960"/>
              <a:ext cx="3210120" cy="0"/>
            </a:xfrm>
            <a:prstGeom prst="line">
              <a:avLst/>
            </a:prstGeom>
            <a:ln w="25560">
              <a:solidFill>
                <a:srgbClr val="f208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846440" y="5230800"/>
              <a:ext cx="88596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f20884"/>
                  </a:solidFill>
                  <a:latin typeface="Times New Roman"/>
                  <a:ea typeface="Times New Roman"/>
                </a:rPr>
                <a:t>Flow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00440" y="3857760"/>
              <a:ext cx="1616040" cy="1555560"/>
            </a:xfrm>
            <a:prstGeom prst="line">
              <a:avLst/>
            </a:prstGeom>
            <a:ln w="25560">
              <a:solidFill>
                <a:srgbClr val="00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1892160" y="4838760"/>
              <a:ext cx="38736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f20884"/>
                  </a:solidFill>
                  <a:latin typeface="Times New Roman"/>
                  <a:ea typeface="Times New Roman"/>
                </a:rPr>
                <a:t>of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030400" y="5654520"/>
              <a:ext cx="164772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f20884"/>
                  </a:solidFill>
                  <a:latin typeface="Times New Roman"/>
                  <a:ea typeface="Times New Roman"/>
                </a:rPr>
                <a:t>Cytometr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08400" y="4678200"/>
              <a:ext cx="241200" cy="1983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1554120" y="2082960"/>
            <a:ext cx="39387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d Sigrid J. Stew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39680" y="1320840"/>
            <a:ext cx="5319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toring of antibod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96920" y="2847960"/>
            <a:ext cx="61117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roteases destroy antibod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08080" y="3222720"/>
            <a:ext cx="26557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scitic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08080" y="3521160"/>
            <a:ext cx="1609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e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08080" y="3819600"/>
            <a:ext cx="1959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35080" y="4265640"/>
            <a:ext cx="33955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Use sodium az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6000" y="4678200"/>
            <a:ext cx="5934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Use highly purified albumin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38320" y="5148360"/>
            <a:ext cx="3324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gelatin as 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5080" y="5770440"/>
            <a:ext cx="6261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urify antibodies in ascitic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38320" y="6278400"/>
            <a:ext cx="2498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21188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-20520"/>
            <a:ext cx="6286680" cy="91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280" y="2959200"/>
            <a:ext cx="67816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708660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74000" cy="877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251000" y="3403440"/>
            <a:ext cx="4344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VERIFICATION OF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49240" y="4006800"/>
            <a:ext cx="5160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  </a:t>
            </a: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FcR and non-specific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06400" y="4595760"/>
            <a:ext cx="3387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FL-MAB  +  PE-mI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57320" y="5199120"/>
            <a:ext cx="4697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gIgG  +  FL-MAB  +  PE-mI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0" y="122400"/>
            <a:ext cx="6738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FFECT OF BLOCKING ON MAB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33360" y="431640"/>
            <a:ext cx="45007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5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TO </a:t>
            </a: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MONONUCLEAR</a:t>
            </a:r>
            <a:r>
              <a:rPr b="1" lang="en-US" sz="25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73200" y="464040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90680" y="1042920"/>
            <a:ext cx="0" cy="755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8604360"/>
            <a:ext cx="422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1320" y="2006640"/>
            <a:ext cx="33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05080" y="59212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049480" y="8621640"/>
            <a:ext cx="2509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EL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81000" y="1987560"/>
            <a:ext cx="3682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57240" y="2278080"/>
            <a:ext cx="4143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57240" y="2568600"/>
            <a:ext cx="4078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28880" y="2857680"/>
            <a:ext cx="2811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81000" y="3147840"/>
            <a:ext cx="3794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81000" y="3438360"/>
            <a:ext cx="3682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57240" y="3727440"/>
            <a:ext cx="3967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57240" y="4017960"/>
            <a:ext cx="4143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69840" y="4307040"/>
            <a:ext cx="4078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69840" y="4597560"/>
            <a:ext cx="3920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81000" y="4888080"/>
            <a:ext cx="3729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69840" y="5176800"/>
            <a:ext cx="3967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69840" y="5467320"/>
            <a:ext cx="3920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57240" y="5757840"/>
            <a:ext cx="3967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69840" y="6046920"/>
            <a:ext cx="3967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69840" y="6337440"/>
            <a:ext cx="3920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28920" y="998640"/>
            <a:ext cx="3086280" cy="1003680"/>
          </a:xfrm>
          <a:custGeom>
            <a:avLst/>
            <a:gdLst/>
            <a:ahLst/>
            <a:rect l="0" t="0" r="r" b="b"/>
            <a:pathLst>
              <a:path fill="none" w="8573" h="2788">
                <a:moveTo>
                  <a:pt x="0" y="2788"/>
                </a:moveTo>
                <a:lnTo>
                  <a:pt x="35" y="2788"/>
                </a:lnTo>
                <a:lnTo>
                  <a:pt x="35" y="2753"/>
                </a:lnTo>
                <a:lnTo>
                  <a:pt x="70" y="2753"/>
                </a:lnTo>
                <a:lnTo>
                  <a:pt x="70" y="2722"/>
                </a:lnTo>
                <a:lnTo>
                  <a:pt x="101" y="2722"/>
                </a:lnTo>
                <a:lnTo>
                  <a:pt x="136" y="2687"/>
                </a:lnTo>
                <a:lnTo>
                  <a:pt x="167" y="2687"/>
                </a:lnTo>
                <a:lnTo>
                  <a:pt x="202" y="2652"/>
                </a:lnTo>
                <a:lnTo>
                  <a:pt x="233" y="2652"/>
                </a:lnTo>
                <a:lnTo>
                  <a:pt x="268" y="2652"/>
                </a:lnTo>
                <a:lnTo>
                  <a:pt x="268" y="2621"/>
                </a:lnTo>
                <a:lnTo>
                  <a:pt x="299" y="2586"/>
                </a:lnTo>
                <a:lnTo>
                  <a:pt x="335" y="2586"/>
                </a:lnTo>
                <a:lnTo>
                  <a:pt x="370" y="2586"/>
                </a:lnTo>
                <a:lnTo>
                  <a:pt x="370" y="2550"/>
                </a:lnTo>
                <a:lnTo>
                  <a:pt x="401" y="2550"/>
                </a:lnTo>
                <a:lnTo>
                  <a:pt x="401" y="2519"/>
                </a:lnTo>
                <a:lnTo>
                  <a:pt x="436" y="2519"/>
                </a:lnTo>
                <a:lnTo>
                  <a:pt x="436" y="2484"/>
                </a:lnTo>
                <a:lnTo>
                  <a:pt x="467" y="2484"/>
                </a:lnTo>
                <a:lnTo>
                  <a:pt x="467" y="2453"/>
                </a:lnTo>
                <a:lnTo>
                  <a:pt x="467" y="2418"/>
                </a:lnTo>
                <a:lnTo>
                  <a:pt x="502" y="2418"/>
                </a:lnTo>
                <a:lnTo>
                  <a:pt x="502" y="2383"/>
                </a:lnTo>
                <a:lnTo>
                  <a:pt x="533" y="2352"/>
                </a:lnTo>
                <a:lnTo>
                  <a:pt x="533" y="2317"/>
                </a:lnTo>
                <a:lnTo>
                  <a:pt x="568" y="2317"/>
                </a:lnTo>
                <a:lnTo>
                  <a:pt x="568" y="2286"/>
                </a:lnTo>
                <a:lnTo>
                  <a:pt x="568" y="2250"/>
                </a:lnTo>
                <a:lnTo>
                  <a:pt x="604" y="2215"/>
                </a:lnTo>
                <a:lnTo>
                  <a:pt x="604" y="2184"/>
                </a:lnTo>
                <a:lnTo>
                  <a:pt x="635" y="2184"/>
                </a:lnTo>
                <a:lnTo>
                  <a:pt x="635" y="2149"/>
                </a:lnTo>
                <a:lnTo>
                  <a:pt x="635" y="2118"/>
                </a:lnTo>
                <a:lnTo>
                  <a:pt x="670" y="2118"/>
                </a:lnTo>
                <a:lnTo>
                  <a:pt x="670" y="2082"/>
                </a:lnTo>
                <a:lnTo>
                  <a:pt x="670" y="2047"/>
                </a:lnTo>
                <a:lnTo>
                  <a:pt x="701" y="2047"/>
                </a:lnTo>
                <a:lnTo>
                  <a:pt x="701" y="2016"/>
                </a:lnTo>
                <a:lnTo>
                  <a:pt x="701" y="1980"/>
                </a:lnTo>
                <a:lnTo>
                  <a:pt x="736" y="1980"/>
                </a:lnTo>
                <a:lnTo>
                  <a:pt x="736" y="1950"/>
                </a:lnTo>
                <a:lnTo>
                  <a:pt x="767" y="1950"/>
                </a:lnTo>
                <a:lnTo>
                  <a:pt x="767" y="1914"/>
                </a:lnTo>
                <a:lnTo>
                  <a:pt x="767" y="1879"/>
                </a:lnTo>
                <a:lnTo>
                  <a:pt x="802" y="1879"/>
                </a:lnTo>
                <a:lnTo>
                  <a:pt x="802" y="1848"/>
                </a:lnTo>
                <a:lnTo>
                  <a:pt x="802" y="1813"/>
                </a:lnTo>
                <a:lnTo>
                  <a:pt x="802" y="1778"/>
                </a:lnTo>
                <a:lnTo>
                  <a:pt x="833" y="1778"/>
                </a:lnTo>
                <a:lnTo>
                  <a:pt x="833" y="1711"/>
                </a:lnTo>
                <a:lnTo>
                  <a:pt x="868" y="1681"/>
                </a:lnTo>
                <a:lnTo>
                  <a:pt x="868" y="1645"/>
                </a:lnTo>
                <a:lnTo>
                  <a:pt x="903" y="1610"/>
                </a:lnTo>
                <a:lnTo>
                  <a:pt x="903" y="1544"/>
                </a:lnTo>
                <a:lnTo>
                  <a:pt x="934" y="1442"/>
                </a:lnTo>
                <a:lnTo>
                  <a:pt x="970" y="1376"/>
                </a:lnTo>
                <a:lnTo>
                  <a:pt x="970" y="1345"/>
                </a:lnTo>
                <a:lnTo>
                  <a:pt x="1001" y="1275"/>
                </a:lnTo>
                <a:lnTo>
                  <a:pt x="1001" y="1209"/>
                </a:lnTo>
                <a:lnTo>
                  <a:pt x="1036" y="1173"/>
                </a:lnTo>
                <a:lnTo>
                  <a:pt x="1036" y="1107"/>
                </a:lnTo>
                <a:lnTo>
                  <a:pt x="1036" y="1076"/>
                </a:lnTo>
                <a:lnTo>
                  <a:pt x="1036" y="1041"/>
                </a:lnTo>
                <a:lnTo>
                  <a:pt x="1036" y="975"/>
                </a:lnTo>
                <a:lnTo>
                  <a:pt x="1036" y="940"/>
                </a:lnTo>
                <a:lnTo>
                  <a:pt x="1036" y="909"/>
                </a:lnTo>
                <a:lnTo>
                  <a:pt x="1036" y="874"/>
                </a:lnTo>
                <a:lnTo>
                  <a:pt x="1036" y="807"/>
                </a:lnTo>
                <a:lnTo>
                  <a:pt x="1036" y="772"/>
                </a:lnTo>
                <a:lnTo>
                  <a:pt x="1036" y="706"/>
                </a:lnTo>
                <a:lnTo>
                  <a:pt x="1036" y="670"/>
                </a:lnTo>
                <a:lnTo>
                  <a:pt x="1036" y="604"/>
                </a:lnTo>
                <a:lnTo>
                  <a:pt x="1036" y="568"/>
                </a:lnTo>
                <a:lnTo>
                  <a:pt x="1067" y="537"/>
                </a:lnTo>
                <a:lnTo>
                  <a:pt x="1067" y="502"/>
                </a:lnTo>
                <a:lnTo>
                  <a:pt x="1067" y="471"/>
                </a:lnTo>
                <a:lnTo>
                  <a:pt x="1067" y="436"/>
                </a:lnTo>
                <a:lnTo>
                  <a:pt x="1067" y="401"/>
                </a:lnTo>
                <a:lnTo>
                  <a:pt x="1102" y="370"/>
                </a:lnTo>
                <a:lnTo>
                  <a:pt x="1102" y="335"/>
                </a:lnTo>
                <a:lnTo>
                  <a:pt x="1102" y="304"/>
                </a:lnTo>
                <a:lnTo>
                  <a:pt x="1133" y="268"/>
                </a:lnTo>
                <a:lnTo>
                  <a:pt x="1133" y="233"/>
                </a:lnTo>
                <a:lnTo>
                  <a:pt x="1168" y="167"/>
                </a:lnTo>
                <a:lnTo>
                  <a:pt x="1168" y="136"/>
                </a:lnTo>
                <a:lnTo>
                  <a:pt x="1168" y="101"/>
                </a:lnTo>
                <a:lnTo>
                  <a:pt x="1203" y="101"/>
                </a:lnTo>
                <a:lnTo>
                  <a:pt x="1203" y="35"/>
                </a:lnTo>
                <a:lnTo>
                  <a:pt x="1234" y="35"/>
                </a:lnTo>
                <a:lnTo>
                  <a:pt x="1234" y="0"/>
                </a:lnTo>
                <a:lnTo>
                  <a:pt x="1270" y="0"/>
                </a:lnTo>
                <a:lnTo>
                  <a:pt x="1270" y="35"/>
                </a:lnTo>
                <a:lnTo>
                  <a:pt x="1300" y="35"/>
                </a:lnTo>
                <a:lnTo>
                  <a:pt x="1300" y="66"/>
                </a:lnTo>
                <a:lnTo>
                  <a:pt x="1336" y="66"/>
                </a:lnTo>
                <a:lnTo>
                  <a:pt x="1336" y="101"/>
                </a:lnTo>
                <a:lnTo>
                  <a:pt x="1367" y="101"/>
                </a:lnTo>
                <a:lnTo>
                  <a:pt x="1367" y="136"/>
                </a:lnTo>
                <a:lnTo>
                  <a:pt x="1367" y="167"/>
                </a:lnTo>
                <a:lnTo>
                  <a:pt x="1367" y="202"/>
                </a:lnTo>
                <a:lnTo>
                  <a:pt x="1367" y="233"/>
                </a:lnTo>
                <a:lnTo>
                  <a:pt x="1402" y="233"/>
                </a:lnTo>
                <a:lnTo>
                  <a:pt x="1402" y="268"/>
                </a:lnTo>
                <a:lnTo>
                  <a:pt x="1402" y="304"/>
                </a:lnTo>
                <a:lnTo>
                  <a:pt x="1402" y="335"/>
                </a:lnTo>
                <a:lnTo>
                  <a:pt x="1402" y="370"/>
                </a:lnTo>
                <a:lnTo>
                  <a:pt x="1437" y="370"/>
                </a:lnTo>
                <a:lnTo>
                  <a:pt x="1437" y="401"/>
                </a:lnTo>
                <a:lnTo>
                  <a:pt x="1437" y="436"/>
                </a:lnTo>
                <a:lnTo>
                  <a:pt x="1437" y="471"/>
                </a:lnTo>
                <a:lnTo>
                  <a:pt x="1437" y="502"/>
                </a:lnTo>
                <a:lnTo>
                  <a:pt x="1437" y="537"/>
                </a:lnTo>
                <a:lnTo>
                  <a:pt x="1468" y="568"/>
                </a:lnTo>
                <a:lnTo>
                  <a:pt x="1468" y="604"/>
                </a:lnTo>
                <a:lnTo>
                  <a:pt x="1468" y="639"/>
                </a:lnTo>
                <a:lnTo>
                  <a:pt x="1468" y="670"/>
                </a:lnTo>
                <a:lnTo>
                  <a:pt x="1468" y="706"/>
                </a:lnTo>
                <a:lnTo>
                  <a:pt x="1468" y="741"/>
                </a:lnTo>
                <a:lnTo>
                  <a:pt x="1503" y="741"/>
                </a:lnTo>
                <a:lnTo>
                  <a:pt x="1503" y="772"/>
                </a:lnTo>
                <a:lnTo>
                  <a:pt x="1503" y="807"/>
                </a:lnTo>
                <a:lnTo>
                  <a:pt x="1503" y="838"/>
                </a:lnTo>
                <a:lnTo>
                  <a:pt x="1534" y="874"/>
                </a:lnTo>
                <a:lnTo>
                  <a:pt x="1534" y="909"/>
                </a:lnTo>
                <a:lnTo>
                  <a:pt x="1569" y="909"/>
                </a:lnTo>
                <a:lnTo>
                  <a:pt x="1569" y="940"/>
                </a:lnTo>
                <a:lnTo>
                  <a:pt x="1569" y="975"/>
                </a:lnTo>
                <a:lnTo>
                  <a:pt x="1569" y="1006"/>
                </a:lnTo>
                <a:lnTo>
                  <a:pt x="1600" y="1006"/>
                </a:lnTo>
                <a:lnTo>
                  <a:pt x="1600" y="1076"/>
                </a:lnTo>
                <a:lnTo>
                  <a:pt x="1600" y="1107"/>
                </a:lnTo>
                <a:lnTo>
                  <a:pt x="1600" y="1143"/>
                </a:lnTo>
                <a:lnTo>
                  <a:pt x="1636" y="1173"/>
                </a:lnTo>
                <a:lnTo>
                  <a:pt x="1636" y="1209"/>
                </a:lnTo>
                <a:lnTo>
                  <a:pt x="1666" y="1209"/>
                </a:lnTo>
                <a:lnTo>
                  <a:pt x="1666" y="1244"/>
                </a:lnTo>
                <a:lnTo>
                  <a:pt x="1666" y="1275"/>
                </a:lnTo>
                <a:lnTo>
                  <a:pt x="1666" y="1310"/>
                </a:lnTo>
                <a:lnTo>
                  <a:pt x="1666" y="1345"/>
                </a:lnTo>
                <a:lnTo>
                  <a:pt x="1666" y="1412"/>
                </a:lnTo>
                <a:lnTo>
                  <a:pt x="1702" y="1442"/>
                </a:lnTo>
                <a:lnTo>
                  <a:pt x="1702" y="1478"/>
                </a:lnTo>
                <a:lnTo>
                  <a:pt x="1702" y="1513"/>
                </a:lnTo>
                <a:lnTo>
                  <a:pt x="1702" y="1544"/>
                </a:lnTo>
                <a:lnTo>
                  <a:pt x="1702" y="1579"/>
                </a:lnTo>
                <a:lnTo>
                  <a:pt x="1737" y="1610"/>
                </a:lnTo>
                <a:lnTo>
                  <a:pt x="1737" y="1645"/>
                </a:lnTo>
                <a:lnTo>
                  <a:pt x="1737" y="1681"/>
                </a:lnTo>
                <a:lnTo>
                  <a:pt x="1737" y="1711"/>
                </a:lnTo>
                <a:lnTo>
                  <a:pt x="1737" y="1747"/>
                </a:lnTo>
                <a:lnTo>
                  <a:pt x="1768" y="1778"/>
                </a:lnTo>
                <a:lnTo>
                  <a:pt x="1768" y="1813"/>
                </a:lnTo>
                <a:lnTo>
                  <a:pt x="1768" y="1848"/>
                </a:lnTo>
                <a:lnTo>
                  <a:pt x="1768" y="1879"/>
                </a:lnTo>
                <a:lnTo>
                  <a:pt x="1768" y="1914"/>
                </a:lnTo>
                <a:lnTo>
                  <a:pt x="1768" y="1950"/>
                </a:lnTo>
                <a:lnTo>
                  <a:pt x="1768" y="1980"/>
                </a:lnTo>
                <a:lnTo>
                  <a:pt x="1803" y="1980"/>
                </a:lnTo>
                <a:lnTo>
                  <a:pt x="1803" y="2016"/>
                </a:lnTo>
                <a:lnTo>
                  <a:pt x="1803" y="2047"/>
                </a:lnTo>
                <a:lnTo>
                  <a:pt x="1803" y="2082"/>
                </a:lnTo>
                <a:lnTo>
                  <a:pt x="1803" y="2118"/>
                </a:lnTo>
                <a:lnTo>
                  <a:pt x="1834" y="2149"/>
                </a:lnTo>
                <a:lnTo>
                  <a:pt x="1834" y="2184"/>
                </a:lnTo>
                <a:lnTo>
                  <a:pt x="1834" y="2215"/>
                </a:lnTo>
                <a:lnTo>
                  <a:pt x="1869" y="2215"/>
                </a:lnTo>
                <a:lnTo>
                  <a:pt x="1869" y="2250"/>
                </a:lnTo>
                <a:lnTo>
                  <a:pt x="1900" y="2250"/>
                </a:lnTo>
                <a:lnTo>
                  <a:pt x="1900" y="2286"/>
                </a:lnTo>
                <a:lnTo>
                  <a:pt x="1900" y="2317"/>
                </a:lnTo>
                <a:lnTo>
                  <a:pt x="1935" y="2317"/>
                </a:lnTo>
                <a:lnTo>
                  <a:pt x="1935" y="2352"/>
                </a:lnTo>
                <a:lnTo>
                  <a:pt x="1971" y="2352"/>
                </a:lnTo>
                <a:lnTo>
                  <a:pt x="1971" y="2383"/>
                </a:lnTo>
                <a:lnTo>
                  <a:pt x="2002" y="2383"/>
                </a:lnTo>
                <a:lnTo>
                  <a:pt x="2037" y="2383"/>
                </a:lnTo>
                <a:lnTo>
                  <a:pt x="2068" y="2383"/>
                </a:lnTo>
                <a:lnTo>
                  <a:pt x="2103" y="2383"/>
                </a:lnTo>
                <a:lnTo>
                  <a:pt x="2134" y="2383"/>
                </a:lnTo>
                <a:lnTo>
                  <a:pt x="2169" y="2383"/>
                </a:lnTo>
                <a:lnTo>
                  <a:pt x="2169" y="2418"/>
                </a:lnTo>
                <a:lnTo>
                  <a:pt x="2200" y="2453"/>
                </a:lnTo>
                <a:lnTo>
                  <a:pt x="2235" y="2453"/>
                </a:lnTo>
                <a:lnTo>
                  <a:pt x="2271" y="2453"/>
                </a:lnTo>
                <a:lnTo>
                  <a:pt x="2301" y="2453"/>
                </a:lnTo>
                <a:lnTo>
                  <a:pt x="2337" y="2453"/>
                </a:lnTo>
                <a:lnTo>
                  <a:pt x="2337" y="2418"/>
                </a:lnTo>
                <a:lnTo>
                  <a:pt x="2368" y="2418"/>
                </a:lnTo>
                <a:lnTo>
                  <a:pt x="2403" y="2418"/>
                </a:lnTo>
                <a:lnTo>
                  <a:pt x="2403" y="2383"/>
                </a:lnTo>
                <a:lnTo>
                  <a:pt x="2434" y="2383"/>
                </a:lnTo>
                <a:lnTo>
                  <a:pt x="2469" y="2383"/>
                </a:lnTo>
                <a:lnTo>
                  <a:pt x="2500" y="2383"/>
                </a:lnTo>
                <a:lnTo>
                  <a:pt x="2500" y="2352"/>
                </a:lnTo>
                <a:lnTo>
                  <a:pt x="2535" y="2352"/>
                </a:lnTo>
                <a:lnTo>
                  <a:pt x="2570" y="2352"/>
                </a:lnTo>
                <a:lnTo>
                  <a:pt x="2601" y="2352"/>
                </a:lnTo>
                <a:lnTo>
                  <a:pt x="2637" y="2352"/>
                </a:lnTo>
                <a:lnTo>
                  <a:pt x="2637" y="2317"/>
                </a:lnTo>
                <a:lnTo>
                  <a:pt x="2703" y="2317"/>
                </a:lnTo>
                <a:lnTo>
                  <a:pt x="2734" y="2317"/>
                </a:lnTo>
                <a:lnTo>
                  <a:pt x="2769" y="2317"/>
                </a:lnTo>
                <a:lnTo>
                  <a:pt x="2804" y="2286"/>
                </a:lnTo>
                <a:lnTo>
                  <a:pt x="2835" y="2250"/>
                </a:lnTo>
                <a:lnTo>
                  <a:pt x="2870" y="2250"/>
                </a:lnTo>
                <a:lnTo>
                  <a:pt x="2870" y="2215"/>
                </a:lnTo>
                <a:lnTo>
                  <a:pt x="2901" y="2215"/>
                </a:lnTo>
                <a:lnTo>
                  <a:pt x="2936" y="2215"/>
                </a:lnTo>
                <a:lnTo>
                  <a:pt x="2967" y="2215"/>
                </a:lnTo>
                <a:lnTo>
                  <a:pt x="3003" y="2215"/>
                </a:lnTo>
                <a:lnTo>
                  <a:pt x="3033" y="2215"/>
                </a:lnTo>
                <a:lnTo>
                  <a:pt x="3069" y="2215"/>
                </a:lnTo>
                <a:lnTo>
                  <a:pt x="3104" y="2215"/>
                </a:lnTo>
                <a:lnTo>
                  <a:pt x="3135" y="2149"/>
                </a:lnTo>
                <a:lnTo>
                  <a:pt x="3170" y="2149"/>
                </a:lnTo>
                <a:lnTo>
                  <a:pt x="3201" y="2118"/>
                </a:lnTo>
                <a:lnTo>
                  <a:pt x="3236" y="2118"/>
                </a:lnTo>
                <a:lnTo>
                  <a:pt x="3236" y="2082"/>
                </a:lnTo>
                <a:lnTo>
                  <a:pt x="3267" y="2082"/>
                </a:lnTo>
                <a:lnTo>
                  <a:pt x="3302" y="2082"/>
                </a:lnTo>
                <a:lnTo>
                  <a:pt x="3338" y="2082"/>
                </a:lnTo>
                <a:lnTo>
                  <a:pt x="3369" y="2082"/>
                </a:lnTo>
                <a:lnTo>
                  <a:pt x="3404" y="2082"/>
                </a:lnTo>
                <a:lnTo>
                  <a:pt x="3435" y="2082"/>
                </a:lnTo>
                <a:lnTo>
                  <a:pt x="3435" y="2047"/>
                </a:lnTo>
                <a:lnTo>
                  <a:pt x="3470" y="2047"/>
                </a:lnTo>
                <a:lnTo>
                  <a:pt x="3501" y="2047"/>
                </a:lnTo>
                <a:lnTo>
                  <a:pt x="3501" y="2016"/>
                </a:lnTo>
                <a:lnTo>
                  <a:pt x="3536" y="2016"/>
                </a:lnTo>
                <a:lnTo>
                  <a:pt x="3536" y="1980"/>
                </a:lnTo>
                <a:lnTo>
                  <a:pt x="3567" y="1980"/>
                </a:lnTo>
                <a:lnTo>
                  <a:pt x="3602" y="1980"/>
                </a:lnTo>
                <a:lnTo>
                  <a:pt x="3602" y="1950"/>
                </a:lnTo>
                <a:lnTo>
                  <a:pt x="3638" y="1950"/>
                </a:lnTo>
                <a:lnTo>
                  <a:pt x="3668" y="1950"/>
                </a:lnTo>
                <a:lnTo>
                  <a:pt x="3704" y="1950"/>
                </a:lnTo>
                <a:lnTo>
                  <a:pt x="3704" y="1914"/>
                </a:lnTo>
                <a:lnTo>
                  <a:pt x="3735" y="1914"/>
                </a:lnTo>
                <a:lnTo>
                  <a:pt x="3770" y="1914"/>
                </a:lnTo>
                <a:lnTo>
                  <a:pt x="3770" y="1879"/>
                </a:lnTo>
                <a:lnTo>
                  <a:pt x="3801" y="1879"/>
                </a:lnTo>
                <a:lnTo>
                  <a:pt x="3836" y="1879"/>
                </a:lnTo>
                <a:lnTo>
                  <a:pt x="3867" y="1848"/>
                </a:lnTo>
                <a:lnTo>
                  <a:pt x="3902" y="1848"/>
                </a:lnTo>
                <a:lnTo>
                  <a:pt x="3937" y="1848"/>
                </a:lnTo>
                <a:lnTo>
                  <a:pt x="3937" y="1879"/>
                </a:lnTo>
                <a:lnTo>
                  <a:pt x="3968" y="1879"/>
                </a:lnTo>
                <a:lnTo>
                  <a:pt x="3968" y="1914"/>
                </a:lnTo>
                <a:lnTo>
                  <a:pt x="4004" y="1914"/>
                </a:lnTo>
                <a:lnTo>
                  <a:pt x="4034" y="1914"/>
                </a:lnTo>
                <a:lnTo>
                  <a:pt x="4034" y="1950"/>
                </a:lnTo>
                <a:lnTo>
                  <a:pt x="4070" y="1950"/>
                </a:lnTo>
                <a:lnTo>
                  <a:pt x="4101" y="1950"/>
                </a:lnTo>
                <a:lnTo>
                  <a:pt x="4136" y="1950"/>
                </a:lnTo>
                <a:lnTo>
                  <a:pt x="4171" y="1950"/>
                </a:lnTo>
                <a:lnTo>
                  <a:pt x="4202" y="1950"/>
                </a:lnTo>
                <a:lnTo>
                  <a:pt x="4237" y="1950"/>
                </a:lnTo>
                <a:lnTo>
                  <a:pt x="4237" y="1980"/>
                </a:lnTo>
                <a:lnTo>
                  <a:pt x="4268" y="1980"/>
                </a:lnTo>
                <a:lnTo>
                  <a:pt x="4304" y="1980"/>
                </a:lnTo>
                <a:lnTo>
                  <a:pt x="4335" y="2016"/>
                </a:lnTo>
                <a:lnTo>
                  <a:pt x="4335" y="2047"/>
                </a:lnTo>
                <a:lnTo>
                  <a:pt x="4371" y="2047"/>
                </a:lnTo>
                <a:lnTo>
                  <a:pt x="4401" y="2047"/>
                </a:lnTo>
                <a:lnTo>
                  <a:pt x="4437" y="2082"/>
                </a:lnTo>
                <a:lnTo>
                  <a:pt x="4472" y="2082"/>
                </a:lnTo>
                <a:lnTo>
                  <a:pt x="4503" y="2082"/>
                </a:lnTo>
                <a:lnTo>
                  <a:pt x="4538" y="2082"/>
                </a:lnTo>
                <a:lnTo>
                  <a:pt x="4569" y="2082"/>
                </a:lnTo>
                <a:lnTo>
                  <a:pt x="4604" y="2082"/>
                </a:lnTo>
                <a:lnTo>
                  <a:pt x="4635" y="2082"/>
                </a:lnTo>
                <a:lnTo>
                  <a:pt x="4635" y="2118"/>
                </a:lnTo>
                <a:lnTo>
                  <a:pt x="4706" y="2118"/>
                </a:lnTo>
                <a:lnTo>
                  <a:pt x="4737" y="2118"/>
                </a:lnTo>
                <a:lnTo>
                  <a:pt x="4772" y="2118"/>
                </a:lnTo>
                <a:lnTo>
                  <a:pt x="4803" y="2118"/>
                </a:lnTo>
                <a:lnTo>
                  <a:pt x="4803" y="2149"/>
                </a:lnTo>
                <a:lnTo>
                  <a:pt x="4838" y="2149"/>
                </a:lnTo>
                <a:lnTo>
                  <a:pt x="4904" y="2184"/>
                </a:lnTo>
                <a:lnTo>
                  <a:pt x="4935" y="2215"/>
                </a:lnTo>
                <a:lnTo>
                  <a:pt x="4970" y="2215"/>
                </a:lnTo>
                <a:lnTo>
                  <a:pt x="5006" y="2215"/>
                </a:lnTo>
                <a:lnTo>
                  <a:pt x="5036" y="2215"/>
                </a:lnTo>
                <a:lnTo>
                  <a:pt x="5036" y="2250"/>
                </a:lnTo>
                <a:lnTo>
                  <a:pt x="5072" y="2250"/>
                </a:lnTo>
                <a:lnTo>
                  <a:pt x="5103" y="2250"/>
                </a:lnTo>
                <a:lnTo>
                  <a:pt x="5138" y="2250"/>
                </a:lnTo>
                <a:lnTo>
                  <a:pt x="5169" y="2250"/>
                </a:lnTo>
                <a:lnTo>
                  <a:pt x="5169" y="2286"/>
                </a:lnTo>
                <a:lnTo>
                  <a:pt x="5204" y="2286"/>
                </a:lnTo>
                <a:lnTo>
                  <a:pt x="5235" y="2286"/>
                </a:lnTo>
                <a:lnTo>
                  <a:pt x="5270" y="2317"/>
                </a:lnTo>
                <a:lnTo>
                  <a:pt x="5305" y="2317"/>
                </a:lnTo>
                <a:lnTo>
                  <a:pt x="5336" y="2317"/>
                </a:lnTo>
                <a:lnTo>
                  <a:pt x="5372" y="2317"/>
                </a:lnTo>
                <a:lnTo>
                  <a:pt x="5402" y="2317"/>
                </a:lnTo>
                <a:lnTo>
                  <a:pt x="5438" y="2317"/>
                </a:lnTo>
                <a:lnTo>
                  <a:pt x="5469" y="2317"/>
                </a:lnTo>
                <a:lnTo>
                  <a:pt x="5469" y="2352"/>
                </a:lnTo>
                <a:lnTo>
                  <a:pt x="5504" y="2352"/>
                </a:lnTo>
                <a:lnTo>
                  <a:pt x="5539" y="2352"/>
                </a:lnTo>
                <a:lnTo>
                  <a:pt x="5570" y="2352"/>
                </a:lnTo>
                <a:lnTo>
                  <a:pt x="5605" y="2352"/>
                </a:lnTo>
                <a:lnTo>
                  <a:pt x="5636" y="2383"/>
                </a:lnTo>
                <a:lnTo>
                  <a:pt x="5671" y="2383"/>
                </a:lnTo>
                <a:lnTo>
                  <a:pt x="5702" y="2383"/>
                </a:lnTo>
                <a:lnTo>
                  <a:pt x="5738" y="2383"/>
                </a:lnTo>
                <a:lnTo>
                  <a:pt x="5768" y="2383"/>
                </a:lnTo>
                <a:lnTo>
                  <a:pt x="5804" y="2383"/>
                </a:lnTo>
                <a:lnTo>
                  <a:pt x="5839" y="2383"/>
                </a:lnTo>
                <a:lnTo>
                  <a:pt x="5870" y="2383"/>
                </a:lnTo>
                <a:lnTo>
                  <a:pt x="5905" y="2418"/>
                </a:lnTo>
                <a:lnTo>
                  <a:pt x="5936" y="2418"/>
                </a:lnTo>
                <a:lnTo>
                  <a:pt x="5971" y="2418"/>
                </a:lnTo>
                <a:lnTo>
                  <a:pt x="6002" y="2418"/>
                </a:lnTo>
                <a:lnTo>
                  <a:pt x="6037" y="2418"/>
                </a:lnTo>
                <a:lnTo>
                  <a:pt x="6073" y="2418"/>
                </a:lnTo>
                <a:lnTo>
                  <a:pt x="6104" y="2418"/>
                </a:lnTo>
                <a:lnTo>
                  <a:pt x="6139" y="2418"/>
                </a:lnTo>
                <a:lnTo>
                  <a:pt x="6170" y="2418"/>
                </a:lnTo>
                <a:lnTo>
                  <a:pt x="6205" y="2418"/>
                </a:lnTo>
                <a:lnTo>
                  <a:pt x="6271" y="2453"/>
                </a:lnTo>
                <a:lnTo>
                  <a:pt x="6302" y="2453"/>
                </a:lnTo>
                <a:lnTo>
                  <a:pt x="6337" y="2453"/>
                </a:lnTo>
                <a:lnTo>
                  <a:pt x="6373" y="2453"/>
                </a:lnTo>
                <a:lnTo>
                  <a:pt x="6403" y="2453"/>
                </a:lnTo>
                <a:lnTo>
                  <a:pt x="6470" y="2453"/>
                </a:lnTo>
                <a:lnTo>
                  <a:pt x="6505" y="2453"/>
                </a:lnTo>
                <a:lnTo>
                  <a:pt x="6536" y="2453"/>
                </a:lnTo>
                <a:lnTo>
                  <a:pt x="6571" y="2453"/>
                </a:lnTo>
                <a:lnTo>
                  <a:pt x="6602" y="2484"/>
                </a:lnTo>
                <a:lnTo>
                  <a:pt x="6637" y="2484"/>
                </a:lnTo>
                <a:lnTo>
                  <a:pt x="6672" y="2484"/>
                </a:lnTo>
                <a:lnTo>
                  <a:pt x="6739" y="2484"/>
                </a:lnTo>
                <a:lnTo>
                  <a:pt x="6769" y="2484"/>
                </a:lnTo>
                <a:lnTo>
                  <a:pt x="6769" y="2519"/>
                </a:lnTo>
                <a:lnTo>
                  <a:pt x="6805" y="2519"/>
                </a:lnTo>
                <a:lnTo>
                  <a:pt x="6836" y="2550"/>
                </a:lnTo>
                <a:lnTo>
                  <a:pt x="6871" y="2550"/>
                </a:lnTo>
                <a:lnTo>
                  <a:pt x="6906" y="2586"/>
                </a:lnTo>
                <a:lnTo>
                  <a:pt x="6937" y="2586"/>
                </a:lnTo>
                <a:lnTo>
                  <a:pt x="6972" y="2586"/>
                </a:lnTo>
                <a:lnTo>
                  <a:pt x="7003" y="2586"/>
                </a:lnTo>
                <a:lnTo>
                  <a:pt x="7038" y="2586"/>
                </a:lnTo>
                <a:lnTo>
                  <a:pt x="7069" y="2586"/>
                </a:lnTo>
                <a:lnTo>
                  <a:pt x="7105" y="2586"/>
                </a:lnTo>
                <a:lnTo>
                  <a:pt x="7135" y="2586"/>
                </a:lnTo>
                <a:lnTo>
                  <a:pt x="7171" y="2586"/>
                </a:lnTo>
                <a:lnTo>
                  <a:pt x="7237" y="2586"/>
                </a:lnTo>
                <a:lnTo>
                  <a:pt x="7272" y="2586"/>
                </a:lnTo>
                <a:lnTo>
                  <a:pt x="7303" y="2586"/>
                </a:lnTo>
                <a:lnTo>
                  <a:pt x="7338" y="2586"/>
                </a:lnTo>
                <a:lnTo>
                  <a:pt x="7369" y="2586"/>
                </a:lnTo>
                <a:lnTo>
                  <a:pt x="7404" y="2586"/>
                </a:lnTo>
                <a:lnTo>
                  <a:pt x="7440" y="2586"/>
                </a:lnTo>
                <a:lnTo>
                  <a:pt x="7471" y="2550"/>
                </a:lnTo>
                <a:lnTo>
                  <a:pt x="7506" y="2550"/>
                </a:lnTo>
                <a:lnTo>
                  <a:pt x="7537" y="2550"/>
                </a:lnTo>
                <a:lnTo>
                  <a:pt x="7572" y="2550"/>
                </a:lnTo>
                <a:lnTo>
                  <a:pt x="7638" y="2550"/>
                </a:lnTo>
                <a:lnTo>
                  <a:pt x="7669" y="2550"/>
                </a:lnTo>
                <a:lnTo>
                  <a:pt x="7740" y="2519"/>
                </a:lnTo>
                <a:lnTo>
                  <a:pt x="7806" y="2519"/>
                </a:lnTo>
                <a:lnTo>
                  <a:pt x="7770" y="2586"/>
                </a:lnTo>
                <a:lnTo>
                  <a:pt x="7806" y="2586"/>
                </a:lnTo>
                <a:lnTo>
                  <a:pt x="7770" y="2652"/>
                </a:lnTo>
                <a:lnTo>
                  <a:pt x="7770" y="2722"/>
                </a:lnTo>
                <a:lnTo>
                  <a:pt x="7740" y="2753"/>
                </a:lnTo>
                <a:lnTo>
                  <a:pt x="7770" y="2753"/>
                </a:lnTo>
                <a:lnTo>
                  <a:pt x="7806" y="2753"/>
                </a:lnTo>
                <a:lnTo>
                  <a:pt x="7837" y="2722"/>
                </a:lnTo>
                <a:lnTo>
                  <a:pt x="7872" y="2722"/>
                </a:lnTo>
                <a:lnTo>
                  <a:pt x="7903" y="2687"/>
                </a:lnTo>
                <a:lnTo>
                  <a:pt x="7938" y="2687"/>
                </a:lnTo>
                <a:lnTo>
                  <a:pt x="7973" y="2687"/>
                </a:lnTo>
                <a:lnTo>
                  <a:pt x="7973" y="2652"/>
                </a:lnTo>
                <a:lnTo>
                  <a:pt x="8004" y="2652"/>
                </a:lnTo>
                <a:lnTo>
                  <a:pt x="8039" y="2652"/>
                </a:lnTo>
                <a:lnTo>
                  <a:pt x="8070" y="2652"/>
                </a:lnTo>
                <a:lnTo>
                  <a:pt x="8106" y="2652"/>
                </a:lnTo>
                <a:lnTo>
                  <a:pt x="8136" y="2687"/>
                </a:lnTo>
                <a:lnTo>
                  <a:pt x="8172" y="2687"/>
                </a:lnTo>
                <a:lnTo>
                  <a:pt x="8172" y="2722"/>
                </a:lnTo>
                <a:lnTo>
                  <a:pt x="8203" y="2722"/>
                </a:lnTo>
                <a:lnTo>
                  <a:pt x="8203" y="2753"/>
                </a:lnTo>
                <a:lnTo>
                  <a:pt x="8273" y="2722"/>
                </a:lnTo>
                <a:lnTo>
                  <a:pt x="8370" y="2687"/>
                </a:lnTo>
                <a:lnTo>
                  <a:pt x="8405" y="2687"/>
                </a:lnTo>
                <a:lnTo>
                  <a:pt x="8436" y="2687"/>
                </a:lnTo>
                <a:lnTo>
                  <a:pt x="8472" y="2687"/>
                </a:lnTo>
                <a:lnTo>
                  <a:pt x="8502" y="2687"/>
                </a:lnTo>
                <a:lnTo>
                  <a:pt x="8502" y="2722"/>
                </a:lnTo>
                <a:lnTo>
                  <a:pt x="8538" y="2722"/>
                </a:lnTo>
                <a:lnTo>
                  <a:pt x="8573" y="27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57280" y="4900680"/>
            <a:ext cx="3084840" cy="1003680"/>
          </a:xfrm>
          <a:custGeom>
            <a:avLst/>
            <a:gdLst/>
            <a:ahLst/>
            <a:rect l="0" t="0" r="r" b="b"/>
            <a:pathLst>
              <a:path fill="none" w="8569" h="2788">
                <a:moveTo>
                  <a:pt x="0" y="2788"/>
                </a:moveTo>
                <a:lnTo>
                  <a:pt x="35" y="2788"/>
                </a:lnTo>
                <a:lnTo>
                  <a:pt x="35" y="2753"/>
                </a:lnTo>
                <a:lnTo>
                  <a:pt x="66" y="2753"/>
                </a:lnTo>
                <a:lnTo>
                  <a:pt x="66" y="2722"/>
                </a:lnTo>
                <a:lnTo>
                  <a:pt x="101" y="2722"/>
                </a:lnTo>
                <a:lnTo>
                  <a:pt x="132" y="2687"/>
                </a:lnTo>
                <a:lnTo>
                  <a:pt x="167" y="2687"/>
                </a:lnTo>
                <a:lnTo>
                  <a:pt x="198" y="2652"/>
                </a:lnTo>
                <a:lnTo>
                  <a:pt x="233" y="2652"/>
                </a:lnTo>
                <a:lnTo>
                  <a:pt x="268" y="2652"/>
                </a:lnTo>
                <a:lnTo>
                  <a:pt x="268" y="2621"/>
                </a:lnTo>
                <a:lnTo>
                  <a:pt x="299" y="2586"/>
                </a:lnTo>
                <a:lnTo>
                  <a:pt x="335" y="2586"/>
                </a:lnTo>
                <a:lnTo>
                  <a:pt x="366" y="2586"/>
                </a:lnTo>
                <a:lnTo>
                  <a:pt x="366" y="2555"/>
                </a:lnTo>
                <a:lnTo>
                  <a:pt x="401" y="2555"/>
                </a:lnTo>
                <a:lnTo>
                  <a:pt x="401" y="2519"/>
                </a:lnTo>
                <a:lnTo>
                  <a:pt x="432" y="2519"/>
                </a:lnTo>
                <a:lnTo>
                  <a:pt x="432" y="2484"/>
                </a:lnTo>
                <a:lnTo>
                  <a:pt x="467" y="2484"/>
                </a:lnTo>
                <a:lnTo>
                  <a:pt x="467" y="2453"/>
                </a:lnTo>
                <a:lnTo>
                  <a:pt x="467" y="2418"/>
                </a:lnTo>
                <a:lnTo>
                  <a:pt x="498" y="2418"/>
                </a:lnTo>
                <a:lnTo>
                  <a:pt x="498" y="2387"/>
                </a:lnTo>
                <a:lnTo>
                  <a:pt x="533" y="2352"/>
                </a:lnTo>
                <a:lnTo>
                  <a:pt x="533" y="2317"/>
                </a:lnTo>
                <a:lnTo>
                  <a:pt x="568" y="2317"/>
                </a:lnTo>
                <a:lnTo>
                  <a:pt x="568" y="2286"/>
                </a:lnTo>
                <a:lnTo>
                  <a:pt x="568" y="2250"/>
                </a:lnTo>
                <a:lnTo>
                  <a:pt x="599" y="2220"/>
                </a:lnTo>
                <a:lnTo>
                  <a:pt x="599" y="2184"/>
                </a:lnTo>
                <a:lnTo>
                  <a:pt x="635" y="2184"/>
                </a:lnTo>
                <a:lnTo>
                  <a:pt x="635" y="2149"/>
                </a:lnTo>
                <a:lnTo>
                  <a:pt x="635" y="2118"/>
                </a:lnTo>
                <a:lnTo>
                  <a:pt x="665" y="2118"/>
                </a:lnTo>
                <a:lnTo>
                  <a:pt x="665" y="2082"/>
                </a:lnTo>
                <a:lnTo>
                  <a:pt x="665" y="2047"/>
                </a:lnTo>
                <a:lnTo>
                  <a:pt x="701" y="2047"/>
                </a:lnTo>
                <a:lnTo>
                  <a:pt x="701" y="2016"/>
                </a:lnTo>
                <a:lnTo>
                  <a:pt x="701" y="1980"/>
                </a:lnTo>
                <a:lnTo>
                  <a:pt x="732" y="1980"/>
                </a:lnTo>
                <a:lnTo>
                  <a:pt x="732" y="1950"/>
                </a:lnTo>
                <a:lnTo>
                  <a:pt x="767" y="1950"/>
                </a:lnTo>
                <a:lnTo>
                  <a:pt x="767" y="1914"/>
                </a:lnTo>
                <a:lnTo>
                  <a:pt x="767" y="1879"/>
                </a:lnTo>
                <a:lnTo>
                  <a:pt x="802" y="1879"/>
                </a:lnTo>
                <a:lnTo>
                  <a:pt x="802" y="1848"/>
                </a:lnTo>
                <a:lnTo>
                  <a:pt x="802" y="1813"/>
                </a:lnTo>
                <a:lnTo>
                  <a:pt x="802" y="1782"/>
                </a:lnTo>
                <a:lnTo>
                  <a:pt x="833" y="1782"/>
                </a:lnTo>
                <a:lnTo>
                  <a:pt x="833" y="1711"/>
                </a:lnTo>
                <a:lnTo>
                  <a:pt x="868" y="1681"/>
                </a:lnTo>
                <a:lnTo>
                  <a:pt x="868" y="1645"/>
                </a:lnTo>
                <a:lnTo>
                  <a:pt x="899" y="1614"/>
                </a:lnTo>
                <a:lnTo>
                  <a:pt x="899" y="1544"/>
                </a:lnTo>
                <a:lnTo>
                  <a:pt x="934" y="1442"/>
                </a:lnTo>
                <a:lnTo>
                  <a:pt x="965" y="1376"/>
                </a:lnTo>
                <a:lnTo>
                  <a:pt x="965" y="1345"/>
                </a:lnTo>
                <a:lnTo>
                  <a:pt x="1001" y="1275"/>
                </a:lnTo>
                <a:lnTo>
                  <a:pt x="1001" y="1209"/>
                </a:lnTo>
                <a:lnTo>
                  <a:pt x="1031" y="1178"/>
                </a:lnTo>
                <a:lnTo>
                  <a:pt x="1031" y="1107"/>
                </a:lnTo>
                <a:lnTo>
                  <a:pt x="1031" y="1076"/>
                </a:lnTo>
                <a:lnTo>
                  <a:pt x="1031" y="1041"/>
                </a:lnTo>
                <a:lnTo>
                  <a:pt x="1031" y="975"/>
                </a:lnTo>
                <a:lnTo>
                  <a:pt x="1031" y="940"/>
                </a:lnTo>
                <a:lnTo>
                  <a:pt x="1031" y="909"/>
                </a:lnTo>
                <a:lnTo>
                  <a:pt x="1031" y="874"/>
                </a:lnTo>
                <a:lnTo>
                  <a:pt x="1031" y="807"/>
                </a:lnTo>
                <a:lnTo>
                  <a:pt x="1031" y="772"/>
                </a:lnTo>
                <a:lnTo>
                  <a:pt x="1031" y="706"/>
                </a:lnTo>
                <a:lnTo>
                  <a:pt x="1031" y="670"/>
                </a:lnTo>
                <a:lnTo>
                  <a:pt x="1031" y="604"/>
                </a:lnTo>
                <a:lnTo>
                  <a:pt x="1031" y="573"/>
                </a:lnTo>
                <a:lnTo>
                  <a:pt x="1067" y="537"/>
                </a:lnTo>
                <a:lnTo>
                  <a:pt x="1067" y="502"/>
                </a:lnTo>
                <a:lnTo>
                  <a:pt x="1067" y="471"/>
                </a:lnTo>
                <a:lnTo>
                  <a:pt x="1067" y="436"/>
                </a:lnTo>
                <a:lnTo>
                  <a:pt x="1067" y="405"/>
                </a:lnTo>
                <a:lnTo>
                  <a:pt x="1102" y="370"/>
                </a:lnTo>
                <a:lnTo>
                  <a:pt x="1102" y="335"/>
                </a:lnTo>
                <a:lnTo>
                  <a:pt x="1102" y="304"/>
                </a:lnTo>
                <a:lnTo>
                  <a:pt x="1133" y="268"/>
                </a:lnTo>
                <a:lnTo>
                  <a:pt x="1133" y="238"/>
                </a:lnTo>
                <a:lnTo>
                  <a:pt x="1168" y="167"/>
                </a:lnTo>
                <a:lnTo>
                  <a:pt x="1168" y="136"/>
                </a:lnTo>
                <a:lnTo>
                  <a:pt x="1168" y="101"/>
                </a:lnTo>
                <a:lnTo>
                  <a:pt x="1199" y="101"/>
                </a:lnTo>
                <a:lnTo>
                  <a:pt x="1199" y="35"/>
                </a:lnTo>
                <a:lnTo>
                  <a:pt x="1234" y="35"/>
                </a:lnTo>
                <a:lnTo>
                  <a:pt x="1234" y="0"/>
                </a:lnTo>
                <a:lnTo>
                  <a:pt x="1265" y="0"/>
                </a:lnTo>
                <a:lnTo>
                  <a:pt x="1265" y="35"/>
                </a:lnTo>
                <a:lnTo>
                  <a:pt x="1300" y="35"/>
                </a:lnTo>
                <a:lnTo>
                  <a:pt x="1300" y="66"/>
                </a:lnTo>
                <a:lnTo>
                  <a:pt x="1331" y="66"/>
                </a:lnTo>
                <a:lnTo>
                  <a:pt x="1331" y="101"/>
                </a:lnTo>
                <a:lnTo>
                  <a:pt x="1367" y="101"/>
                </a:lnTo>
                <a:lnTo>
                  <a:pt x="1367" y="136"/>
                </a:lnTo>
                <a:lnTo>
                  <a:pt x="1367" y="167"/>
                </a:lnTo>
                <a:lnTo>
                  <a:pt x="1367" y="202"/>
                </a:lnTo>
                <a:lnTo>
                  <a:pt x="1367" y="238"/>
                </a:lnTo>
                <a:lnTo>
                  <a:pt x="1402" y="238"/>
                </a:lnTo>
                <a:lnTo>
                  <a:pt x="1402" y="268"/>
                </a:lnTo>
                <a:lnTo>
                  <a:pt x="1402" y="304"/>
                </a:lnTo>
                <a:lnTo>
                  <a:pt x="1402" y="335"/>
                </a:lnTo>
                <a:lnTo>
                  <a:pt x="1402" y="370"/>
                </a:lnTo>
                <a:lnTo>
                  <a:pt x="1433" y="370"/>
                </a:lnTo>
                <a:lnTo>
                  <a:pt x="1433" y="405"/>
                </a:lnTo>
                <a:lnTo>
                  <a:pt x="1433" y="436"/>
                </a:lnTo>
                <a:lnTo>
                  <a:pt x="1433" y="471"/>
                </a:lnTo>
                <a:lnTo>
                  <a:pt x="1433" y="502"/>
                </a:lnTo>
                <a:lnTo>
                  <a:pt x="1433" y="537"/>
                </a:lnTo>
                <a:lnTo>
                  <a:pt x="1468" y="573"/>
                </a:lnTo>
                <a:lnTo>
                  <a:pt x="1468" y="604"/>
                </a:lnTo>
                <a:lnTo>
                  <a:pt x="1468" y="639"/>
                </a:lnTo>
                <a:lnTo>
                  <a:pt x="1468" y="670"/>
                </a:lnTo>
                <a:lnTo>
                  <a:pt x="1468" y="706"/>
                </a:lnTo>
                <a:lnTo>
                  <a:pt x="1468" y="741"/>
                </a:lnTo>
                <a:lnTo>
                  <a:pt x="1499" y="741"/>
                </a:lnTo>
                <a:lnTo>
                  <a:pt x="1499" y="772"/>
                </a:lnTo>
                <a:lnTo>
                  <a:pt x="1499" y="807"/>
                </a:lnTo>
                <a:lnTo>
                  <a:pt x="1499" y="838"/>
                </a:lnTo>
                <a:lnTo>
                  <a:pt x="1534" y="874"/>
                </a:lnTo>
                <a:lnTo>
                  <a:pt x="1534" y="909"/>
                </a:lnTo>
                <a:lnTo>
                  <a:pt x="1565" y="909"/>
                </a:lnTo>
                <a:lnTo>
                  <a:pt x="1565" y="940"/>
                </a:lnTo>
                <a:lnTo>
                  <a:pt x="1565" y="975"/>
                </a:lnTo>
                <a:lnTo>
                  <a:pt x="1565" y="1010"/>
                </a:lnTo>
                <a:lnTo>
                  <a:pt x="1600" y="1010"/>
                </a:lnTo>
                <a:lnTo>
                  <a:pt x="1600" y="1076"/>
                </a:lnTo>
                <a:lnTo>
                  <a:pt x="1600" y="1107"/>
                </a:lnTo>
                <a:lnTo>
                  <a:pt x="1600" y="1143"/>
                </a:lnTo>
                <a:lnTo>
                  <a:pt x="1636" y="1178"/>
                </a:lnTo>
                <a:lnTo>
                  <a:pt x="1636" y="1209"/>
                </a:lnTo>
                <a:lnTo>
                  <a:pt x="1666" y="1209"/>
                </a:lnTo>
                <a:lnTo>
                  <a:pt x="1666" y="1244"/>
                </a:lnTo>
                <a:lnTo>
                  <a:pt x="1666" y="1275"/>
                </a:lnTo>
                <a:lnTo>
                  <a:pt x="1666" y="1310"/>
                </a:lnTo>
                <a:lnTo>
                  <a:pt x="1666" y="1345"/>
                </a:lnTo>
                <a:lnTo>
                  <a:pt x="1666" y="1412"/>
                </a:lnTo>
                <a:lnTo>
                  <a:pt x="1702" y="1442"/>
                </a:lnTo>
                <a:lnTo>
                  <a:pt x="1702" y="1478"/>
                </a:lnTo>
                <a:lnTo>
                  <a:pt x="1702" y="1513"/>
                </a:lnTo>
                <a:lnTo>
                  <a:pt x="1702" y="1544"/>
                </a:lnTo>
                <a:lnTo>
                  <a:pt x="1702" y="1579"/>
                </a:lnTo>
                <a:lnTo>
                  <a:pt x="1733" y="1614"/>
                </a:lnTo>
                <a:lnTo>
                  <a:pt x="1733" y="1645"/>
                </a:lnTo>
                <a:lnTo>
                  <a:pt x="1733" y="1681"/>
                </a:lnTo>
                <a:lnTo>
                  <a:pt x="1733" y="1711"/>
                </a:lnTo>
                <a:lnTo>
                  <a:pt x="1733" y="1747"/>
                </a:lnTo>
                <a:lnTo>
                  <a:pt x="1768" y="1782"/>
                </a:lnTo>
                <a:lnTo>
                  <a:pt x="1768" y="1813"/>
                </a:lnTo>
                <a:lnTo>
                  <a:pt x="1768" y="1848"/>
                </a:lnTo>
                <a:lnTo>
                  <a:pt x="1768" y="1879"/>
                </a:lnTo>
                <a:lnTo>
                  <a:pt x="1768" y="1914"/>
                </a:lnTo>
                <a:lnTo>
                  <a:pt x="1768" y="1950"/>
                </a:lnTo>
                <a:lnTo>
                  <a:pt x="1768" y="1980"/>
                </a:lnTo>
                <a:lnTo>
                  <a:pt x="1799" y="1980"/>
                </a:lnTo>
                <a:lnTo>
                  <a:pt x="1799" y="2016"/>
                </a:lnTo>
                <a:lnTo>
                  <a:pt x="1799" y="2047"/>
                </a:lnTo>
                <a:lnTo>
                  <a:pt x="1799" y="2082"/>
                </a:lnTo>
                <a:lnTo>
                  <a:pt x="1799" y="2118"/>
                </a:lnTo>
                <a:lnTo>
                  <a:pt x="1834" y="2149"/>
                </a:lnTo>
                <a:lnTo>
                  <a:pt x="1834" y="2184"/>
                </a:lnTo>
                <a:lnTo>
                  <a:pt x="1834" y="2220"/>
                </a:lnTo>
                <a:lnTo>
                  <a:pt x="1865" y="2220"/>
                </a:lnTo>
                <a:lnTo>
                  <a:pt x="1865" y="2250"/>
                </a:lnTo>
                <a:lnTo>
                  <a:pt x="1900" y="2250"/>
                </a:lnTo>
                <a:lnTo>
                  <a:pt x="1900" y="2286"/>
                </a:lnTo>
                <a:lnTo>
                  <a:pt x="1900" y="2317"/>
                </a:lnTo>
                <a:lnTo>
                  <a:pt x="1935" y="2317"/>
                </a:lnTo>
                <a:lnTo>
                  <a:pt x="1935" y="2352"/>
                </a:lnTo>
                <a:lnTo>
                  <a:pt x="1966" y="2352"/>
                </a:lnTo>
                <a:lnTo>
                  <a:pt x="1966" y="2387"/>
                </a:lnTo>
                <a:lnTo>
                  <a:pt x="2002" y="2387"/>
                </a:lnTo>
                <a:lnTo>
                  <a:pt x="2032" y="2387"/>
                </a:lnTo>
                <a:lnTo>
                  <a:pt x="2068" y="2387"/>
                </a:lnTo>
                <a:lnTo>
                  <a:pt x="2099" y="2387"/>
                </a:lnTo>
                <a:lnTo>
                  <a:pt x="2134" y="2387"/>
                </a:lnTo>
                <a:lnTo>
                  <a:pt x="2169" y="2387"/>
                </a:lnTo>
                <a:lnTo>
                  <a:pt x="2169" y="2418"/>
                </a:lnTo>
                <a:lnTo>
                  <a:pt x="2200" y="2453"/>
                </a:lnTo>
                <a:lnTo>
                  <a:pt x="2235" y="2453"/>
                </a:lnTo>
                <a:lnTo>
                  <a:pt x="2266" y="2453"/>
                </a:lnTo>
                <a:lnTo>
                  <a:pt x="2301" y="2453"/>
                </a:lnTo>
                <a:lnTo>
                  <a:pt x="2332" y="2453"/>
                </a:lnTo>
                <a:lnTo>
                  <a:pt x="2332" y="2418"/>
                </a:lnTo>
                <a:lnTo>
                  <a:pt x="2368" y="2418"/>
                </a:lnTo>
                <a:lnTo>
                  <a:pt x="2398" y="2418"/>
                </a:lnTo>
                <a:lnTo>
                  <a:pt x="2398" y="2387"/>
                </a:lnTo>
                <a:lnTo>
                  <a:pt x="2434" y="2387"/>
                </a:lnTo>
                <a:lnTo>
                  <a:pt x="2469" y="2387"/>
                </a:lnTo>
                <a:lnTo>
                  <a:pt x="2500" y="2387"/>
                </a:lnTo>
                <a:lnTo>
                  <a:pt x="2500" y="2352"/>
                </a:lnTo>
                <a:lnTo>
                  <a:pt x="2535" y="2352"/>
                </a:lnTo>
                <a:lnTo>
                  <a:pt x="2566" y="2352"/>
                </a:lnTo>
                <a:lnTo>
                  <a:pt x="2601" y="2352"/>
                </a:lnTo>
                <a:lnTo>
                  <a:pt x="2632" y="2352"/>
                </a:lnTo>
                <a:lnTo>
                  <a:pt x="2632" y="2317"/>
                </a:lnTo>
                <a:lnTo>
                  <a:pt x="2698" y="2317"/>
                </a:lnTo>
                <a:lnTo>
                  <a:pt x="2734" y="2317"/>
                </a:lnTo>
                <a:lnTo>
                  <a:pt x="2769" y="2317"/>
                </a:lnTo>
                <a:lnTo>
                  <a:pt x="2800" y="2286"/>
                </a:lnTo>
                <a:lnTo>
                  <a:pt x="2835" y="2250"/>
                </a:lnTo>
                <a:lnTo>
                  <a:pt x="2866" y="2250"/>
                </a:lnTo>
                <a:lnTo>
                  <a:pt x="2866" y="2220"/>
                </a:lnTo>
                <a:lnTo>
                  <a:pt x="2901" y="2220"/>
                </a:lnTo>
                <a:lnTo>
                  <a:pt x="2932" y="2220"/>
                </a:lnTo>
                <a:lnTo>
                  <a:pt x="2967" y="2220"/>
                </a:lnTo>
                <a:lnTo>
                  <a:pt x="3003" y="2220"/>
                </a:lnTo>
                <a:lnTo>
                  <a:pt x="3033" y="2220"/>
                </a:lnTo>
                <a:lnTo>
                  <a:pt x="3069" y="2220"/>
                </a:lnTo>
                <a:lnTo>
                  <a:pt x="3100" y="2220"/>
                </a:lnTo>
                <a:lnTo>
                  <a:pt x="3135" y="2149"/>
                </a:lnTo>
                <a:lnTo>
                  <a:pt x="3166" y="2149"/>
                </a:lnTo>
                <a:lnTo>
                  <a:pt x="3201" y="2118"/>
                </a:lnTo>
                <a:lnTo>
                  <a:pt x="3232" y="2118"/>
                </a:lnTo>
                <a:lnTo>
                  <a:pt x="3232" y="2082"/>
                </a:lnTo>
                <a:lnTo>
                  <a:pt x="3267" y="2082"/>
                </a:lnTo>
                <a:lnTo>
                  <a:pt x="3302" y="2082"/>
                </a:lnTo>
                <a:lnTo>
                  <a:pt x="3333" y="2082"/>
                </a:lnTo>
                <a:lnTo>
                  <a:pt x="3369" y="2082"/>
                </a:lnTo>
                <a:lnTo>
                  <a:pt x="3399" y="2082"/>
                </a:lnTo>
                <a:lnTo>
                  <a:pt x="3435" y="2082"/>
                </a:lnTo>
                <a:lnTo>
                  <a:pt x="3435" y="2047"/>
                </a:lnTo>
                <a:lnTo>
                  <a:pt x="3466" y="2047"/>
                </a:lnTo>
                <a:lnTo>
                  <a:pt x="3501" y="2047"/>
                </a:lnTo>
                <a:lnTo>
                  <a:pt x="3501" y="2016"/>
                </a:lnTo>
                <a:lnTo>
                  <a:pt x="3536" y="2016"/>
                </a:lnTo>
                <a:lnTo>
                  <a:pt x="3536" y="1980"/>
                </a:lnTo>
                <a:lnTo>
                  <a:pt x="3567" y="1980"/>
                </a:lnTo>
                <a:lnTo>
                  <a:pt x="3602" y="1980"/>
                </a:lnTo>
                <a:lnTo>
                  <a:pt x="3602" y="1950"/>
                </a:lnTo>
                <a:lnTo>
                  <a:pt x="3633" y="1950"/>
                </a:lnTo>
                <a:lnTo>
                  <a:pt x="3668" y="1950"/>
                </a:lnTo>
                <a:lnTo>
                  <a:pt x="3699" y="1950"/>
                </a:lnTo>
                <a:lnTo>
                  <a:pt x="3699" y="1914"/>
                </a:lnTo>
                <a:lnTo>
                  <a:pt x="3735" y="1914"/>
                </a:lnTo>
                <a:lnTo>
                  <a:pt x="3765" y="1914"/>
                </a:lnTo>
                <a:lnTo>
                  <a:pt x="3765" y="1879"/>
                </a:lnTo>
                <a:lnTo>
                  <a:pt x="3801" y="1879"/>
                </a:lnTo>
                <a:lnTo>
                  <a:pt x="3836" y="1879"/>
                </a:lnTo>
                <a:lnTo>
                  <a:pt x="3867" y="1848"/>
                </a:lnTo>
                <a:lnTo>
                  <a:pt x="3902" y="1848"/>
                </a:lnTo>
                <a:lnTo>
                  <a:pt x="3933" y="1848"/>
                </a:lnTo>
                <a:lnTo>
                  <a:pt x="3933" y="1879"/>
                </a:lnTo>
                <a:lnTo>
                  <a:pt x="3968" y="1879"/>
                </a:lnTo>
                <a:lnTo>
                  <a:pt x="3968" y="1914"/>
                </a:lnTo>
                <a:lnTo>
                  <a:pt x="3999" y="1914"/>
                </a:lnTo>
                <a:lnTo>
                  <a:pt x="4034" y="1914"/>
                </a:lnTo>
                <a:lnTo>
                  <a:pt x="4034" y="1950"/>
                </a:lnTo>
                <a:lnTo>
                  <a:pt x="4065" y="1950"/>
                </a:lnTo>
                <a:lnTo>
                  <a:pt x="4101" y="1950"/>
                </a:lnTo>
                <a:lnTo>
                  <a:pt x="4136" y="1950"/>
                </a:lnTo>
                <a:lnTo>
                  <a:pt x="4167" y="1950"/>
                </a:lnTo>
                <a:lnTo>
                  <a:pt x="4202" y="1950"/>
                </a:lnTo>
                <a:lnTo>
                  <a:pt x="4233" y="1950"/>
                </a:lnTo>
                <a:lnTo>
                  <a:pt x="4233" y="1980"/>
                </a:lnTo>
                <a:lnTo>
                  <a:pt x="4268" y="1980"/>
                </a:lnTo>
                <a:lnTo>
                  <a:pt x="4300" y="1980"/>
                </a:lnTo>
                <a:lnTo>
                  <a:pt x="4335" y="2016"/>
                </a:lnTo>
                <a:lnTo>
                  <a:pt x="4335" y="2047"/>
                </a:lnTo>
                <a:lnTo>
                  <a:pt x="4371" y="2047"/>
                </a:lnTo>
                <a:lnTo>
                  <a:pt x="4401" y="2047"/>
                </a:lnTo>
                <a:lnTo>
                  <a:pt x="4437" y="2082"/>
                </a:lnTo>
                <a:lnTo>
                  <a:pt x="4468" y="2082"/>
                </a:lnTo>
                <a:lnTo>
                  <a:pt x="4503" y="2082"/>
                </a:lnTo>
                <a:lnTo>
                  <a:pt x="4534" y="2082"/>
                </a:lnTo>
                <a:lnTo>
                  <a:pt x="4569" y="2082"/>
                </a:lnTo>
                <a:lnTo>
                  <a:pt x="4600" y="2082"/>
                </a:lnTo>
                <a:lnTo>
                  <a:pt x="4635" y="2082"/>
                </a:lnTo>
                <a:lnTo>
                  <a:pt x="4635" y="2118"/>
                </a:lnTo>
                <a:lnTo>
                  <a:pt x="4701" y="2118"/>
                </a:lnTo>
                <a:lnTo>
                  <a:pt x="4737" y="2118"/>
                </a:lnTo>
                <a:lnTo>
                  <a:pt x="4767" y="2118"/>
                </a:lnTo>
                <a:lnTo>
                  <a:pt x="4803" y="2118"/>
                </a:lnTo>
                <a:lnTo>
                  <a:pt x="4803" y="2149"/>
                </a:lnTo>
                <a:lnTo>
                  <a:pt x="4834" y="2149"/>
                </a:lnTo>
                <a:lnTo>
                  <a:pt x="4904" y="2184"/>
                </a:lnTo>
                <a:lnTo>
                  <a:pt x="4935" y="2220"/>
                </a:lnTo>
                <a:lnTo>
                  <a:pt x="4970" y="2220"/>
                </a:lnTo>
                <a:lnTo>
                  <a:pt x="5001" y="2220"/>
                </a:lnTo>
                <a:lnTo>
                  <a:pt x="5036" y="2220"/>
                </a:lnTo>
                <a:lnTo>
                  <a:pt x="5036" y="2250"/>
                </a:lnTo>
                <a:lnTo>
                  <a:pt x="5067" y="2250"/>
                </a:lnTo>
                <a:lnTo>
                  <a:pt x="5103" y="2250"/>
                </a:lnTo>
                <a:lnTo>
                  <a:pt x="5133" y="2250"/>
                </a:lnTo>
                <a:lnTo>
                  <a:pt x="5169" y="2250"/>
                </a:lnTo>
                <a:lnTo>
                  <a:pt x="5169" y="2286"/>
                </a:lnTo>
                <a:lnTo>
                  <a:pt x="5204" y="2286"/>
                </a:lnTo>
                <a:lnTo>
                  <a:pt x="5235" y="2286"/>
                </a:lnTo>
                <a:lnTo>
                  <a:pt x="5270" y="2317"/>
                </a:lnTo>
                <a:lnTo>
                  <a:pt x="5301" y="2317"/>
                </a:lnTo>
                <a:lnTo>
                  <a:pt x="5336" y="2317"/>
                </a:lnTo>
                <a:lnTo>
                  <a:pt x="5367" y="2317"/>
                </a:lnTo>
                <a:lnTo>
                  <a:pt x="5402" y="2317"/>
                </a:lnTo>
                <a:lnTo>
                  <a:pt x="5433" y="2317"/>
                </a:lnTo>
                <a:lnTo>
                  <a:pt x="5469" y="2317"/>
                </a:lnTo>
                <a:lnTo>
                  <a:pt x="5469" y="2352"/>
                </a:lnTo>
                <a:lnTo>
                  <a:pt x="5504" y="2352"/>
                </a:lnTo>
                <a:lnTo>
                  <a:pt x="5535" y="2352"/>
                </a:lnTo>
                <a:lnTo>
                  <a:pt x="5570" y="2352"/>
                </a:lnTo>
                <a:lnTo>
                  <a:pt x="5601" y="2352"/>
                </a:lnTo>
                <a:lnTo>
                  <a:pt x="5636" y="2387"/>
                </a:lnTo>
                <a:lnTo>
                  <a:pt x="5667" y="2387"/>
                </a:lnTo>
                <a:lnTo>
                  <a:pt x="5702" y="2387"/>
                </a:lnTo>
                <a:lnTo>
                  <a:pt x="5738" y="2387"/>
                </a:lnTo>
                <a:lnTo>
                  <a:pt x="5768" y="2387"/>
                </a:lnTo>
                <a:lnTo>
                  <a:pt x="5804" y="2387"/>
                </a:lnTo>
                <a:lnTo>
                  <a:pt x="5835" y="2387"/>
                </a:lnTo>
                <a:lnTo>
                  <a:pt x="5870" y="2387"/>
                </a:lnTo>
                <a:lnTo>
                  <a:pt x="5901" y="2418"/>
                </a:lnTo>
                <a:lnTo>
                  <a:pt x="5936" y="2418"/>
                </a:lnTo>
                <a:lnTo>
                  <a:pt x="5967" y="2418"/>
                </a:lnTo>
                <a:lnTo>
                  <a:pt x="6002" y="2418"/>
                </a:lnTo>
                <a:lnTo>
                  <a:pt x="6037" y="2418"/>
                </a:lnTo>
                <a:lnTo>
                  <a:pt x="6068" y="2418"/>
                </a:lnTo>
                <a:lnTo>
                  <a:pt x="6104" y="2418"/>
                </a:lnTo>
                <a:lnTo>
                  <a:pt x="6134" y="2418"/>
                </a:lnTo>
                <a:lnTo>
                  <a:pt x="6170" y="2418"/>
                </a:lnTo>
                <a:lnTo>
                  <a:pt x="6201" y="2418"/>
                </a:lnTo>
                <a:lnTo>
                  <a:pt x="6271" y="2453"/>
                </a:lnTo>
                <a:lnTo>
                  <a:pt x="6302" y="2453"/>
                </a:lnTo>
                <a:lnTo>
                  <a:pt x="6337" y="2453"/>
                </a:lnTo>
                <a:lnTo>
                  <a:pt x="6368" y="2453"/>
                </a:lnTo>
                <a:lnTo>
                  <a:pt x="6403" y="2453"/>
                </a:lnTo>
                <a:lnTo>
                  <a:pt x="6470" y="2453"/>
                </a:lnTo>
                <a:lnTo>
                  <a:pt x="6500" y="2453"/>
                </a:lnTo>
                <a:lnTo>
                  <a:pt x="6536" y="2453"/>
                </a:lnTo>
                <a:lnTo>
                  <a:pt x="6571" y="2453"/>
                </a:lnTo>
                <a:lnTo>
                  <a:pt x="6602" y="2484"/>
                </a:lnTo>
                <a:lnTo>
                  <a:pt x="6637" y="2484"/>
                </a:lnTo>
                <a:lnTo>
                  <a:pt x="6668" y="2484"/>
                </a:lnTo>
                <a:lnTo>
                  <a:pt x="6734" y="2484"/>
                </a:lnTo>
                <a:lnTo>
                  <a:pt x="6769" y="2484"/>
                </a:lnTo>
                <a:lnTo>
                  <a:pt x="6769" y="2519"/>
                </a:lnTo>
                <a:lnTo>
                  <a:pt x="6800" y="2519"/>
                </a:lnTo>
                <a:lnTo>
                  <a:pt x="6836" y="2555"/>
                </a:lnTo>
                <a:lnTo>
                  <a:pt x="6871" y="2555"/>
                </a:lnTo>
                <a:lnTo>
                  <a:pt x="6902" y="2586"/>
                </a:lnTo>
                <a:lnTo>
                  <a:pt x="6937" y="2586"/>
                </a:lnTo>
                <a:lnTo>
                  <a:pt x="6968" y="2586"/>
                </a:lnTo>
                <a:lnTo>
                  <a:pt x="7003" y="2586"/>
                </a:lnTo>
                <a:lnTo>
                  <a:pt x="7034" y="2586"/>
                </a:lnTo>
                <a:lnTo>
                  <a:pt x="7069" y="2586"/>
                </a:lnTo>
                <a:lnTo>
                  <a:pt x="7105" y="2586"/>
                </a:lnTo>
                <a:lnTo>
                  <a:pt x="7135" y="2586"/>
                </a:lnTo>
                <a:lnTo>
                  <a:pt x="7171" y="2586"/>
                </a:lnTo>
                <a:lnTo>
                  <a:pt x="7237" y="2586"/>
                </a:lnTo>
                <a:lnTo>
                  <a:pt x="7268" y="2586"/>
                </a:lnTo>
                <a:lnTo>
                  <a:pt x="7303" y="2586"/>
                </a:lnTo>
                <a:lnTo>
                  <a:pt x="7334" y="2586"/>
                </a:lnTo>
                <a:lnTo>
                  <a:pt x="7369" y="2586"/>
                </a:lnTo>
                <a:lnTo>
                  <a:pt x="7404" y="2586"/>
                </a:lnTo>
                <a:lnTo>
                  <a:pt x="7435" y="2586"/>
                </a:lnTo>
                <a:lnTo>
                  <a:pt x="7471" y="2555"/>
                </a:lnTo>
                <a:lnTo>
                  <a:pt x="7501" y="2555"/>
                </a:lnTo>
                <a:lnTo>
                  <a:pt x="7537" y="2555"/>
                </a:lnTo>
                <a:lnTo>
                  <a:pt x="7568" y="2555"/>
                </a:lnTo>
                <a:lnTo>
                  <a:pt x="7638" y="2555"/>
                </a:lnTo>
                <a:lnTo>
                  <a:pt x="7669" y="2555"/>
                </a:lnTo>
                <a:lnTo>
                  <a:pt x="7735" y="2519"/>
                </a:lnTo>
                <a:lnTo>
                  <a:pt x="7801" y="2519"/>
                </a:lnTo>
                <a:lnTo>
                  <a:pt x="7770" y="2586"/>
                </a:lnTo>
                <a:lnTo>
                  <a:pt x="7801" y="2586"/>
                </a:lnTo>
                <a:lnTo>
                  <a:pt x="7770" y="2652"/>
                </a:lnTo>
                <a:lnTo>
                  <a:pt x="7770" y="2722"/>
                </a:lnTo>
                <a:lnTo>
                  <a:pt x="7735" y="2753"/>
                </a:lnTo>
                <a:lnTo>
                  <a:pt x="7770" y="2753"/>
                </a:lnTo>
                <a:lnTo>
                  <a:pt x="7801" y="2753"/>
                </a:lnTo>
                <a:lnTo>
                  <a:pt x="7837" y="2722"/>
                </a:lnTo>
                <a:lnTo>
                  <a:pt x="7867" y="2722"/>
                </a:lnTo>
                <a:lnTo>
                  <a:pt x="7903" y="2687"/>
                </a:lnTo>
                <a:lnTo>
                  <a:pt x="7938" y="2687"/>
                </a:lnTo>
                <a:lnTo>
                  <a:pt x="7969" y="2687"/>
                </a:lnTo>
                <a:lnTo>
                  <a:pt x="7969" y="2652"/>
                </a:lnTo>
                <a:lnTo>
                  <a:pt x="8004" y="2652"/>
                </a:lnTo>
                <a:lnTo>
                  <a:pt x="8035" y="2652"/>
                </a:lnTo>
                <a:lnTo>
                  <a:pt x="8070" y="2652"/>
                </a:lnTo>
                <a:lnTo>
                  <a:pt x="8101" y="2652"/>
                </a:lnTo>
                <a:lnTo>
                  <a:pt x="8136" y="2687"/>
                </a:lnTo>
                <a:lnTo>
                  <a:pt x="8172" y="2687"/>
                </a:lnTo>
                <a:lnTo>
                  <a:pt x="8172" y="2722"/>
                </a:lnTo>
                <a:lnTo>
                  <a:pt x="8203" y="2722"/>
                </a:lnTo>
                <a:lnTo>
                  <a:pt x="8203" y="2753"/>
                </a:lnTo>
                <a:lnTo>
                  <a:pt x="8269" y="2722"/>
                </a:lnTo>
                <a:lnTo>
                  <a:pt x="8370" y="2687"/>
                </a:lnTo>
                <a:lnTo>
                  <a:pt x="8401" y="2687"/>
                </a:lnTo>
                <a:lnTo>
                  <a:pt x="8436" y="2687"/>
                </a:lnTo>
                <a:lnTo>
                  <a:pt x="8472" y="2687"/>
                </a:lnTo>
                <a:lnTo>
                  <a:pt x="8502" y="2687"/>
                </a:lnTo>
                <a:lnTo>
                  <a:pt x="8502" y="2722"/>
                </a:lnTo>
                <a:lnTo>
                  <a:pt x="8538" y="2722"/>
                </a:lnTo>
                <a:lnTo>
                  <a:pt x="8569" y="27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81280" y="2049480"/>
            <a:ext cx="505080" cy="2562480"/>
          </a:xfrm>
          <a:custGeom>
            <a:avLst/>
            <a:gdLst/>
            <a:ahLst/>
            <a:rect l="0" t="0" r="r" b="b"/>
            <a:pathLst>
              <a:path fill="none" w="1403" h="7118">
                <a:moveTo>
                  <a:pt x="803" y="7118"/>
                </a:moveTo>
                <a:lnTo>
                  <a:pt x="803" y="7083"/>
                </a:lnTo>
                <a:lnTo>
                  <a:pt x="834" y="7083"/>
                </a:lnTo>
                <a:lnTo>
                  <a:pt x="834" y="7047"/>
                </a:lnTo>
                <a:lnTo>
                  <a:pt x="869" y="7047"/>
                </a:lnTo>
                <a:lnTo>
                  <a:pt x="869" y="7016"/>
                </a:lnTo>
                <a:lnTo>
                  <a:pt x="900" y="7016"/>
                </a:lnTo>
                <a:lnTo>
                  <a:pt x="900" y="6981"/>
                </a:lnTo>
                <a:lnTo>
                  <a:pt x="935" y="6981"/>
                </a:lnTo>
                <a:lnTo>
                  <a:pt x="935" y="6950"/>
                </a:lnTo>
                <a:lnTo>
                  <a:pt x="935" y="6915"/>
                </a:lnTo>
                <a:lnTo>
                  <a:pt x="966" y="6915"/>
                </a:lnTo>
                <a:lnTo>
                  <a:pt x="966" y="6880"/>
                </a:lnTo>
                <a:lnTo>
                  <a:pt x="966" y="6849"/>
                </a:lnTo>
                <a:lnTo>
                  <a:pt x="966" y="6814"/>
                </a:lnTo>
                <a:lnTo>
                  <a:pt x="966" y="6778"/>
                </a:lnTo>
                <a:lnTo>
                  <a:pt x="966" y="6747"/>
                </a:lnTo>
                <a:lnTo>
                  <a:pt x="966" y="6712"/>
                </a:lnTo>
                <a:lnTo>
                  <a:pt x="1002" y="6712"/>
                </a:lnTo>
                <a:lnTo>
                  <a:pt x="1002" y="6681"/>
                </a:lnTo>
                <a:lnTo>
                  <a:pt x="1002" y="6646"/>
                </a:lnTo>
                <a:lnTo>
                  <a:pt x="1002" y="6611"/>
                </a:lnTo>
                <a:lnTo>
                  <a:pt x="1002" y="6580"/>
                </a:lnTo>
                <a:lnTo>
                  <a:pt x="1037" y="6580"/>
                </a:lnTo>
                <a:lnTo>
                  <a:pt x="1037" y="6545"/>
                </a:lnTo>
                <a:lnTo>
                  <a:pt x="1037" y="6514"/>
                </a:lnTo>
                <a:lnTo>
                  <a:pt x="1068" y="6514"/>
                </a:lnTo>
                <a:lnTo>
                  <a:pt x="1068" y="6478"/>
                </a:lnTo>
                <a:lnTo>
                  <a:pt x="1103" y="6478"/>
                </a:lnTo>
                <a:lnTo>
                  <a:pt x="1103" y="6443"/>
                </a:lnTo>
                <a:lnTo>
                  <a:pt x="1103" y="6412"/>
                </a:lnTo>
                <a:lnTo>
                  <a:pt x="1134" y="6412"/>
                </a:lnTo>
                <a:lnTo>
                  <a:pt x="1134" y="6377"/>
                </a:lnTo>
                <a:lnTo>
                  <a:pt x="1134" y="6346"/>
                </a:lnTo>
                <a:lnTo>
                  <a:pt x="1134" y="6311"/>
                </a:lnTo>
                <a:lnTo>
                  <a:pt x="1134" y="6276"/>
                </a:lnTo>
                <a:lnTo>
                  <a:pt x="1134" y="6245"/>
                </a:lnTo>
                <a:lnTo>
                  <a:pt x="1134" y="6209"/>
                </a:lnTo>
                <a:lnTo>
                  <a:pt x="1134" y="6174"/>
                </a:lnTo>
                <a:lnTo>
                  <a:pt x="1134" y="6143"/>
                </a:lnTo>
                <a:lnTo>
                  <a:pt x="1134" y="6108"/>
                </a:lnTo>
                <a:lnTo>
                  <a:pt x="1134" y="6077"/>
                </a:lnTo>
                <a:lnTo>
                  <a:pt x="1134" y="6042"/>
                </a:lnTo>
                <a:lnTo>
                  <a:pt x="1103" y="6042"/>
                </a:lnTo>
                <a:lnTo>
                  <a:pt x="1103" y="6007"/>
                </a:lnTo>
                <a:lnTo>
                  <a:pt x="1068" y="5976"/>
                </a:lnTo>
                <a:lnTo>
                  <a:pt x="1068" y="5940"/>
                </a:lnTo>
                <a:lnTo>
                  <a:pt x="1068" y="5874"/>
                </a:lnTo>
                <a:lnTo>
                  <a:pt x="1068" y="5839"/>
                </a:lnTo>
                <a:lnTo>
                  <a:pt x="1068" y="5808"/>
                </a:lnTo>
                <a:lnTo>
                  <a:pt x="1103" y="5773"/>
                </a:lnTo>
                <a:lnTo>
                  <a:pt x="1103" y="5742"/>
                </a:lnTo>
                <a:lnTo>
                  <a:pt x="1103" y="5707"/>
                </a:lnTo>
                <a:lnTo>
                  <a:pt x="1103" y="5671"/>
                </a:lnTo>
                <a:lnTo>
                  <a:pt x="1103" y="5641"/>
                </a:lnTo>
                <a:lnTo>
                  <a:pt x="1103" y="5605"/>
                </a:lnTo>
                <a:lnTo>
                  <a:pt x="1103" y="5574"/>
                </a:lnTo>
                <a:lnTo>
                  <a:pt x="1103" y="5539"/>
                </a:lnTo>
                <a:lnTo>
                  <a:pt x="1103" y="5504"/>
                </a:lnTo>
                <a:lnTo>
                  <a:pt x="1068" y="5504"/>
                </a:lnTo>
                <a:lnTo>
                  <a:pt x="1068" y="5473"/>
                </a:lnTo>
                <a:lnTo>
                  <a:pt x="1068" y="5438"/>
                </a:lnTo>
                <a:lnTo>
                  <a:pt x="1068" y="5402"/>
                </a:lnTo>
                <a:lnTo>
                  <a:pt x="1068" y="5372"/>
                </a:lnTo>
                <a:lnTo>
                  <a:pt x="1068" y="5336"/>
                </a:lnTo>
                <a:lnTo>
                  <a:pt x="1068" y="5305"/>
                </a:lnTo>
                <a:lnTo>
                  <a:pt x="1037" y="5270"/>
                </a:lnTo>
                <a:lnTo>
                  <a:pt x="1037" y="5235"/>
                </a:lnTo>
                <a:lnTo>
                  <a:pt x="1037" y="5204"/>
                </a:lnTo>
                <a:lnTo>
                  <a:pt x="1037" y="5169"/>
                </a:lnTo>
                <a:lnTo>
                  <a:pt x="1037" y="5138"/>
                </a:lnTo>
                <a:lnTo>
                  <a:pt x="1037" y="5103"/>
                </a:lnTo>
                <a:lnTo>
                  <a:pt x="1037" y="5067"/>
                </a:lnTo>
                <a:lnTo>
                  <a:pt x="1037" y="5036"/>
                </a:lnTo>
                <a:lnTo>
                  <a:pt x="1037" y="5001"/>
                </a:lnTo>
                <a:lnTo>
                  <a:pt x="1037" y="4970"/>
                </a:lnTo>
                <a:lnTo>
                  <a:pt x="1037" y="4935"/>
                </a:lnTo>
                <a:lnTo>
                  <a:pt x="1037" y="4900"/>
                </a:lnTo>
                <a:lnTo>
                  <a:pt x="1037" y="4869"/>
                </a:lnTo>
                <a:lnTo>
                  <a:pt x="1037" y="4834"/>
                </a:lnTo>
                <a:lnTo>
                  <a:pt x="1037" y="4798"/>
                </a:lnTo>
                <a:lnTo>
                  <a:pt x="1037" y="4767"/>
                </a:lnTo>
                <a:lnTo>
                  <a:pt x="1037" y="4732"/>
                </a:lnTo>
                <a:lnTo>
                  <a:pt x="1037" y="4701"/>
                </a:lnTo>
                <a:lnTo>
                  <a:pt x="1037" y="4666"/>
                </a:lnTo>
                <a:lnTo>
                  <a:pt x="1037" y="4631"/>
                </a:lnTo>
                <a:lnTo>
                  <a:pt x="1037" y="4600"/>
                </a:lnTo>
                <a:lnTo>
                  <a:pt x="1037" y="4565"/>
                </a:lnTo>
                <a:lnTo>
                  <a:pt x="1037" y="4534"/>
                </a:lnTo>
                <a:lnTo>
                  <a:pt x="1037" y="4498"/>
                </a:lnTo>
                <a:lnTo>
                  <a:pt x="1037" y="4463"/>
                </a:lnTo>
                <a:lnTo>
                  <a:pt x="1037" y="4432"/>
                </a:lnTo>
                <a:lnTo>
                  <a:pt x="1037" y="4397"/>
                </a:lnTo>
                <a:lnTo>
                  <a:pt x="1037" y="4366"/>
                </a:lnTo>
                <a:lnTo>
                  <a:pt x="1037" y="4331"/>
                </a:lnTo>
                <a:lnTo>
                  <a:pt x="1068" y="4296"/>
                </a:lnTo>
                <a:lnTo>
                  <a:pt x="1068" y="4265"/>
                </a:lnTo>
                <a:lnTo>
                  <a:pt x="1068" y="4229"/>
                </a:lnTo>
                <a:lnTo>
                  <a:pt x="1103" y="4194"/>
                </a:lnTo>
                <a:lnTo>
                  <a:pt x="1103" y="4163"/>
                </a:lnTo>
                <a:lnTo>
                  <a:pt x="1103" y="4128"/>
                </a:lnTo>
                <a:lnTo>
                  <a:pt x="1103" y="4097"/>
                </a:lnTo>
                <a:lnTo>
                  <a:pt x="1103" y="4062"/>
                </a:lnTo>
                <a:lnTo>
                  <a:pt x="1103" y="4027"/>
                </a:lnTo>
                <a:lnTo>
                  <a:pt x="1103" y="3996"/>
                </a:lnTo>
                <a:lnTo>
                  <a:pt x="1134" y="3996"/>
                </a:lnTo>
                <a:lnTo>
                  <a:pt x="1134" y="3960"/>
                </a:lnTo>
                <a:lnTo>
                  <a:pt x="1134" y="3930"/>
                </a:lnTo>
                <a:lnTo>
                  <a:pt x="1134" y="3894"/>
                </a:lnTo>
                <a:lnTo>
                  <a:pt x="1134" y="3859"/>
                </a:lnTo>
                <a:lnTo>
                  <a:pt x="1134" y="3828"/>
                </a:lnTo>
                <a:lnTo>
                  <a:pt x="1103" y="3828"/>
                </a:lnTo>
                <a:lnTo>
                  <a:pt x="1103" y="3793"/>
                </a:lnTo>
                <a:lnTo>
                  <a:pt x="1103" y="3762"/>
                </a:lnTo>
                <a:lnTo>
                  <a:pt x="1103" y="3727"/>
                </a:lnTo>
                <a:lnTo>
                  <a:pt x="1103" y="3691"/>
                </a:lnTo>
                <a:lnTo>
                  <a:pt x="1103" y="3661"/>
                </a:lnTo>
                <a:lnTo>
                  <a:pt x="1103" y="3625"/>
                </a:lnTo>
                <a:lnTo>
                  <a:pt x="1103" y="3594"/>
                </a:lnTo>
                <a:lnTo>
                  <a:pt x="1103" y="3558"/>
                </a:lnTo>
                <a:lnTo>
                  <a:pt x="1103" y="3523"/>
                </a:lnTo>
                <a:lnTo>
                  <a:pt x="1134" y="3492"/>
                </a:lnTo>
                <a:lnTo>
                  <a:pt x="1134" y="3457"/>
                </a:lnTo>
                <a:lnTo>
                  <a:pt x="1134" y="3421"/>
                </a:lnTo>
                <a:lnTo>
                  <a:pt x="1134" y="3391"/>
                </a:lnTo>
                <a:lnTo>
                  <a:pt x="1134" y="3355"/>
                </a:lnTo>
                <a:lnTo>
                  <a:pt x="1134" y="3324"/>
                </a:lnTo>
                <a:lnTo>
                  <a:pt x="1134" y="3289"/>
                </a:lnTo>
                <a:lnTo>
                  <a:pt x="1134" y="3254"/>
                </a:lnTo>
                <a:lnTo>
                  <a:pt x="1134" y="3223"/>
                </a:lnTo>
                <a:lnTo>
                  <a:pt x="1134" y="3188"/>
                </a:lnTo>
                <a:lnTo>
                  <a:pt x="1134" y="3157"/>
                </a:lnTo>
                <a:lnTo>
                  <a:pt x="1134" y="3122"/>
                </a:lnTo>
                <a:lnTo>
                  <a:pt x="1134" y="3086"/>
                </a:lnTo>
                <a:lnTo>
                  <a:pt x="1134" y="3055"/>
                </a:lnTo>
                <a:lnTo>
                  <a:pt x="1169" y="3055"/>
                </a:lnTo>
                <a:lnTo>
                  <a:pt x="1200" y="3055"/>
                </a:lnTo>
                <a:lnTo>
                  <a:pt x="1200" y="3020"/>
                </a:lnTo>
                <a:lnTo>
                  <a:pt x="1200" y="2989"/>
                </a:lnTo>
                <a:lnTo>
                  <a:pt x="1200" y="2954"/>
                </a:lnTo>
                <a:lnTo>
                  <a:pt x="1200" y="2919"/>
                </a:lnTo>
                <a:lnTo>
                  <a:pt x="1200" y="2888"/>
                </a:lnTo>
                <a:lnTo>
                  <a:pt x="1169" y="2888"/>
                </a:lnTo>
                <a:lnTo>
                  <a:pt x="1169" y="2853"/>
                </a:lnTo>
                <a:lnTo>
                  <a:pt x="1134" y="2853"/>
                </a:lnTo>
                <a:lnTo>
                  <a:pt x="1134" y="2817"/>
                </a:lnTo>
                <a:lnTo>
                  <a:pt x="1103" y="2817"/>
                </a:lnTo>
                <a:lnTo>
                  <a:pt x="1103" y="2786"/>
                </a:lnTo>
                <a:lnTo>
                  <a:pt x="1103" y="2751"/>
                </a:lnTo>
                <a:lnTo>
                  <a:pt x="1068" y="2751"/>
                </a:lnTo>
                <a:lnTo>
                  <a:pt x="1068" y="2720"/>
                </a:lnTo>
                <a:lnTo>
                  <a:pt x="1037" y="2720"/>
                </a:lnTo>
                <a:lnTo>
                  <a:pt x="1037" y="2685"/>
                </a:lnTo>
                <a:lnTo>
                  <a:pt x="1002" y="2685"/>
                </a:lnTo>
                <a:lnTo>
                  <a:pt x="1002" y="2650"/>
                </a:lnTo>
                <a:lnTo>
                  <a:pt x="966" y="2650"/>
                </a:lnTo>
                <a:lnTo>
                  <a:pt x="966" y="2619"/>
                </a:lnTo>
                <a:lnTo>
                  <a:pt x="935" y="2619"/>
                </a:lnTo>
                <a:lnTo>
                  <a:pt x="935" y="2584"/>
                </a:lnTo>
                <a:lnTo>
                  <a:pt x="900" y="2584"/>
                </a:lnTo>
                <a:lnTo>
                  <a:pt x="900" y="2553"/>
                </a:lnTo>
                <a:lnTo>
                  <a:pt x="869" y="2553"/>
                </a:lnTo>
                <a:lnTo>
                  <a:pt x="869" y="2517"/>
                </a:lnTo>
                <a:lnTo>
                  <a:pt x="834" y="2517"/>
                </a:lnTo>
                <a:lnTo>
                  <a:pt x="803" y="2482"/>
                </a:lnTo>
                <a:lnTo>
                  <a:pt x="803" y="2451"/>
                </a:lnTo>
                <a:lnTo>
                  <a:pt x="768" y="2451"/>
                </a:lnTo>
                <a:lnTo>
                  <a:pt x="768" y="2416"/>
                </a:lnTo>
                <a:lnTo>
                  <a:pt x="733" y="2416"/>
                </a:lnTo>
                <a:lnTo>
                  <a:pt x="702" y="2385"/>
                </a:lnTo>
                <a:lnTo>
                  <a:pt x="665" y="2385"/>
                </a:lnTo>
                <a:lnTo>
                  <a:pt x="634" y="2385"/>
                </a:lnTo>
                <a:lnTo>
                  <a:pt x="599" y="2350"/>
                </a:lnTo>
                <a:lnTo>
                  <a:pt x="568" y="2350"/>
                </a:lnTo>
                <a:lnTo>
                  <a:pt x="533" y="2350"/>
                </a:lnTo>
                <a:lnTo>
                  <a:pt x="533" y="2315"/>
                </a:lnTo>
                <a:lnTo>
                  <a:pt x="502" y="2284"/>
                </a:lnTo>
                <a:lnTo>
                  <a:pt x="467" y="2284"/>
                </a:lnTo>
                <a:lnTo>
                  <a:pt x="467" y="2248"/>
                </a:lnTo>
                <a:lnTo>
                  <a:pt x="432" y="2248"/>
                </a:lnTo>
                <a:lnTo>
                  <a:pt x="432" y="2213"/>
                </a:lnTo>
                <a:lnTo>
                  <a:pt x="401" y="2213"/>
                </a:lnTo>
                <a:lnTo>
                  <a:pt x="401" y="2182"/>
                </a:lnTo>
                <a:lnTo>
                  <a:pt x="366" y="2182"/>
                </a:lnTo>
                <a:lnTo>
                  <a:pt x="366" y="2147"/>
                </a:lnTo>
                <a:lnTo>
                  <a:pt x="335" y="2147"/>
                </a:lnTo>
                <a:lnTo>
                  <a:pt x="335" y="2116"/>
                </a:lnTo>
                <a:lnTo>
                  <a:pt x="299" y="2116"/>
                </a:lnTo>
                <a:lnTo>
                  <a:pt x="299" y="2081"/>
                </a:lnTo>
                <a:lnTo>
                  <a:pt x="268" y="2081"/>
                </a:lnTo>
                <a:lnTo>
                  <a:pt x="233" y="2081"/>
                </a:lnTo>
                <a:lnTo>
                  <a:pt x="233" y="2046"/>
                </a:lnTo>
                <a:lnTo>
                  <a:pt x="233" y="2015"/>
                </a:lnTo>
                <a:lnTo>
                  <a:pt x="198" y="2015"/>
                </a:lnTo>
                <a:lnTo>
                  <a:pt x="198" y="1979"/>
                </a:lnTo>
                <a:lnTo>
                  <a:pt x="167" y="1979"/>
                </a:lnTo>
                <a:lnTo>
                  <a:pt x="167" y="1949"/>
                </a:lnTo>
                <a:lnTo>
                  <a:pt x="132" y="1949"/>
                </a:lnTo>
                <a:lnTo>
                  <a:pt x="132" y="1913"/>
                </a:lnTo>
                <a:lnTo>
                  <a:pt x="132" y="1878"/>
                </a:lnTo>
                <a:lnTo>
                  <a:pt x="101" y="1847"/>
                </a:lnTo>
                <a:lnTo>
                  <a:pt x="101" y="1812"/>
                </a:lnTo>
                <a:lnTo>
                  <a:pt x="101" y="1781"/>
                </a:lnTo>
                <a:lnTo>
                  <a:pt x="101" y="1746"/>
                </a:lnTo>
                <a:lnTo>
                  <a:pt x="66" y="1746"/>
                </a:lnTo>
                <a:lnTo>
                  <a:pt x="66" y="1710"/>
                </a:lnTo>
                <a:lnTo>
                  <a:pt x="66" y="1680"/>
                </a:lnTo>
                <a:lnTo>
                  <a:pt x="35" y="1680"/>
                </a:lnTo>
                <a:lnTo>
                  <a:pt x="35" y="1644"/>
                </a:lnTo>
                <a:lnTo>
                  <a:pt x="35" y="1609"/>
                </a:lnTo>
                <a:lnTo>
                  <a:pt x="35" y="1578"/>
                </a:lnTo>
                <a:lnTo>
                  <a:pt x="35" y="1543"/>
                </a:lnTo>
                <a:lnTo>
                  <a:pt x="0" y="1543"/>
                </a:lnTo>
                <a:lnTo>
                  <a:pt x="0" y="1512"/>
                </a:lnTo>
                <a:lnTo>
                  <a:pt x="0" y="1477"/>
                </a:lnTo>
                <a:lnTo>
                  <a:pt x="0" y="1441"/>
                </a:lnTo>
                <a:lnTo>
                  <a:pt x="0" y="1411"/>
                </a:lnTo>
                <a:lnTo>
                  <a:pt x="0" y="1375"/>
                </a:lnTo>
                <a:lnTo>
                  <a:pt x="0" y="1344"/>
                </a:lnTo>
                <a:lnTo>
                  <a:pt x="0" y="1309"/>
                </a:lnTo>
                <a:lnTo>
                  <a:pt x="0" y="1274"/>
                </a:lnTo>
                <a:lnTo>
                  <a:pt x="0" y="1243"/>
                </a:lnTo>
                <a:lnTo>
                  <a:pt x="0" y="1208"/>
                </a:lnTo>
                <a:lnTo>
                  <a:pt x="35" y="1208"/>
                </a:lnTo>
                <a:lnTo>
                  <a:pt x="35" y="1177"/>
                </a:lnTo>
                <a:lnTo>
                  <a:pt x="66" y="1177"/>
                </a:lnTo>
                <a:lnTo>
                  <a:pt x="66" y="1142"/>
                </a:lnTo>
                <a:lnTo>
                  <a:pt x="101" y="1142"/>
                </a:lnTo>
                <a:lnTo>
                  <a:pt x="101" y="1106"/>
                </a:lnTo>
                <a:lnTo>
                  <a:pt x="132" y="1106"/>
                </a:lnTo>
                <a:lnTo>
                  <a:pt x="167" y="1075"/>
                </a:lnTo>
                <a:lnTo>
                  <a:pt x="198" y="1075"/>
                </a:lnTo>
                <a:lnTo>
                  <a:pt x="198" y="1040"/>
                </a:lnTo>
                <a:lnTo>
                  <a:pt x="233" y="1009"/>
                </a:lnTo>
                <a:lnTo>
                  <a:pt x="233" y="974"/>
                </a:lnTo>
                <a:lnTo>
                  <a:pt x="268" y="974"/>
                </a:lnTo>
                <a:lnTo>
                  <a:pt x="268" y="939"/>
                </a:lnTo>
                <a:lnTo>
                  <a:pt x="299" y="939"/>
                </a:lnTo>
                <a:lnTo>
                  <a:pt x="299" y="908"/>
                </a:lnTo>
                <a:lnTo>
                  <a:pt x="335" y="908"/>
                </a:lnTo>
                <a:lnTo>
                  <a:pt x="335" y="873"/>
                </a:lnTo>
                <a:lnTo>
                  <a:pt x="335" y="837"/>
                </a:lnTo>
                <a:lnTo>
                  <a:pt x="366" y="837"/>
                </a:lnTo>
                <a:lnTo>
                  <a:pt x="401" y="806"/>
                </a:lnTo>
                <a:lnTo>
                  <a:pt x="401" y="771"/>
                </a:lnTo>
                <a:lnTo>
                  <a:pt x="432" y="771"/>
                </a:lnTo>
                <a:lnTo>
                  <a:pt x="432" y="740"/>
                </a:lnTo>
                <a:lnTo>
                  <a:pt x="467" y="740"/>
                </a:lnTo>
                <a:lnTo>
                  <a:pt x="467" y="705"/>
                </a:lnTo>
                <a:lnTo>
                  <a:pt x="502" y="705"/>
                </a:lnTo>
                <a:lnTo>
                  <a:pt x="502" y="670"/>
                </a:lnTo>
                <a:lnTo>
                  <a:pt x="533" y="670"/>
                </a:lnTo>
                <a:lnTo>
                  <a:pt x="533" y="639"/>
                </a:lnTo>
                <a:lnTo>
                  <a:pt x="568" y="639"/>
                </a:lnTo>
                <a:lnTo>
                  <a:pt x="568" y="604"/>
                </a:lnTo>
                <a:lnTo>
                  <a:pt x="599" y="604"/>
                </a:lnTo>
                <a:lnTo>
                  <a:pt x="599" y="573"/>
                </a:lnTo>
                <a:lnTo>
                  <a:pt x="634" y="573"/>
                </a:lnTo>
                <a:lnTo>
                  <a:pt x="634" y="537"/>
                </a:lnTo>
                <a:lnTo>
                  <a:pt x="665" y="537"/>
                </a:lnTo>
                <a:lnTo>
                  <a:pt x="665" y="502"/>
                </a:lnTo>
                <a:lnTo>
                  <a:pt x="702" y="502"/>
                </a:lnTo>
                <a:lnTo>
                  <a:pt x="733" y="471"/>
                </a:lnTo>
                <a:lnTo>
                  <a:pt x="733" y="436"/>
                </a:lnTo>
                <a:lnTo>
                  <a:pt x="768" y="436"/>
                </a:lnTo>
                <a:lnTo>
                  <a:pt x="768" y="405"/>
                </a:lnTo>
                <a:lnTo>
                  <a:pt x="803" y="405"/>
                </a:lnTo>
                <a:lnTo>
                  <a:pt x="834" y="405"/>
                </a:lnTo>
                <a:lnTo>
                  <a:pt x="869" y="405"/>
                </a:lnTo>
                <a:lnTo>
                  <a:pt x="869" y="370"/>
                </a:lnTo>
                <a:lnTo>
                  <a:pt x="900" y="370"/>
                </a:lnTo>
                <a:lnTo>
                  <a:pt x="900" y="335"/>
                </a:lnTo>
                <a:lnTo>
                  <a:pt x="935" y="335"/>
                </a:lnTo>
                <a:lnTo>
                  <a:pt x="966" y="335"/>
                </a:lnTo>
                <a:lnTo>
                  <a:pt x="966" y="304"/>
                </a:lnTo>
                <a:lnTo>
                  <a:pt x="1002" y="304"/>
                </a:lnTo>
                <a:lnTo>
                  <a:pt x="1002" y="268"/>
                </a:lnTo>
                <a:lnTo>
                  <a:pt x="1037" y="268"/>
                </a:lnTo>
                <a:lnTo>
                  <a:pt x="1068" y="233"/>
                </a:lnTo>
                <a:lnTo>
                  <a:pt x="1068" y="202"/>
                </a:lnTo>
                <a:lnTo>
                  <a:pt x="1103" y="202"/>
                </a:lnTo>
                <a:lnTo>
                  <a:pt x="1103" y="167"/>
                </a:lnTo>
                <a:lnTo>
                  <a:pt x="1103" y="136"/>
                </a:lnTo>
                <a:lnTo>
                  <a:pt x="1134" y="136"/>
                </a:lnTo>
                <a:lnTo>
                  <a:pt x="1134" y="101"/>
                </a:lnTo>
                <a:lnTo>
                  <a:pt x="1169" y="101"/>
                </a:lnTo>
                <a:lnTo>
                  <a:pt x="1169" y="66"/>
                </a:lnTo>
                <a:lnTo>
                  <a:pt x="1200" y="66"/>
                </a:lnTo>
                <a:lnTo>
                  <a:pt x="1235" y="66"/>
                </a:lnTo>
                <a:lnTo>
                  <a:pt x="1235" y="35"/>
                </a:lnTo>
                <a:lnTo>
                  <a:pt x="1266" y="35"/>
                </a:lnTo>
                <a:lnTo>
                  <a:pt x="1301" y="35"/>
                </a:lnTo>
                <a:lnTo>
                  <a:pt x="1337" y="35"/>
                </a:lnTo>
                <a:lnTo>
                  <a:pt x="1368" y="35"/>
                </a:lnTo>
                <a:lnTo>
                  <a:pt x="140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65280" y="2036880"/>
            <a:ext cx="659160" cy="1014840"/>
          </a:xfrm>
          <a:custGeom>
            <a:avLst/>
            <a:gdLst/>
            <a:ahLst/>
            <a:rect l="0" t="0" r="r" b="b"/>
            <a:pathLst>
              <a:path w="1831" h="2819">
                <a:moveTo>
                  <a:pt x="815" y="66"/>
                </a:moveTo>
                <a:lnTo>
                  <a:pt x="784" y="66"/>
                </a:lnTo>
                <a:lnTo>
                  <a:pt x="754" y="66"/>
                </a:lnTo>
                <a:lnTo>
                  <a:pt x="718" y="66"/>
                </a:lnTo>
                <a:lnTo>
                  <a:pt x="683" y="66"/>
                </a:lnTo>
                <a:lnTo>
                  <a:pt x="683" y="101"/>
                </a:lnTo>
                <a:lnTo>
                  <a:pt x="652" y="101"/>
                </a:lnTo>
                <a:lnTo>
                  <a:pt x="617" y="101"/>
                </a:lnTo>
                <a:lnTo>
                  <a:pt x="586" y="101"/>
                </a:lnTo>
                <a:lnTo>
                  <a:pt x="555" y="101"/>
                </a:lnTo>
                <a:lnTo>
                  <a:pt x="555" y="136"/>
                </a:lnTo>
                <a:lnTo>
                  <a:pt x="524" y="136"/>
                </a:lnTo>
                <a:lnTo>
                  <a:pt x="489" y="136"/>
                </a:lnTo>
                <a:lnTo>
                  <a:pt x="458" y="136"/>
                </a:lnTo>
                <a:lnTo>
                  <a:pt x="423" y="136"/>
                </a:lnTo>
                <a:lnTo>
                  <a:pt x="423" y="167"/>
                </a:lnTo>
                <a:lnTo>
                  <a:pt x="388" y="167"/>
                </a:lnTo>
                <a:lnTo>
                  <a:pt x="388" y="198"/>
                </a:lnTo>
                <a:lnTo>
                  <a:pt x="357" y="198"/>
                </a:lnTo>
                <a:lnTo>
                  <a:pt x="357" y="229"/>
                </a:lnTo>
                <a:lnTo>
                  <a:pt x="357" y="264"/>
                </a:lnTo>
                <a:lnTo>
                  <a:pt x="357" y="299"/>
                </a:lnTo>
                <a:lnTo>
                  <a:pt x="357" y="330"/>
                </a:lnTo>
                <a:lnTo>
                  <a:pt x="357" y="366"/>
                </a:lnTo>
                <a:lnTo>
                  <a:pt x="326" y="366"/>
                </a:lnTo>
                <a:lnTo>
                  <a:pt x="326" y="401"/>
                </a:lnTo>
                <a:lnTo>
                  <a:pt x="295" y="432"/>
                </a:lnTo>
                <a:lnTo>
                  <a:pt x="295" y="467"/>
                </a:lnTo>
                <a:lnTo>
                  <a:pt x="295" y="498"/>
                </a:lnTo>
                <a:lnTo>
                  <a:pt x="260" y="498"/>
                </a:lnTo>
                <a:lnTo>
                  <a:pt x="260" y="529"/>
                </a:lnTo>
                <a:lnTo>
                  <a:pt x="260" y="564"/>
                </a:lnTo>
                <a:lnTo>
                  <a:pt x="229" y="564"/>
                </a:lnTo>
                <a:lnTo>
                  <a:pt x="229" y="595"/>
                </a:lnTo>
                <a:lnTo>
                  <a:pt x="229" y="630"/>
                </a:lnTo>
                <a:lnTo>
                  <a:pt x="194" y="630"/>
                </a:lnTo>
                <a:lnTo>
                  <a:pt x="194" y="661"/>
                </a:lnTo>
                <a:lnTo>
                  <a:pt x="194" y="696"/>
                </a:lnTo>
                <a:lnTo>
                  <a:pt x="158" y="696"/>
                </a:lnTo>
                <a:lnTo>
                  <a:pt x="158" y="733"/>
                </a:lnTo>
                <a:lnTo>
                  <a:pt x="127" y="763"/>
                </a:lnTo>
                <a:lnTo>
                  <a:pt x="127" y="799"/>
                </a:lnTo>
                <a:lnTo>
                  <a:pt x="127" y="830"/>
                </a:lnTo>
                <a:lnTo>
                  <a:pt x="97" y="830"/>
                </a:lnTo>
                <a:lnTo>
                  <a:pt x="97" y="865"/>
                </a:lnTo>
                <a:lnTo>
                  <a:pt x="66" y="865"/>
                </a:lnTo>
                <a:lnTo>
                  <a:pt x="66" y="896"/>
                </a:lnTo>
                <a:lnTo>
                  <a:pt x="66" y="927"/>
                </a:lnTo>
                <a:lnTo>
                  <a:pt x="30" y="962"/>
                </a:lnTo>
                <a:lnTo>
                  <a:pt x="30" y="997"/>
                </a:lnTo>
                <a:lnTo>
                  <a:pt x="30" y="1028"/>
                </a:lnTo>
                <a:lnTo>
                  <a:pt x="30" y="1063"/>
                </a:lnTo>
                <a:lnTo>
                  <a:pt x="30" y="1094"/>
                </a:lnTo>
                <a:lnTo>
                  <a:pt x="30" y="1129"/>
                </a:lnTo>
                <a:lnTo>
                  <a:pt x="0" y="1129"/>
                </a:lnTo>
                <a:lnTo>
                  <a:pt x="0" y="1196"/>
                </a:lnTo>
                <a:lnTo>
                  <a:pt x="0" y="1231"/>
                </a:lnTo>
                <a:lnTo>
                  <a:pt x="0" y="1257"/>
                </a:lnTo>
                <a:lnTo>
                  <a:pt x="0" y="1293"/>
                </a:lnTo>
                <a:lnTo>
                  <a:pt x="0" y="1328"/>
                </a:lnTo>
                <a:lnTo>
                  <a:pt x="0" y="1359"/>
                </a:lnTo>
                <a:lnTo>
                  <a:pt x="0" y="1394"/>
                </a:lnTo>
                <a:lnTo>
                  <a:pt x="0" y="1425"/>
                </a:lnTo>
                <a:lnTo>
                  <a:pt x="0" y="1460"/>
                </a:lnTo>
                <a:lnTo>
                  <a:pt x="0" y="1495"/>
                </a:lnTo>
                <a:lnTo>
                  <a:pt x="30" y="1495"/>
                </a:lnTo>
                <a:lnTo>
                  <a:pt x="30" y="1526"/>
                </a:lnTo>
                <a:lnTo>
                  <a:pt x="30" y="1562"/>
                </a:lnTo>
                <a:lnTo>
                  <a:pt x="30" y="1588"/>
                </a:lnTo>
                <a:lnTo>
                  <a:pt x="30" y="1623"/>
                </a:lnTo>
                <a:lnTo>
                  <a:pt x="30" y="1659"/>
                </a:lnTo>
                <a:lnTo>
                  <a:pt x="30" y="1689"/>
                </a:lnTo>
                <a:lnTo>
                  <a:pt x="30" y="1725"/>
                </a:lnTo>
                <a:lnTo>
                  <a:pt x="30" y="1760"/>
                </a:lnTo>
                <a:lnTo>
                  <a:pt x="30" y="1791"/>
                </a:lnTo>
                <a:lnTo>
                  <a:pt x="30" y="1826"/>
                </a:lnTo>
                <a:lnTo>
                  <a:pt x="30" y="1857"/>
                </a:lnTo>
                <a:lnTo>
                  <a:pt x="66" y="1892"/>
                </a:lnTo>
                <a:lnTo>
                  <a:pt x="158" y="1989"/>
                </a:lnTo>
                <a:lnTo>
                  <a:pt x="260" y="2123"/>
                </a:lnTo>
                <a:lnTo>
                  <a:pt x="260" y="2158"/>
                </a:lnTo>
                <a:lnTo>
                  <a:pt x="260" y="2189"/>
                </a:lnTo>
                <a:lnTo>
                  <a:pt x="260" y="2224"/>
                </a:lnTo>
                <a:lnTo>
                  <a:pt x="260" y="2259"/>
                </a:lnTo>
                <a:lnTo>
                  <a:pt x="260" y="2290"/>
                </a:lnTo>
                <a:lnTo>
                  <a:pt x="260" y="2321"/>
                </a:lnTo>
                <a:lnTo>
                  <a:pt x="260" y="2387"/>
                </a:lnTo>
                <a:lnTo>
                  <a:pt x="326" y="2453"/>
                </a:lnTo>
                <a:lnTo>
                  <a:pt x="357" y="2489"/>
                </a:lnTo>
                <a:lnTo>
                  <a:pt x="357" y="2524"/>
                </a:lnTo>
                <a:lnTo>
                  <a:pt x="388" y="2524"/>
                </a:lnTo>
                <a:lnTo>
                  <a:pt x="423" y="2555"/>
                </a:lnTo>
                <a:lnTo>
                  <a:pt x="458" y="2590"/>
                </a:lnTo>
                <a:lnTo>
                  <a:pt x="489" y="2590"/>
                </a:lnTo>
                <a:lnTo>
                  <a:pt x="524" y="2621"/>
                </a:lnTo>
                <a:lnTo>
                  <a:pt x="555" y="2621"/>
                </a:lnTo>
                <a:lnTo>
                  <a:pt x="586" y="2652"/>
                </a:lnTo>
                <a:lnTo>
                  <a:pt x="718" y="2687"/>
                </a:lnTo>
                <a:lnTo>
                  <a:pt x="784" y="2718"/>
                </a:lnTo>
                <a:lnTo>
                  <a:pt x="846" y="2718"/>
                </a:lnTo>
                <a:lnTo>
                  <a:pt x="881" y="2718"/>
                </a:lnTo>
                <a:lnTo>
                  <a:pt x="912" y="2753"/>
                </a:lnTo>
                <a:lnTo>
                  <a:pt x="949" y="2784"/>
                </a:lnTo>
                <a:lnTo>
                  <a:pt x="1015" y="2784"/>
                </a:lnTo>
                <a:lnTo>
                  <a:pt x="1046" y="2784"/>
                </a:lnTo>
                <a:lnTo>
                  <a:pt x="1076" y="2784"/>
                </a:lnTo>
                <a:lnTo>
                  <a:pt x="1112" y="2784"/>
                </a:lnTo>
                <a:lnTo>
                  <a:pt x="1143" y="2784"/>
                </a:lnTo>
                <a:lnTo>
                  <a:pt x="1143" y="2819"/>
                </a:lnTo>
                <a:lnTo>
                  <a:pt x="1209" y="2819"/>
                </a:lnTo>
                <a:lnTo>
                  <a:pt x="1209" y="2784"/>
                </a:lnTo>
                <a:lnTo>
                  <a:pt x="1244" y="2784"/>
                </a:lnTo>
                <a:lnTo>
                  <a:pt x="1275" y="2784"/>
                </a:lnTo>
                <a:lnTo>
                  <a:pt x="1341" y="2718"/>
                </a:lnTo>
                <a:lnTo>
                  <a:pt x="1372" y="2687"/>
                </a:lnTo>
                <a:lnTo>
                  <a:pt x="1407" y="2621"/>
                </a:lnTo>
                <a:lnTo>
                  <a:pt x="1407" y="2590"/>
                </a:lnTo>
                <a:lnTo>
                  <a:pt x="1438" y="2590"/>
                </a:lnTo>
                <a:lnTo>
                  <a:pt x="1438" y="2555"/>
                </a:lnTo>
                <a:lnTo>
                  <a:pt x="1500" y="2524"/>
                </a:lnTo>
                <a:lnTo>
                  <a:pt x="1500" y="2453"/>
                </a:lnTo>
                <a:lnTo>
                  <a:pt x="1535" y="2422"/>
                </a:lnTo>
                <a:lnTo>
                  <a:pt x="1535" y="2356"/>
                </a:lnTo>
                <a:lnTo>
                  <a:pt x="1535" y="2259"/>
                </a:lnTo>
                <a:lnTo>
                  <a:pt x="1570" y="2224"/>
                </a:lnTo>
                <a:lnTo>
                  <a:pt x="1601" y="2158"/>
                </a:lnTo>
                <a:lnTo>
                  <a:pt x="1667" y="2123"/>
                </a:lnTo>
                <a:lnTo>
                  <a:pt x="1667" y="2091"/>
                </a:lnTo>
                <a:lnTo>
                  <a:pt x="1703" y="2020"/>
                </a:lnTo>
                <a:lnTo>
                  <a:pt x="1703" y="1954"/>
                </a:lnTo>
                <a:lnTo>
                  <a:pt x="1703" y="1857"/>
                </a:lnTo>
                <a:lnTo>
                  <a:pt x="1729" y="1725"/>
                </a:lnTo>
                <a:lnTo>
                  <a:pt x="1729" y="1659"/>
                </a:lnTo>
                <a:lnTo>
                  <a:pt x="1703" y="1623"/>
                </a:lnTo>
                <a:lnTo>
                  <a:pt x="1703" y="1588"/>
                </a:lnTo>
                <a:lnTo>
                  <a:pt x="1703" y="1526"/>
                </a:lnTo>
                <a:lnTo>
                  <a:pt x="1703" y="1495"/>
                </a:lnTo>
                <a:lnTo>
                  <a:pt x="1729" y="1425"/>
                </a:lnTo>
                <a:lnTo>
                  <a:pt x="1729" y="1359"/>
                </a:lnTo>
                <a:lnTo>
                  <a:pt x="1800" y="1293"/>
                </a:lnTo>
                <a:lnTo>
                  <a:pt x="1800" y="1196"/>
                </a:lnTo>
                <a:lnTo>
                  <a:pt x="1800" y="1094"/>
                </a:lnTo>
                <a:lnTo>
                  <a:pt x="1800" y="997"/>
                </a:lnTo>
                <a:lnTo>
                  <a:pt x="1800" y="962"/>
                </a:lnTo>
                <a:lnTo>
                  <a:pt x="1800" y="927"/>
                </a:lnTo>
                <a:lnTo>
                  <a:pt x="1800" y="865"/>
                </a:lnTo>
                <a:lnTo>
                  <a:pt x="1800" y="799"/>
                </a:lnTo>
                <a:lnTo>
                  <a:pt x="1800" y="763"/>
                </a:lnTo>
                <a:lnTo>
                  <a:pt x="1800" y="733"/>
                </a:lnTo>
                <a:lnTo>
                  <a:pt x="1800" y="696"/>
                </a:lnTo>
                <a:lnTo>
                  <a:pt x="1800" y="630"/>
                </a:lnTo>
                <a:lnTo>
                  <a:pt x="1831" y="595"/>
                </a:lnTo>
                <a:lnTo>
                  <a:pt x="1831" y="564"/>
                </a:lnTo>
                <a:lnTo>
                  <a:pt x="1831" y="467"/>
                </a:lnTo>
                <a:lnTo>
                  <a:pt x="1800" y="401"/>
                </a:lnTo>
                <a:lnTo>
                  <a:pt x="1800" y="366"/>
                </a:lnTo>
                <a:lnTo>
                  <a:pt x="1800" y="299"/>
                </a:lnTo>
                <a:lnTo>
                  <a:pt x="1800" y="264"/>
                </a:lnTo>
                <a:lnTo>
                  <a:pt x="1764" y="264"/>
                </a:lnTo>
                <a:lnTo>
                  <a:pt x="1764" y="229"/>
                </a:lnTo>
                <a:lnTo>
                  <a:pt x="1703" y="167"/>
                </a:lnTo>
                <a:lnTo>
                  <a:pt x="1637" y="167"/>
                </a:lnTo>
                <a:lnTo>
                  <a:pt x="1601" y="167"/>
                </a:lnTo>
                <a:lnTo>
                  <a:pt x="1601" y="136"/>
                </a:lnTo>
                <a:lnTo>
                  <a:pt x="1570" y="136"/>
                </a:lnTo>
                <a:lnTo>
                  <a:pt x="1535" y="101"/>
                </a:lnTo>
                <a:lnTo>
                  <a:pt x="1473" y="66"/>
                </a:lnTo>
                <a:lnTo>
                  <a:pt x="1438" y="66"/>
                </a:lnTo>
                <a:lnTo>
                  <a:pt x="1407" y="66"/>
                </a:lnTo>
                <a:lnTo>
                  <a:pt x="1372" y="66"/>
                </a:lnTo>
                <a:lnTo>
                  <a:pt x="1275" y="66"/>
                </a:lnTo>
                <a:lnTo>
                  <a:pt x="1244" y="35"/>
                </a:lnTo>
                <a:lnTo>
                  <a:pt x="1209" y="35"/>
                </a:lnTo>
                <a:lnTo>
                  <a:pt x="1178" y="35"/>
                </a:lnTo>
                <a:lnTo>
                  <a:pt x="1112" y="0"/>
                </a:lnTo>
                <a:lnTo>
                  <a:pt x="1076" y="0"/>
                </a:lnTo>
                <a:lnTo>
                  <a:pt x="1046" y="35"/>
                </a:lnTo>
                <a:lnTo>
                  <a:pt x="1015" y="35"/>
                </a:lnTo>
                <a:lnTo>
                  <a:pt x="979" y="35"/>
                </a:lnTo>
                <a:lnTo>
                  <a:pt x="949" y="35"/>
                </a:lnTo>
                <a:lnTo>
                  <a:pt x="912" y="66"/>
                </a:lnTo>
                <a:lnTo>
                  <a:pt x="881" y="66"/>
                </a:lnTo>
                <a:lnTo>
                  <a:pt x="846" y="66"/>
                </a:lnTo>
                <a:lnTo>
                  <a:pt x="815" y="66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987880"/>
            <a:ext cx="660600" cy="1014840"/>
          </a:xfrm>
          <a:custGeom>
            <a:avLst/>
            <a:gdLst/>
            <a:ahLst/>
            <a:rect l="0" t="0" r="r" b="b"/>
            <a:pathLst>
              <a:path w="1835" h="2819">
                <a:moveTo>
                  <a:pt x="815" y="66"/>
                </a:moveTo>
                <a:lnTo>
                  <a:pt x="789" y="66"/>
                </a:lnTo>
                <a:lnTo>
                  <a:pt x="754" y="66"/>
                </a:lnTo>
                <a:lnTo>
                  <a:pt x="723" y="66"/>
                </a:lnTo>
                <a:lnTo>
                  <a:pt x="687" y="66"/>
                </a:lnTo>
                <a:lnTo>
                  <a:pt x="687" y="101"/>
                </a:lnTo>
                <a:lnTo>
                  <a:pt x="652" y="101"/>
                </a:lnTo>
                <a:lnTo>
                  <a:pt x="621" y="101"/>
                </a:lnTo>
                <a:lnTo>
                  <a:pt x="586" y="101"/>
                </a:lnTo>
                <a:lnTo>
                  <a:pt x="560" y="101"/>
                </a:lnTo>
                <a:lnTo>
                  <a:pt x="560" y="132"/>
                </a:lnTo>
                <a:lnTo>
                  <a:pt x="524" y="132"/>
                </a:lnTo>
                <a:lnTo>
                  <a:pt x="493" y="132"/>
                </a:lnTo>
                <a:lnTo>
                  <a:pt x="458" y="132"/>
                </a:lnTo>
                <a:lnTo>
                  <a:pt x="423" y="132"/>
                </a:lnTo>
                <a:lnTo>
                  <a:pt x="423" y="167"/>
                </a:lnTo>
                <a:lnTo>
                  <a:pt x="392" y="167"/>
                </a:lnTo>
                <a:lnTo>
                  <a:pt x="392" y="194"/>
                </a:lnTo>
                <a:lnTo>
                  <a:pt x="357" y="194"/>
                </a:lnTo>
                <a:lnTo>
                  <a:pt x="357" y="229"/>
                </a:lnTo>
                <a:lnTo>
                  <a:pt x="357" y="264"/>
                </a:lnTo>
                <a:lnTo>
                  <a:pt x="357" y="295"/>
                </a:lnTo>
                <a:lnTo>
                  <a:pt x="357" y="330"/>
                </a:lnTo>
                <a:lnTo>
                  <a:pt x="357" y="361"/>
                </a:lnTo>
                <a:lnTo>
                  <a:pt x="330" y="361"/>
                </a:lnTo>
                <a:lnTo>
                  <a:pt x="330" y="396"/>
                </a:lnTo>
                <a:lnTo>
                  <a:pt x="295" y="432"/>
                </a:lnTo>
                <a:lnTo>
                  <a:pt x="295" y="463"/>
                </a:lnTo>
                <a:lnTo>
                  <a:pt x="295" y="498"/>
                </a:lnTo>
                <a:lnTo>
                  <a:pt x="264" y="498"/>
                </a:lnTo>
                <a:lnTo>
                  <a:pt x="264" y="529"/>
                </a:lnTo>
                <a:lnTo>
                  <a:pt x="264" y="560"/>
                </a:lnTo>
                <a:lnTo>
                  <a:pt x="229" y="560"/>
                </a:lnTo>
                <a:lnTo>
                  <a:pt x="229" y="595"/>
                </a:lnTo>
                <a:lnTo>
                  <a:pt x="229" y="626"/>
                </a:lnTo>
                <a:lnTo>
                  <a:pt x="198" y="626"/>
                </a:lnTo>
                <a:lnTo>
                  <a:pt x="198" y="661"/>
                </a:lnTo>
                <a:lnTo>
                  <a:pt x="198" y="696"/>
                </a:lnTo>
                <a:lnTo>
                  <a:pt x="163" y="696"/>
                </a:lnTo>
                <a:lnTo>
                  <a:pt x="163" y="728"/>
                </a:lnTo>
                <a:lnTo>
                  <a:pt x="127" y="763"/>
                </a:lnTo>
                <a:lnTo>
                  <a:pt x="127" y="794"/>
                </a:lnTo>
                <a:lnTo>
                  <a:pt x="127" y="830"/>
                </a:lnTo>
                <a:lnTo>
                  <a:pt x="101" y="830"/>
                </a:lnTo>
                <a:lnTo>
                  <a:pt x="101" y="865"/>
                </a:lnTo>
                <a:lnTo>
                  <a:pt x="66" y="865"/>
                </a:lnTo>
                <a:lnTo>
                  <a:pt x="66" y="891"/>
                </a:lnTo>
                <a:lnTo>
                  <a:pt x="66" y="927"/>
                </a:lnTo>
                <a:lnTo>
                  <a:pt x="35" y="957"/>
                </a:lnTo>
                <a:lnTo>
                  <a:pt x="35" y="993"/>
                </a:lnTo>
                <a:lnTo>
                  <a:pt x="35" y="1028"/>
                </a:lnTo>
                <a:lnTo>
                  <a:pt x="35" y="1059"/>
                </a:lnTo>
                <a:lnTo>
                  <a:pt x="35" y="1094"/>
                </a:lnTo>
                <a:lnTo>
                  <a:pt x="35" y="1129"/>
                </a:lnTo>
                <a:lnTo>
                  <a:pt x="0" y="1129"/>
                </a:lnTo>
                <a:lnTo>
                  <a:pt x="0" y="1196"/>
                </a:lnTo>
                <a:lnTo>
                  <a:pt x="0" y="1226"/>
                </a:lnTo>
                <a:lnTo>
                  <a:pt x="0" y="1257"/>
                </a:lnTo>
                <a:lnTo>
                  <a:pt x="0" y="1293"/>
                </a:lnTo>
                <a:lnTo>
                  <a:pt x="0" y="1323"/>
                </a:lnTo>
                <a:lnTo>
                  <a:pt x="0" y="1359"/>
                </a:lnTo>
                <a:lnTo>
                  <a:pt x="0" y="1390"/>
                </a:lnTo>
                <a:lnTo>
                  <a:pt x="0" y="1425"/>
                </a:lnTo>
                <a:lnTo>
                  <a:pt x="0" y="1460"/>
                </a:lnTo>
                <a:lnTo>
                  <a:pt x="0" y="1491"/>
                </a:lnTo>
                <a:lnTo>
                  <a:pt x="35" y="1491"/>
                </a:lnTo>
                <a:lnTo>
                  <a:pt x="35" y="1526"/>
                </a:lnTo>
                <a:lnTo>
                  <a:pt x="35" y="1557"/>
                </a:lnTo>
                <a:lnTo>
                  <a:pt x="35" y="1588"/>
                </a:lnTo>
                <a:lnTo>
                  <a:pt x="35" y="1623"/>
                </a:lnTo>
                <a:lnTo>
                  <a:pt x="35" y="1654"/>
                </a:lnTo>
                <a:lnTo>
                  <a:pt x="35" y="1689"/>
                </a:lnTo>
                <a:lnTo>
                  <a:pt x="35" y="1725"/>
                </a:lnTo>
                <a:lnTo>
                  <a:pt x="35" y="1756"/>
                </a:lnTo>
                <a:lnTo>
                  <a:pt x="35" y="1791"/>
                </a:lnTo>
                <a:lnTo>
                  <a:pt x="35" y="1822"/>
                </a:lnTo>
                <a:lnTo>
                  <a:pt x="35" y="1857"/>
                </a:lnTo>
                <a:lnTo>
                  <a:pt x="66" y="1892"/>
                </a:lnTo>
                <a:lnTo>
                  <a:pt x="163" y="1985"/>
                </a:lnTo>
                <a:lnTo>
                  <a:pt x="264" y="2123"/>
                </a:lnTo>
                <a:lnTo>
                  <a:pt x="264" y="2153"/>
                </a:lnTo>
                <a:lnTo>
                  <a:pt x="264" y="2189"/>
                </a:lnTo>
                <a:lnTo>
                  <a:pt x="264" y="2224"/>
                </a:lnTo>
                <a:lnTo>
                  <a:pt x="264" y="2255"/>
                </a:lnTo>
                <a:lnTo>
                  <a:pt x="264" y="2290"/>
                </a:lnTo>
                <a:lnTo>
                  <a:pt x="264" y="2317"/>
                </a:lnTo>
                <a:lnTo>
                  <a:pt x="264" y="2387"/>
                </a:lnTo>
                <a:lnTo>
                  <a:pt x="330" y="2453"/>
                </a:lnTo>
                <a:lnTo>
                  <a:pt x="357" y="2489"/>
                </a:lnTo>
                <a:lnTo>
                  <a:pt x="357" y="2519"/>
                </a:lnTo>
                <a:lnTo>
                  <a:pt x="392" y="2519"/>
                </a:lnTo>
                <a:lnTo>
                  <a:pt x="423" y="2555"/>
                </a:lnTo>
                <a:lnTo>
                  <a:pt x="458" y="2586"/>
                </a:lnTo>
                <a:lnTo>
                  <a:pt x="493" y="2586"/>
                </a:lnTo>
                <a:lnTo>
                  <a:pt x="524" y="2621"/>
                </a:lnTo>
                <a:lnTo>
                  <a:pt x="560" y="2621"/>
                </a:lnTo>
                <a:lnTo>
                  <a:pt x="586" y="2652"/>
                </a:lnTo>
                <a:lnTo>
                  <a:pt x="723" y="2683"/>
                </a:lnTo>
                <a:lnTo>
                  <a:pt x="789" y="2718"/>
                </a:lnTo>
                <a:lnTo>
                  <a:pt x="851" y="2718"/>
                </a:lnTo>
                <a:lnTo>
                  <a:pt x="881" y="2718"/>
                </a:lnTo>
                <a:lnTo>
                  <a:pt x="918" y="2749"/>
                </a:lnTo>
                <a:lnTo>
                  <a:pt x="949" y="2784"/>
                </a:lnTo>
                <a:lnTo>
                  <a:pt x="1019" y="2784"/>
                </a:lnTo>
                <a:lnTo>
                  <a:pt x="1046" y="2784"/>
                </a:lnTo>
                <a:lnTo>
                  <a:pt x="1081" y="2784"/>
                </a:lnTo>
                <a:lnTo>
                  <a:pt x="1112" y="2784"/>
                </a:lnTo>
                <a:lnTo>
                  <a:pt x="1147" y="2784"/>
                </a:lnTo>
                <a:lnTo>
                  <a:pt x="1147" y="2819"/>
                </a:lnTo>
                <a:lnTo>
                  <a:pt x="1213" y="2819"/>
                </a:lnTo>
                <a:lnTo>
                  <a:pt x="1213" y="2784"/>
                </a:lnTo>
                <a:lnTo>
                  <a:pt x="1244" y="2784"/>
                </a:lnTo>
                <a:lnTo>
                  <a:pt x="1275" y="2784"/>
                </a:lnTo>
                <a:lnTo>
                  <a:pt x="1341" y="2718"/>
                </a:lnTo>
                <a:lnTo>
                  <a:pt x="1376" y="2683"/>
                </a:lnTo>
                <a:lnTo>
                  <a:pt x="1407" y="2621"/>
                </a:lnTo>
                <a:lnTo>
                  <a:pt x="1407" y="2586"/>
                </a:lnTo>
                <a:lnTo>
                  <a:pt x="1442" y="2586"/>
                </a:lnTo>
                <a:lnTo>
                  <a:pt x="1442" y="2555"/>
                </a:lnTo>
                <a:lnTo>
                  <a:pt x="1504" y="2519"/>
                </a:lnTo>
                <a:lnTo>
                  <a:pt x="1504" y="2453"/>
                </a:lnTo>
                <a:lnTo>
                  <a:pt x="1539" y="2418"/>
                </a:lnTo>
                <a:lnTo>
                  <a:pt x="1539" y="2352"/>
                </a:lnTo>
                <a:lnTo>
                  <a:pt x="1539" y="2255"/>
                </a:lnTo>
                <a:lnTo>
                  <a:pt x="1570" y="2224"/>
                </a:lnTo>
                <a:lnTo>
                  <a:pt x="1606" y="2153"/>
                </a:lnTo>
                <a:lnTo>
                  <a:pt x="1672" y="2123"/>
                </a:lnTo>
                <a:lnTo>
                  <a:pt x="1672" y="2086"/>
                </a:lnTo>
                <a:lnTo>
                  <a:pt x="1703" y="2020"/>
                </a:lnTo>
                <a:lnTo>
                  <a:pt x="1703" y="1954"/>
                </a:lnTo>
                <a:lnTo>
                  <a:pt x="1703" y="1857"/>
                </a:lnTo>
                <a:lnTo>
                  <a:pt x="1734" y="1725"/>
                </a:lnTo>
                <a:lnTo>
                  <a:pt x="1734" y="1654"/>
                </a:lnTo>
                <a:lnTo>
                  <a:pt x="1703" y="1623"/>
                </a:lnTo>
                <a:lnTo>
                  <a:pt x="1703" y="1588"/>
                </a:lnTo>
                <a:lnTo>
                  <a:pt x="1703" y="1526"/>
                </a:lnTo>
                <a:lnTo>
                  <a:pt x="1703" y="1491"/>
                </a:lnTo>
                <a:lnTo>
                  <a:pt x="1734" y="1425"/>
                </a:lnTo>
                <a:lnTo>
                  <a:pt x="1734" y="1359"/>
                </a:lnTo>
                <a:lnTo>
                  <a:pt x="1800" y="1293"/>
                </a:lnTo>
                <a:lnTo>
                  <a:pt x="1800" y="1196"/>
                </a:lnTo>
                <a:lnTo>
                  <a:pt x="1800" y="1094"/>
                </a:lnTo>
                <a:lnTo>
                  <a:pt x="1800" y="993"/>
                </a:lnTo>
                <a:lnTo>
                  <a:pt x="1800" y="957"/>
                </a:lnTo>
                <a:lnTo>
                  <a:pt x="1800" y="927"/>
                </a:lnTo>
                <a:lnTo>
                  <a:pt x="1800" y="865"/>
                </a:lnTo>
                <a:lnTo>
                  <a:pt x="1800" y="794"/>
                </a:lnTo>
                <a:lnTo>
                  <a:pt x="1800" y="763"/>
                </a:lnTo>
                <a:lnTo>
                  <a:pt x="1800" y="728"/>
                </a:lnTo>
                <a:lnTo>
                  <a:pt x="1800" y="696"/>
                </a:lnTo>
                <a:lnTo>
                  <a:pt x="1800" y="626"/>
                </a:lnTo>
                <a:lnTo>
                  <a:pt x="1835" y="595"/>
                </a:lnTo>
                <a:lnTo>
                  <a:pt x="1835" y="560"/>
                </a:lnTo>
                <a:lnTo>
                  <a:pt x="1835" y="463"/>
                </a:lnTo>
                <a:lnTo>
                  <a:pt x="1800" y="396"/>
                </a:lnTo>
                <a:lnTo>
                  <a:pt x="1800" y="361"/>
                </a:lnTo>
                <a:lnTo>
                  <a:pt x="1800" y="295"/>
                </a:lnTo>
                <a:lnTo>
                  <a:pt x="1800" y="264"/>
                </a:lnTo>
                <a:lnTo>
                  <a:pt x="1764" y="264"/>
                </a:lnTo>
                <a:lnTo>
                  <a:pt x="1764" y="229"/>
                </a:lnTo>
                <a:lnTo>
                  <a:pt x="1703" y="167"/>
                </a:lnTo>
                <a:lnTo>
                  <a:pt x="1637" y="167"/>
                </a:lnTo>
                <a:lnTo>
                  <a:pt x="1606" y="167"/>
                </a:lnTo>
                <a:lnTo>
                  <a:pt x="1606" y="132"/>
                </a:lnTo>
                <a:lnTo>
                  <a:pt x="1570" y="132"/>
                </a:lnTo>
                <a:lnTo>
                  <a:pt x="1539" y="101"/>
                </a:lnTo>
                <a:lnTo>
                  <a:pt x="1473" y="66"/>
                </a:lnTo>
                <a:lnTo>
                  <a:pt x="1442" y="66"/>
                </a:lnTo>
                <a:lnTo>
                  <a:pt x="1407" y="66"/>
                </a:lnTo>
                <a:lnTo>
                  <a:pt x="1376" y="66"/>
                </a:lnTo>
                <a:lnTo>
                  <a:pt x="1275" y="66"/>
                </a:lnTo>
                <a:lnTo>
                  <a:pt x="1244" y="30"/>
                </a:lnTo>
                <a:lnTo>
                  <a:pt x="1213" y="30"/>
                </a:lnTo>
                <a:lnTo>
                  <a:pt x="1178" y="30"/>
                </a:lnTo>
                <a:lnTo>
                  <a:pt x="1112" y="0"/>
                </a:lnTo>
                <a:lnTo>
                  <a:pt x="1081" y="0"/>
                </a:lnTo>
                <a:lnTo>
                  <a:pt x="1046" y="30"/>
                </a:lnTo>
                <a:lnTo>
                  <a:pt x="1019" y="30"/>
                </a:lnTo>
                <a:lnTo>
                  <a:pt x="984" y="30"/>
                </a:lnTo>
                <a:lnTo>
                  <a:pt x="949" y="30"/>
                </a:lnTo>
                <a:lnTo>
                  <a:pt x="918" y="66"/>
                </a:lnTo>
                <a:lnTo>
                  <a:pt x="881" y="66"/>
                </a:lnTo>
                <a:lnTo>
                  <a:pt x="851" y="66"/>
                </a:lnTo>
                <a:lnTo>
                  <a:pt x="815" y="66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8440" y="4549680"/>
            <a:ext cx="3216600" cy="47880"/>
          </a:xfrm>
          <a:custGeom>
            <a:avLst/>
            <a:gdLst/>
            <a:ahLst/>
            <a:rect l="0" t="0" r="r" b="b"/>
            <a:pathLst>
              <a:path w="8935" h="133">
                <a:moveTo>
                  <a:pt x="0" y="133"/>
                </a:moveTo>
                <a:lnTo>
                  <a:pt x="35" y="133"/>
                </a:lnTo>
                <a:lnTo>
                  <a:pt x="66" y="133"/>
                </a:lnTo>
                <a:lnTo>
                  <a:pt x="101" y="133"/>
                </a:lnTo>
                <a:lnTo>
                  <a:pt x="132" y="133"/>
                </a:lnTo>
                <a:lnTo>
                  <a:pt x="167" y="133"/>
                </a:lnTo>
                <a:lnTo>
                  <a:pt x="202" y="133"/>
                </a:lnTo>
                <a:lnTo>
                  <a:pt x="233" y="133"/>
                </a:lnTo>
                <a:lnTo>
                  <a:pt x="268" y="133"/>
                </a:lnTo>
                <a:lnTo>
                  <a:pt x="299" y="133"/>
                </a:lnTo>
                <a:lnTo>
                  <a:pt x="335" y="133"/>
                </a:lnTo>
                <a:lnTo>
                  <a:pt x="366" y="133"/>
                </a:lnTo>
                <a:lnTo>
                  <a:pt x="401" y="133"/>
                </a:lnTo>
                <a:lnTo>
                  <a:pt x="432" y="106"/>
                </a:lnTo>
                <a:lnTo>
                  <a:pt x="467" y="106"/>
                </a:lnTo>
                <a:lnTo>
                  <a:pt x="502" y="106"/>
                </a:lnTo>
                <a:lnTo>
                  <a:pt x="564" y="106"/>
                </a:lnTo>
                <a:lnTo>
                  <a:pt x="595" y="80"/>
                </a:lnTo>
                <a:lnTo>
                  <a:pt x="630" y="80"/>
                </a:lnTo>
                <a:lnTo>
                  <a:pt x="661" y="80"/>
                </a:lnTo>
                <a:lnTo>
                  <a:pt x="696" y="80"/>
                </a:lnTo>
                <a:lnTo>
                  <a:pt x="732" y="80"/>
                </a:lnTo>
                <a:lnTo>
                  <a:pt x="762" y="80"/>
                </a:lnTo>
                <a:lnTo>
                  <a:pt x="829" y="80"/>
                </a:lnTo>
                <a:lnTo>
                  <a:pt x="895" y="80"/>
                </a:lnTo>
                <a:lnTo>
                  <a:pt x="930" y="80"/>
                </a:lnTo>
                <a:lnTo>
                  <a:pt x="996" y="80"/>
                </a:lnTo>
                <a:lnTo>
                  <a:pt x="1031" y="80"/>
                </a:lnTo>
                <a:lnTo>
                  <a:pt x="1098" y="52"/>
                </a:lnTo>
                <a:lnTo>
                  <a:pt x="1164" y="52"/>
                </a:lnTo>
                <a:lnTo>
                  <a:pt x="1195" y="52"/>
                </a:lnTo>
                <a:lnTo>
                  <a:pt x="1230" y="52"/>
                </a:lnTo>
                <a:lnTo>
                  <a:pt x="1296" y="52"/>
                </a:lnTo>
                <a:lnTo>
                  <a:pt x="1331" y="52"/>
                </a:lnTo>
                <a:lnTo>
                  <a:pt x="1397" y="52"/>
                </a:lnTo>
                <a:lnTo>
                  <a:pt x="1464" y="52"/>
                </a:lnTo>
                <a:lnTo>
                  <a:pt x="1494" y="26"/>
                </a:lnTo>
                <a:lnTo>
                  <a:pt x="1530" y="26"/>
                </a:lnTo>
                <a:lnTo>
                  <a:pt x="1565" y="26"/>
                </a:lnTo>
                <a:lnTo>
                  <a:pt x="1596" y="26"/>
                </a:lnTo>
                <a:lnTo>
                  <a:pt x="1631" y="26"/>
                </a:lnTo>
                <a:lnTo>
                  <a:pt x="1662" y="26"/>
                </a:lnTo>
                <a:lnTo>
                  <a:pt x="1662" y="0"/>
                </a:lnTo>
                <a:lnTo>
                  <a:pt x="1693" y="0"/>
                </a:lnTo>
                <a:lnTo>
                  <a:pt x="1724" y="0"/>
                </a:lnTo>
                <a:lnTo>
                  <a:pt x="1759" y="0"/>
                </a:lnTo>
                <a:lnTo>
                  <a:pt x="1790" y="0"/>
                </a:lnTo>
                <a:lnTo>
                  <a:pt x="1825" y="0"/>
                </a:lnTo>
                <a:lnTo>
                  <a:pt x="1860" y="0"/>
                </a:lnTo>
                <a:lnTo>
                  <a:pt x="1891" y="0"/>
                </a:lnTo>
                <a:lnTo>
                  <a:pt x="1927" y="0"/>
                </a:lnTo>
                <a:lnTo>
                  <a:pt x="1957" y="0"/>
                </a:lnTo>
                <a:lnTo>
                  <a:pt x="1993" y="0"/>
                </a:lnTo>
                <a:lnTo>
                  <a:pt x="2024" y="0"/>
                </a:lnTo>
                <a:lnTo>
                  <a:pt x="2059" y="0"/>
                </a:lnTo>
                <a:lnTo>
                  <a:pt x="2094" y="0"/>
                </a:lnTo>
                <a:lnTo>
                  <a:pt x="2125" y="0"/>
                </a:lnTo>
                <a:lnTo>
                  <a:pt x="2160" y="0"/>
                </a:lnTo>
                <a:lnTo>
                  <a:pt x="2191" y="0"/>
                </a:lnTo>
                <a:lnTo>
                  <a:pt x="2226" y="0"/>
                </a:lnTo>
                <a:lnTo>
                  <a:pt x="2257" y="0"/>
                </a:lnTo>
                <a:lnTo>
                  <a:pt x="2293" y="0"/>
                </a:lnTo>
                <a:lnTo>
                  <a:pt x="2323" y="0"/>
                </a:lnTo>
                <a:lnTo>
                  <a:pt x="2359" y="0"/>
                </a:lnTo>
                <a:lnTo>
                  <a:pt x="2394" y="0"/>
                </a:lnTo>
                <a:lnTo>
                  <a:pt x="2425" y="0"/>
                </a:lnTo>
                <a:lnTo>
                  <a:pt x="2460" y="0"/>
                </a:lnTo>
                <a:lnTo>
                  <a:pt x="2491" y="0"/>
                </a:lnTo>
                <a:lnTo>
                  <a:pt x="2557" y="0"/>
                </a:lnTo>
                <a:lnTo>
                  <a:pt x="2592" y="0"/>
                </a:lnTo>
                <a:lnTo>
                  <a:pt x="2694" y="0"/>
                </a:lnTo>
                <a:lnTo>
                  <a:pt x="2791" y="26"/>
                </a:lnTo>
                <a:lnTo>
                  <a:pt x="2923" y="26"/>
                </a:lnTo>
                <a:lnTo>
                  <a:pt x="3020" y="52"/>
                </a:lnTo>
                <a:lnTo>
                  <a:pt x="3086" y="52"/>
                </a:lnTo>
                <a:lnTo>
                  <a:pt x="3122" y="52"/>
                </a:lnTo>
                <a:lnTo>
                  <a:pt x="3152" y="52"/>
                </a:lnTo>
                <a:lnTo>
                  <a:pt x="3188" y="52"/>
                </a:lnTo>
                <a:lnTo>
                  <a:pt x="3254" y="52"/>
                </a:lnTo>
                <a:lnTo>
                  <a:pt x="3320" y="52"/>
                </a:lnTo>
                <a:lnTo>
                  <a:pt x="3355" y="52"/>
                </a:lnTo>
                <a:lnTo>
                  <a:pt x="3386" y="52"/>
                </a:lnTo>
                <a:lnTo>
                  <a:pt x="3457" y="52"/>
                </a:lnTo>
                <a:lnTo>
                  <a:pt x="3523" y="52"/>
                </a:lnTo>
                <a:lnTo>
                  <a:pt x="3554" y="52"/>
                </a:lnTo>
                <a:lnTo>
                  <a:pt x="3620" y="52"/>
                </a:lnTo>
                <a:lnTo>
                  <a:pt x="3686" y="52"/>
                </a:lnTo>
                <a:lnTo>
                  <a:pt x="3721" y="52"/>
                </a:lnTo>
                <a:lnTo>
                  <a:pt x="3757" y="52"/>
                </a:lnTo>
                <a:lnTo>
                  <a:pt x="3823" y="52"/>
                </a:lnTo>
                <a:lnTo>
                  <a:pt x="3889" y="52"/>
                </a:lnTo>
                <a:lnTo>
                  <a:pt x="3915" y="52"/>
                </a:lnTo>
                <a:lnTo>
                  <a:pt x="3951" y="52"/>
                </a:lnTo>
                <a:lnTo>
                  <a:pt x="3981" y="52"/>
                </a:lnTo>
                <a:lnTo>
                  <a:pt x="4017" y="52"/>
                </a:lnTo>
                <a:lnTo>
                  <a:pt x="4052" y="52"/>
                </a:lnTo>
                <a:lnTo>
                  <a:pt x="4083" y="80"/>
                </a:lnTo>
                <a:lnTo>
                  <a:pt x="4118" y="80"/>
                </a:lnTo>
                <a:lnTo>
                  <a:pt x="4149" y="80"/>
                </a:lnTo>
                <a:lnTo>
                  <a:pt x="4184" y="80"/>
                </a:lnTo>
                <a:lnTo>
                  <a:pt x="4215" y="80"/>
                </a:lnTo>
                <a:lnTo>
                  <a:pt x="4250" y="80"/>
                </a:lnTo>
                <a:lnTo>
                  <a:pt x="4286" y="80"/>
                </a:lnTo>
                <a:lnTo>
                  <a:pt x="4317" y="80"/>
                </a:lnTo>
                <a:lnTo>
                  <a:pt x="4352" y="80"/>
                </a:lnTo>
                <a:lnTo>
                  <a:pt x="4383" y="80"/>
                </a:lnTo>
                <a:lnTo>
                  <a:pt x="4418" y="80"/>
                </a:lnTo>
                <a:lnTo>
                  <a:pt x="4449" y="52"/>
                </a:lnTo>
                <a:lnTo>
                  <a:pt x="4485" y="52"/>
                </a:lnTo>
                <a:lnTo>
                  <a:pt x="4516" y="52"/>
                </a:lnTo>
                <a:lnTo>
                  <a:pt x="4551" y="52"/>
                </a:lnTo>
                <a:lnTo>
                  <a:pt x="4551" y="26"/>
                </a:lnTo>
                <a:lnTo>
                  <a:pt x="4587" y="26"/>
                </a:lnTo>
                <a:lnTo>
                  <a:pt x="4617" y="26"/>
                </a:lnTo>
                <a:lnTo>
                  <a:pt x="4653" y="26"/>
                </a:lnTo>
                <a:lnTo>
                  <a:pt x="4719" y="26"/>
                </a:lnTo>
                <a:lnTo>
                  <a:pt x="4820" y="52"/>
                </a:lnTo>
                <a:lnTo>
                  <a:pt x="4917" y="52"/>
                </a:lnTo>
                <a:lnTo>
                  <a:pt x="4983" y="80"/>
                </a:lnTo>
                <a:lnTo>
                  <a:pt x="5045" y="80"/>
                </a:lnTo>
                <a:lnTo>
                  <a:pt x="5116" y="80"/>
                </a:lnTo>
                <a:lnTo>
                  <a:pt x="5182" y="80"/>
                </a:lnTo>
                <a:lnTo>
                  <a:pt x="5213" y="80"/>
                </a:lnTo>
                <a:lnTo>
                  <a:pt x="5248" y="80"/>
                </a:lnTo>
                <a:lnTo>
                  <a:pt x="5314" y="80"/>
                </a:lnTo>
                <a:lnTo>
                  <a:pt x="5380" y="80"/>
                </a:lnTo>
                <a:lnTo>
                  <a:pt x="5416" y="80"/>
                </a:lnTo>
                <a:lnTo>
                  <a:pt x="5482" y="80"/>
                </a:lnTo>
                <a:lnTo>
                  <a:pt x="5513" y="80"/>
                </a:lnTo>
                <a:lnTo>
                  <a:pt x="5548" y="80"/>
                </a:lnTo>
                <a:lnTo>
                  <a:pt x="5579" y="80"/>
                </a:lnTo>
                <a:lnTo>
                  <a:pt x="5649" y="80"/>
                </a:lnTo>
                <a:lnTo>
                  <a:pt x="5680" y="106"/>
                </a:lnTo>
                <a:lnTo>
                  <a:pt x="5746" y="106"/>
                </a:lnTo>
                <a:lnTo>
                  <a:pt x="5782" y="106"/>
                </a:lnTo>
                <a:lnTo>
                  <a:pt x="5813" y="106"/>
                </a:lnTo>
                <a:lnTo>
                  <a:pt x="5848" y="106"/>
                </a:lnTo>
                <a:lnTo>
                  <a:pt x="5879" y="106"/>
                </a:lnTo>
                <a:lnTo>
                  <a:pt x="5914" y="106"/>
                </a:lnTo>
                <a:lnTo>
                  <a:pt x="5949" y="106"/>
                </a:lnTo>
                <a:lnTo>
                  <a:pt x="5980" y="106"/>
                </a:lnTo>
                <a:lnTo>
                  <a:pt x="6015" y="106"/>
                </a:lnTo>
                <a:lnTo>
                  <a:pt x="6046" y="106"/>
                </a:lnTo>
                <a:lnTo>
                  <a:pt x="6082" y="106"/>
                </a:lnTo>
                <a:lnTo>
                  <a:pt x="6112" y="106"/>
                </a:lnTo>
                <a:lnTo>
                  <a:pt x="6143" y="106"/>
                </a:lnTo>
                <a:lnTo>
                  <a:pt x="6179" y="106"/>
                </a:lnTo>
                <a:lnTo>
                  <a:pt x="6209" y="106"/>
                </a:lnTo>
                <a:lnTo>
                  <a:pt x="6245" y="106"/>
                </a:lnTo>
                <a:lnTo>
                  <a:pt x="6276" y="106"/>
                </a:lnTo>
                <a:lnTo>
                  <a:pt x="6311" y="106"/>
                </a:lnTo>
                <a:lnTo>
                  <a:pt x="6342" y="106"/>
                </a:lnTo>
                <a:lnTo>
                  <a:pt x="6377" y="106"/>
                </a:lnTo>
                <a:lnTo>
                  <a:pt x="6408" y="106"/>
                </a:lnTo>
                <a:lnTo>
                  <a:pt x="6443" y="106"/>
                </a:lnTo>
                <a:lnTo>
                  <a:pt x="6545" y="106"/>
                </a:lnTo>
                <a:lnTo>
                  <a:pt x="6611" y="106"/>
                </a:lnTo>
                <a:lnTo>
                  <a:pt x="6677" y="106"/>
                </a:lnTo>
                <a:lnTo>
                  <a:pt x="6708" y="106"/>
                </a:lnTo>
                <a:lnTo>
                  <a:pt x="6778" y="106"/>
                </a:lnTo>
                <a:lnTo>
                  <a:pt x="6844" y="106"/>
                </a:lnTo>
                <a:lnTo>
                  <a:pt x="6875" y="106"/>
                </a:lnTo>
                <a:lnTo>
                  <a:pt x="6941" y="106"/>
                </a:lnTo>
                <a:lnTo>
                  <a:pt x="6977" y="106"/>
                </a:lnTo>
                <a:lnTo>
                  <a:pt x="7012" y="106"/>
                </a:lnTo>
                <a:lnTo>
                  <a:pt x="7078" y="106"/>
                </a:lnTo>
                <a:lnTo>
                  <a:pt x="7109" y="106"/>
                </a:lnTo>
                <a:lnTo>
                  <a:pt x="7210" y="106"/>
                </a:lnTo>
                <a:lnTo>
                  <a:pt x="7241" y="106"/>
                </a:lnTo>
                <a:lnTo>
                  <a:pt x="7307" y="106"/>
                </a:lnTo>
                <a:lnTo>
                  <a:pt x="7338" y="106"/>
                </a:lnTo>
                <a:lnTo>
                  <a:pt x="7404" y="106"/>
                </a:lnTo>
                <a:lnTo>
                  <a:pt x="7572" y="106"/>
                </a:lnTo>
                <a:lnTo>
                  <a:pt x="7607" y="106"/>
                </a:lnTo>
                <a:lnTo>
                  <a:pt x="7673" y="106"/>
                </a:lnTo>
                <a:lnTo>
                  <a:pt x="7704" y="106"/>
                </a:lnTo>
                <a:lnTo>
                  <a:pt x="7740" y="106"/>
                </a:lnTo>
                <a:lnTo>
                  <a:pt x="7806" y="106"/>
                </a:lnTo>
                <a:lnTo>
                  <a:pt x="7938" y="106"/>
                </a:lnTo>
                <a:lnTo>
                  <a:pt x="8039" y="106"/>
                </a:lnTo>
                <a:lnTo>
                  <a:pt x="8141" y="106"/>
                </a:lnTo>
                <a:lnTo>
                  <a:pt x="8207" y="106"/>
                </a:lnTo>
                <a:lnTo>
                  <a:pt x="8238" y="106"/>
                </a:lnTo>
                <a:lnTo>
                  <a:pt x="8339" y="106"/>
                </a:lnTo>
                <a:lnTo>
                  <a:pt x="8436" y="106"/>
                </a:lnTo>
                <a:lnTo>
                  <a:pt x="8533" y="106"/>
                </a:lnTo>
                <a:lnTo>
                  <a:pt x="8599" y="106"/>
                </a:lnTo>
                <a:lnTo>
                  <a:pt x="8701" y="80"/>
                </a:lnTo>
                <a:lnTo>
                  <a:pt x="8736" y="80"/>
                </a:lnTo>
                <a:lnTo>
                  <a:pt x="8767" y="80"/>
                </a:lnTo>
                <a:lnTo>
                  <a:pt x="8802" y="80"/>
                </a:lnTo>
                <a:lnTo>
                  <a:pt x="8833" y="80"/>
                </a:lnTo>
                <a:lnTo>
                  <a:pt x="8935" y="106"/>
                </a:lnTo>
                <a:lnTo>
                  <a:pt x="0" y="133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57280" y="8512200"/>
            <a:ext cx="3216600" cy="60840"/>
          </a:xfrm>
          <a:custGeom>
            <a:avLst/>
            <a:gdLst/>
            <a:ahLst/>
            <a:rect l="0" t="0" r="r" b="b"/>
            <a:pathLst>
              <a:path w="8935" h="169">
                <a:moveTo>
                  <a:pt x="0" y="169"/>
                </a:moveTo>
                <a:lnTo>
                  <a:pt x="30" y="169"/>
                </a:lnTo>
                <a:lnTo>
                  <a:pt x="66" y="169"/>
                </a:lnTo>
                <a:lnTo>
                  <a:pt x="97" y="169"/>
                </a:lnTo>
                <a:lnTo>
                  <a:pt x="132" y="169"/>
                </a:lnTo>
                <a:lnTo>
                  <a:pt x="163" y="169"/>
                </a:lnTo>
                <a:lnTo>
                  <a:pt x="198" y="169"/>
                </a:lnTo>
                <a:lnTo>
                  <a:pt x="233" y="169"/>
                </a:lnTo>
                <a:lnTo>
                  <a:pt x="264" y="169"/>
                </a:lnTo>
                <a:lnTo>
                  <a:pt x="299" y="169"/>
                </a:lnTo>
                <a:lnTo>
                  <a:pt x="330" y="169"/>
                </a:lnTo>
                <a:lnTo>
                  <a:pt x="366" y="169"/>
                </a:lnTo>
                <a:lnTo>
                  <a:pt x="396" y="169"/>
                </a:lnTo>
                <a:lnTo>
                  <a:pt x="432" y="115"/>
                </a:lnTo>
                <a:lnTo>
                  <a:pt x="463" y="115"/>
                </a:lnTo>
                <a:lnTo>
                  <a:pt x="498" y="115"/>
                </a:lnTo>
                <a:lnTo>
                  <a:pt x="560" y="115"/>
                </a:lnTo>
                <a:lnTo>
                  <a:pt x="595" y="115"/>
                </a:lnTo>
                <a:lnTo>
                  <a:pt x="626" y="115"/>
                </a:lnTo>
                <a:lnTo>
                  <a:pt x="661" y="115"/>
                </a:lnTo>
                <a:lnTo>
                  <a:pt x="692" y="115"/>
                </a:lnTo>
                <a:lnTo>
                  <a:pt x="727" y="115"/>
                </a:lnTo>
                <a:lnTo>
                  <a:pt x="762" y="115"/>
                </a:lnTo>
                <a:lnTo>
                  <a:pt x="829" y="115"/>
                </a:lnTo>
                <a:lnTo>
                  <a:pt x="895" y="115"/>
                </a:lnTo>
                <a:lnTo>
                  <a:pt x="926" y="115"/>
                </a:lnTo>
                <a:lnTo>
                  <a:pt x="992" y="115"/>
                </a:lnTo>
                <a:lnTo>
                  <a:pt x="1027" y="115"/>
                </a:lnTo>
                <a:lnTo>
                  <a:pt x="1093" y="58"/>
                </a:lnTo>
                <a:lnTo>
                  <a:pt x="1159" y="58"/>
                </a:lnTo>
                <a:lnTo>
                  <a:pt x="1195" y="58"/>
                </a:lnTo>
                <a:lnTo>
                  <a:pt x="1225" y="58"/>
                </a:lnTo>
                <a:lnTo>
                  <a:pt x="1292" y="58"/>
                </a:lnTo>
                <a:lnTo>
                  <a:pt x="1327" y="58"/>
                </a:lnTo>
                <a:lnTo>
                  <a:pt x="1393" y="58"/>
                </a:lnTo>
                <a:lnTo>
                  <a:pt x="1459" y="58"/>
                </a:lnTo>
                <a:lnTo>
                  <a:pt x="1494" y="30"/>
                </a:lnTo>
                <a:lnTo>
                  <a:pt x="1525" y="30"/>
                </a:lnTo>
                <a:lnTo>
                  <a:pt x="1561" y="30"/>
                </a:lnTo>
                <a:lnTo>
                  <a:pt x="1596" y="30"/>
                </a:lnTo>
                <a:lnTo>
                  <a:pt x="1627" y="30"/>
                </a:lnTo>
                <a:lnTo>
                  <a:pt x="1662" y="30"/>
                </a:lnTo>
                <a:lnTo>
                  <a:pt x="1662" y="0"/>
                </a:lnTo>
                <a:lnTo>
                  <a:pt x="1688" y="0"/>
                </a:lnTo>
                <a:lnTo>
                  <a:pt x="1724" y="0"/>
                </a:lnTo>
                <a:lnTo>
                  <a:pt x="1755" y="0"/>
                </a:lnTo>
                <a:lnTo>
                  <a:pt x="1790" y="0"/>
                </a:lnTo>
                <a:lnTo>
                  <a:pt x="1821" y="0"/>
                </a:lnTo>
                <a:lnTo>
                  <a:pt x="1856" y="0"/>
                </a:lnTo>
                <a:lnTo>
                  <a:pt x="1891" y="0"/>
                </a:lnTo>
                <a:lnTo>
                  <a:pt x="1922" y="0"/>
                </a:lnTo>
                <a:lnTo>
                  <a:pt x="1957" y="0"/>
                </a:lnTo>
                <a:lnTo>
                  <a:pt x="1988" y="0"/>
                </a:lnTo>
                <a:lnTo>
                  <a:pt x="2024" y="0"/>
                </a:lnTo>
                <a:lnTo>
                  <a:pt x="2054" y="0"/>
                </a:lnTo>
                <a:lnTo>
                  <a:pt x="2090" y="0"/>
                </a:lnTo>
                <a:lnTo>
                  <a:pt x="2125" y="0"/>
                </a:lnTo>
                <a:lnTo>
                  <a:pt x="2156" y="0"/>
                </a:lnTo>
                <a:lnTo>
                  <a:pt x="2191" y="0"/>
                </a:lnTo>
                <a:lnTo>
                  <a:pt x="2222" y="0"/>
                </a:lnTo>
                <a:lnTo>
                  <a:pt x="2257" y="0"/>
                </a:lnTo>
                <a:lnTo>
                  <a:pt x="2288" y="0"/>
                </a:lnTo>
                <a:lnTo>
                  <a:pt x="2323" y="0"/>
                </a:lnTo>
                <a:lnTo>
                  <a:pt x="2354" y="0"/>
                </a:lnTo>
                <a:lnTo>
                  <a:pt x="2390" y="0"/>
                </a:lnTo>
                <a:lnTo>
                  <a:pt x="2425" y="0"/>
                </a:lnTo>
                <a:lnTo>
                  <a:pt x="2456" y="0"/>
                </a:lnTo>
                <a:lnTo>
                  <a:pt x="2491" y="0"/>
                </a:lnTo>
                <a:lnTo>
                  <a:pt x="2557" y="0"/>
                </a:lnTo>
                <a:lnTo>
                  <a:pt x="2588" y="0"/>
                </a:lnTo>
                <a:lnTo>
                  <a:pt x="2689" y="0"/>
                </a:lnTo>
                <a:lnTo>
                  <a:pt x="2791" y="30"/>
                </a:lnTo>
                <a:lnTo>
                  <a:pt x="2919" y="30"/>
                </a:lnTo>
                <a:lnTo>
                  <a:pt x="3020" y="58"/>
                </a:lnTo>
                <a:lnTo>
                  <a:pt x="3086" y="58"/>
                </a:lnTo>
                <a:lnTo>
                  <a:pt x="3117" y="58"/>
                </a:lnTo>
                <a:lnTo>
                  <a:pt x="3152" y="58"/>
                </a:lnTo>
                <a:lnTo>
                  <a:pt x="3183" y="58"/>
                </a:lnTo>
                <a:lnTo>
                  <a:pt x="3254" y="58"/>
                </a:lnTo>
                <a:lnTo>
                  <a:pt x="3320" y="58"/>
                </a:lnTo>
                <a:lnTo>
                  <a:pt x="3351" y="58"/>
                </a:lnTo>
                <a:lnTo>
                  <a:pt x="3386" y="58"/>
                </a:lnTo>
                <a:lnTo>
                  <a:pt x="3452" y="58"/>
                </a:lnTo>
                <a:lnTo>
                  <a:pt x="3518" y="58"/>
                </a:lnTo>
                <a:lnTo>
                  <a:pt x="3554" y="58"/>
                </a:lnTo>
                <a:lnTo>
                  <a:pt x="3620" y="58"/>
                </a:lnTo>
                <a:lnTo>
                  <a:pt x="3686" y="58"/>
                </a:lnTo>
                <a:lnTo>
                  <a:pt x="3717" y="58"/>
                </a:lnTo>
                <a:lnTo>
                  <a:pt x="3752" y="58"/>
                </a:lnTo>
                <a:lnTo>
                  <a:pt x="3818" y="58"/>
                </a:lnTo>
                <a:lnTo>
                  <a:pt x="3884" y="58"/>
                </a:lnTo>
                <a:lnTo>
                  <a:pt x="3915" y="58"/>
                </a:lnTo>
                <a:lnTo>
                  <a:pt x="3946" y="58"/>
                </a:lnTo>
                <a:lnTo>
                  <a:pt x="3981" y="58"/>
                </a:lnTo>
                <a:lnTo>
                  <a:pt x="4012" y="58"/>
                </a:lnTo>
                <a:lnTo>
                  <a:pt x="4048" y="58"/>
                </a:lnTo>
                <a:lnTo>
                  <a:pt x="4083" y="115"/>
                </a:lnTo>
                <a:lnTo>
                  <a:pt x="4114" y="115"/>
                </a:lnTo>
                <a:lnTo>
                  <a:pt x="4149" y="115"/>
                </a:lnTo>
                <a:lnTo>
                  <a:pt x="4180" y="115"/>
                </a:lnTo>
                <a:lnTo>
                  <a:pt x="4215" y="115"/>
                </a:lnTo>
                <a:lnTo>
                  <a:pt x="4246" y="115"/>
                </a:lnTo>
                <a:lnTo>
                  <a:pt x="4281" y="115"/>
                </a:lnTo>
                <a:lnTo>
                  <a:pt x="4317" y="115"/>
                </a:lnTo>
                <a:lnTo>
                  <a:pt x="4347" y="115"/>
                </a:lnTo>
                <a:lnTo>
                  <a:pt x="4383" y="115"/>
                </a:lnTo>
                <a:lnTo>
                  <a:pt x="4414" y="115"/>
                </a:lnTo>
                <a:lnTo>
                  <a:pt x="4449" y="58"/>
                </a:lnTo>
                <a:lnTo>
                  <a:pt x="4481" y="58"/>
                </a:lnTo>
                <a:lnTo>
                  <a:pt x="4516" y="58"/>
                </a:lnTo>
                <a:lnTo>
                  <a:pt x="4547" y="58"/>
                </a:lnTo>
                <a:lnTo>
                  <a:pt x="4547" y="30"/>
                </a:lnTo>
                <a:lnTo>
                  <a:pt x="4582" y="30"/>
                </a:lnTo>
                <a:lnTo>
                  <a:pt x="4617" y="30"/>
                </a:lnTo>
                <a:lnTo>
                  <a:pt x="4648" y="30"/>
                </a:lnTo>
                <a:lnTo>
                  <a:pt x="4714" y="30"/>
                </a:lnTo>
                <a:lnTo>
                  <a:pt x="4816" y="58"/>
                </a:lnTo>
                <a:lnTo>
                  <a:pt x="4917" y="58"/>
                </a:lnTo>
                <a:lnTo>
                  <a:pt x="4983" y="115"/>
                </a:lnTo>
                <a:lnTo>
                  <a:pt x="5045" y="115"/>
                </a:lnTo>
                <a:lnTo>
                  <a:pt x="5111" y="115"/>
                </a:lnTo>
                <a:lnTo>
                  <a:pt x="5178" y="115"/>
                </a:lnTo>
                <a:lnTo>
                  <a:pt x="5213" y="115"/>
                </a:lnTo>
                <a:lnTo>
                  <a:pt x="5244" y="115"/>
                </a:lnTo>
                <a:lnTo>
                  <a:pt x="5310" y="115"/>
                </a:lnTo>
                <a:lnTo>
                  <a:pt x="5376" y="115"/>
                </a:lnTo>
                <a:lnTo>
                  <a:pt x="5411" y="115"/>
                </a:lnTo>
                <a:lnTo>
                  <a:pt x="5477" y="115"/>
                </a:lnTo>
                <a:lnTo>
                  <a:pt x="5513" y="115"/>
                </a:lnTo>
                <a:lnTo>
                  <a:pt x="5544" y="115"/>
                </a:lnTo>
                <a:lnTo>
                  <a:pt x="5579" y="115"/>
                </a:lnTo>
                <a:lnTo>
                  <a:pt x="5645" y="115"/>
                </a:lnTo>
                <a:lnTo>
                  <a:pt x="5680" y="115"/>
                </a:lnTo>
                <a:lnTo>
                  <a:pt x="5746" y="115"/>
                </a:lnTo>
                <a:lnTo>
                  <a:pt x="5777" y="115"/>
                </a:lnTo>
                <a:lnTo>
                  <a:pt x="5813" y="115"/>
                </a:lnTo>
                <a:lnTo>
                  <a:pt x="5843" y="115"/>
                </a:lnTo>
                <a:lnTo>
                  <a:pt x="5879" y="115"/>
                </a:lnTo>
                <a:lnTo>
                  <a:pt x="5910" y="115"/>
                </a:lnTo>
                <a:lnTo>
                  <a:pt x="5945" y="115"/>
                </a:lnTo>
                <a:lnTo>
                  <a:pt x="5980" y="115"/>
                </a:lnTo>
                <a:lnTo>
                  <a:pt x="6011" y="115"/>
                </a:lnTo>
                <a:lnTo>
                  <a:pt x="6046" y="115"/>
                </a:lnTo>
                <a:lnTo>
                  <a:pt x="6077" y="115"/>
                </a:lnTo>
                <a:lnTo>
                  <a:pt x="6112" y="115"/>
                </a:lnTo>
                <a:lnTo>
                  <a:pt x="6143" y="115"/>
                </a:lnTo>
                <a:lnTo>
                  <a:pt x="6174" y="115"/>
                </a:lnTo>
                <a:lnTo>
                  <a:pt x="6209" y="115"/>
                </a:lnTo>
                <a:lnTo>
                  <a:pt x="6240" y="115"/>
                </a:lnTo>
                <a:lnTo>
                  <a:pt x="6276" y="115"/>
                </a:lnTo>
                <a:lnTo>
                  <a:pt x="6306" y="115"/>
                </a:lnTo>
                <a:lnTo>
                  <a:pt x="6342" y="115"/>
                </a:lnTo>
                <a:lnTo>
                  <a:pt x="6373" y="115"/>
                </a:lnTo>
                <a:lnTo>
                  <a:pt x="6408" y="115"/>
                </a:lnTo>
                <a:lnTo>
                  <a:pt x="6439" y="115"/>
                </a:lnTo>
                <a:lnTo>
                  <a:pt x="6540" y="115"/>
                </a:lnTo>
                <a:lnTo>
                  <a:pt x="6606" y="115"/>
                </a:lnTo>
                <a:lnTo>
                  <a:pt x="6672" y="115"/>
                </a:lnTo>
                <a:lnTo>
                  <a:pt x="6708" y="115"/>
                </a:lnTo>
                <a:lnTo>
                  <a:pt x="6774" y="115"/>
                </a:lnTo>
                <a:lnTo>
                  <a:pt x="6840" y="115"/>
                </a:lnTo>
                <a:lnTo>
                  <a:pt x="6875" y="115"/>
                </a:lnTo>
                <a:lnTo>
                  <a:pt x="6941" y="115"/>
                </a:lnTo>
                <a:lnTo>
                  <a:pt x="6972" y="115"/>
                </a:lnTo>
                <a:lnTo>
                  <a:pt x="7008" y="115"/>
                </a:lnTo>
                <a:lnTo>
                  <a:pt x="7074" y="115"/>
                </a:lnTo>
                <a:lnTo>
                  <a:pt x="7109" y="115"/>
                </a:lnTo>
                <a:lnTo>
                  <a:pt x="7206" y="115"/>
                </a:lnTo>
                <a:lnTo>
                  <a:pt x="7241" y="115"/>
                </a:lnTo>
                <a:lnTo>
                  <a:pt x="7303" y="115"/>
                </a:lnTo>
                <a:lnTo>
                  <a:pt x="7338" y="115"/>
                </a:lnTo>
                <a:lnTo>
                  <a:pt x="7404" y="115"/>
                </a:lnTo>
                <a:lnTo>
                  <a:pt x="7572" y="115"/>
                </a:lnTo>
                <a:lnTo>
                  <a:pt x="7603" y="115"/>
                </a:lnTo>
                <a:lnTo>
                  <a:pt x="7669" y="115"/>
                </a:lnTo>
                <a:lnTo>
                  <a:pt x="7704" y="115"/>
                </a:lnTo>
                <a:lnTo>
                  <a:pt x="7735" y="115"/>
                </a:lnTo>
                <a:lnTo>
                  <a:pt x="7801" y="115"/>
                </a:lnTo>
                <a:lnTo>
                  <a:pt x="7938" y="115"/>
                </a:lnTo>
                <a:lnTo>
                  <a:pt x="8035" y="115"/>
                </a:lnTo>
                <a:lnTo>
                  <a:pt x="8136" y="115"/>
                </a:lnTo>
                <a:lnTo>
                  <a:pt x="8203" y="115"/>
                </a:lnTo>
                <a:lnTo>
                  <a:pt x="8238" y="115"/>
                </a:lnTo>
                <a:lnTo>
                  <a:pt x="8335" y="115"/>
                </a:lnTo>
                <a:lnTo>
                  <a:pt x="8432" y="115"/>
                </a:lnTo>
                <a:lnTo>
                  <a:pt x="8533" y="115"/>
                </a:lnTo>
                <a:lnTo>
                  <a:pt x="8599" y="115"/>
                </a:lnTo>
                <a:lnTo>
                  <a:pt x="8701" y="115"/>
                </a:lnTo>
                <a:lnTo>
                  <a:pt x="8732" y="115"/>
                </a:lnTo>
                <a:lnTo>
                  <a:pt x="8767" y="115"/>
                </a:lnTo>
                <a:lnTo>
                  <a:pt x="8798" y="115"/>
                </a:lnTo>
                <a:lnTo>
                  <a:pt x="8833" y="115"/>
                </a:lnTo>
                <a:lnTo>
                  <a:pt x="8935" y="115"/>
                </a:lnTo>
                <a:lnTo>
                  <a:pt x="0" y="169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84680" y="3390840"/>
            <a:ext cx="47520" cy="47520"/>
          </a:xfrm>
          <a:prstGeom prst="ellipse">
            <a:avLst/>
          </a:prstGeom>
          <a:blipFill rotWithShape="0">
            <a:blip r:embed="rId5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0" y="3559320"/>
            <a:ext cx="47520" cy="47520"/>
          </a:xfrm>
          <a:prstGeom prst="ellipse">
            <a:avLst/>
          </a:prstGeom>
          <a:blipFill rotWithShape="0">
            <a:blip r:embed="rId6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41640" y="3886200"/>
            <a:ext cx="46080" cy="47520"/>
          </a:xfrm>
          <a:prstGeom prst="ellipse">
            <a:avLst/>
          </a:prstGeom>
          <a:blipFill rotWithShape="0">
            <a:blip r:embed="rId7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0" y="3378240"/>
            <a:ext cx="47520" cy="47520"/>
          </a:xfrm>
          <a:prstGeom prst="ellipse">
            <a:avLst/>
          </a:prstGeom>
          <a:blipFill rotWithShape="0">
            <a:blip r:embed="rId8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92680" y="4103640"/>
            <a:ext cx="47520" cy="47520"/>
          </a:xfrm>
          <a:prstGeom prst="ellipse">
            <a:avLst/>
          </a:prstGeom>
          <a:blipFill rotWithShape="0">
            <a:blip r:embed="rId9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45040" y="3740040"/>
            <a:ext cx="47520" cy="47520"/>
          </a:xfrm>
          <a:prstGeom prst="ellipse">
            <a:avLst/>
          </a:prstGeom>
          <a:blipFill rotWithShape="0">
            <a:blip r:embed="rId10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84560" y="3981600"/>
            <a:ext cx="108000" cy="157320"/>
          </a:xfrm>
          <a:prstGeom prst="ellipse">
            <a:avLst/>
          </a:prstGeom>
          <a:blipFill rotWithShape="0">
            <a:blip r:embed="rId11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74160" bIns="74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60800" y="3341520"/>
            <a:ext cx="47520" cy="47520"/>
          </a:xfrm>
          <a:prstGeom prst="ellipse">
            <a:avLst/>
          </a:prstGeom>
          <a:blipFill rotWithShape="0">
            <a:blip r:embed="rId12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26000" y="3897360"/>
            <a:ext cx="46080" cy="47520"/>
          </a:xfrm>
          <a:prstGeom prst="ellipse">
            <a:avLst/>
          </a:prstGeom>
          <a:blipFill rotWithShape="0">
            <a:blip r:embed="rId13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5040" y="3511440"/>
            <a:ext cx="47520" cy="47520"/>
          </a:xfrm>
          <a:prstGeom prst="ellipse">
            <a:avLst/>
          </a:prstGeom>
          <a:blipFill rotWithShape="0">
            <a:blip r:embed="rId14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26000" y="3475080"/>
            <a:ext cx="154080" cy="181080"/>
          </a:xfrm>
          <a:prstGeom prst="ellipse">
            <a:avLst/>
          </a:prstGeom>
          <a:blipFill rotWithShape="0">
            <a:blip r:embed="rId15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3160" y="3595680"/>
            <a:ext cx="47520" cy="47520"/>
          </a:xfrm>
          <a:prstGeom prst="ellipse">
            <a:avLst/>
          </a:prstGeom>
          <a:blipFill rotWithShape="0">
            <a:blip r:embed="rId16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3763800"/>
            <a:ext cx="47520" cy="49320"/>
          </a:xfrm>
          <a:prstGeom prst="ellipse">
            <a:avLst/>
          </a:prstGeom>
          <a:blipFill rotWithShape="0">
            <a:blip r:embed="rId17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8680" y="4091040"/>
            <a:ext cx="47520" cy="47520"/>
          </a:xfrm>
          <a:prstGeom prst="ellipse">
            <a:avLst/>
          </a:prstGeom>
          <a:blipFill rotWithShape="0">
            <a:blip r:embed="rId18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3583080"/>
            <a:ext cx="47520" cy="47520"/>
          </a:xfrm>
          <a:prstGeom prst="ellipse">
            <a:avLst/>
          </a:prstGeom>
          <a:blipFill rotWithShape="0">
            <a:blip r:embed="rId19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21160" y="4308480"/>
            <a:ext cx="47520" cy="47520"/>
          </a:xfrm>
          <a:prstGeom prst="ellipse">
            <a:avLst/>
          </a:prstGeom>
          <a:blipFill rotWithShape="0">
            <a:blip r:embed="rId20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73520" y="3946680"/>
            <a:ext cx="47520" cy="47520"/>
          </a:xfrm>
          <a:prstGeom prst="ellipse">
            <a:avLst/>
          </a:prstGeom>
          <a:blipFill rotWithShape="0">
            <a:blip r:embed="rId21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65520" y="4006800"/>
            <a:ext cx="106200" cy="155520"/>
          </a:xfrm>
          <a:prstGeom prst="ellipse">
            <a:avLst/>
          </a:prstGeom>
          <a:blipFill rotWithShape="0">
            <a:blip r:embed="rId22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72360" bIns="72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57760" y="4295880"/>
            <a:ext cx="47520" cy="47520"/>
          </a:xfrm>
          <a:prstGeom prst="ellipse">
            <a:avLst/>
          </a:prstGeom>
          <a:blipFill rotWithShape="0">
            <a:blip r:embed="rId23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4103640"/>
            <a:ext cx="47520" cy="47520"/>
          </a:xfrm>
          <a:prstGeom prst="ellipse">
            <a:avLst/>
          </a:prstGeom>
          <a:blipFill rotWithShape="0">
            <a:blip r:embed="rId24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73520" y="3716280"/>
            <a:ext cx="47520" cy="47520"/>
          </a:xfrm>
          <a:prstGeom prst="ellipse">
            <a:avLst/>
          </a:prstGeom>
          <a:blipFill rotWithShape="0">
            <a:blip r:embed="rId25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5760" y="3813120"/>
            <a:ext cx="154080" cy="181080"/>
          </a:xfrm>
          <a:prstGeom prst="ellipse">
            <a:avLst/>
          </a:prstGeom>
          <a:blipFill rotWithShape="0">
            <a:blip r:embed="rId26"/>
            <a:tile tx="0" ty="0" sx="133018" sy="133018" algn="ctr"/>
          </a:blipFill>
          <a:ln w="76320">
            <a:solidFill>
              <a:srgbClr val="000000"/>
            </a:solidFill>
            <a:custDash>
              <a:ds d="33491" sp="33491"/>
            </a:custDash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33400" y="6024600"/>
            <a:ext cx="540000" cy="2573640"/>
          </a:xfrm>
          <a:custGeom>
            <a:avLst/>
            <a:gdLst/>
            <a:ahLst/>
            <a:rect l="0" t="0" r="r" b="b"/>
            <a:pathLst>
              <a:path fill="none" w="1500" h="7149">
                <a:moveTo>
                  <a:pt x="1068" y="7149"/>
                </a:moveTo>
                <a:lnTo>
                  <a:pt x="1099" y="7149"/>
                </a:lnTo>
                <a:lnTo>
                  <a:pt x="1099" y="7113"/>
                </a:lnTo>
                <a:lnTo>
                  <a:pt x="1134" y="7113"/>
                </a:lnTo>
                <a:lnTo>
                  <a:pt x="1134" y="7083"/>
                </a:lnTo>
                <a:lnTo>
                  <a:pt x="1169" y="7083"/>
                </a:lnTo>
                <a:lnTo>
                  <a:pt x="1200" y="7047"/>
                </a:lnTo>
                <a:lnTo>
                  <a:pt x="1235" y="7047"/>
                </a:lnTo>
                <a:lnTo>
                  <a:pt x="1235" y="7016"/>
                </a:lnTo>
                <a:lnTo>
                  <a:pt x="1266" y="7016"/>
                </a:lnTo>
                <a:lnTo>
                  <a:pt x="1301" y="6981"/>
                </a:lnTo>
                <a:lnTo>
                  <a:pt x="1301" y="6946"/>
                </a:lnTo>
                <a:lnTo>
                  <a:pt x="1332" y="6946"/>
                </a:lnTo>
                <a:lnTo>
                  <a:pt x="1332" y="6915"/>
                </a:lnTo>
                <a:lnTo>
                  <a:pt x="1368" y="6915"/>
                </a:lnTo>
                <a:lnTo>
                  <a:pt x="1368" y="6880"/>
                </a:lnTo>
                <a:lnTo>
                  <a:pt x="1368" y="6844"/>
                </a:lnTo>
                <a:lnTo>
                  <a:pt x="1398" y="6814"/>
                </a:lnTo>
                <a:lnTo>
                  <a:pt x="1398" y="6778"/>
                </a:lnTo>
                <a:lnTo>
                  <a:pt x="1434" y="6778"/>
                </a:lnTo>
                <a:lnTo>
                  <a:pt x="1434" y="6747"/>
                </a:lnTo>
                <a:lnTo>
                  <a:pt x="1434" y="6712"/>
                </a:lnTo>
                <a:lnTo>
                  <a:pt x="1469" y="6677"/>
                </a:lnTo>
                <a:lnTo>
                  <a:pt x="1469" y="6646"/>
                </a:lnTo>
                <a:lnTo>
                  <a:pt x="1469" y="6611"/>
                </a:lnTo>
                <a:lnTo>
                  <a:pt x="1469" y="6545"/>
                </a:lnTo>
                <a:lnTo>
                  <a:pt x="1469" y="6509"/>
                </a:lnTo>
                <a:lnTo>
                  <a:pt x="1469" y="6478"/>
                </a:lnTo>
                <a:lnTo>
                  <a:pt x="1469" y="6443"/>
                </a:lnTo>
                <a:lnTo>
                  <a:pt x="1469" y="6412"/>
                </a:lnTo>
                <a:lnTo>
                  <a:pt x="1469" y="6377"/>
                </a:lnTo>
                <a:lnTo>
                  <a:pt x="1469" y="6276"/>
                </a:lnTo>
                <a:lnTo>
                  <a:pt x="1469" y="6245"/>
                </a:lnTo>
                <a:lnTo>
                  <a:pt x="1469" y="6209"/>
                </a:lnTo>
                <a:lnTo>
                  <a:pt x="1469" y="6174"/>
                </a:lnTo>
                <a:lnTo>
                  <a:pt x="1469" y="6143"/>
                </a:lnTo>
                <a:lnTo>
                  <a:pt x="1469" y="6108"/>
                </a:lnTo>
                <a:lnTo>
                  <a:pt x="1469" y="6073"/>
                </a:lnTo>
                <a:lnTo>
                  <a:pt x="1500" y="6042"/>
                </a:lnTo>
                <a:lnTo>
                  <a:pt x="1500" y="6007"/>
                </a:lnTo>
                <a:lnTo>
                  <a:pt x="1500" y="5976"/>
                </a:lnTo>
                <a:lnTo>
                  <a:pt x="1500" y="5940"/>
                </a:lnTo>
                <a:lnTo>
                  <a:pt x="1500" y="5905"/>
                </a:lnTo>
                <a:lnTo>
                  <a:pt x="1500" y="5874"/>
                </a:lnTo>
                <a:lnTo>
                  <a:pt x="1500" y="5839"/>
                </a:lnTo>
                <a:lnTo>
                  <a:pt x="1500" y="5808"/>
                </a:lnTo>
                <a:lnTo>
                  <a:pt x="1500" y="5773"/>
                </a:lnTo>
                <a:lnTo>
                  <a:pt x="1500" y="5738"/>
                </a:lnTo>
                <a:lnTo>
                  <a:pt x="1500" y="5707"/>
                </a:lnTo>
                <a:lnTo>
                  <a:pt x="1500" y="5641"/>
                </a:lnTo>
                <a:lnTo>
                  <a:pt x="1469" y="5605"/>
                </a:lnTo>
                <a:lnTo>
                  <a:pt x="1469" y="5570"/>
                </a:lnTo>
                <a:lnTo>
                  <a:pt x="1469" y="5539"/>
                </a:lnTo>
                <a:lnTo>
                  <a:pt x="1469" y="5504"/>
                </a:lnTo>
                <a:lnTo>
                  <a:pt x="1469" y="5469"/>
                </a:lnTo>
                <a:lnTo>
                  <a:pt x="1469" y="5438"/>
                </a:lnTo>
                <a:lnTo>
                  <a:pt x="1469" y="5402"/>
                </a:lnTo>
                <a:lnTo>
                  <a:pt x="1469" y="5372"/>
                </a:lnTo>
                <a:lnTo>
                  <a:pt x="1469" y="5336"/>
                </a:lnTo>
                <a:lnTo>
                  <a:pt x="1469" y="5301"/>
                </a:lnTo>
                <a:lnTo>
                  <a:pt x="1469" y="5270"/>
                </a:lnTo>
                <a:lnTo>
                  <a:pt x="1469" y="5235"/>
                </a:lnTo>
                <a:lnTo>
                  <a:pt x="1469" y="5204"/>
                </a:lnTo>
                <a:lnTo>
                  <a:pt x="1469" y="5169"/>
                </a:lnTo>
                <a:lnTo>
                  <a:pt x="1469" y="5133"/>
                </a:lnTo>
                <a:lnTo>
                  <a:pt x="1469" y="5103"/>
                </a:lnTo>
                <a:lnTo>
                  <a:pt x="1469" y="5067"/>
                </a:lnTo>
                <a:lnTo>
                  <a:pt x="1469" y="5036"/>
                </a:lnTo>
                <a:lnTo>
                  <a:pt x="1500" y="5001"/>
                </a:lnTo>
                <a:lnTo>
                  <a:pt x="1500" y="4966"/>
                </a:lnTo>
                <a:lnTo>
                  <a:pt x="1500" y="4935"/>
                </a:lnTo>
                <a:lnTo>
                  <a:pt x="1500" y="4900"/>
                </a:lnTo>
                <a:lnTo>
                  <a:pt x="1500" y="4864"/>
                </a:lnTo>
                <a:lnTo>
                  <a:pt x="1500" y="4834"/>
                </a:lnTo>
                <a:lnTo>
                  <a:pt x="1469" y="4834"/>
                </a:lnTo>
                <a:lnTo>
                  <a:pt x="1469" y="4798"/>
                </a:lnTo>
                <a:lnTo>
                  <a:pt x="1469" y="4767"/>
                </a:lnTo>
                <a:lnTo>
                  <a:pt x="1469" y="4732"/>
                </a:lnTo>
                <a:lnTo>
                  <a:pt x="1469" y="4697"/>
                </a:lnTo>
                <a:lnTo>
                  <a:pt x="1469" y="4666"/>
                </a:lnTo>
                <a:lnTo>
                  <a:pt x="1469" y="4631"/>
                </a:lnTo>
                <a:lnTo>
                  <a:pt x="1469" y="4600"/>
                </a:lnTo>
                <a:lnTo>
                  <a:pt x="1469" y="4565"/>
                </a:lnTo>
                <a:lnTo>
                  <a:pt x="1469" y="4529"/>
                </a:lnTo>
                <a:lnTo>
                  <a:pt x="1469" y="4498"/>
                </a:lnTo>
                <a:lnTo>
                  <a:pt x="1469" y="4463"/>
                </a:lnTo>
                <a:lnTo>
                  <a:pt x="1469" y="4432"/>
                </a:lnTo>
                <a:lnTo>
                  <a:pt x="1469" y="4397"/>
                </a:lnTo>
                <a:lnTo>
                  <a:pt x="1469" y="4362"/>
                </a:lnTo>
                <a:lnTo>
                  <a:pt x="1469" y="4331"/>
                </a:lnTo>
                <a:lnTo>
                  <a:pt x="1469" y="4296"/>
                </a:lnTo>
                <a:lnTo>
                  <a:pt x="1469" y="4260"/>
                </a:lnTo>
                <a:lnTo>
                  <a:pt x="1469" y="4229"/>
                </a:lnTo>
                <a:lnTo>
                  <a:pt x="1469" y="4194"/>
                </a:lnTo>
                <a:lnTo>
                  <a:pt x="1469" y="4163"/>
                </a:lnTo>
                <a:lnTo>
                  <a:pt x="1469" y="4128"/>
                </a:lnTo>
                <a:lnTo>
                  <a:pt x="1434" y="4093"/>
                </a:lnTo>
                <a:lnTo>
                  <a:pt x="1434" y="4062"/>
                </a:lnTo>
                <a:lnTo>
                  <a:pt x="1434" y="4027"/>
                </a:lnTo>
                <a:lnTo>
                  <a:pt x="1434" y="3996"/>
                </a:lnTo>
                <a:lnTo>
                  <a:pt x="1434" y="3960"/>
                </a:lnTo>
                <a:lnTo>
                  <a:pt x="1434" y="3925"/>
                </a:lnTo>
                <a:lnTo>
                  <a:pt x="1434" y="3894"/>
                </a:lnTo>
                <a:lnTo>
                  <a:pt x="1434" y="3859"/>
                </a:lnTo>
                <a:lnTo>
                  <a:pt x="1434" y="3828"/>
                </a:lnTo>
                <a:lnTo>
                  <a:pt x="1434" y="3793"/>
                </a:lnTo>
                <a:lnTo>
                  <a:pt x="1434" y="3758"/>
                </a:lnTo>
                <a:lnTo>
                  <a:pt x="1434" y="3727"/>
                </a:lnTo>
                <a:lnTo>
                  <a:pt x="1434" y="3691"/>
                </a:lnTo>
                <a:lnTo>
                  <a:pt x="1434" y="3661"/>
                </a:lnTo>
                <a:lnTo>
                  <a:pt x="1434" y="3625"/>
                </a:lnTo>
                <a:lnTo>
                  <a:pt x="1434" y="3590"/>
                </a:lnTo>
                <a:lnTo>
                  <a:pt x="1434" y="3558"/>
                </a:lnTo>
                <a:lnTo>
                  <a:pt x="1434" y="3523"/>
                </a:lnTo>
                <a:lnTo>
                  <a:pt x="1434" y="3488"/>
                </a:lnTo>
                <a:lnTo>
                  <a:pt x="1434" y="3457"/>
                </a:lnTo>
                <a:lnTo>
                  <a:pt x="1434" y="3421"/>
                </a:lnTo>
                <a:lnTo>
                  <a:pt x="1434" y="3391"/>
                </a:lnTo>
                <a:lnTo>
                  <a:pt x="1434" y="3355"/>
                </a:lnTo>
                <a:lnTo>
                  <a:pt x="1398" y="3355"/>
                </a:lnTo>
                <a:lnTo>
                  <a:pt x="1398" y="3320"/>
                </a:lnTo>
                <a:lnTo>
                  <a:pt x="1398" y="3289"/>
                </a:lnTo>
                <a:lnTo>
                  <a:pt x="1398" y="3254"/>
                </a:lnTo>
                <a:lnTo>
                  <a:pt x="1398" y="3223"/>
                </a:lnTo>
                <a:lnTo>
                  <a:pt x="1398" y="3188"/>
                </a:lnTo>
                <a:lnTo>
                  <a:pt x="1398" y="3152"/>
                </a:lnTo>
                <a:lnTo>
                  <a:pt x="1398" y="3122"/>
                </a:lnTo>
                <a:lnTo>
                  <a:pt x="1368" y="3122"/>
                </a:lnTo>
                <a:lnTo>
                  <a:pt x="1368" y="3086"/>
                </a:lnTo>
                <a:lnTo>
                  <a:pt x="1368" y="3055"/>
                </a:lnTo>
                <a:lnTo>
                  <a:pt x="1332" y="3020"/>
                </a:lnTo>
                <a:lnTo>
                  <a:pt x="1332" y="2985"/>
                </a:lnTo>
                <a:lnTo>
                  <a:pt x="1301" y="2985"/>
                </a:lnTo>
                <a:lnTo>
                  <a:pt x="1301" y="2954"/>
                </a:lnTo>
                <a:lnTo>
                  <a:pt x="1266" y="2954"/>
                </a:lnTo>
                <a:lnTo>
                  <a:pt x="1235" y="2919"/>
                </a:lnTo>
                <a:lnTo>
                  <a:pt x="1235" y="2883"/>
                </a:lnTo>
                <a:lnTo>
                  <a:pt x="1200" y="2853"/>
                </a:lnTo>
                <a:lnTo>
                  <a:pt x="1200" y="2817"/>
                </a:lnTo>
                <a:lnTo>
                  <a:pt x="1169" y="2817"/>
                </a:lnTo>
                <a:lnTo>
                  <a:pt x="1134" y="2786"/>
                </a:lnTo>
                <a:lnTo>
                  <a:pt x="1099" y="2786"/>
                </a:lnTo>
                <a:lnTo>
                  <a:pt x="1099" y="2751"/>
                </a:lnTo>
                <a:lnTo>
                  <a:pt x="1068" y="2751"/>
                </a:lnTo>
                <a:lnTo>
                  <a:pt x="1032" y="2751"/>
                </a:lnTo>
                <a:lnTo>
                  <a:pt x="1032" y="2716"/>
                </a:lnTo>
                <a:lnTo>
                  <a:pt x="1002" y="2685"/>
                </a:lnTo>
                <a:lnTo>
                  <a:pt x="966" y="2685"/>
                </a:lnTo>
                <a:lnTo>
                  <a:pt x="966" y="2650"/>
                </a:lnTo>
                <a:lnTo>
                  <a:pt x="935" y="2619"/>
                </a:lnTo>
                <a:lnTo>
                  <a:pt x="900" y="2584"/>
                </a:lnTo>
                <a:lnTo>
                  <a:pt x="865" y="2548"/>
                </a:lnTo>
                <a:lnTo>
                  <a:pt x="865" y="2517"/>
                </a:lnTo>
                <a:lnTo>
                  <a:pt x="834" y="2517"/>
                </a:lnTo>
                <a:lnTo>
                  <a:pt x="834" y="2482"/>
                </a:lnTo>
                <a:lnTo>
                  <a:pt x="799" y="2482"/>
                </a:lnTo>
                <a:lnTo>
                  <a:pt x="768" y="2451"/>
                </a:lnTo>
                <a:lnTo>
                  <a:pt x="768" y="2416"/>
                </a:lnTo>
                <a:lnTo>
                  <a:pt x="732" y="2416"/>
                </a:lnTo>
                <a:lnTo>
                  <a:pt x="732" y="2381"/>
                </a:lnTo>
                <a:lnTo>
                  <a:pt x="701" y="2381"/>
                </a:lnTo>
                <a:lnTo>
                  <a:pt x="665" y="2350"/>
                </a:lnTo>
                <a:lnTo>
                  <a:pt x="635" y="2350"/>
                </a:lnTo>
                <a:lnTo>
                  <a:pt x="635" y="2315"/>
                </a:lnTo>
                <a:lnTo>
                  <a:pt x="599" y="2315"/>
                </a:lnTo>
                <a:lnTo>
                  <a:pt x="599" y="2279"/>
                </a:lnTo>
                <a:lnTo>
                  <a:pt x="564" y="2279"/>
                </a:lnTo>
                <a:lnTo>
                  <a:pt x="564" y="2248"/>
                </a:lnTo>
                <a:lnTo>
                  <a:pt x="533" y="2248"/>
                </a:lnTo>
                <a:lnTo>
                  <a:pt x="533" y="2213"/>
                </a:lnTo>
                <a:lnTo>
                  <a:pt x="498" y="2213"/>
                </a:lnTo>
                <a:lnTo>
                  <a:pt x="498" y="2182"/>
                </a:lnTo>
                <a:lnTo>
                  <a:pt x="467" y="2147"/>
                </a:lnTo>
                <a:lnTo>
                  <a:pt x="432" y="2147"/>
                </a:lnTo>
                <a:lnTo>
                  <a:pt x="432" y="2112"/>
                </a:lnTo>
                <a:lnTo>
                  <a:pt x="401" y="2112"/>
                </a:lnTo>
                <a:lnTo>
                  <a:pt x="401" y="2081"/>
                </a:lnTo>
                <a:lnTo>
                  <a:pt x="366" y="2081"/>
                </a:lnTo>
                <a:lnTo>
                  <a:pt x="330" y="2046"/>
                </a:lnTo>
                <a:lnTo>
                  <a:pt x="299" y="2015"/>
                </a:lnTo>
                <a:lnTo>
                  <a:pt x="299" y="1979"/>
                </a:lnTo>
                <a:lnTo>
                  <a:pt x="264" y="1979"/>
                </a:lnTo>
                <a:lnTo>
                  <a:pt x="264" y="1944"/>
                </a:lnTo>
                <a:lnTo>
                  <a:pt x="233" y="1944"/>
                </a:lnTo>
                <a:lnTo>
                  <a:pt x="198" y="1913"/>
                </a:lnTo>
                <a:lnTo>
                  <a:pt x="167" y="1878"/>
                </a:lnTo>
                <a:lnTo>
                  <a:pt x="167" y="1847"/>
                </a:lnTo>
                <a:lnTo>
                  <a:pt x="132" y="1847"/>
                </a:lnTo>
                <a:lnTo>
                  <a:pt x="132" y="1812"/>
                </a:lnTo>
                <a:lnTo>
                  <a:pt x="101" y="1812"/>
                </a:lnTo>
                <a:lnTo>
                  <a:pt x="101" y="1777"/>
                </a:lnTo>
                <a:lnTo>
                  <a:pt x="101" y="1746"/>
                </a:lnTo>
                <a:lnTo>
                  <a:pt x="66" y="1746"/>
                </a:lnTo>
                <a:lnTo>
                  <a:pt x="66" y="1710"/>
                </a:lnTo>
                <a:lnTo>
                  <a:pt x="66" y="1680"/>
                </a:lnTo>
                <a:lnTo>
                  <a:pt x="30" y="1680"/>
                </a:lnTo>
                <a:lnTo>
                  <a:pt x="30" y="1644"/>
                </a:lnTo>
                <a:lnTo>
                  <a:pt x="0" y="1609"/>
                </a:lnTo>
                <a:lnTo>
                  <a:pt x="0" y="1578"/>
                </a:lnTo>
                <a:lnTo>
                  <a:pt x="0" y="1543"/>
                </a:lnTo>
                <a:lnTo>
                  <a:pt x="0" y="1508"/>
                </a:lnTo>
                <a:lnTo>
                  <a:pt x="0" y="1477"/>
                </a:lnTo>
                <a:lnTo>
                  <a:pt x="0" y="1441"/>
                </a:lnTo>
                <a:lnTo>
                  <a:pt x="30" y="1441"/>
                </a:lnTo>
                <a:lnTo>
                  <a:pt x="30" y="1411"/>
                </a:lnTo>
                <a:lnTo>
                  <a:pt x="66" y="1375"/>
                </a:lnTo>
                <a:lnTo>
                  <a:pt x="66" y="1340"/>
                </a:lnTo>
                <a:lnTo>
                  <a:pt x="101" y="1340"/>
                </a:lnTo>
                <a:lnTo>
                  <a:pt x="101" y="1309"/>
                </a:lnTo>
                <a:lnTo>
                  <a:pt x="101" y="1274"/>
                </a:lnTo>
                <a:lnTo>
                  <a:pt x="132" y="1243"/>
                </a:lnTo>
                <a:lnTo>
                  <a:pt x="132" y="1208"/>
                </a:lnTo>
                <a:lnTo>
                  <a:pt x="167" y="1208"/>
                </a:lnTo>
                <a:lnTo>
                  <a:pt x="167" y="1172"/>
                </a:lnTo>
                <a:lnTo>
                  <a:pt x="198" y="1172"/>
                </a:lnTo>
                <a:lnTo>
                  <a:pt x="198" y="1142"/>
                </a:lnTo>
                <a:lnTo>
                  <a:pt x="233" y="1106"/>
                </a:lnTo>
                <a:lnTo>
                  <a:pt x="264" y="1106"/>
                </a:lnTo>
                <a:lnTo>
                  <a:pt x="299" y="1075"/>
                </a:lnTo>
                <a:lnTo>
                  <a:pt x="330" y="1040"/>
                </a:lnTo>
                <a:lnTo>
                  <a:pt x="366" y="1005"/>
                </a:lnTo>
                <a:lnTo>
                  <a:pt x="401" y="974"/>
                </a:lnTo>
                <a:lnTo>
                  <a:pt x="401" y="939"/>
                </a:lnTo>
                <a:lnTo>
                  <a:pt x="432" y="903"/>
                </a:lnTo>
                <a:lnTo>
                  <a:pt x="467" y="903"/>
                </a:lnTo>
                <a:lnTo>
                  <a:pt x="498" y="873"/>
                </a:lnTo>
                <a:lnTo>
                  <a:pt x="533" y="837"/>
                </a:lnTo>
                <a:lnTo>
                  <a:pt x="599" y="806"/>
                </a:lnTo>
                <a:lnTo>
                  <a:pt x="599" y="771"/>
                </a:lnTo>
                <a:lnTo>
                  <a:pt x="665" y="736"/>
                </a:lnTo>
                <a:lnTo>
                  <a:pt x="701" y="705"/>
                </a:lnTo>
                <a:lnTo>
                  <a:pt x="732" y="639"/>
                </a:lnTo>
                <a:lnTo>
                  <a:pt x="768" y="604"/>
                </a:lnTo>
                <a:lnTo>
                  <a:pt x="799" y="604"/>
                </a:lnTo>
                <a:lnTo>
                  <a:pt x="799" y="568"/>
                </a:lnTo>
                <a:lnTo>
                  <a:pt x="834" y="537"/>
                </a:lnTo>
                <a:lnTo>
                  <a:pt x="865" y="502"/>
                </a:lnTo>
                <a:lnTo>
                  <a:pt x="900" y="471"/>
                </a:lnTo>
                <a:lnTo>
                  <a:pt x="935" y="436"/>
                </a:lnTo>
                <a:lnTo>
                  <a:pt x="935" y="401"/>
                </a:lnTo>
                <a:lnTo>
                  <a:pt x="966" y="401"/>
                </a:lnTo>
                <a:lnTo>
                  <a:pt x="966" y="370"/>
                </a:lnTo>
                <a:lnTo>
                  <a:pt x="1002" y="370"/>
                </a:lnTo>
                <a:lnTo>
                  <a:pt x="1032" y="370"/>
                </a:lnTo>
                <a:lnTo>
                  <a:pt x="1032" y="335"/>
                </a:lnTo>
                <a:lnTo>
                  <a:pt x="1068" y="299"/>
                </a:lnTo>
                <a:lnTo>
                  <a:pt x="1099" y="268"/>
                </a:lnTo>
                <a:lnTo>
                  <a:pt x="1134" y="268"/>
                </a:lnTo>
                <a:lnTo>
                  <a:pt x="1200" y="202"/>
                </a:lnTo>
                <a:lnTo>
                  <a:pt x="1235" y="167"/>
                </a:lnTo>
                <a:lnTo>
                  <a:pt x="1266" y="167"/>
                </a:lnTo>
                <a:lnTo>
                  <a:pt x="1266" y="132"/>
                </a:lnTo>
                <a:lnTo>
                  <a:pt x="1301" y="132"/>
                </a:lnTo>
                <a:lnTo>
                  <a:pt x="1301" y="101"/>
                </a:lnTo>
                <a:lnTo>
                  <a:pt x="1332" y="101"/>
                </a:lnTo>
                <a:lnTo>
                  <a:pt x="1368" y="101"/>
                </a:lnTo>
                <a:lnTo>
                  <a:pt x="1368" y="66"/>
                </a:lnTo>
                <a:lnTo>
                  <a:pt x="1398" y="66"/>
                </a:lnTo>
                <a:lnTo>
                  <a:pt x="1434" y="66"/>
                </a:lnTo>
                <a:lnTo>
                  <a:pt x="1434" y="35"/>
                </a:lnTo>
                <a:lnTo>
                  <a:pt x="1469" y="35"/>
                </a:lnTo>
                <a:lnTo>
                  <a:pt x="1469" y="0"/>
                </a:lnTo>
                <a:lnTo>
                  <a:pt x="150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14680" y="546120"/>
            <a:ext cx="3645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14680" y="546120"/>
            <a:ext cx="3657960" cy="1791000"/>
          </a:xfrm>
          <a:custGeom>
            <a:avLst/>
            <a:gdLst/>
            <a:ahLst/>
            <a:rect l="0" t="0" r="r" b="b"/>
            <a:pathLst>
              <a:path fill="none" w="10161" h="4975">
                <a:moveTo>
                  <a:pt x="0" y="0"/>
                </a:moveTo>
                <a:lnTo>
                  <a:pt x="10161" y="0"/>
                </a:lnTo>
                <a:lnTo>
                  <a:pt x="10161" y="4975"/>
                </a:lnTo>
                <a:lnTo>
                  <a:pt x="0" y="49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14680" y="2336760"/>
            <a:ext cx="3645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14680" y="2336760"/>
            <a:ext cx="3657960" cy="1791000"/>
          </a:xfrm>
          <a:custGeom>
            <a:avLst/>
            <a:gdLst/>
            <a:ahLst/>
            <a:rect l="0" t="0" r="r" b="b"/>
            <a:pathLst>
              <a:path fill="none" w="10161" h="4975">
                <a:moveTo>
                  <a:pt x="0" y="0"/>
                </a:moveTo>
                <a:lnTo>
                  <a:pt x="10161" y="0"/>
                </a:lnTo>
                <a:lnTo>
                  <a:pt x="10161" y="4975"/>
                </a:lnTo>
                <a:lnTo>
                  <a:pt x="0" y="49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14680" y="4127400"/>
            <a:ext cx="3645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14680" y="4127400"/>
            <a:ext cx="3657960" cy="1791000"/>
          </a:xfrm>
          <a:custGeom>
            <a:avLst/>
            <a:gdLst/>
            <a:ahLst/>
            <a:rect l="0" t="0" r="r" b="b"/>
            <a:pathLst>
              <a:path fill="none" w="10161" h="4975">
                <a:moveTo>
                  <a:pt x="0" y="0"/>
                </a:moveTo>
                <a:lnTo>
                  <a:pt x="10161" y="0"/>
                </a:lnTo>
                <a:lnTo>
                  <a:pt x="10161" y="4975"/>
                </a:lnTo>
                <a:lnTo>
                  <a:pt x="0" y="49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14680" y="5905440"/>
            <a:ext cx="364500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14680" y="5924520"/>
            <a:ext cx="3657960" cy="1778400"/>
          </a:xfrm>
          <a:custGeom>
            <a:avLst/>
            <a:gdLst/>
            <a:ahLst/>
            <a:rect l="0" t="0" r="r" b="b"/>
            <a:pathLst>
              <a:path fill="none" w="10161" h="4940">
                <a:moveTo>
                  <a:pt x="0" y="0"/>
                </a:moveTo>
                <a:lnTo>
                  <a:pt x="10161" y="0"/>
                </a:lnTo>
                <a:lnTo>
                  <a:pt x="10161" y="4940"/>
                </a:lnTo>
                <a:lnTo>
                  <a:pt x="0" y="494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1560" y="825480"/>
            <a:ext cx="379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41560" y="110484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54160" y="1384200"/>
            <a:ext cx="343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28600" y="166356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1560" y="1943280"/>
            <a:ext cx="358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79360" y="2222640"/>
            <a:ext cx="282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41560" y="250200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41560" y="278136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28600" y="3340080"/>
            <a:ext cx="3682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28600" y="3619440"/>
            <a:ext cx="3682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03400" y="3898800"/>
            <a:ext cx="4190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41560" y="417816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41560" y="445788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1560" y="4737240"/>
            <a:ext cx="379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1560" y="5295960"/>
            <a:ext cx="384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41560" y="5575320"/>
            <a:ext cx="353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1560" y="6134040"/>
            <a:ext cx="3682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41560" y="6413400"/>
            <a:ext cx="363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54160" y="6692760"/>
            <a:ext cx="343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54160" y="6972120"/>
            <a:ext cx="3430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1560" y="7251840"/>
            <a:ext cx="349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65440" y="888840"/>
            <a:ext cx="3391200" cy="1410120"/>
          </a:xfrm>
          <a:custGeom>
            <a:avLst/>
            <a:gdLst/>
            <a:ahLst/>
            <a:rect l="0" t="0" r="r" b="b"/>
            <a:pathLst>
              <a:path fill="none" w="9420" h="3917">
                <a:moveTo>
                  <a:pt x="0" y="3882"/>
                </a:moveTo>
                <a:lnTo>
                  <a:pt x="35" y="3882"/>
                </a:lnTo>
                <a:lnTo>
                  <a:pt x="141" y="3882"/>
                </a:lnTo>
                <a:lnTo>
                  <a:pt x="211" y="3882"/>
                </a:lnTo>
                <a:lnTo>
                  <a:pt x="352" y="3882"/>
                </a:lnTo>
                <a:lnTo>
                  <a:pt x="458" y="3882"/>
                </a:lnTo>
                <a:lnTo>
                  <a:pt x="493" y="3882"/>
                </a:lnTo>
                <a:lnTo>
                  <a:pt x="529" y="3812"/>
                </a:lnTo>
                <a:lnTo>
                  <a:pt x="634" y="3812"/>
                </a:lnTo>
                <a:lnTo>
                  <a:pt x="670" y="3812"/>
                </a:lnTo>
                <a:lnTo>
                  <a:pt x="705" y="3812"/>
                </a:lnTo>
                <a:lnTo>
                  <a:pt x="776" y="3812"/>
                </a:lnTo>
                <a:lnTo>
                  <a:pt x="846" y="3812"/>
                </a:lnTo>
                <a:lnTo>
                  <a:pt x="881" y="3812"/>
                </a:lnTo>
                <a:lnTo>
                  <a:pt x="952" y="3776"/>
                </a:lnTo>
                <a:lnTo>
                  <a:pt x="1058" y="3776"/>
                </a:lnTo>
                <a:lnTo>
                  <a:pt x="1093" y="3776"/>
                </a:lnTo>
                <a:lnTo>
                  <a:pt x="1164" y="3741"/>
                </a:lnTo>
                <a:lnTo>
                  <a:pt x="1269" y="3670"/>
                </a:lnTo>
                <a:lnTo>
                  <a:pt x="1340" y="3670"/>
                </a:lnTo>
                <a:lnTo>
                  <a:pt x="1375" y="3670"/>
                </a:lnTo>
                <a:lnTo>
                  <a:pt x="1446" y="3670"/>
                </a:lnTo>
                <a:lnTo>
                  <a:pt x="1481" y="3670"/>
                </a:lnTo>
                <a:lnTo>
                  <a:pt x="1552" y="3670"/>
                </a:lnTo>
                <a:lnTo>
                  <a:pt x="1622" y="3670"/>
                </a:lnTo>
                <a:lnTo>
                  <a:pt x="1622" y="3635"/>
                </a:lnTo>
                <a:lnTo>
                  <a:pt x="1658" y="3635"/>
                </a:lnTo>
                <a:lnTo>
                  <a:pt x="1728" y="3635"/>
                </a:lnTo>
                <a:lnTo>
                  <a:pt x="1763" y="3635"/>
                </a:lnTo>
                <a:lnTo>
                  <a:pt x="1799" y="3635"/>
                </a:lnTo>
                <a:lnTo>
                  <a:pt x="1799" y="3600"/>
                </a:lnTo>
                <a:lnTo>
                  <a:pt x="1869" y="3600"/>
                </a:lnTo>
                <a:lnTo>
                  <a:pt x="1940" y="3600"/>
                </a:lnTo>
                <a:lnTo>
                  <a:pt x="1975" y="3600"/>
                </a:lnTo>
                <a:lnTo>
                  <a:pt x="2046" y="3600"/>
                </a:lnTo>
                <a:lnTo>
                  <a:pt x="2116" y="3600"/>
                </a:lnTo>
                <a:lnTo>
                  <a:pt x="2151" y="3600"/>
                </a:lnTo>
                <a:lnTo>
                  <a:pt x="2187" y="3600"/>
                </a:lnTo>
                <a:lnTo>
                  <a:pt x="2293" y="3600"/>
                </a:lnTo>
                <a:lnTo>
                  <a:pt x="2328" y="3529"/>
                </a:lnTo>
                <a:lnTo>
                  <a:pt x="2363" y="3529"/>
                </a:lnTo>
                <a:lnTo>
                  <a:pt x="2469" y="3529"/>
                </a:lnTo>
                <a:lnTo>
                  <a:pt x="2504" y="3529"/>
                </a:lnTo>
                <a:lnTo>
                  <a:pt x="2610" y="3529"/>
                </a:lnTo>
                <a:lnTo>
                  <a:pt x="2645" y="3529"/>
                </a:lnTo>
                <a:lnTo>
                  <a:pt x="2786" y="3529"/>
                </a:lnTo>
                <a:lnTo>
                  <a:pt x="2786" y="3494"/>
                </a:lnTo>
                <a:lnTo>
                  <a:pt x="2822" y="3494"/>
                </a:lnTo>
                <a:lnTo>
                  <a:pt x="2857" y="3494"/>
                </a:lnTo>
                <a:lnTo>
                  <a:pt x="2963" y="3494"/>
                </a:lnTo>
                <a:lnTo>
                  <a:pt x="3033" y="3494"/>
                </a:lnTo>
                <a:lnTo>
                  <a:pt x="3033" y="3459"/>
                </a:lnTo>
                <a:lnTo>
                  <a:pt x="3174" y="3459"/>
                </a:lnTo>
                <a:lnTo>
                  <a:pt x="3316" y="3388"/>
                </a:lnTo>
                <a:lnTo>
                  <a:pt x="3351" y="3388"/>
                </a:lnTo>
                <a:lnTo>
                  <a:pt x="3457" y="3388"/>
                </a:lnTo>
                <a:lnTo>
                  <a:pt x="3492" y="3388"/>
                </a:lnTo>
                <a:lnTo>
                  <a:pt x="3492" y="3353"/>
                </a:lnTo>
                <a:lnTo>
                  <a:pt x="3527" y="3353"/>
                </a:lnTo>
                <a:lnTo>
                  <a:pt x="3598" y="3353"/>
                </a:lnTo>
                <a:lnTo>
                  <a:pt x="3598" y="3318"/>
                </a:lnTo>
                <a:lnTo>
                  <a:pt x="3668" y="3318"/>
                </a:lnTo>
                <a:lnTo>
                  <a:pt x="3704" y="3318"/>
                </a:lnTo>
                <a:lnTo>
                  <a:pt x="3704" y="3247"/>
                </a:lnTo>
                <a:lnTo>
                  <a:pt x="3774" y="3212"/>
                </a:lnTo>
                <a:lnTo>
                  <a:pt x="3845" y="3212"/>
                </a:lnTo>
                <a:lnTo>
                  <a:pt x="3845" y="3177"/>
                </a:lnTo>
                <a:lnTo>
                  <a:pt x="3880" y="3177"/>
                </a:lnTo>
                <a:lnTo>
                  <a:pt x="3880" y="3106"/>
                </a:lnTo>
                <a:lnTo>
                  <a:pt x="3915" y="3106"/>
                </a:lnTo>
                <a:lnTo>
                  <a:pt x="3915" y="3071"/>
                </a:lnTo>
                <a:lnTo>
                  <a:pt x="3986" y="3071"/>
                </a:lnTo>
                <a:lnTo>
                  <a:pt x="4021" y="3035"/>
                </a:lnTo>
                <a:lnTo>
                  <a:pt x="4021" y="2929"/>
                </a:lnTo>
                <a:lnTo>
                  <a:pt x="4021" y="2893"/>
                </a:lnTo>
                <a:lnTo>
                  <a:pt x="4021" y="2823"/>
                </a:lnTo>
                <a:lnTo>
                  <a:pt x="4092" y="2787"/>
                </a:lnTo>
                <a:lnTo>
                  <a:pt x="4092" y="2752"/>
                </a:lnTo>
                <a:lnTo>
                  <a:pt x="4092" y="2682"/>
                </a:lnTo>
                <a:lnTo>
                  <a:pt x="4162" y="2682"/>
                </a:lnTo>
                <a:lnTo>
                  <a:pt x="4162" y="2646"/>
                </a:lnTo>
                <a:lnTo>
                  <a:pt x="4198" y="2611"/>
                </a:lnTo>
                <a:lnTo>
                  <a:pt x="4198" y="2541"/>
                </a:lnTo>
                <a:lnTo>
                  <a:pt x="4198" y="2505"/>
                </a:lnTo>
                <a:lnTo>
                  <a:pt x="4268" y="2470"/>
                </a:lnTo>
                <a:lnTo>
                  <a:pt x="4268" y="2399"/>
                </a:lnTo>
                <a:lnTo>
                  <a:pt x="4268" y="2364"/>
                </a:lnTo>
                <a:lnTo>
                  <a:pt x="4268" y="2329"/>
                </a:lnTo>
                <a:lnTo>
                  <a:pt x="4268" y="2258"/>
                </a:lnTo>
                <a:lnTo>
                  <a:pt x="4268" y="2223"/>
                </a:lnTo>
                <a:lnTo>
                  <a:pt x="4303" y="2223"/>
                </a:lnTo>
                <a:lnTo>
                  <a:pt x="4303" y="2188"/>
                </a:lnTo>
                <a:lnTo>
                  <a:pt x="4303" y="2082"/>
                </a:lnTo>
                <a:lnTo>
                  <a:pt x="4374" y="2047"/>
                </a:lnTo>
                <a:lnTo>
                  <a:pt x="4374" y="1976"/>
                </a:lnTo>
                <a:lnTo>
                  <a:pt x="4374" y="1906"/>
                </a:lnTo>
                <a:lnTo>
                  <a:pt x="4444" y="1800"/>
                </a:lnTo>
                <a:lnTo>
                  <a:pt x="4480" y="1694"/>
                </a:lnTo>
                <a:lnTo>
                  <a:pt x="4480" y="1623"/>
                </a:lnTo>
                <a:lnTo>
                  <a:pt x="4550" y="1553"/>
                </a:lnTo>
                <a:lnTo>
                  <a:pt x="4586" y="1517"/>
                </a:lnTo>
                <a:lnTo>
                  <a:pt x="4586" y="1482"/>
                </a:lnTo>
                <a:lnTo>
                  <a:pt x="4621" y="1376"/>
                </a:lnTo>
                <a:lnTo>
                  <a:pt x="4691" y="1271"/>
                </a:lnTo>
                <a:lnTo>
                  <a:pt x="4763" y="1235"/>
                </a:lnTo>
                <a:lnTo>
                  <a:pt x="4763" y="1200"/>
                </a:lnTo>
                <a:lnTo>
                  <a:pt x="4798" y="1094"/>
                </a:lnTo>
                <a:lnTo>
                  <a:pt x="4869" y="1059"/>
                </a:lnTo>
                <a:lnTo>
                  <a:pt x="4869" y="952"/>
                </a:lnTo>
                <a:lnTo>
                  <a:pt x="4939" y="917"/>
                </a:lnTo>
                <a:lnTo>
                  <a:pt x="4939" y="846"/>
                </a:lnTo>
                <a:lnTo>
                  <a:pt x="4975" y="811"/>
                </a:lnTo>
                <a:lnTo>
                  <a:pt x="5010" y="776"/>
                </a:lnTo>
                <a:lnTo>
                  <a:pt x="5010" y="705"/>
                </a:lnTo>
                <a:lnTo>
                  <a:pt x="5116" y="670"/>
                </a:lnTo>
                <a:lnTo>
                  <a:pt x="5116" y="635"/>
                </a:lnTo>
                <a:lnTo>
                  <a:pt x="5116" y="564"/>
                </a:lnTo>
                <a:lnTo>
                  <a:pt x="5151" y="529"/>
                </a:lnTo>
                <a:lnTo>
                  <a:pt x="5151" y="493"/>
                </a:lnTo>
                <a:lnTo>
                  <a:pt x="5186" y="493"/>
                </a:lnTo>
                <a:lnTo>
                  <a:pt x="5186" y="423"/>
                </a:lnTo>
                <a:lnTo>
                  <a:pt x="5186" y="388"/>
                </a:lnTo>
                <a:lnTo>
                  <a:pt x="5292" y="388"/>
                </a:lnTo>
                <a:lnTo>
                  <a:pt x="5292" y="352"/>
                </a:lnTo>
                <a:lnTo>
                  <a:pt x="5292" y="282"/>
                </a:lnTo>
                <a:lnTo>
                  <a:pt x="5292" y="246"/>
                </a:lnTo>
                <a:lnTo>
                  <a:pt x="5292" y="211"/>
                </a:lnTo>
                <a:lnTo>
                  <a:pt x="5292" y="141"/>
                </a:lnTo>
                <a:lnTo>
                  <a:pt x="5327" y="141"/>
                </a:lnTo>
                <a:lnTo>
                  <a:pt x="5327" y="105"/>
                </a:lnTo>
                <a:lnTo>
                  <a:pt x="5327" y="70"/>
                </a:lnTo>
                <a:lnTo>
                  <a:pt x="5433" y="70"/>
                </a:lnTo>
                <a:lnTo>
                  <a:pt x="5469" y="70"/>
                </a:lnTo>
                <a:lnTo>
                  <a:pt x="5469" y="0"/>
                </a:lnTo>
                <a:lnTo>
                  <a:pt x="5504" y="0"/>
                </a:lnTo>
                <a:lnTo>
                  <a:pt x="5610" y="0"/>
                </a:lnTo>
                <a:lnTo>
                  <a:pt x="5645" y="0"/>
                </a:lnTo>
                <a:lnTo>
                  <a:pt x="5680" y="0"/>
                </a:lnTo>
                <a:lnTo>
                  <a:pt x="5786" y="0"/>
                </a:lnTo>
                <a:lnTo>
                  <a:pt x="5821" y="0"/>
                </a:lnTo>
                <a:lnTo>
                  <a:pt x="5857" y="0"/>
                </a:lnTo>
                <a:lnTo>
                  <a:pt x="5857" y="70"/>
                </a:lnTo>
                <a:lnTo>
                  <a:pt x="5998" y="70"/>
                </a:lnTo>
                <a:lnTo>
                  <a:pt x="5998" y="105"/>
                </a:lnTo>
                <a:lnTo>
                  <a:pt x="6104" y="105"/>
                </a:lnTo>
                <a:lnTo>
                  <a:pt x="6139" y="141"/>
                </a:lnTo>
                <a:lnTo>
                  <a:pt x="6139" y="211"/>
                </a:lnTo>
                <a:lnTo>
                  <a:pt x="6174" y="246"/>
                </a:lnTo>
                <a:lnTo>
                  <a:pt x="6174" y="282"/>
                </a:lnTo>
                <a:lnTo>
                  <a:pt x="6280" y="352"/>
                </a:lnTo>
                <a:lnTo>
                  <a:pt x="6280" y="388"/>
                </a:lnTo>
                <a:lnTo>
                  <a:pt x="6280" y="423"/>
                </a:lnTo>
                <a:lnTo>
                  <a:pt x="6315" y="423"/>
                </a:lnTo>
                <a:lnTo>
                  <a:pt x="6315" y="493"/>
                </a:lnTo>
                <a:lnTo>
                  <a:pt x="6351" y="493"/>
                </a:lnTo>
                <a:lnTo>
                  <a:pt x="6351" y="564"/>
                </a:lnTo>
                <a:lnTo>
                  <a:pt x="6421" y="564"/>
                </a:lnTo>
                <a:lnTo>
                  <a:pt x="6421" y="670"/>
                </a:lnTo>
                <a:lnTo>
                  <a:pt x="6492" y="705"/>
                </a:lnTo>
                <a:lnTo>
                  <a:pt x="6492" y="776"/>
                </a:lnTo>
                <a:lnTo>
                  <a:pt x="6527" y="952"/>
                </a:lnTo>
                <a:lnTo>
                  <a:pt x="6527" y="1094"/>
                </a:lnTo>
                <a:lnTo>
                  <a:pt x="6527" y="1129"/>
                </a:lnTo>
                <a:lnTo>
                  <a:pt x="6597" y="1129"/>
                </a:lnTo>
                <a:lnTo>
                  <a:pt x="6597" y="1200"/>
                </a:lnTo>
                <a:lnTo>
                  <a:pt x="6597" y="1235"/>
                </a:lnTo>
                <a:lnTo>
                  <a:pt x="6597" y="1271"/>
                </a:lnTo>
                <a:lnTo>
                  <a:pt x="6668" y="1341"/>
                </a:lnTo>
                <a:lnTo>
                  <a:pt x="6668" y="1412"/>
                </a:lnTo>
                <a:lnTo>
                  <a:pt x="6703" y="1517"/>
                </a:lnTo>
                <a:lnTo>
                  <a:pt x="6739" y="1553"/>
                </a:lnTo>
                <a:lnTo>
                  <a:pt x="6739" y="1623"/>
                </a:lnTo>
                <a:lnTo>
                  <a:pt x="6809" y="1659"/>
                </a:lnTo>
                <a:lnTo>
                  <a:pt x="6809" y="1694"/>
                </a:lnTo>
                <a:lnTo>
                  <a:pt x="6809" y="1764"/>
                </a:lnTo>
                <a:lnTo>
                  <a:pt x="6844" y="1764"/>
                </a:lnTo>
                <a:lnTo>
                  <a:pt x="6844" y="1835"/>
                </a:lnTo>
                <a:lnTo>
                  <a:pt x="6915" y="1835"/>
                </a:lnTo>
                <a:lnTo>
                  <a:pt x="6915" y="1941"/>
                </a:lnTo>
                <a:lnTo>
                  <a:pt x="6915" y="1976"/>
                </a:lnTo>
                <a:lnTo>
                  <a:pt x="6986" y="2047"/>
                </a:lnTo>
                <a:lnTo>
                  <a:pt x="6986" y="2082"/>
                </a:lnTo>
                <a:lnTo>
                  <a:pt x="6986" y="2117"/>
                </a:lnTo>
                <a:lnTo>
                  <a:pt x="6986" y="2188"/>
                </a:lnTo>
                <a:lnTo>
                  <a:pt x="6986" y="2223"/>
                </a:lnTo>
                <a:lnTo>
                  <a:pt x="7021" y="2258"/>
                </a:lnTo>
                <a:lnTo>
                  <a:pt x="7021" y="2329"/>
                </a:lnTo>
                <a:lnTo>
                  <a:pt x="7021" y="2364"/>
                </a:lnTo>
                <a:lnTo>
                  <a:pt x="7021" y="2399"/>
                </a:lnTo>
                <a:lnTo>
                  <a:pt x="7091" y="2399"/>
                </a:lnTo>
                <a:lnTo>
                  <a:pt x="7091" y="2470"/>
                </a:lnTo>
                <a:lnTo>
                  <a:pt x="7091" y="2505"/>
                </a:lnTo>
                <a:lnTo>
                  <a:pt x="7091" y="2541"/>
                </a:lnTo>
                <a:lnTo>
                  <a:pt x="7127" y="2611"/>
                </a:lnTo>
                <a:lnTo>
                  <a:pt x="7127" y="2646"/>
                </a:lnTo>
                <a:lnTo>
                  <a:pt x="7127" y="2682"/>
                </a:lnTo>
                <a:lnTo>
                  <a:pt x="7197" y="2682"/>
                </a:lnTo>
                <a:lnTo>
                  <a:pt x="7197" y="2752"/>
                </a:lnTo>
                <a:lnTo>
                  <a:pt x="7268" y="2787"/>
                </a:lnTo>
                <a:lnTo>
                  <a:pt x="7268" y="2823"/>
                </a:lnTo>
                <a:lnTo>
                  <a:pt x="7303" y="2893"/>
                </a:lnTo>
                <a:lnTo>
                  <a:pt x="7303" y="2929"/>
                </a:lnTo>
                <a:lnTo>
                  <a:pt x="7374" y="2965"/>
                </a:lnTo>
                <a:lnTo>
                  <a:pt x="7409" y="2965"/>
                </a:lnTo>
                <a:lnTo>
                  <a:pt x="7444" y="3035"/>
                </a:lnTo>
                <a:lnTo>
                  <a:pt x="7444" y="3071"/>
                </a:lnTo>
                <a:lnTo>
                  <a:pt x="7515" y="3071"/>
                </a:lnTo>
                <a:lnTo>
                  <a:pt x="7585" y="3071"/>
                </a:lnTo>
                <a:lnTo>
                  <a:pt x="7621" y="3106"/>
                </a:lnTo>
                <a:lnTo>
                  <a:pt x="7691" y="3177"/>
                </a:lnTo>
                <a:lnTo>
                  <a:pt x="7691" y="3212"/>
                </a:lnTo>
                <a:lnTo>
                  <a:pt x="7762" y="3212"/>
                </a:lnTo>
                <a:lnTo>
                  <a:pt x="7797" y="3212"/>
                </a:lnTo>
                <a:lnTo>
                  <a:pt x="7797" y="3247"/>
                </a:lnTo>
                <a:lnTo>
                  <a:pt x="7832" y="3247"/>
                </a:lnTo>
                <a:lnTo>
                  <a:pt x="7938" y="3247"/>
                </a:lnTo>
                <a:lnTo>
                  <a:pt x="7938" y="3318"/>
                </a:lnTo>
                <a:lnTo>
                  <a:pt x="7973" y="3318"/>
                </a:lnTo>
                <a:lnTo>
                  <a:pt x="7973" y="3353"/>
                </a:lnTo>
                <a:lnTo>
                  <a:pt x="8009" y="3353"/>
                </a:lnTo>
                <a:lnTo>
                  <a:pt x="8114" y="3388"/>
                </a:lnTo>
                <a:lnTo>
                  <a:pt x="8150" y="3388"/>
                </a:lnTo>
                <a:lnTo>
                  <a:pt x="8291" y="3459"/>
                </a:lnTo>
                <a:lnTo>
                  <a:pt x="8326" y="3459"/>
                </a:lnTo>
                <a:lnTo>
                  <a:pt x="8326" y="3494"/>
                </a:lnTo>
                <a:lnTo>
                  <a:pt x="8432" y="3494"/>
                </a:lnTo>
                <a:lnTo>
                  <a:pt x="8502" y="3529"/>
                </a:lnTo>
                <a:lnTo>
                  <a:pt x="8608" y="3529"/>
                </a:lnTo>
                <a:lnTo>
                  <a:pt x="8644" y="3529"/>
                </a:lnTo>
                <a:lnTo>
                  <a:pt x="8785" y="3635"/>
                </a:lnTo>
                <a:lnTo>
                  <a:pt x="8820" y="3635"/>
                </a:lnTo>
                <a:lnTo>
                  <a:pt x="8926" y="3635"/>
                </a:lnTo>
                <a:lnTo>
                  <a:pt x="8926" y="3670"/>
                </a:lnTo>
                <a:lnTo>
                  <a:pt x="8961" y="3670"/>
                </a:lnTo>
                <a:lnTo>
                  <a:pt x="8996" y="3670"/>
                </a:lnTo>
                <a:lnTo>
                  <a:pt x="9102" y="3670"/>
                </a:lnTo>
                <a:lnTo>
                  <a:pt x="9102" y="3741"/>
                </a:lnTo>
                <a:lnTo>
                  <a:pt x="9137" y="3776"/>
                </a:lnTo>
                <a:lnTo>
                  <a:pt x="9173" y="3776"/>
                </a:lnTo>
                <a:lnTo>
                  <a:pt x="9173" y="3812"/>
                </a:lnTo>
                <a:lnTo>
                  <a:pt x="9243" y="3812"/>
                </a:lnTo>
                <a:lnTo>
                  <a:pt x="9314" y="3812"/>
                </a:lnTo>
                <a:lnTo>
                  <a:pt x="9314" y="3882"/>
                </a:lnTo>
                <a:lnTo>
                  <a:pt x="9349" y="3882"/>
                </a:lnTo>
                <a:lnTo>
                  <a:pt x="9349" y="3917"/>
                </a:lnTo>
                <a:lnTo>
                  <a:pt x="9420" y="391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03240" y="2768760"/>
            <a:ext cx="3061080" cy="1346400"/>
          </a:xfrm>
          <a:custGeom>
            <a:avLst/>
            <a:gdLst/>
            <a:ahLst/>
            <a:rect l="0" t="0" r="r" b="b"/>
            <a:pathLst>
              <a:path fill="none" w="8503" h="3740">
                <a:moveTo>
                  <a:pt x="0" y="3634"/>
                </a:moveTo>
                <a:lnTo>
                  <a:pt x="176" y="3599"/>
                </a:lnTo>
                <a:lnTo>
                  <a:pt x="211" y="3599"/>
                </a:lnTo>
                <a:lnTo>
                  <a:pt x="282" y="3528"/>
                </a:lnTo>
                <a:lnTo>
                  <a:pt x="352" y="3528"/>
                </a:lnTo>
                <a:lnTo>
                  <a:pt x="388" y="3528"/>
                </a:lnTo>
                <a:lnTo>
                  <a:pt x="458" y="3493"/>
                </a:lnTo>
                <a:lnTo>
                  <a:pt x="493" y="3458"/>
                </a:lnTo>
                <a:lnTo>
                  <a:pt x="564" y="3458"/>
                </a:lnTo>
                <a:lnTo>
                  <a:pt x="564" y="3387"/>
                </a:lnTo>
                <a:lnTo>
                  <a:pt x="635" y="3387"/>
                </a:lnTo>
                <a:lnTo>
                  <a:pt x="635" y="3352"/>
                </a:lnTo>
                <a:lnTo>
                  <a:pt x="670" y="3352"/>
                </a:lnTo>
                <a:lnTo>
                  <a:pt x="670" y="3317"/>
                </a:lnTo>
                <a:lnTo>
                  <a:pt x="705" y="3317"/>
                </a:lnTo>
                <a:lnTo>
                  <a:pt x="811" y="3246"/>
                </a:lnTo>
                <a:lnTo>
                  <a:pt x="846" y="3211"/>
                </a:lnTo>
                <a:lnTo>
                  <a:pt x="881" y="3176"/>
                </a:lnTo>
                <a:lnTo>
                  <a:pt x="881" y="3105"/>
                </a:lnTo>
                <a:lnTo>
                  <a:pt x="987" y="3105"/>
                </a:lnTo>
                <a:lnTo>
                  <a:pt x="1023" y="3070"/>
                </a:lnTo>
                <a:lnTo>
                  <a:pt x="1058" y="3070"/>
                </a:lnTo>
                <a:lnTo>
                  <a:pt x="1058" y="3034"/>
                </a:lnTo>
                <a:lnTo>
                  <a:pt x="1128" y="3034"/>
                </a:lnTo>
                <a:lnTo>
                  <a:pt x="1199" y="3034"/>
                </a:lnTo>
                <a:lnTo>
                  <a:pt x="1199" y="2964"/>
                </a:lnTo>
                <a:lnTo>
                  <a:pt x="1234" y="2964"/>
                </a:lnTo>
                <a:lnTo>
                  <a:pt x="1305" y="2964"/>
                </a:lnTo>
                <a:lnTo>
                  <a:pt x="1305" y="2929"/>
                </a:lnTo>
                <a:lnTo>
                  <a:pt x="1340" y="2929"/>
                </a:lnTo>
                <a:lnTo>
                  <a:pt x="1411" y="2929"/>
                </a:lnTo>
                <a:lnTo>
                  <a:pt x="1411" y="2893"/>
                </a:lnTo>
                <a:lnTo>
                  <a:pt x="1481" y="2823"/>
                </a:lnTo>
                <a:lnTo>
                  <a:pt x="1481" y="2787"/>
                </a:lnTo>
                <a:lnTo>
                  <a:pt x="1516" y="2787"/>
                </a:lnTo>
                <a:lnTo>
                  <a:pt x="1552" y="2752"/>
                </a:lnTo>
                <a:lnTo>
                  <a:pt x="1552" y="2682"/>
                </a:lnTo>
                <a:lnTo>
                  <a:pt x="1658" y="2682"/>
                </a:lnTo>
                <a:lnTo>
                  <a:pt x="1658" y="2646"/>
                </a:lnTo>
                <a:lnTo>
                  <a:pt x="1693" y="2611"/>
                </a:lnTo>
                <a:lnTo>
                  <a:pt x="1728" y="2611"/>
                </a:lnTo>
                <a:lnTo>
                  <a:pt x="1834" y="2541"/>
                </a:lnTo>
                <a:lnTo>
                  <a:pt x="1869" y="2505"/>
                </a:lnTo>
                <a:lnTo>
                  <a:pt x="1905" y="2470"/>
                </a:lnTo>
                <a:lnTo>
                  <a:pt x="1975" y="2470"/>
                </a:lnTo>
                <a:lnTo>
                  <a:pt x="2046" y="2399"/>
                </a:lnTo>
                <a:lnTo>
                  <a:pt x="2081" y="2399"/>
                </a:lnTo>
                <a:lnTo>
                  <a:pt x="2081" y="2364"/>
                </a:lnTo>
                <a:lnTo>
                  <a:pt x="2152" y="2364"/>
                </a:lnTo>
                <a:lnTo>
                  <a:pt x="2188" y="2364"/>
                </a:lnTo>
                <a:lnTo>
                  <a:pt x="2188" y="2329"/>
                </a:lnTo>
                <a:lnTo>
                  <a:pt x="2258" y="2329"/>
                </a:lnTo>
                <a:lnTo>
                  <a:pt x="2258" y="2258"/>
                </a:lnTo>
                <a:lnTo>
                  <a:pt x="2329" y="2258"/>
                </a:lnTo>
                <a:lnTo>
                  <a:pt x="2329" y="2223"/>
                </a:lnTo>
                <a:lnTo>
                  <a:pt x="2364" y="2188"/>
                </a:lnTo>
                <a:lnTo>
                  <a:pt x="2399" y="2188"/>
                </a:lnTo>
                <a:lnTo>
                  <a:pt x="2505" y="2082"/>
                </a:lnTo>
                <a:lnTo>
                  <a:pt x="2505" y="2047"/>
                </a:lnTo>
                <a:lnTo>
                  <a:pt x="2541" y="2047"/>
                </a:lnTo>
                <a:lnTo>
                  <a:pt x="2576" y="2047"/>
                </a:lnTo>
                <a:lnTo>
                  <a:pt x="2682" y="1976"/>
                </a:lnTo>
                <a:lnTo>
                  <a:pt x="2682" y="1941"/>
                </a:lnTo>
                <a:lnTo>
                  <a:pt x="2717" y="1941"/>
                </a:lnTo>
                <a:lnTo>
                  <a:pt x="2752" y="1906"/>
                </a:lnTo>
                <a:lnTo>
                  <a:pt x="2823" y="1834"/>
                </a:lnTo>
                <a:lnTo>
                  <a:pt x="2893" y="1799"/>
                </a:lnTo>
                <a:lnTo>
                  <a:pt x="2929" y="1763"/>
                </a:lnTo>
                <a:lnTo>
                  <a:pt x="2929" y="1693"/>
                </a:lnTo>
                <a:lnTo>
                  <a:pt x="2999" y="1622"/>
                </a:lnTo>
                <a:lnTo>
                  <a:pt x="3034" y="1552"/>
                </a:lnTo>
                <a:lnTo>
                  <a:pt x="3105" y="1516"/>
                </a:lnTo>
                <a:lnTo>
                  <a:pt x="3176" y="1481"/>
                </a:lnTo>
                <a:lnTo>
                  <a:pt x="3211" y="1481"/>
                </a:lnTo>
                <a:lnTo>
                  <a:pt x="3246" y="1375"/>
                </a:lnTo>
                <a:lnTo>
                  <a:pt x="3352" y="1375"/>
                </a:lnTo>
                <a:lnTo>
                  <a:pt x="3387" y="1270"/>
                </a:lnTo>
                <a:lnTo>
                  <a:pt x="3422" y="1234"/>
                </a:lnTo>
                <a:lnTo>
                  <a:pt x="3564" y="1093"/>
                </a:lnTo>
                <a:lnTo>
                  <a:pt x="3669" y="987"/>
                </a:lnTo>
                <a:lnTo>
                  <a:pt x="3669" y="917"/>
                </a:lnTo>
                <a:lnTo>
                  <a:pt x="3705" y="846"/>
                </a:lnTo>
                <a:lnTo>
                  <a:pt x="3705" y="811"/>
                </a:lnTo>
                <a:lnTo>
                  <a:pt x="3705" y="776"/>
                </a:lnTo>
                <a:lnTo>
                  <a:pt x="3705" y="705"/>
                </a:lnTo>
                <a:lnTo>
                  <a:pt x="3705" y="670"/>
                </a:lnTo>
                <a:lnTo>
                  <a:pt x="3705" y="635"/>
                </a:lnTo>
                <a:lnTo>
                  <a:pt x="3705" y="564"/>
                </a:lnTo>
                <a:lnTo>
                  <a:pt x="3775" y="529"/>
                </a:lnTo>
                <a:lnTo>
                  <a:pt x="3775" y="493"/>
                </a:lnTo>
                <a:lnTo>
                  <a:pt x="3846" y="493"/>
                </a:lnTo>
                <a:lnTo>
                  <a:pt x="3881" y="423"/>
                </a:lnTo>
                <a:lnTo>
                  <a:pt x="3881" y="388"/>
                </a:lnTo>
                <a:lnTo>
                  <a:pt x="3916" y="352"/>
                </a:lnTo>
                <a:lnTo>
                  <a:pt x="4022" y="282"/>
                </a:lnTo>
                <a:lnTo>
                  <a:pt x="4022" y="246"/>
                </a:lnTo>
                <a:lnTo>
                  <a:pt x="4057" y="246"/>
                </a:lnTo>
                <a:lnTo>
                  <a:pt x="4057" y="211"/>
                </a:lnTo>
                <a:lnTo>
                  <a:pt x="4093" y="141"/>
                </a:lnTo>
                <a:lnTo>
                  <a:pt x="4199" y="141"/>
                </a:lnTo>
                <a:lnTo>
                  <a:pt x="4199" y="105"/>
                </a:lnTo>
                <a:lnTo>
                  <a:pt x="4234" y="105"/>
                </a:lnTo>
                <a:lnTo>
                  <a:pt x="4234" y="70"/>
                </a:lnTo>
                <a:lnTo>
                  <a:pt x="4269" y="70"/>
                </a:lnTo>
                <a:lnTo>
                  <a:pt x="4340" y="70"/>
                </a:lnTo>
                <a:lnTo>
                  <a:pt x="4340" y="0"/>
                </a:lnTo>
                <a:lnTo>
                  <a:pt x="4340" y="70"/>
                </a:lnTo>
                <a:lnTo>
                  <a:pt x="4410" y="70"/>
                </a:lnTo>
                <a:lnTo>
                  <a:pt x="4410" y="105"/>
                </a:lnTo>
                <a:lnTo>
                  <a:pt x="4446" y="105"/>
                </a:lnTo>
                <a:lnTo>
                  <a:pt x="4551" y="141"/>
                </a:lnTo>
                <a:lnTo>
                  <a:pt x="4551" y="211"/>
                </a:lnTo>
                <a:lnTo>
                  <a:pt x="4551" y="246"/>
                </a:lnTo>
                <a:lnTo>
                  <a:pt x="4622" y="246"/>
                </a:lnTo>
                <a:lnTo>
                  <a:pt x="4622" y="282"/>
                </a:lnTo>
                <a:lnTo>
                  <a:pt x="4622" y="352"/>
                </a:lnTo>
                <a:lnTo>
                  <a:pt x="4622" y="388"/>
                </a:lnTo>
                <a:lnTo>
                  <a:pt x="4622" y="423"/>
                </a:lnTo>
                <a:lnTo>
                  <a:pt x="4622" y="493"/>
                </a:lnTo>
                <a:lnTo>
                  <a:pt x="4692" y="564"/>
                </a:lnTo>
                <a:lnTo>
                  <a:pt x="4728" y="635"/>
                </a:lnTo>
                <a:lnTo>
                  <a:pt x="4728" y="705"/>
                </a:lnTo>
                <a:lnTo>
                  <a:pt x="4763" y="776"/>
                </a:lnTo>
                <a:lnTo>
                  <a:pt x="4869" y="811"/>
                </a:lnTo>
                <a:lnTo>
                  <a:pt x="4869" y="846"/>
                </a:lnTo>
                <a:lnTo>
                  <a:pt x="4904" y="917"/>
                </a:lnTo>
                <a:lnTo>
                  <a:pt x="4904" y="987"/>
                </a:lnTo>
                <a:lnTo>
                  <a:pt x="4939" y="1058"/>
                </a:lnTo>
                <a:lnTo>
                  <a:pt x="4939" y="1093"/>
                </a:lnTo>
                <a:lnTo>
                  <a:pt x="5045" y="1128"/>
                </a:lnTo>
                <a:lnTo>
                  <a:pt x="5081" y="1199"/>
                </a:lnTo>
                <a:lnTo>
                  <a:pt x="5081" y="1270"/>
                </a:lnTo>
                <a:lnTo>
                  <a:pt x="5116" y="1270"/>
                </a:lnTo>
                <a:lnTo>
                  <a:pt x="5116" y="1375"/>
                </a:lnTo>
                <a:lnTo>
                  <a:pt x="5116" y="1411"/>
                </a:lnTo>
                <a:lnTo>
                  <a:pt x="5186" y="1516"/>
                </a:lnTo>
                <a:lnTo>
                  <a:pt x="5257" y="1552"/>
                </a:lnTo>
                <a:lnTo>
                  <a:pt x="5257" y="1622"/>
                </a:lnTo>
                <a:lnTo>
                  <a:pt x="5292" y="1693"/>
                </a:lnTo>
                <a:lnTo>
                  <a:pt x="5363" y="1799"/>
                </a:lnTo>
                <a:lnTo>
                  <a:pt x="5398" y="1906"/>
                </a:lnTo>
                <a:lnTo>
                  <a:pt x="5398" y="1941"/>
                </a:lnTo>
                <a:lnTo>
                  <a:pt x="5469" y="1976"/>
                </a:lnTo>
                <a:lnTo>
                  <a:pt x="5539" y="2047"/>
                </a:lnTo>
                <a:lnTo>
                  <a:pt x="5539" y="2082"/>
                </a:lnTo>
                <a:lnTo>
                  <a:pt x="5539" y="2117"/>
                </a:lnTo>
                <a:lnTo>
                  <a:pt x="5574" y="2188"/>
                </a:lnTo>
                <a:lnTo>
                  <a:pt x="5574" y="2223"/>
                </a:lnTo>
                <a:lnTo>
                  <a:pt x="5574" y="2258"/>
                </a:lnTo>
                <a:lnTo>
                  <a:pt x="5610" y="2329"/>
                </a:lnTo>
                <a:lnTo>
                  <a:pt x="5610" y="2364"/>
                </a:lnTo>
                <a:lnTo>
                  <a:pt x="5716" y="2399"/>
                </a:lnTo>
                <a:lnTo>
                  <a:pt x="5786" y="2505"/>
                </a:lnTo>
                <a:lnTo>
                  <a:pt x="5892" y="2541"/>
                </a:lnTo>
                <a:lnTo>
                  <a:pt x="5962" y="2611"/>
                </a:lnTo>
                <a:lnTo>
                  <a:pt x="6033" y="2646"/>
                </a:lnTo>
                <a:lnTo>
                  <a:pt x="6033" y="2682"/>
                </a:lnTo>
                <a:lnTo>
                  <a:pt x="6139" y="2752"/>
                </a:lnTo>
                <a:lnTo>
                  <a:pt x="6245" y="2823"/>
                </a:lnTo>
                <a:lnTo>
                  <a:pt x="6422" y="2929"/>
                </a:lnTo>
                <a:lnTo>
                  <a:pt x="6457" y="2964"/>
                </a:lnTo>
                <a:lnTo>
                  <a:pt x="6740" y="3105"/>
                </a:lnTo>
                <a:lnTo>
                  <a:pt x="6775" y="3176"/>
                </a:lnTo>
                <a:lnTo>
                  <a:pt x="6810" y="3211"/>
                </a:lnTo>
                <a:lnTo>
                  <a:pt x="6987" y="3246"/>
                </a:lnTo>
                <a:lnTo>
                  <a:pt x="7233" y="3317"/>
                </a:lnTo>
                <a:lnTo>
                  <a:pt x="7304" y="3352"/>
                </a:lnTo>
                <a:lnTo>
                  <a:pt x="7410" y="3352"/>
                </a:lnTo>
                <a:lnTo>
                  <a:pt x="7445" y="3352"/>
                </a:lnTo>
                <a:lnTo>
                  <a:pt x="7480" y="3387"/>
                </a:lnTo>
                <a:lnTo>
                  <a:pt x="7622" y="3387"/>
                </a:lnTo>
                <a:lnTo>
                  <a:pt x="7657" y="3458"/>
                </a:lnTo>
                <a:lnTo>
                  <a:pt x="7727" y="3493"/>
                </a:lnTo>
                <a:lnTo>
                  <a:pt x="7798" y="3493"/>
                </a:lnTo>
                <a:lnTo>
                  <a:pt x="7833" y="3493"/>
                </a:lnTo>
                <a:lnTo>
                  <a:pt x="7939" y="3528"/>
                </a:lnTo>
                <a:lnTo>
                  <a:pt x="8010" y="3599"/>
                </a:lnTo>
                <a:lnTo>
                  <a:pt x="8080" y="3599"/>
                </a:lnTo>
                <a:lnTo>
                  <a:pt x="8080" y="3634"/>
                </a:lnTo>
                <a:lnTo>
                  <a:pt x="8151" y="3634"/>
                </a:lnTo>
                <a:lnTo>
                  <a:pt x="8257" y="3669"/>
                </a:lnTo>
                <a:lnTo>
                  <a:pt x="8327" y="3669"/>
                </a:lnTo>
                <a:lnTo>
                  <a:pt x="8433" y="3740"/>
                </a:lnTo>
                <a:lnTo>
                  <a:pt x="8503" y="3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040" y="5232240"/>
            <a:ext cx="2883240" cy="673560"/>
          </a:xfrm>
          <a:custGeom>
            <a:avLst/>
            <a:gdLst/>
            <a:ahLst/>
            <a:rect l="0" t="0" r="r" b="b"/>
            <a:pathLst>
              <a:path fill="none" w="8009" h="1871">
                <a:moveTo>
                  <a:pt x="0" y="1836"/>
                </a:moveTo>
                <a:lnTo>
                  <a:pt x="0" y="1801"/>
                </a:lnTo>
                <a:lnTo>
                  <a:pt x="70" y="1801"/>
                </a:lnTo>
                <a:lnTo>
                  <a:pt x="141" y="1730"/>
                </a:lnTo>
                <a:lnTo>
                  <a:pt x="211" y="1730"/>
                </a:lnTo>
                <a:lnTo>
                  <a:pt x="211" y="1695"/>
                </a:lnTo>
                <a:lnTo>
                  <a:pt x="282" y="1695"/>
                </a:lnTo>
                <a:lnTo>
                  <a:pt x="352" y="1660"/>
                </a:lnTo>
                <a:lnTo>
                  <a:pt x="352" y="1589"/>
                </a:lnTo>
                <a:lnTo>
                  <a:pt x="352" y="1554"/>
                </a:lnTo>
                <a:lnTo>
                  <a:pt x="388" y="1554"/>
                </a:lnTo>
                <a:lnTo>
                  <a:pt x="388" y="1518"/>
                </a:lnTo>
                <a:lnTo>
                  <a:pt x="388" y="1448"/>
                </a:lnTo>
                <a:lnTo>
                  <a:pt x="388" y="1413"/>
                </a:lnTo>
                <a:lnTo>
                  <a:pt x="388" y="1376"/>
                </a:lnTo>
                <a:lnTo>
                  <a:pt x="388" y="1306"/>
                </a:lnTo>
                <a:lnTo>
                  <a:pt x="388" y="1271"/>
                </a:lnTo>
                <a:lnTo>
                  <a:pt x="493" y="1235"/>
                </a:lnTo>
                <a:lnTo>
                  <a:pt x="493" y="1165"/>
                </a:lnTo>
                <a:lnTo>
                  <a:pt x="529" y="1129"/>
                </a:lnTo>
                <a:lnTo>
                  <a:pt x="529" y="1094"/>
                </a:lnTo>
                <a:lnTo>
                  <a:pt x="529" y="1024"/>
                </a:lnTo>
                <a:lnTo>
                  <a:pt x="529" y="988"/>
                </a:lnTo>
                <a:lnTo>
                  <a:pt x="529" y="953"/>
                </a:lnTo>
                <a:lnTo>
                  <a:pt x="529" y="882"/>
                </a:lnTo>
                <a:lnTo>
                  <a:pt x="529" y="812"/>
                </a:lnTo>
                <a:lnTo>
                  <a:pt x="599" y="741"/>
                </a:lnTo>
                <a:lnTo>
                  <a:pt x="670" y="706"/>
                </a:lnTo>
                <a:lnTo>
                  <a:pt x="740" y="671"/>
                </a:lnTo>
                <a:lnTo>
                  <a:pt x="740" y="706"/>
                </a:lnTo>
                <a:lnTo>
                  <a:pt x="740" y="741"/>
                </a:lnTo>
                <a:lnTo>
                  <a:pt x="740" y="847"/>
                </a:lnTo>
                <a:lnTo>
                  <a:pt x="740" y="882"/>
                </a:lnTo>
                <a:lnTo>
                  <a:pt x="740" y="847"/>
                </a:lnTo>
                <a:lnTo>
                  <a:pt x="776" y="812"/>
                </a:lnTo>
                <a:lnTo>
                  <a:pt x="776" y="741"/>
                </a:lnTo>
                <a:lnTo>
                  <a:pt x="881" y="741"/>
                </a:lnTo>
                <a:lnTo>
                  <a:pt x="917" y="671"/>
                </a:lnTo>
                <a:lnTo>
                  <a:pt x="1058" y="600"/>
                </a:lnTo>
                <a:lnTo>
                  <a:pt x="1058" y="671"/>
                </a:lnTo>
                <a:lnTo>
                  <a:pt x="1058" y="600"/>
                </a:lnTo>
                <a:lnTo>
                  <a:pt x="1128" y="600"/>
                </a:lnTo>
                <a:lnTo>
                  <a:pt x="1164" y="600"/>
                </a:lnTo>
                <a:lnTo>
                  <a:pt x="1164" y="565"/>
                </a:lnTo>
                <a:lnTo>
                  <a:pt x="1270" y="530"/>
                </a:lnTo>
                <a:lnTo>
                  <a:pt x="1340" y="530"/>
                </a:lnTo>
                <a:lnTo>
                  <a:pt x="1340" y="458"/>
                </a:lnTo>
                <a:lnTo>
                  <a:pt x="1481" y="458"/>
                </a:lnTo>
                <a:lnTo>
                  <a:pt x="1481" y="423"/>
                </a:lnTo>
                <a:lnTo>
                  <a:pt x="1552" y="317"/>
                </a:lnTo>
                <a:lnTo>
                  <a:pt x="1658" y="317"/>
                </a:lnTo>
                <a:lnTo>
                  <a:pt x="1658" y="282"/>
                </a:lnTo>
                <a:lnTo>
                  <a:pt x="1693" y="246"/>
                </a:lnTo>
                <a:lnTo>
                  <a:pt x="1763" y="246"/>
                </a:lnTo>
                <a:lnTo>
                  <a:pt x="1834" y="141"/>
                </a:lnTo>
                <a:lnTo>
                  <a:pt x="1834" y="176"/>
                </a:lnTo>
                <a:lnTo>
                  <a:pt x="1834" y="141"/>
                </a:lnTo>
                <a:lnTo>
                  <a:pt x="1905" y="141"/>
                </a:lnTo>
                <a:lnTo>
                  <a:pt x="1940" y="141"/>
                </a:lnTo>
                <a:lnTo>
                  <a:pt x="2046" y="141"/>
                </a:lnTo>
                <a:lnTo>
                  <a:pt x="2081" y="141"/>
                </a:lnTo>
                <a:lnTo>
                  <a:pt x="2222" y="141"/>
                </a:lnTo>
                <a:lnTo>
                  <a:pt x="2293" y="141"/>
                </a:lnTo>
                <a:lnTo>
                  <a:pt x="2293" y="105"/>
                </a:lnTo>
                <a:lnTo>
                  <a:pt x="2293" y="141"/>
                </a:lnTo>
                <a:lnTo>
                  <a:pt x="2363" y="141"/>
                </a:lnTo>
                <a:lnTo>
                  <a:pt x="2434" y="105"/>
                </a:lnTo>
                <a:lnTo>
                  <a:pt x="2504" y="105"/>
                </a:lnTo>
                <a:lnTo>
                  <a:pt x="2540" y="35"/>
                </a:lnTo>
                <a:lnTo>
                  <a:pt x="2645" y="35"/>
                </a:lnTo>
                <a:lnTo>
                  <a:pt x="2751" y="35"/>
                </a:lnTo>
                <a:lnTo>
                  <a:pt x="2822" y="35"/>
                </a:lnTo>
                <a:lnTo>
                  <a:pt x="2892" y="35"/>
                </a:lnTo>
                <a:lnTo>
                  <a:pt x="2928" y="35"/>
                </a:lnTo>
                <a:lnTo>
                  <a:pt x="3069" y="0"/>
                </a:lnTo>
                <a:lnTo>
                  <a:pt x="3104" y="0"/>
                </a:lnTo>
                <a:lnTo>
                  <a:pt x="3104" y="35"/>
                </a:lnTo>
                <a:lnTo>
                  <a:pt x="3210" y="35"/>
                </a:lnTo>
                <a:lnTo>
                  <a:pt x="3245" y="35"/>
                </a:lnTo>
                <a:lnTo>
                  <a:pt x="3316" y="105"/>
                </a:lnTo>
                <a:lnTo>
                  <a:pt x="3316" y="141"/>
                </a:lnTo>
                <a:lnTo>
                  <a:pt x="3421" y="141"/>
                </a:lnTo>
                <a:lnTo>
                  <a:pt x="3421" y="176"/>
                </a:lnTo>
                <a:lnTo>
                  <a:pt x="3457" y="176"/>
                </a:lnTo>
                <a:lnTo>
                  <a:pt x="3492" y="176"/>
                </a:lnTo>
                <a:lnTo>
                  <a:pt x="3492" y="246"/>
                </a:lnTo>
                <a:lnTo>
                  <a:pt x="3633" y="246"/>
                </a:lnTo>
                <a:lnTo>
                  <a:pt x="3633" y="282"/>
                </a:lnTo>
                <a:lnTo>
                  <a:pt x="3633" y="317"/>
                </a:lnTo>
                <a:lnTo>
                  <a:pt x="3633" y="388"/>
                </a:lnTo>
                <a:lnTo>
                  <a:pt x="3633" y="423"/>
                </a:lnTo>
                <a:lnTo>
                  <a:pt x="3704" y="458"/>
                </a:lnTo>
                <a:lnTo>
                  <a:pt x="3774" y="458"/>
                </a:lnTo>
                <a:lnTo>
                  <a:pt x="3986" y="530"/>
                </a:lnTo>
                <a:lnTo>
                  <a:pt x="3986" y="565"/>
                </a:lnTo>
                <a:lnTo>
                  <a:pt x="4057" y="565"/>
                </a:lnTo>
                <a:lnTo>
                  <a:pt x="4093" y="600"/>
                </a:lnTo>
                <a:lnTo>
                  <a:pt x="4093" y="671"/>
                </a:lnTo>
                <a:lnTo>
                  <a:pt x="4199" y="671"/>
                </a:lnTo>
                <a:lnTo>
                  <a:pt x="4234" y="671"/>
                </a:lnTo>
                <a:lnTo>
                  <a:pt x="4304" y="671"/>
                </a:lnTo>
                <a:lnTo>
                  <a:pt x="4304" y="706"/>
                </a:lnTo>
                <a:lnTo>
                  <a:pt x="4375" y="706"/>
                </a:lnTo>
                <a:lnTo>
                  <a:pt x="4446" y="706"/>
                </a:lnTo>
                <a:lnTo>
                  <a:pt x="4446" y="812"/>
                </a:lnTo>
                <a:lnTo>
                  <a:pt x="4481" y="847"/>
                </a:lnTo>
                <a:lnTo>
                  <a:pt x="4657" y="847"/>
                </a:lnTo>
                <a:lnTo>
                  <a:pt x="4657" y="882"/>
                </a:lnTo>
                <a:lnTo>
                  <a:pt x="4657" y="953"/>
                </a:lnTo>
                <a:lnTo>
                  <a:pt x="4798" y="988"/>
                </a:lnTo>
                <a:lnTo>
                  <a:pt x="4834" y="988"/>
                </a:lnTo>
                <a:lnTo>
                  <a:pt x="4975" y="953"/>
                </a:lnTo>
                <a:lnTo>
                  <a:pt x="4975" y="988"/>
                </a:lnTo>
                <a:lnTo>
                  <a:pt x="5081" y="1024"/>
                </a:lnTo>
                <a:lnTo>
                  <a:pt x="5363" y="1024"/>
                </a:lnTo>
                <a:lnTo>
                  <a:pt x="5363" y="1094"/>
                </a:lnTo>
                <a:lnTo>
                  <a:pt x="5363" y="1129"/>
                </a:lnTo>
                <a:lnTo>
                  <a:pt x="5398" y="1129"/>
                </a:lnTo>
                <a:lnTo>
                  <a:pt x="5398" y="1165"/>
                </a:lnTo>
                <a:lnTo>
                  <a:pt x="5469" y="1165"/>
                </a:lnTo>
                <a:lnTo>
                  <a:pt x="5469" y="1235"/>
                </a:lnTo>
                <a:lnTo>
                  <a:pt x="5469" y="1271"/>
                </a:lnTo>
                <a:lnTo>
                  <a:pt x="5469" y="1306"/>
                </a:lnTo>
                <a:lnTo>
                  <a:pt x="5539" y="1376"/>
                </a:lnTo>
                <a:lnTo>
                  <a:pt x="5610" y="1376"/>
                </a:lnTo>
                <a:lnTo>
                  <a:pt x="5645" y="1376"/>
                </a:lnTo>
                <a:lnTo>
                  <a:pt x="5645" y="1413"/>
                </a:lnTo>
                <a:lnTo>
                  <a:pt x="5751" y="1413"/>
                </a:lnTo>
                <a:lnTo>
                  <a:pt x="5751" y="1448"/>
                </a:lnTo>
                <a:lnTo>
                  <a:pt x="5857" y="1518"/>
                </a:lnTo>
                <a:lnTo>
                  <a:pt x="6068" y="1518"/>
                </a:lnTo>
                <a:lnTo>
                  <a:pt x="6139" y="1518"/>
                </a:lnTo>
                <a:lnTo>
                  <a:pt x="6139" y="1554"/>
                </a:lnTo>
                <a:lnTo>
                  <a:pt x="6209" y="1554"/>
                </a:lnTo>
                <a:lnTo>
                  <a:pt x="6245" y="1554"/>
                </a:lnTo>
                <a:lnTo>
                  <a:pt x="6386" y="1589"/>
                </a:lnTo>
                <a:lnTo>
                  <a:pt x="6456" y="1589"/>
                </a:lnTo>
                <a:lnTo>
                  <a:pt x="6527" y="1660"/>
                </a:lnTo>
                <a:lnTo>
                  <a:pt x="6597" y="1660"/>
                </a:lnTo>
                <a:lnTo>
                  <a:pt x="6739" y="1695"/>
                </a:lnTo>
                <a:lnTo>
                  <a:pt x="6774" y="1695"/>
                </a:lnTo>
                <a:lnTo>
                  <a:pt x="6809" y="1695"/>
                </a:lnTo>
                <a:lnTo>
                  <a:pt x="6915" y="1730"/>
                </a:lnTo>
                <a:lnTo>
                  <a:pt x="7197" y="1730"/>
                </a:lnTo>
                <a:lnTo>
                  <a:pt x="7338" y="1730"/>
                </a:lnTo>
                <a:lnTo>
                  <a:pt x="7409" y="1801"/>
                </a:lnTo>
                <a:lnTo>
                  <a:pt x="7479" y="1801"/>
                </a:lnTo>
                <a:lnTo>
                  <a:pt x="7550" y="1801"/>
                </a:lnTo>
                <a:lnTo>
                  <a:pt x="7621" y="1801"/>
                </a:lnTo>
                <a:lnTo>
                  <a:pt x="7691" y="1801"/>
                </a:lnTo>
                <a:lnTo>
                  <a:pt x="7691" y="1836"/>
                </a:lnTo>
                <a:lnTo>
                  <a:pt x="7762" y="1836"/>
                </a:lnTo>
                <a:lnTo>
                  <a:pt x="7797" y="1836"/>
                </a:lnTo>
                <a:lnTo>
                  <a:pt x="7903" y="1836"/>
                </a:lnTo>
                <a:lnTo>
                  <a:pt x="7938" y="1871"/>
                </a:lnTo>
                <a:lnTo>
                  <a:pt x="8009" y="187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7010280"/>
            <a:ext cx="3289680" cy="635400"/>
          </a:xfrm>
          <a:custGeom>
            <a:avLst/>
            <a:gdLst/>
            <a:ahLst/>
            <a:rect l="0" t="0" r="r" b="b"/>
            <a:pathLst>
              <a:path fill="none" w="9138" h="1765">
                <a:moveTo>
                  <a:pt x="0" y="1695"/>
                </a:moveTo>
                <a:lnTo>
                  <a:pt x="0" y="1660"/>
                </a:lnTo>
                <a:lnTo>
                  <a:pt x="70" y="1554"/>
                </a:lnTo>
                <a:lnTo>
                  <a:pt x="70" y="1448"/>
                </a:lnTo>
                <a:lnTo>
                  <a:pt x="176" y="1306"/>
                </a:lnTo>
                <a:lnTo>
                  <a:pt x="246" y="1235"/>
                </a:lnTo>
                <a:lnTo>
                  <a:pt x="246" y="1129"/>
                </a:lnTo>
                <a:lnTo>
                  <a:pt x="246" y="1094"/>
                </a:lnTo>
                <a:lnTo>
                  <a:pt x="246" y="1024"/>
                </a:lnTo>
                <a:lnTo>
                  <a:pt x="246" y="988"/>
                </a:lnTo>
                <a:lnTo>
                  <a:pt x="246" y="918"/>
                </a:lnTo>
                <a:lnTo>
                  <a:pt x="246" y="882"/>
                </a:lnTo>
                <a:lnTo>
                  <a:pt x="246" y="847"/>
                </a:lnTo>
                <a:lnTo>
                  <a:pt x="246" y="777"/>
                </a:lnTo>
                <a:lnTo>
                  <a:pt x="246" y="741"/>
                </a:lnTo>
                <a:lnTo>
                  <a:pt x="246" y="706"/>
                </a:lnTo>
                <a:lnTo>
                  <a:pt x="246" y="636"/>
                </a:lnTo>
                <a:lnTo>
                  <a:pt x="246" y="600"/>
                </a:lnTo>
                <a:lnTo>
                  <a:pt x="246" y="530"/>
                </a:lnTo>
                <a:lnTo>
                  <a:pt x="246" y="494"/>
                </a:lnTo>
                <a:lnTo>
                  <a:pt x="246" y="459"/>
                </a:lnTo>
                <a:lnTo>
                  <a:pt x="246" y="388"/>
                </a:lnTo>
                <a:lnTo>
                  <a:pt x="317" y="352"/>
                </a:lnTo>
                <a:lnTo>
                  <a:pt x="317" y="282"/>
                </a:lnTo>
                <a:lnTo>
                  <a:pt x="317" y="246"/>
                </a:lnTo>
                <a:lnTo>
                  <a:pt x="317" y="211"/>
                </a:lnTo>
                <a:lnTo>
                  <a:pt x="458" y="211"/>
                </a:lnTo>
                <a:lnTo>
                  <a:pt x="458" y="141"/>
                </a:lnTo>
                <a:lnTo>
                  <a:pt x="564" y="105"/>
                </a:lnTo>
                <a:lnTo>
                  <a:pt x="564" y="70"/>
                </a:lnTo>
                <a:lnTo>
                  <a:pt x="564" y="0"/>
                </a:lnTo>
                <a:lnTo>
                  <a:pt x="564" y="70"/>
                </a:lnTo>
                <a:lnTo>
                  <a:pt x="564" y="141"/>
                </a:lnTo>
                <a:lnTo>
                  <a:pt x="564" y="246"/>
                </a:lnTo>
                <a:lnTo>
                  <a:pt x="564" y="352"/>
                </a:lnTo>
                <a:lnTo>
                  <a:pt x="564" y="388"/>
                </a:lnTo>
                <a:lnTo>
                  <a:pt x="705" y="459"/>
                </a:lnTo>
                <a:lnTo>
                  <a:pt x="705" y="494"/>
                </a:lnTo>
                <a:lnTo>
                  <a:pt x="811" y="494"/>
                </a:lnTo>
                <a:lnTo>
                  <a:pt x="811" y="530"/>
                </a:lnTo>
                <a:lnTo>
                  <a:pt x="811" y="600"/>
                </a:lnTo>
                <a:lnTo>
                  <a:pt x="811" y="636"/>
                </a:lnTo>
                <a:lnTo>
                  <a:pt x="881" y="636"/>
                </a:lnTo>
                <a:lnTo>
                  <a:pt x="952" y="636"/>
                </a:lnTo>
                <a:lnTo>
                  <a:pt x="952" y="600"/>
                </a:lnTo>
                <a:lnTo>
                  <a:pt x="952" y="530"/>
                </a:lnTo>
                <a:lnTo>
                  <a:pt x="1023" y="530"/>
                </a:lnTo>
                <a:lnTo>
                  <a:pt x="1023" y="494"/>
                </a:lnTo>
                <a:lnTo>
                  <a:pt x="1128" y="459"/>
                </a:lnTo>
                <a:lnTo>
                  <a:pt x="1128" y="388"/>
                </a:lnTo>
                <a:lnTo>
                  <a:pt x="1269" y="352"/>
                </a:lnTo>
                <a:lnTo>
                  <a:pt x="1269" y="282"/>
                </a:lnTo>
                <a:lnTo>
                  <a:pt x="1269" y="352"/>
                </a:lnTo>
                <a:lnTo>
                  <a:pt x="1305" y="352"/>
                </a:lnTo>
                <a:lnTo>
                  <a:pt x="1305" y="459"/>
                </a:lnTo>
                <a:lnTo>
                  <a:pt x="1305" y="494"/>
                </a:lnTo>
                <a:lnTo>
                  <a:pt x="1305" y="530"/>
                </a:lnTo>
                <a:lnTo>
                  <a:pt x="1305" y="600"/>
                </a:lnTo>
                <a:lnTo>
                  <a:pt x="1340" y="600"/>
                </a:lnTo>
                <a:lnTo>
                  <a:pt x="1340" y="636"/>
                </a:lnTo>
                <a:lnTo>
                  <a:pt x="1516" y="706"/>
                </a:lnTo>
                <a:lnTo>
                  <a:pt x="1587" y="741"/>
                </a:lnTo>
                <a:lnTo>
                  <a:pt x="1622" y="741"/>
                </a:lnTo>
                <a:lnTo>
                  <a:pt x="1763" y="706"/>
                </a:lnTo>
                <a:lnTo>
                  <a:pt x="1834" y="741"/>
                </a:lnTo>
                <a:lnTo>
                  <a:pt x="1904" y="847"/>
                </a:lnTo>
                <a:lnTo>
                  <a:pt x="2046" y="847"/>
                </a:lnTo>
                <a:lnTo>
                  <a:pt x="2116" y="847"/>
                </a:lnTo>
                <a:lnTo>
                  <a:pt x="2116" y="882"/>
                </a:lnTo>
                <a:lnTo>
                  <a:pt x="2151" y="847"/>
                </a:lnTo>
                <a:lnTo>
                  <a:pt x="2151" y="882"/>
                </a:lnTo>
                <a:lnTo>
                  <a:pt x="2294" y="882"/>
                </a:lnTo>
                <a:lnTo>
                  <a:pt x="2294" y="918"/>
                </a:lnTo>
                <a:lnTo>
                  <a:pt x="2364" y="918"/>
                </a:lnTo>
                <a:lnTo>
                  <a:pt x="2364" y="988"/>
                </a:lnTo>
                <a:lnTo>
                  <a:pt x="2435" y="1024"/>
                </a:lnTo>
                <a:lnTo>
                  <a:pt x="2540" y="1024"/>
                </a:lnTo>
                <a:lnTo>
                  <a:pt x="2540" y="988"/>
                </a:lnTo>
                <a:lnTo>
                  <a:pt x="2611" y="988"/>
                </a:lnTo>
                <a:lnTo>
                  <a:pt x="2611" y="1024"/>
                </a:lnTo>
                <a:lnTo>
                  <a:pt x="2717" y="1024"/>
                </a:lnTo>
                <a:lnTo>
                  <a:pt x="2823" y="988"/>
                </a:lnTo>
                <a:lnTo>
                  <a:pt x="2964" y="988"/>
                </a:lnTo>
                <a:lnTo>
                  <a:pt x="2964" y="1024"/>
                </a:lnTo>
                <a:lnTo>
                  <a:pt x="3070" y="1024"/>
                </a:lnTo>
                <a:lnTo>
                  <a:pt x="3140" y="988"/>
                </a:lnTo>
                <a:lnTo>
                  <a:pt x="3211" y="988"/>
                </a:lnTo>
                <a:lnTo>
                  <a:pt x="3211" y="1024"/>
                </a:lnTo>
                <a:lnTo>
                  <a:pt x="3352" y="1024"/>
                </a:lnTo>
                <a:lnTo>
                  <a:pt x="3493" y="988"/>
                </a:lnTo>
                <a:lnTo>
                  <a:pt x="3493" y="1024"/>
                </a:lnTo>
                <a:lnTo>
                  <a:pt x="3634" y="1129"/>
                </a:lnTo>
                <a:lnTo>
                  <a:pt x="3705" y="1129"/>
                </a:lnTo>
                <a:lnTo>
                  <a:pt x="3775" y="1094"/>
                </a:lnTo>
                <a:lnTo>
                  <a:pt x="3881" y="1094"/>
                </a:lnTo>
                <a:lnTo>
                  <a:pt x="3881" y="1165"/>
                </a:lnTo>
                <a:lnTo>
                  <a:pt x="3881" y="1235"/>
                </a:lnTo>
                <a:lnTo>
                  <a:pt x="3987" y="1235"/>
                </a:lnTo>
                <a:lnTo>
                  <a:pt x="4022" y="1235"/>
                </a:lnTo>
                <a:lnTo>
                  <a:pt x="4022" y="1270"/>
                </a:lnTo>
                <a:lnTo>
                  <a:pt x="4128" y="1270"/>
                </a:lnTo>
                <a:lnTo>
                  <a:pt x="4234" y="1270"/>
                </a:lnTo>
                <a:lnTo>
                  <a:pt x="4234" y="1306"/>
                </a:lnTo>
                <a:lnTo>
                  <a:pt x="4304" y="1377"/>
                </a:lnTo>
                <a:lnTo>
                  <a:pt x="4410" y="1413"/>
                </a:lnTo>
                <a:lnTo>
                  <a:pt x="4481" y="1377"/>
                </a:lnTo>
                <a:lnTo>
                  <a:pt x="4551" y="1377"/>
                </a:lnTo>
                <a:lnTo>
                  <a:pt x="4551" y="1448"/>
                </a:lnTo>
                <a:lnTo>
                  <a:pt x="4692" y="1518"/>
                </a:lnTo>
                <a:lnTo>
                  <a:pt x="4763" y="1518"/>
                </a:lnTo>
                <a:lnTo>
                  <a:pt x="4798" y="1518"/>
                </a:lnTo>
                <a:lnTo>
                  <a:pt x="4939" y="1448"/>
                </a:lnTo>
                <a:lnTo>
                  <a:pt x="5080" y="1448"/>
                </a:lnTo>
                <a:lnTo>
                  <a:pt x="5080" y="1518"/>
                </a:lnTo>
                <a:lnTo>
                  <a:pt x="5222" y="1518"/>
                </a:lnTo>
                <a:lnTo>
                  <a:pt x="5257" y="1518"/>
                </a:lnTo>
                <a:lnTo>
                  <a:pt x="5504" y="1448"/>
                </a:lnTo>
                <a:lnTo>
                  <a:pt x="5504" y="1518"/>
                </a:lnTo>
                <a:lnTo>
                  <a:pt x="5539" y="1554"/>
                </a:lnTo>
                <a:lnTo>
                  <a:pt x="5716" y="1518"/>
                </a:lnTo>
                <a:lnTo>
                  <a:pt x="5892" y="1518"/>
                </a:lnTo>
                <a:lnTo>
                  <a:pt x="5892" y="1554"/>
                </a:lnTo>
                <a:lnTo>
                  <a:pt x="6033" y="1554"/>
                </a:lnTo>
                <a:lnTo>
                  <a:pt x="6139" y="1554"/>
                </a:lnTo>
                <a:lnTo>
                  <a:pt x="6280" y="1554"/>
                </a:lnTo>
                <a:lnTo>
                  <a:pt x="6527" y="1589"/>
                </a:lnTo>
                <a:lnTo>
                  <a:pt x="6844" y="1589"/>
                </a:lnTo>
                <a:lnTo>
                  <a:pt x="6916" y="1589"/>
                </a:lnTo>
                <a:lnTo>
                  <a:pt x="7057" y="1589"/>
                </a:lnTo>
                <a:lnTo>
                  <a:pt x="7092" y="1589"/>
                </a:lnTo>
                <a:lnTo>
                  <a:pt x="7410" y="1589"/>
                </a:lnTo>
                <a:lnTo>
                  <a:pt x="7445" y="1589"/>
                </a:lnTo>
                <a:lnTo>
                  <a:pt x="7727" y="1589"/>
                </a:lnTo>
                <a:lnTo>
                  <a:pt x="7833" y="1660"/>
                </a:lnTo>
                <a:lnTo>
                  <a:pt x="7868" y="1660"/>
                </a:lnTo>
                <a:lnTo>
                  <a:pt x="8115" y="1660"/>
                </a:lnTo>
                <a:lnTo>
                  <a:pt x="8151" y="1660"/>
                </a:lnTo>
                <a:lnTo>
                  <a:pt x="8221" y="1695"/>
                </a:lnTo>
                <a:lnTo>
                  <a:pt x="8609" y="1695"/>
                </a:lnTo>
                <a:lnTo>
                  <a:pt x="8997" y="1695"/>
                </a:lnTo>
                <a:lnTo>
                  <a:pt x="9138" y="1695"/>
                </a:lnTo>
                <a:lnTo>
                  <a:pt x="9138" y="176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46400" y="8215200"/>
            <a:ext cx="26179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HANNEL NUMB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74720" y="7808760"/>
            <a:ext cx="3398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4560" y="7808760"/>
            <a:ext cx="5000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6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59280" y="7808760"/>
            <a:ext cx="658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1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73680" y="7808760"/>
            <a:ext cx="658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19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824360" y="7808760"/>
            <a:ext cx="658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25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20800" y="7716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35200" y="7716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49600" y="7716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64000" y="7716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78400" y="7716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738440" y="595440"/>
            <a:ext cx="1792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UNBLOCK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38440" y="2373480"/>
            <a:ext cx="619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1µ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738440" y="4189320"/>
            <a:ext cx="7016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3 µ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38440" y="5942160"/>
            <a:ext cx="7016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9 µ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33520" y="7632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ECOND REAGEN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2057400"/>
            <a:ext cx="2590920" cy="25909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617400"/>
            <a:ext cx="0" cy="402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36720" y="4648320"/>
            <a:ext cx="41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47880" y="647640"/>
            <a:ext cx="2591280" cy="1371960"/>
          </a:xfrm>
          <a:custGeom>
            <a:avLst/>
            <a:gdLst/>
            <a:ahLst/>
            <a:rect l="0" t="0" r="r" b="b"/>
            <a:pathLst>
              <a:path w="7198" h="3811">
                <a:moveTo>
                  <a:pt x="30" y="3811"/>
                </a:moveTo>
                <a:lnTo>
                  <a:pt x="0" y="3722"/>
                </a:lnTo>
                <a:lnTo>
                  <a:pt x="268" y="3387"/>
                </a:lnTo>
                <a:lnTo>
                  <a:pt x="507" y="2540"/>
                </a:lnTo>
                <a:lnTo>
                  <a:pt x="745" y="1058"/>
                </a:lnTo>
                <a:lnTo>
                  <a:pt x="983" y="0"/>
                </a:lnTo>
                <a:lnTo>
                  <a:pt x="1225" y="846"/>
                </a:lnTo>
                <a:lnTo>
                  <a:pt x="1464" y="1481"/>
                </a:lnTo>
                <a:lnTo>
                  <a:pt x="1702" y="2329"/>
                </a:lnTo>
                <a:lnTo>
                  <a:pt x="1941" y="2964"/>
                </a:lnTo>
                <a:lnTo>
                  <a:pt x="2179" y="3387"/>
                </a:lnTo>
                <a:lnTo>
                  <a:pt x="2660" y="3387"/>
                </a:lnTo>
                <a:lnTo>
                  <a:pt x="3136" y="3176"/>
                </a:lnTo>
                <a:lnTo>
                  <a:pt x="3612" y="2964"/>
                </a:lnTo>
                <a:lnTo>
                  <a:pt x="3855" y="2752"/>
                </a:lnTo>
                <a:lnTo>
                  <a:pt x="3982" y="2708"/>
                </a:lnTo>
                <a:lnTo>
                  <a:pt x="4075" y="2708"/>
                </a:lnTo>
                <a:lnTo>
                  <a:pt x="4331" y="2752"/>
                </a:lnTo>
                <a:lnTo>
                  <a:pt x="4807" y="2964"/>
                </a:lnTo>
                <a:lnTo>
                  <a:pt x="4719" y="2871"/>
                </a:lnTo>
                <a:lnTo>
                  <a:pt x="4807" y="2911"/>
                </a:lnTo>
                <a:lnTo>
                  <a:pt x="4900" y="2911"/>
                </a:lnTo>
                <a:lnTo>
                  <a:pt x="5288" y="2964"/>
                </a:lnTo>
                <a:lnTo>
                  <a:pt x="5765" y="3387"/>
                </a:lnTo>
                <a:lnTo>
                  <a:pt x="6003" y="3387"/>
                </a:lnTo>
                <a:lnTo>
                  <a:pt x="6479" y="3599"/>
                </a:lnTo>
                <a:lnTo>
                  <a:pt x="6960" y="3811"/>
                </a:lnTo>
                <a:lnTo>
                  <a:pt x="7198" y="3811"/>
                </a:lnTo>
                <a:lnTo>
                  <a:pt x="30" y="3811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058840" y="2135160"/>
            <a:ext cx="2206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(ab’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anti I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6095880"/>
            <a:ext cx="2590920" cy="25909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656240"/>
            <a:ext cx="0" cy="40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36720" y="8686800"/>
            <a:ext cx="41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7880" y="4667400"/>
            <a:ext cx="2591280" cy="1371960"/>
          </a:xfrm>
          <a:custGeom>
            <a:avLst/>
            <a:gdLst/>
            <a:ahLst/>
            <a:rect l="0" t="0" r="r" b="b"/>
            <a:pathLst>
              <a:path w="7198" h="3811">
                <a:moveTo>
                  <a:pt x="30" y="3811"/>
                </a:moveTo>
                <a:lnTo>
                  <a:pt x="0" y="3722"/>
                </a:lnTo>
                <a:lnTo>
                  <a:pt x="268" y="3387"/>
                </a:lnTo>
                <a:lnTo>
                  <a:pt x="507" y="2541"/>
                </a:lnTo>
                <a:lnTo>
                  <a:pt x="745" y="1058"/>
                </a:lnTo>
                <a:lnTo>
                  <a:pt x="983" y="0"/>
                </a:lnTo>
                <a:lnTo>
                  <a:pt x="1225" y="846"/>
                </a:lnTo>
                <a:lnTo>
                  <a:pt x="1464" y="1481"/>
                </a:lnTo>
                <a:lnTo>
                  <a:pt x="1702" y="2329"/>
                </a:lnTo>
                <a:lnTo>
                  <a:pt x="1941" y="2964"/>
                </a:lnTo>
                <a:lnTo>
                  <a:pt x="2179" y="3387"/>
                </a:lnTo>
                <a:lnTo>
                  <a:pt x="2660" y="3387"/>
                </a:lnTo>
                <a:lnTo>
                  <a:pt x="3136" y="3176"/>
                </a:lnTo>
                <a:lnTo>
                  <a:pt x="3612" y="2964"/>
                </a:lnTo>
                <a:lnTo>
                  <a:pt x="3855" y="2752"/>
                </a:lnTo>
                <a:lnTo>
                  <a:pt x="3982" y="2708"/>
                </a:lnTo>
                <a:lnTo>
                  <a:pt x="4075" y="2708"/>
                </a:lnTo>
                <a:lnTo>
                  <a:pt x="4331" y="2752"/>
                </a:lnTo>
                <a:lnTo>
                  <a:pt x="4807" y="2964"/>
                </a:lnTo>
                <a:lnTo>
                  <a:pt x="4719" y="2871"/>
                </a:lnTo>
                <a:lnTo>
                  <a:pt x="4807" y="2911"/>
                </a:lnTo>
                <a:lnTo>
                  <a:pt x="4900" y="2911"/>
                </a:lnTo>
                <a:lnTo>
                  <a:pt x="5288" y="2964"/>
                </a:lnTo>
                <a:lnTo>
                  <a:pt x="5765" y="3387"/>
                </a:lnTo>
                <a:lnTo>
                  <a:pt x="6003" y="3387"/>
                </a:lnTo>
                <a:lnTo>
                  <a:pt x="6479" y="3599"/>
                </a:lnTo>
                <a:lnTo>
                  <a:pt x="6960" y="3811"/>
                </a:lnTo>
                <a:lnTo>
                  <a:pt x="7198" y="3811"/>
                </a:lnTo>
                <a:lnTo>
                  <a:pt x="30" y="3811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63760" y="60976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ti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76600" y="2247840"/>
            <a:ext cx="457560" cy="2381760"/>
          </a:xfrm>
          <a:custGeom>
            <a:avLst/>
            <a:gdLst/>
            <a:ahLst/>
            <a:rect l="0" t="0" r="r" b="b"/>
            <a:pathLst>
              <a:path w="1271" h="6616">
                <a:moveTo>
                  <a:pt x="0" y="6523"/>
                </a:moveTo>
                <a:lnTo>
                  <a:pt x="105" y="6616"/>
                </a:lnTo>
                <a:lnTo>
                  <a:pt x="264" y="6616"/>
                </a:lnTo>
                <a:lnTo>
                  <a:pt x="423" y="6616"/>
                </a:lnTo>
                <a:lnTo>
                  <a:pt x="582" y="6616"/>
                </a:lnTo>
                <a:lnTo>
                  <a:pt x="688" y="6616"/>
                </a:lnTo>
                <a:lnTo>
                  <a:pt x="847" y="6523"/>
                </a:lnTo>
                <a:lnTo>
                  <a:pt x="953" y="6523"/>
                </a:lnTo>
                <a:lnTo>
                  <a:pt x="1059" y="6523"/>
                </a:lnTo>
                <a:lnTo>
                  <a:pt x="1165" y="6523"/>
                </a:lnTo>
                <a:lnTo>
                  <a:pt x="1271" y="6431"/>
                </a:lnTo>
                <a:lnTo>
                  <a:pt x="1165" y="6431"/>
                </a:lnTo>
                <a:lnTo>
                  <a:pt x="1112" y="6250"/>
                </a:lnTo>
                <a:lnTo>
                  <a:pt x="1006" y="6065"/>
                </a:lnTo>
                <a:lnTo>
                  <a:pt x="900" y="5972"/>
                </a:lnTo>
                <a:lnTo>
                  <a:pt x="794" y="5880"/>
                </a:lnTo>
                <a:lnTo>
                  <a:pt x="688" y="5791"/>
                </a:lnTo>
                <a:lnTo>
                  <a:pt x="582" y="5606"/>
                </a:lnTo>
                <a:lnTo>
                  <a:pt x="529" y="5421"/>
                </a:lnTo>
                <a:lnTo>
                  <a:pt x="529" y="5240"/>
                </a:lnTo>
                <a:lnTo>
                  <a:pt x="476" y="5055"/>
                </a:lnTo>
                <a:lnTo>
                  <a:pt x="423" y="4869"/>
                </a:lnTo>
                <a:lnTo>
                  <a:pt x="370" y="4595"/>
                </a:lnTo>
                <a:lnTo>
                  <a:pt x="370" y="4410"/>
                </a:lnTo>
                <a:lnTo>
                  <a:pt x="317" y="4225"/>
                </a:lnTo>
                <a:lnTo>
                  <a:pt x="317" y="4044"/>
                </a:lnTo>
                <a:lnTo>
                  <a:pt x="317" y="3859"/>
                </a:lnTo>
                <a:lnTo>
                  <a:pt x="317" y="3674"/>
                </a:lnTo>
                <a:lnTo>
                  <a:pt x="317" y="3493"/>
                </a:lnTo>
                <a:lnTo>
                  <a:pt x="317" y="3308"/>
                </a:lnTo>
                <a:lnTo>
                  <a:pt x="317" y="3123"/>
                </a:lnTo>
                <a:lnTo>
                  <a:pt x="264" y="2942"/>
                </a:lnTo>
                <a:lnTo>
                  <a:pt x="264" y="2757"/>
                </a:lnTo>
                <a:lnTo>
                  <a:pt x="264" y="2571"/>
                </a:lnTo>
                <a:lnTo>
                  <a:pt x="211" y="2391"/>
                </a:lnTo>
                <a:lnTo>
                  <a:pt x="211" y="2205"/>
                </a:lnTo>
                <a:lnTo>
                  <a:pt x="211" y="2020"/>
                </a:lnTo>
                <a:lnTo>
                  <a:pt x="211" y="1839"/>
                </a:lnTo>
                <a:lnTo>
                  <a:pt x="158" y="1653"/>
                </a:lnTo>
                <a:lnTo>
                  <a:pt x="158" y="1468"/>
                </a:lnTo>
                <a:lnTo>
                  <a:pt x="105" y="1287"/>
                </a:lnTo>
                <a:lnTo>
                  <a:pt x="105" y="1102"/>
                </a:lnTo>
                <a:lnTo>
                  <a:pt x="105" y="917"/>
                </a:lnTo>
                <a:lnTo>
                  <a:pt x="52" y="736"/>
                </a:lnTo>
                <a:lnTo>
                  <a:pt x="52" y="551"/>
                </a:lnTo>
                <a:lnTo>
                  <a:pt x="52" y="366"/>
                </a:lnTo>
                <a:lnTo>
                  <a:pt x="52" y="185"/>
                </a:lnTo>
                <a:lnTo>
                  <a:pt x="105" y="0"/>
                </a:lnTo>
                <a:lnTo>
                  <a:pt x="0" y="6523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95400" y="4357800"/>
            <a:ext cx="2514960" cy="286200"/>
          </a:xfrm>
          <a:custGeom>
            <a:avLst/>
            <a:gdLst/>
            <a:ahLst/>
            <a:rect l="0" t="0" r="r" b="b"/>
            <a:pathLst>
              <a:path w="6986" h="795">
                <a:moveTo>
                  <a:pt x="0" y="583"/>
                </a:moveTo>
                <a:lnTo>
                  <a:pt x="101" y="637"/>
                </a:lnTo>
                <a:lnTo>
                  <a:pt x="207" y="583"/>
                </a:lnTo>
                <a:lnTo>
                  <a:pt x="308" y="530"/>
                </a:lnTo>
                <a:lnTo>
                  <a:pt x="410" y="530"/>
                </a:lnTo>
                <a:lnTo>
                  <a:pt x="511" y="530"/>
                </a:lnTo>
                <a:lnTo>
                  <a:pt x="617" y="530"/>
                </a:lnTo>
                <a:lnTo>
                  <a:pt x="718" y="477"/>
                </a:lnTo>
                <a:lnTo>
                  <a:pt x="820" y="424"/>
                </a:lnTo>
                <a:lnTo>
                  <a:pt x="926" y="424"/>
                </a:lnTo>
                <a:lnTo>
                  <a:pt x="1027" y="424"/>
                </a:lnTo>
                <a:lnTo>
                  <a:pt x="1128" y="424"/>
                </a:lnTo>
                <a:lnTo>
                  <a:pt x="1234" y="424"/>
                </a:lnTo>
                <a:lnTo>
                  <a:pt x="1336" y="371"/>
                </a:lnTo>
                <a:lnTo>
                  <a:pt x="1437" y="371"/>
                </a:lnTo>
                <a:lnTo>
                  <a:pt x="1538" y="371"/>
                </a:lnTo>
                <a:lnTo>
                  <a:pt x="1644" y="371"/>
                </a:lnTo>
                <a:lnTo>
                  <a:pt x="1746" y="424"/>
                </a:lnTo>
                <a:lnTo>
                  <a:pt x="1847" y="477"/>
                </a:lnTo>
                <a:lnTo>
                  <a:pt x="1953" y="477"/>
                </a:lnTo>
                <a:lnTo>
                  <a:pt x="2054" y="530"/>
                </a:lnTo>
                <a:lnTo>
                  <a:pt x="2257" y="530"/>
                </a:lnTo>
                <a:lnTo>
                  <a:pt x="2363" y="530"/>
                </a:lnTo>
                <a:lnTo>
                  <a:pt x="2465" y="583"/>
                </a:lnTo>
                <a:lnTo>
                  <a:pt x="2566" y="530"/>
                </a:lnTo>
                <a:lnTo>
                  <a:pt x="2672" y="530"/>
                </a:lnTo>
                <a:lnTo>
                  <a:pt x="2773" y="583"/>
                </a:lnTo>
                <a:lnTo>
                  <a:pt x="2928" y="637"/>
                </a:lnTo>
                <a:lnTo>
                  <a:pt x="3082" y="637"/>
                </a:lnTo>
                <a:lnTo>
                  <a:pt x="3183" y="637"/>
                </a:lnTo>
                <a:lnTo>
                  <a:pt x="3285" y="637"/>
                </a:lnTo>
                <a:lnTo>
                  <a:pt x="3391" y="637"/>
                </a:lnTo>
                <a:lnTo>
                  <a:pt x="3492" y="637"/>
                </a:lnTo>
                <a:lnTo>
                  <a:pt x="3594" y="637"/>
                </a:lnTo>
                <a:lnTo>
                  <a:pt x="3700" y="637"/>
                </a:lnTo>
                <a:lnTo>
                  <a:pt x="3855" y="637"/>
                </a:lnTo>
                <a:lnTo>
                  <a:pt x="3956" y="637"/>
                </a:lnTo>
                <a:lnTo>
                  <a:pt x="4057" y="637"/>
                </a:lnTo>
                <a:lnTo>
                  <a:pt x="4159" y="637"/>
                </a:lnTo>
                <a:lnTo>
                  <a:pt x="4265" y="637"/>
                </a:lnTo>
                <a:lnTo>
                  <a:pt x="4366" y="689"/>
                </a:lnTo>
                <a:lnTo>
                  <a:pt x="4468" y="689"/>
                </a:lnTo>
                <a:lnTo>
                  <a:pt x="4573" y="742"/>
                </a:lnTo>
                <a:lnTo>
                  <a:pt x="4675" y="795"/>
                </a:lnTo>
                <a:lnTo>
                  <a:pt x="4776" y="795"/>
                </a:lnTo>
                <a:lnTo>
                  <a:pt x="4878" y="795"/>
                </a:lnTo>
                <a:lnTo>
                  <a:pt x="4983" y="795"/>
                </a:lnTo>
                <a:lnTo>
                  <a:pt x="5085" y="795"/>
                </a:lnTo>
                <a:lnTo>
                  <a:pt x="5186" y="795"/>
                </a:lnTo>
                <a:lnTo>
                  <a:pt x="5292" y="795"/>
                </a:lnTo>
                <a:lnTo>
                  <a:pt x="5394" y="795"/>
                </a:lnTo>
                <a:lnTo>
                  <a:pt x="5495" y="795"/>
                </a:lnTo>
                <a:lnTo>
                  <a:pt x="5601" y="795"/>
                </a:lnTo>
                <a:lnTo>
                  <a:pt x="5702" y="742"/>
                </a:lnTo>
                <a:lnTo>
                  <a:pt x="5804" y="742"/>
                </a:lnTo>
                <a:lnTo>
                  <a:pt x="5905" y="742"/>
                </a:lnTo>
                <a:lnTo>
                  <a:pt x="6011" y="742"/>
                </a:lnTo>
                <a:lnTo>
                  <a:pt x="6112" y="795"/>
                </a:lnTo>
                <a:lnTo>
                  <a:pt x="6214" y="795"/>
                </a:lnTo>
                <a:lnTo>
                  <a:pt x="6320" y="795"/>
                </a:lnTo>
                <a:lnTo>
                  <a:pt x="6421" y="795"/>
                </a:lnTo>
                <a:lnTo>
                  <a:pt x="6522" y="795"/>
                </a:lnTo>
                <a:lnTo>
                  <a:pt x="6624" y="795"/>
                </a:lnTo>
                <a:lnTo>
                  <a:pt x="6730" y="742"/>
                </a:lnTo>
                <a:lnTo>
                  <a:pt x="6831" y="637"/>
                </a:lnTo>
                <a:lnTo>
                  <a:pt x="6884" y="530"/>
                </a:lnTo>
                <a:lnTo>
                  <a:pt x="6884" y="424"/>
                </a:lnTo>
                <a:lnTo>
                  <a:pt x="6933" y="318"/>
                </a:lnTo>
                <a:lnTo>
                  <a:pt x="6933" y="212"/>
                </a:lnTo>
                <a:lnTo>
                  <a:pt x="6933" y="105"/>
                </a:lnTo>
                <a:lnTo>
                  <a:pt x="6933" y="0"/>
                </a:lnTo>
                <a:lnTo>
                  <a:pt x="6986" y="583"/>
                </a:lnTo>
                <a:lnTo>
                  <a:pt x="0" y="583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4400" y="6172200"/>
            <a:ext cx="457560" cy="2514960"/>
          </a:xfrm>
          <a:custGeom>
            <a:avLst/>
            <a:gdLst/>
            <a:ahLst/>
            <a:rect l="0" t="0" r="r" b="b"/>
            <a:pathLst>
              <a:path w="1271" h="6986">
                <a:moveTo>
                  <a:pt x="0" y="6986"/>
                </a:moveTo>
                <a:lnTo>
                  <a:pt x="39" y="6875"/>
                </a:lnTo>
                <a:lnTo>
                  <a:pt x="1271" y="6986"/>
                </a:lnTo>
                <a:lnTo>
                  <a:pt x="1231" y="6875"/>
                </a:lnTo>
                <a:lnTo>
                  <a:pt x="1231" y="6769"/>
                </a:lnTo>
                <a:lnTo>
                  <a:pt x="1191" y="6659"/>
                </a:lnTo>
                <a:lnTo>
                  <a:pt x="1112" y="6602"/>
                </a:lnTo>
                <a:lnTo>
                  <a:pt x="1032" y="6602"/>
                </a:lnTo>
                <a:lnTo>
                  <a:pt x="1032" y="6496"/>
                </a:lnTo>
                <a:lnTo>
                  <a:pt x="1032" y="6386"/>
                </a:lnTo>
                <a:lnTo>
                  <a:pt x="993" y="6276"/>
                </a:lnTo>
                <a:lnTo>
                  <a:pt x="913" y="6165"/>
                </a:lnTo>
                <a:lnTo>
                  <a:pt x="874" y="6059"/>
                </a:lnTo>
                <a:lnTo>
                  <a:pt x="834" y="5949"/>
                </a:lnTo>
                <a:lnTo>
                  <a:pt x="794" y="5839"/>
                </a:lnTo>
                <a:lnTo>
                  <a:pt x="794" y="5729"/>
                </a:lnTo>
                <a:lnTo>
                  <a:pt x="755" y="5623"/>
                </a:lnTo>
                <a:lnTo>
                  <a:pt x="755" y="5513"/>
                </a:lnTo>
                <a:lnTo>
                  <a:pt x="715" y="5402"/>
                </a:lnTo>
                <a:lnTo>
                  <a:pt x="675" y="5292"/>
                </a:lnTo>
                <a:lnTo>
                  <a:pt x="675" y="5186"/>
                </a:lnTo>
                <a:lnTo>
                  <a:pt x="595" y="5076"/>
                </a:lnTo>
                <a:lnTo>
                  <a:pt x="555" y="4856"/>
                </a:lnTo>
                <a:lnTo>
                  <a:pt x="515" y="4750"/>
                </a:lnTo>
                <a:lnTo>
                  <a:pt x="515" y="4640"/>
                </a:lnTo>
                <a:lnTo>
                  <a:pt x="515" y="4529"/>
                </a:lnTo>
                <a:lnTo>
                  <a:pt x="515" y="4419"/>
                </a:lnTo>
                <a:lnTo>
                  <a:pt x="515" y="4313"/>
                </a:lnTo>
                <a:lnTo>
                  <a:pt x="555" y="4203"/>
                </a:lnTo>
                <a:lnTo>
                  <a:pt x="635" y="4040"/>
                </a:lnTo>
                <a:lnTo>
                  <a:pt x="675" y="3930"/>
                </a:lnTo>
                <a:lnTo>
                  <a:pt x="715" y="3819"/>
                </a:lnTo>
                <a:lnTo>
                  <a:pt x="715" y="3713"/>
                </a:lnTo>
                <a:lnTo>
                  <a:pt x="755" y="3603"/>
                </a:lnTo>
                <a:lnTo>
                  <a:pt x="755" y="3492"/>
                </a:lnTo>
                <a:lnTo>
                  <a:pt x="755" y="3382"/>
                </a:lnTo>
                <a:lnTo>
                  <a:pt x="755" y="3276"/>
                </a:lnTo>
                <a:lnTo>
                  <a:pt x="715" y="3108"/>
                </a:lnTo>
                <a:lnTo>
                  <a:pt x="715" y="2945"/>
                </a:lnTo>
                <a:lnTo>
                  <a:pt x="675" y="2839"/>
                </a:lnTo>
                <a:lnTo>
                  <a:pt x="635" y="2729"/>
                </a:lnTo>
                <a:lnTo>
                  <a:pt x="635" y="2619"/>
                </a:lnTo>
                <a:lnTo>
                  <a:pt x="635" y="2509"/>
                </a:lnTo>
                <a:lnTo>
                  <a:pt x="595" y="2403"/>
                </a:lnTo>
                <a:lnTo>
                  <a:pt x="595" y="2293"/>
                </a:lnTo>
                <a:lnTo>
                  <a:pt x="555" y="2129"/>
                </a:lnTo>
                <a:lnTo>
                  <a:pt x="555" y="2019"/>
                </a:lnTo>
                <a:lnTo>
                  <a:pt x="555" y="1909"/>
                </a:lnTo>
                <a:lnTo>
                  <a:pt x="515" y="1799"/>
                </a:lnTo>
                <a:lnTo>
                  <a:pt x="476" y="1693"/>
                </a:lnTo>
                <a:lnTo>
                  <a:pt x="396" y="1636"/>
                </a:lnTo>
                <a:lnTo>
                  <a:pt x="396" y="1530"/>
                </a:lnTo>
                <a:lnTo>
                  <a:pt x="396" y="1419"/>
                </a:lnTo>
                <a:lnTo>
                  <a:pt x="317" y="1309"/>
                </a:lnTo>
                <a:lnTo>
                  <a:pt x="277" y="1199"/>
                </a:lnTo>
                <a:lnTo>
                  <a:pt x="198" y="1093"/>
                </a:lnTo>
                <a:lnTo>
                  <a:pt x="158" y="983"/>
                </a:lnTo>
                <a:lnTo>
                  <a:pt x="158" y="873"/>
                </a:lnTo>
                <a:lnTo>
                  <a:pt x="119" y="762"/>
                </a:lnTo>
                <a:lnTo>
                  <a:pt x="119" y="657"/>
                </a:lnTo>
                <a:lnTo>
                  <a:pt x="79" y="546"/>
                </a:lnTo>
                <a:lnTo>
                  <a:pt x="79" y="436"/>
                </a:lnTo>
                <a:lnTo>
                  <a:pt x="79" y="326"/>
                </a:lnTo>
                <a:lnTo>
                  <a:pt x="79" y="220"/>
                </a:lnTo>
                <a:lnTo>
                  <a:pt x="79" y="110"/>
                </a:lnTo>
                <a:lnTo>
                  <a:pt x="39" y="0"/>
                </a:lnTo>
                <a:lnTo>
                  <a:pt x="158" y="436"/>
                </a:lnTo>
                <a:lnTo>
                  <a:pt x="0" y="6986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576520" y="8567640"/>
            <a:ext cx="2087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85920" y="4159080"/>
            <a:ext cx="32576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fluoresc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1720" y="7221600"/>
            <a:ext cx="763920" cy="1448280"/>
          </a:xfrm>
          <a:custGeom>
            <a:avLst/>
            <a:gdLst/>
            <a:ahLst/>
            <a:rect l="0" t="0" r="r" b="b"/>
            <a:pathLst>
              <a:path w="2122" h="4023">
                <a:moveTo>
                  <a:pt x="74" y="3970"/>
                </a:moveTo>
                <a:lnTo>
                  <a:pt x="114" y="3812"/>
                </a:lnTo>
                <a:lnTo>
                  <a:pt x="114" y="3706"/>
                </a:lnTo>
                <a:lnTo>
                  <a:pt x="149" y="3547"/>
                </a:lnTo>
                <a:lnTo>
                  <a:pt x="149" y="3441"/>
                </a:lnTo>
                <a:lnTo>
                  <a:pt x="189" y="3282"/>
                </a:lnTo>
                <a:lnTo>
                  <a:pt x="229" y="3177"/>
                </a:lnTo>
                <a:lnTo>
                  <a:pt x="264" y="3071"/>
                </a:lnTo>
                <a:lnTo>
                  <a:pt x="149" y="3018"/>
                </a:lnTo>
                <a:lnTo>
                  <a:pt x="264" y="2805"/>
                </a:lnTo>
                <a:lnTo>
                  <a:pt x="149" y="2699"/>
                </a:lnTo>
                <a:lnTo>
                  <a:pt x="189" y="2541"/>
                </a:lnTo>
                <a:lnTo>
                  <a:pt x="149" y="2435"/>
                </a:lnTo>
                <a:lnTo>
                  <a:pt x="114" y="2329"/>
                </a:lnTo>
                <a:lnTo>
                  <a:pt x="149" y="2223"/>
                </a:lnTo>
                <a:lnTo>
                  <a:pt x="114" y="2117"/>
                </a:lnTo>
                <a:lnTo>
                  <a:pt x="114" y="2011"/>
                </a:lnTo>
                <a:lnTo>
                  <a:pt x="114" y="1906"/>
                </a:lnTo>
                <a:lnTo>
                  <a:pt x="114" y="1800"/>
                </a:lnTo>
                <a:lnTo>
                  <a:pt x="114" y="1694"/>
                </a:lnTo>
                <a:lnTo>
                  <a:pt x="114" y="1588"/>
                </a:lnTo>
                <a:lnTo>
                  <a:pt x="74" y="1482"/>
                </a:lnTo>
                <a:lnTo>
                  <a:pt x="39" y="1376"/>
                </a:lnTo>
                <a:lnTo>
                  <a:pt x="39" y="1112"/>
                </a:lnTo>
                <a:lnTo>
                  <a:pt x="39" y="1005"/>
                </a:lnTo>
                <a:lnTo>
                  <a:pt x="39" y="899"/>
                </a:lnTo>
                <a:lnTo>
                  <a:pt x="0" y="740"/>
                </a:lnTo>
                <a:lnTo>
                  <a:pt x="0" y="635"/>
                </a:lnTo>
                <a:lnTo>
                  <a:pt x="74" y="529"/>
                </a:lnTo>
                <a:lnTo>
                  <a:pt x="149" y="476"/>
                </a:lnTo>
                <a:lnTo>
                  <a:pt x="229" y="423"/>
                </a:lnTo>
                <a:lnTo>
                  <a:pt x="304" y="317"/>
                </a:lnTo>
                <a:lnTo>
                  <a:pt x="379" y="211"/>
                </a:lnTo>
                <a:lnTo>
                  <a:pt x="454" y="105"/>
                </a:lnTo>
                <a:lnTo>
                  <a:pt x="529" y="52"/>
                </a:lnTo>
                <a:lnTo>
                  <a:pt x="604" y="52"/>
                </a:lnTo>
                <a:lnTo>
                  <a:pt x="683" y="0"/>
                </a:lnTo>
                <a:lnTo>
                  <a:pt x="758" y="0"/>
                </a:lnTo>
                <a:lnTo>
                  <a:pt x="833" y="52"/>
                </a:lnTo>
                <a:lnTo>
                  <a:pt x="908" y="52"/>
                </a:lnTo>
                <a:lnTo>
                  <a:pt x="983" y="105"/>
                </a:lnTo>
                <a:lnTo>
                  <a:pt x="1063" y="158"/>
                </a:lnTo>
                <a:lnTo>
                  <a:pt x="1173" y="211"/>
                </a:lnTo>
                <a:lnTo>
                  <a:pt x="1248" y="264"/>
                </a:lnTo>
                <a:lnTo>
                  <a:pt x="1288" y="370"/>
                </a:lnTo>
                <a:lnTo>
                  <a:pt x="1288" y="529"/>
                </a:lnTo>
                <a:lnTo>
                  <a:pt x="1288" y="635"/>
                </a:lnTo>
                <a:lnTo>
                  <a:pt x="1363" y="740"/>
                </a:lnTo>
                <a:lnTo>
                  <a:pt x="1438" y="846"/>
                </a:lnTo>
                <a:lnTo>
                  <a:pt x="1592" y="899"/>
                </a:lnTo>
                <a:lnTo>
                  <a:pt x="1667" y="1218"/>
                </a:lnTo>
                <a:lnTo>
                  <a:pt x="1667" y="1112"/>
                </a:lnTo>
                <a:lnTo>
                  <a:pt x="1707" y="1429"/>
                </a:lnTo>
                <a:lnTo>
                  <a:pt x="1628" y="1165"/>
                </a:lnTo>
                <a:lnTo>
                  <a:pt x="1742" y="1323"/>
                </a:lnTo>
                <a:lnTo>
                  <a:pt x="1742" y="1429"/>
                </a:lnTo>
                <a:lnTo>
                  <a:pt x="1707" y="1535"/>
                </a:lnTo>
                <a:lnTo>
                  <a:pt x="1667" y="1641"/>
                </a:lnTo>
                <a:lnTo>
                  <a:pt x="1628" y="1747"/>
                </a:lnTo>
                <a:lnTo>
                  <a:pt x="1592" y="1853"/>
                </a:lnTo>
                <a:lnTo>
                  <a:pt x="1517" y="1958"/>
                </a:lnTo>
                <a:lnTo>
                  <a:pt x="1517" y="2064"/>
                </a:lnTo>
                <a:lnTo>
                  <a:pt x="1517" y="2170"/>
                </a:lnTo>
                <a:lnTo>
                  <a:pt x="1517" y="2276"/>
                </a:lnTo>
                <a:lnTo>
                  <a:pt x="1553" y="2382"/>
                </a:lnTo>
                <a:lnTo>
                  <a:pt x="1667" y="2541"/>
                </a:lnTo>
                <a:lnTo>
                  <a:pt x="1628" y="2699"/>
                </a:lnTo>
                <a:lnTo>
                  <a:pt x="1667" y="2858"/>
                </a:lnTo>
                <a:lnTo>
                  <a:pt x="1742" y="2911"/>
                </a:lnTo>
                <a:lnTo>
                  <a:pt x="1742" y="3018"/>
                </a:lnTo>
                <a:lnTo>
                  <a:pt x="1707" y="3124"/>
                </a:lnTo>
                <a:lnTo>
                  <a:pt x="1742" y="3282"/>
                </a:lnTo>
                <a:lnTo>
                  <a:pt x="1782" y="3388"/>
                </a:lnTo>
                <a:lnTo>
                  <a:pt x="1892" y="3494"/>
                </a:lnTo>
                <a:lnTo>
                  <a:pt x="2007" y="3600"/>
                </a:lnTo>
                <a:lnTo>
                  <a:pt x="2122" y="3706"/>
                </a:lnTo>
                <a:lnTo>
                  <a:pt x="2082" y="3812"/>
                </a:lnTo>
                <a:lnTo>
                  <a:pt x="2047" y="3917"/>
                </a:lnTo>
                <a:lnTo>
                  <a:pt x="1972" y="3970"/>
                </a:lnTo>
                <a:lnTo>
                  <a:pt x="1892" y="4023"/>
                </a:lnTo>
                <a:lnTo>
                  <a:pt x="1817" y="4023"/>
                </a:lnTo>
                <a:lnTo>
                  <a:pt x="74" y="397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09960" y="6743880"/>
            <a:ext cx="991080" cy="800640"/>
          </a:xfrm>
          <a:custGeom>
            <a:avLst/>
            <a:gdLst/>
            <a:ahLst/>
            <a:rect l="0" t="0" r="r" b="b"/>
            <a:pathLst>
              <a:path w="2753" h="2224">
                <a:moveTo>
                  <a:pt x="0" y="1218"/>
                </a:moveTo>
                <a:lnTo>
                  <a:pt x="0" y="1112"/>
                </a:lnTo>
                <a:lnTo>
                  <a:pt x="0" y="1006"/>
                </a:lnTo>
                <a:lnTo>
                  <a:pt x="105" y="1006"/>
                </a:lnTo>
                <a:lnTo>
                  <a:pt x="264" y="1006"/>
                </a:lnTo>
                <a:lnTo>
                  <a:pt x="370" y="1006"/>
                </a:lnTo>
                <a:lnTo>
                  <a:pt x="476" y="953"/>
                </a:lnTo>
                <a:lnTo>
                  <a:pt x="423" y="847"/>
                </a:lnTo>
                <a:lnTo>
                  <a:pt x="317" y="794"/>
                </a:lnTo>
                <a:lnTo>
                  <a:pt x="211" y="741"/>
                </a:lnTo>
                <a:lnTo>
                  <a:pt x="105" y="688"/>
                </a:lnTo>
                <a:lnTo>
                  <a:pt x="0" y="688"/>
                </a:lnTo>
                <a:lnTo>
                  <a:pt x="0" y="583"/>
                </a:lnTo>
                <a:lnTo>
                  <a:pt x="105" y="529"/>
                </a:lnTo>
                <a:lnTo>
                  <a:pt x="211" y="476"/>
                </a:lnTo>
                <a:lnTo>
                  <a:pt x="370" y="583"/>
                </a:lnTo>
                <a:lnTo>
                  <a:pt x="423" y="476"/>
                </a:lnTo>
                <a:lnTo>
                  <a:pt x="476" y="370"/>
                </a:lnTo>
                <a:lnTo>
                  <a:pt x="635" y="317"/>
                </a:lnTo>
                <a:lnTo>
                  <a:pt x="741" y="317"/>
                </a:lnTo>
                <a:lnTo>
                  <a:pt x="847" y="264"/>
                </a:lnTo>
                <a:lnTo>
                  <a:pt x="1006" y="211"/>
                </a:lnTo>
                <a:lnTo>
                  <a:pt x="1112" y="158"/>
                </a:lnTo>
                <a:lnTo>
                  <a:pt x="1218" y="211"/>
                </a:lnTo>
                <a:lnTo>
                  <a:pt x="1323" y="158"/>
                </a:lnTo>
                <a:lnTo>
                  <a:pt x="1429" y="158"/>
                </a:lnTo>
                <a:lnTo>
                  <a:pt x="1535" y="158"/>
                </a:lnTo>
                <a:lnTo>
                  <a:pt x="1641" y="105"/>
                </a:lnTo>
                <a:lnTo>
                  <a:pt x="1747" y="52"/>
                </a:lnTo>
                <a:lnTo>
                  <a:pt x="1853" y="52"/>
                </a:lnTo>
                <a:lnTo>
                  <a:pt x="2011" y="52"/>
                </a:lnTo>
                <a:lnTo>
                  <a:pt x="2118" y="0"/>
                </a:lnTo>
                <a:lnTo>
                  <a:pt x="2064" y="105"/>
                </a:lnTo>
                <a:lnTo>
                  <a:pt x="2064" y="211"/>
                </a:lnTo>
                <a:lnTo>
                  <a:pt x="2118" y="317"/>
                </a:lnTo>
                <a:lnTo>
                  <a:pt x="2224" y="317"/>
                </a:lnTo>
                <a:lnTo>
                  <a:pt x="2224" y="423"/>
                </a:lnTo>
                <a:lnTo>
                  <a:pt x="2277" y="529"/>
                </a:lnTo>
                <a:lnTo>
                  <a:pt x="2383" y="583"/>
                </a:lnTo>
                <a:lnTo>
                  <a:pt x="2489" y="636"/>
                </a:lnTo>
                <a:lnTo>
                  <a:pt x="2647" y="636"/>
                </a:lnTo>
                <a:lnTo>
                  <a:pt x="2753" y="688"/>
                </a:lnTo>
                <a:lnTo>
                  <a:pt x="2700" y="847"/>
                </a:lnTo>
                <a:lnTo>
                  <a:pt x="2753" y="953"/>
                </a:lnTo>
                <a:lnTo>
                  <a:pt x="2700" y="1059"/>
                </a:lnTo>
                <a:lnTo>
                  <a:pt x="2700" y="1165"/>
                </a:lnTo>
                <a:lnTo>
                  <a:pt x="2594" y="1165"/>
                </a:lnTo>
                <a:lnTo>
                  <a:pt x="2383" y="1218"/>
                </a:lnTo>
                <a:lnTo>
                  <a:pt x="2330" y="1323"/>
                </a:lnTo>
                <a:lnTo>
                  <a:pt x="2436" y="1376"/>
                </a:lnTo>
                <a:lnTo>
                  <a:pt x="2330" y="1535"/>
                </a:lnTo>
                <a:lnTo>
                  <a:pt x="2277" y="1641"/>
                </a:lnTo>
                <a:lnTo>
                  <a:pt x="2171" y="1695"/>
                </a:lnTo>
                <a:lnTo>
                  <a:pt x="2064" y="1695"/>
                </a:lnTo>
                <a:lnTo>
                  <a:pt x="2011" y="1801"/>
                </a:lnTo>
                <a:lnTo>
                  <a:pt x="1906" y="1854"/>
                </a:lnTo>
                <a:lnTo>
                  <a:pt x="1853" y="2012"/>
                </a:lnTo>
                <a:lnTo>
                  <a:pt x="1800" y="2118"/>
                </a:lnTo>
                <a:lnTo>
                  <a:pt x="1694" y="2171"/>
                </a:lnTo>
                <a:lnTo>
                  <a:pt x="1429" y="2171"/>
                </a:lnTo>
                <a:lnTo>
                  <a:pt x="1323" y="2171"/>
                </a:lnTo>
                <a:lnTo>
                  <a:pt x="1218" y="2118"/>
                </a:lnTo>
                <a:lnTo>
                  <a:pt x="1165" y="1959"/>
                </a:lnTo>
                <a:lnTo>
                  <a:pt x="1059" y="1854"/>
                </a:lnTo>
                <a:lnTo>
                  <a:pt x="953" y="1907"/>
                </a:lnTo>
                <a:lnTo>
                  <a:pt x="847" y="2118"/>
                </a:lnTo>
                <a:lnTo>
                  <a:pt x="847" y="2224"/>
                </a:lnTo>
                <a:lnTo>
                  <a:pt x="741" y="2118"/>
                </a:lnTo>
                <a:lnTo>
                  <a:pt x="687" y="1959"/>
                </a:lnTo>
                <a:lnTo>
                  <a:pt x="582" y="1854"/>
                </a:lnTo>
                <a:lnTo>
                  <a:pt x="423" y="1748"/>
                </a:lnTo>
                <a:lnTo>
                  <a:pt x="317" y="1695"/>
                </a:lnTo>
                <a:lnTo>
                  <a:pt x="211" y="1695"/>
                </a:lnTo>
                <a:lnTo>
                  <a:pt x="211" y="1588"/>
                </a:lnTo>
                <a:lnTo>
                  <a:pt x="105" y="1535"/>
                </a:lnTo>
                <a:lnTo>
                  <a:pt x="52" y="1429"/>
                </a:lnTo>
                <a:lnTo>
                  <a:pt x="52" y="1323"/>
                </a:lnTo>
                <a:lnTo>
                  <a:pt x="105" y="1218"/>
                </a:lnTo>
                <a:lnTo>
                  <a:pt x="264" y="1059"/>
                </a:lnTo>
                <a:lnTo>
                  <a:pt x="0" y="1218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23920" y="6688080"/>
            <a:ext cx="270360" cy="340200"/>
          </a:xfrm>
          <a:custGeom>
            <a:avLst/>
            <a:gdLst/>
            <a:ahLst/>
            <a:rect l="0" t="0" r="r" b="b"/>
            <a:pathLst>
              <a:path w="751" h="945">
                <a:moveTo>
                  <a:pt x="234" y="48"/>
                </a:moveTo>
                <a:lnTo>
                  <a:pt x="185" y="141"/>
                </a:lnTo>
                <a:lnTo>
                  <a:pt x="141" y="239"/>
                </a:lnTo>
                <a:lnTo>
                  <a:pt x="141" y="331"/>
                </a:lnTo>
                <a:lnTo>
                  <a:pt x="141" y="424"/>
                </a:lnTo>
                <a:lnTo>
                  <a:pt x="92" y="521"/>
                </a:lnTo>
                <a:lnTo>
                  <a:pt x="92" y="613"/>
                </a:lnTo>
                <a:lnTo>
                  <a:pt x="44" y="706"/>
                </a:lnTo>
                <a:lnTo>
                  <a:pt x="0" y="804"/>
                </a:lnTo>
                <a:lnTo>
                  <a:pt x="44" y="897"/>
                </a:lnTo>
                <a:lnTo>
                  <a:pt x="185" y="945"/>
                </a:lnTo>
                <a:lnTo>
                  <a:pt x="283" y="945"/>
                </a:lnTo>
                <a:lnTo>
                  <a:pt x="468" y="945"/>
                </a:lnTo>
                <a:lnTo>
                  <a:pt x="566" y="945"/>
                </a:lnTo>
                <a:lnTo>
                  <a:pt x="610" y="848"/>
                </a:lnTo>
                <a:lnTo>
                  <a:pt x="566" y="756"/>
                </a:lnTo>
                <a:lnTo>
                  <a:pt x="566" y="662"/>
                </a:lnTo>
                <a:lnTo>
                  <a:pt x="659" y="565"/>
                </a:lnTo>
                <a:lnTo>
                  <a:pt x="751" y="472"/>
                </a:lnTo>
                <a:lnTo>
                  <a:pt x="707" y="380"/>
                </a:lnTo>
                <a:lnTo>
                  <a:pt x="610" y="283"/>
                </a:lnTo>
                <a:lnTo>
                  <a:pt x="610" y="189"/>
                </a:lnTo>
                <a:lnTo>
                  <a:pt x="610" y="97"/>
                </a:lnTo>
                <a:lnTo>
                  <a:pt x="516" y="48"/>
                </a:lnTo>
                <a:lnTo>
                  <a:pt x="424" y="48"/>
                </a:lnTo>
                <a:lnTo>
                  <a:pt x="327" y="48"/>
                </a:lnTo>
                <a:lnTo>
                  <a:pt x="234" y="0"/>
                </a:lnTo>
                <a:lnTo>
                  <a:pt x="185" y="97"/>
                </a:lnTo>
                <a:lnTo>
                  <a:pt x="234" y="48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93760" y="3538440"/>
            <a:ext cx="338400" cy="660600"/>
          </a:xfrm>
          <a:custGeom>
            <a:avLst/>
            <a:gdLst/>
            <a:ahLst/>
            <a:rect l="0" t="0" r="r" b="b"/>
            <a:pathLst>
              <a:path w="940" h="1835">
                <a:moveTo>
                  <a:pt x="229" y="0"/>
                </a:moveTo>
                <a:lnTo>
                  <a:pt x="229" y="48"/>
                </a:lnTo>
                <a:lnTo>
                  <a:pt x="207" y="97"/>
                </a:lnTo>
                <a:lnTo>
                  <a:pt x="189" y="194"/>
                </a:lnTo>
                <a:lnTo>
                  <a:pt x="189" y="268"/>
                </a:lnTo>
                <a:lnTo>
                  <a:pt x="167" y="339"/>
                </a:lnTo>
                <a:lnTo>
                  <a:pt x="145" y="533"/>
                </a:lnTo>
                <a:lnTo>
                  <a:pt x="105" y="630"/>
                </a:lnTo>
                <a:lnTo>
                  <a:pt x="83" y="749"/>
                </a:lnTo>
                <a:lnTo>
                  <a:pt x="83" y="868"/>
                </a:lnTo>
                <a:lnTo>
                  <a:pt x="39" y="993"/>
                </a:lnTo>
                <a:lnTo>
                  <a:pt x="17" y="1112"/>
                </a:lnTo>
                <a:lnTo>
                  <a:pt x="17" y="1209"/>
                </a:lnTo>
                <a:lnTo>
                  <a:pt x="0" y="1279"/>
                </a:lnTo>
                <a:lnTo>
                  <a:pt x="0" y="1354"/>
                </a:lnTo>
                <a:lnTo>
                  <a:pt x="17" y="1403"/>
                </a:lnTo>
                <a:lnTo>
                  <a:pt x="39" y="1473"/>
                </a:lnTo>
                <a:lnTo>
                  <a:pt x="83" y="1522"/>
                </a:lnTo>
                <a:lnTo>
                  <a:pt x="145" y="1592"/>
                </a:lnTo>
                <a:lnTo>
                  <a:pt x="229" y="1667"/>
                </a:lnTo>
                <a:lnTo>
                  <a:pt x="313" y="1738"/>
                </a:lnTo>
                <a:lnTo>
                  <a:pt x="418" y="1764"/>
                </a:lnTo>
                <a:lnTo>
                  <a:pt x="521" y="1808"/>
                </a:lnTo>
                <a:lnTo>
                  <a:pt x="627" y="1835"/>
                </a:lnTo>
                <a:lnTo>
                  <a:pt x="710" y="1835"/>
                </a:lnTo>
                <a:lnTo>
                  <a:pt x="794" y="1835"/>
                </a:lnTo>
                <a:lnTo>
                  <a:pt x="878" y="1835"/>
                </a:lnTo>
                <a:lnTo>
                  <a:pt x="896" y="1786"/>
                </a:lnTo>
                <a:lnTo>
                  <a:pt x="896" y="1689"/>
                </a:lnTo>
                <a:lnTo>
                  <a:pt x="896" y="1592"/>
                </a:lnTo>
                <a:lnTo>
                  <a:pt x="896" y="1522"/>
                </a:lnTo>
                <a:lnTo>
                  <a:pt x="896" y="1473"/>
                </a:lnTo>
                <a:lnTo>
                  <a:pt x="896" y="1425"/>
                </a:lnTo>
                <a:lnTo>
                  <a:pt x="878" y="1354"/>
                </a:lnTo>
                <a:lnTo>
                  <a:pt x="878" y="1301"/>
                </a:lnTo>
                <a:lnTo>
                  <a:pt x="878" y="1257"/>
                </a:lnTo>
                <a:lnTo>
                  <a:pt x="856" y="1182"/>
                </a:lnTo>
                <a:lnTo>
                  <a:pt x="856" y="1085"/>
                </a:lnTo>
                <a:lnTo>
                  <a:pt x="856" y="1037"/>
                </a:lnTo>
                <a:lnTo>
                  <a:pt x="878" y="966"/>
                </a:lnTo>
                <a:lnTo>
                  <a:pt x="878" y="918"/>
                </a:lnTo>
                <a:lnTo>
                  <a:pt x="878" y="868"/>
                </a:lnTo>
                <a:lnTo>
                  <a:pt x="878" y="820"/>
                </a:lnTo>
                <a:lnTo>
                  <a:pt x="896" y="723"/>
                </a:lnTo>
                <a:lnTo>
                  <a:pt x="896" y="674"/>
                </a:lnTo>
                <a:lnTo>
                  <a:pt x="918" y="604"/>
                </a:lnTo>
                <a:lnTo>
                  <a:pt x="918" y="555"/>
                </a:lnTo>
                <a:lnTo>
                  <a:pt x="940" y="485"/>
                </a:lnTo>
                <a:lnTo>
                  <a:pt x="918" y="432"/>
                </a:lnTo>
                <a:lnTo>
                  <a:pt x="878" y="361"/>
                </a:lnTo>
                <a:lnTo>
                  <a:pt x="794" y="313"/>
                </a:lnTo>
                <a:lnTo>
                  <a:pt x="750" y="291"/>
                </a:lnTo>
                <a:lnTo>
                  <a:pt x="688" y="216"/>
                </a:lnTo>
                <a:lnTo>
                  <a:pt x="627" y="194"/>
                </a:lnTo>
                <a:lnTo>
                  <a:pt x="565" y="145"/>
                </a:lnTo>
                <a:lnTo>
                  <a:pt x="503" y="70"/>
                </a:lnTo>
                <a:lnTo>
                  <a:pt x="458" y="48"/>
                </a:lnTo>
                <a:lnTo>
                  <a:pt x="396" y="48"/>
                </a:lnTo>
                <a:lnTo>
                  <a:pt x="330" y="48"/>
                </a:lnTo>
                <a:lnTo>
                  <a:pt x="291" y="48"/>
                </a:lnTo>
                <a:lnTo>
                  <a:pt x="229" y="0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86040" y="4183200"/>
            <a:ext cx="1117800" cy="305280"/>
          </a:xfrm>
          <a:custGeom>
            <a:avLst/>
            <a:gdLst/>
            <a:ahLst/>
            <a:rect l="0" t="0" r="r" b="b"/>
            <a:pathLst>
              <a:path w="3105" h="848">
                <a:moveTo>
                  <a:pt x="44" y="375"/>
                </a:moveTo>
                <a:lnTo>
                  <a:pt x="92" y="283"/>
                </a:lnTo>
                <a:lnTo>
                  <a:pt x="185" y="185"/>
                </a:lnTo>
                <a:lnTo>
                  <a:pt x="282" y="92"/>
                </a:lnTo>
                <a:lnTo>
                  <a:pt x="423" y="44"/>
                </a:lnTo>
                <a:lnTo>
                  <a:pt x="515" y="0"/>
                </a:lnTo>
                <a:lnTo>
                  <a:pt x="608" y="0"/>
                </a:lnTo>
                <a:lnTo>
                  <a:pt x="705" y="0"/>
                </a:lnTo>
                <a:lnTo>
                  <a:pt x="890" y="44"/>
                </a:lnTo>
                <a:lnTo>
                  <a:pt x="1031" y="44"/>
                </a:lnTo>
                <a:lnTo>
                  <a:pt x="1128" y="92"/>
                </a:lnTo>
                <a:lnTo>
                  <a:pt x="1270" y="92"/>
                </a:lnTo>
                <a:lnTo>
                  <a:pt x="1411" y="141"/>
                </a:lnTo>
                <a:lnTo>
                  <a:pt x="1503" y="141"/>
                </a:lnTo>
                <a:lnTo>
                  <a:pt x="1694" y="141"/>
                </a:lnTo>
                <a:lnTo>
                  <a:pt x="1597" y="327"/>
                </a:lnTo>
                <a:lnTo>
                  <a:pt x="1553" y="468"/>
                </a:lnTo>
                <a:lnTo>
                  <a:pt x="1503" y="609"/>
                </a:lnTo>
                <a:lnTo>
                  <a:pt x="1455" y="707"/>
                </a:lnTo>
                <a:lnTo>
                  <a:pt x="1879" y="751"/>
                </a:lnTo>
                <a:lnTo>
                  <a:pt x="2161" y="751"/>
                </a:lnTo>
                <a:lnTo>
                  <a:pt x="2443" y="751"/>
                </a:lnTo>
                <a:lnTo>
                  <a:pt x="2682" y="751"/>
                </a:lnTo>
                <a:lnTo>
                  <a:pt x="2964" y="751"/>
                </a:lnTo>
                <a:lnTo>
                  <a:pt x="3105" y="751"/>
                </a:lnTo>
                <a:lnTo>
                  <a:pt x="3105" y="659"/>
                </a:lnTo>
                <a:lnTo>
                  <a:pt x="2964" y="516"/>
                </a:lnTo>
                <a:lnTo>
                  <a:pt x="2823" y="468"/>
                </a:lnTo>
                <a:lnTo>
                  <a:pt x="2682" y="468"/>
                </a:lnTo>
                <a:lnTo>
                  <a:pt x="2585" y="468"/>
                </a:lnTo>
                <a:lnTo>
                  <a:pt x="2492" y="468"/>
                </a:lnTo>
                <a:lnTo>
                  <a:pt x="2399" y="516"/>
                </a:lnTo>
                <a:lnTo>
                  <a:pt x="2302" y="516"/>
                </a:lnTo>
                <a:lnTo>
                  <a:pt x="2210" y="609"/>
                </a:lnTo>
                <a:lnTo>
                  <a:pt x="2020" y="659"/>
                </a:lnTo>
                <a:lnTo>
                  <a:pt x="1928" y="659"/>
                </a:lnTo>
                <a:lnTo>
                  <a:pt x="1835" y="707"/>
                </a:lnTo>
                <a:lnTo>
                  <a:pt x="1738" y="707"/>
                </a:lnTo>
                <a:lnTo>
                  <a:pt x="1645" y="707"/>
                </a:lnTo>
                <a:lnTo>
                  <a:pt x="1314" y="751"/>
                </a:lnTo>
                <a:lnTo>
                  <a:pt x="1172" y="800"/>
                </a:lnTo>
                <a:lnTo>
                  <a:pt x="987" y="848"/>
                </a:lnTo>
                <a:lnTo>
                  <a:pt x="846" y="848"/>
                </a:lnTo>
                <a:lnTo>
                  <a:pt x="705" y="800"/>
                </a:lnTo>
                <a:lnTo>
                  <a:pt x="608" y="707"/>
                </a:lnTo>
                <a:lnTo>
                  <a:pt x="515" y="659"/>
                </a:lnTo>
                <a:lnTo>
                  <a:pt x="423" y="609"/>
                </a:lnTo>
                <a:lnTo>
                  <a:pt x="423" y="516"/>
                </a:lnTo>
                <a:lnTo>
                  <a:pt x="423" y="424"/>
                </a:lnTo>
                <a:lnTo>
                  <a:pt x="515" y="424"/>
                </a:lnTo>
                <a:lnTo>
                  <a:pt x="608" y="327"/>
                </a:lnTo>
                <a:lnTo>
                  <a:pt x="515" y="327"/>
                </a:lnTo>
                <a:lnTo>
                  <a:pt x="374" y="375"/>
                </a:lnTo>
                <a:lnTo>
                  <a:pt x="282" y="424"/>
                </a:lnTo>
                <a:lnTo>
                  <a:pt x="233" y="516"/>
                </a:lnTo>
                <a:lnTo>
                  <a:pt x="185" y="424"/>
                </a:lnTo>
                <a:lnTo>
                  <a:pt x="92" y="375"/>
                </a:lnTo>
                <a:lnTo>
                  <a:pt x="0" y="375"/>
                </a:lnTo>
                <a:lnTo>
                  <a:pt x="282" y="283"/>
                </a:lnTo>
                <a:lnTo>
                  <a:pt x="44" y="375"/>
                </a:lnTo>
                <a:close/>
              </a:path>
            </a:pathLst>
          </a:cu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451240"/>
            <a:ext cx="6174000" cy="3924720"/>
          </a:xfrm>
          <a:custGeom>
            <a:avLst/>
            <a:gdLst/>
            <a:ahLst/>
            <a:rect l="0" t="0" r="r" b="b"/>
            <a:pathLst>
              <a:path w="17150" h="10902">
                <a:moveTo>
                  <a:pt x="0" y="3987"/>
                </a:moveTo>
                <a:lnTo>
                  <a:pt x="780" y="1799"/>
                </a:lnTo>
                <a:lnTo>
                  <a:pt x="1472" y="1177"/>
                </a:lnTo>
                <a:lnTo>
                  <a:pt x="2129" y="762"/>
                </a:lnTo>
                <a:lnTo>
                  <a:pt x="3064" y="520"/>
                </a:lnTo>
                <a:lnTo>
                  <a:pt x="3999" y="520"/>
                </a:lnTo>
                <a:lnTo>
                  <a:pt x="4484" y="207"/>
                </a:lnTo>
                <a:lnTo>
                  <a:pt x="5278" y="0"/>
                </a:lnTo>
                <a:lnTo>
                  <a:pt x="6385" y="70"/>
                </a:lnTo>
                <a:lnTo>
                  <a:pt x="7875" y="207"/>
                </a:lnTo>
                <a:lnTo>
                  <a:pt x="9327" y="70"/>
                </a:lnTo>
                <a:lnTo>
                  <a:pt x="10332" y="70"/>
                </a:lnTo>
                <a:lnTo>
                  <a:pt x="11995" y="207"/>
                </a:lnTo>
                <a:lnTo>
                  <a:pt x="12859" y="207"/>
                </a:lnTo>
                <a:lnTo>
                  <a:pt x="14068" y="833"/>
                </a:lnTo>
                <a:lnTo>
                  <a:pt x="14451" y="1799"/>
                </a:lnTo>
                <a:lnTo>
                  <a:pt x="14830" y="2663"/>
                </a:lnTo>
                <a:lnTo>
                  <a:pt x="15245" y="3392"/>
                </a:lnTo>
                <a:lnTo>
                  <a:pt x="15867" y="3877"/>
                </a:lnTo>
                <a:lnTo>
                  <a:pt x="16528" y="4812"/>
                </a:lnTo>
                <a:lnTo>
                  <a:pt x="16907" y="5918"/>
                </a:lnTo>
                <a:lnTo>
                  <a:pt x="16907" y="6540"/>
                </a:lnTo>
                <a:lnTo>
                  <a:pt x="16978" y="7025"/>
                </a:lnTo>
                <a:lnTo>
                  <a:pt x="17150" y="8031"/>
                </a:lnTo>
                <a:lnTo>
                  <a:pt x="16528" y="8931"/>
                </a:lnTo>
                <a:lnTo>
                  <a:pt x="14866" y="9244"/>
                </a:lnTo>
                <a:lnTo>
                  <a:pt x="14068" y="9725"/>
                </a:lnTo>
                <a:lnTo>
                  <a:pt x="12652" y="10351"/>
                </a:lnTo>
                <a:lnTo>
                  <a:pt x="11682" y="10417"/>
                </a:lnTo>
                <a:lnTo>
                  <a:pt x="10262" y="10801"/>
                </a:lnTo>
                <a:lnTo>
                  <a:pt x="8983" y="10801"/>
                </a:lnTo>
                <a:lnTo>
                  <a:pt x="8290" y="10836"/>
                </a:lnTo>
                <a:lnTo>
                  <a:pt x="7875" y="10902"/>
                </a:lnTo>
                <a:lnTo>
                  <a:pt x="7007" y="10836"/>
                </a:lnTo>
                <a:lnTo>
                  <a:pt x="6248" y="10836"/>
                </a:lnTo>
                <a:lnTo>
                  <a:pt x="5278" y="10836"/>
                </a:lnTo>
                <a:lnTo>
                  <a:pt x="2540" y="9703"/>
                </a:lnTo>
                <a:lnTo>
                  <a:pt x="211" y="8009"/>
                </a:lnTo>
                <a:lnTo>
                  <a:pt x="0" y="398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7080" y="1050840"/>
            <a:ext cx="5402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CELLULAR ANTI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1440" y="3548160"/>
            <a:ext cx="1407960" cy="1344600"/>
          </a:xfrm>
          <a:prstGeom prst="ellipse">
            <a:avLst/>
          </a:prstGeom>
          <a:solidFill>
            <a:srgbClr val="02ab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6160" y="7234200"/>
            <a:ext cx="14954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500" spc="-1" strike="noStrike">
                <a:solidFill>
                  <a:srgbClr val="dd0806"/>
                </a:solidFill>
                <a:latin typeface="Bookman Old Style"/>
                <a:ea typeface="Bookman Old Style"/>
              </a:rPr>
              <a:t>Sens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81640" y="7234200"/>
            <a:ext cx="17049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5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Adhe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9880" y="2414520"/>
            <a:ext cx="262080" cy="27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69880" y="2414520"/>
            <a:ext cx="275040" cy="286200"/>
          </a:xfrm>
          <a:custGeom>
            <a:avLst/>
            <a:gdLst/>
            <a:ahLst/>
            <a:rect l="0" t="0" r="r" b="b"/>
            <a:pathLst>
              <a:path fill="none" w="764" h="795">
                <a:moveTo>
                  <a:pt x="0" y="0"/>
                </a:moveTo>
                <a:lnTo>
                  <a:pt x="764" y="0"/>
                </a:lnTo>
                <a:lnTo>
                  <a:pt x="764" y="795"/>
                </a:lnTo>
                <a:lnTo>
                  <a:pt x="0" y="79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54120" y="6351480"/>
            <a:ext cx="262080" cy="27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54120" y="6351480"/>
            <a:ext cx="275040" cy="286200"/>
          </a:xfrm>
          <a:custGeom>
            <a:avLst/>
            <a:gdLst/>
            <a:ahLst/>
            <a:rect l="0" t="0" r="r" b="b"/>
            <a:pathLst>
              <a:path fill="none" w="764" h="795">
                <a:moveTo>
                  <a:pt x="0" y="0"/>
                </a:moveTo>
                <a:lnTo>
                  <a:pt x="764" y="0"/>
                </a:lnTo>
                <a:lnTo>
                  <a:pt x="764" y="795"/>
                </a:lnTo>
                <a:lnTo>
                  <a:pt x="0" y="79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81520" y="3435480"/>
            <a:ext cx="2602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1520" y="3435480"/>
            <a:ext cx="273240" cy="287640"/>
          </a:xfrm>
          <a:custGeom>
            <a:avLst/>
            <a:gdLst/>
            <a:ahLst/>
            <a:rect l="0" t="0" r="r" b="b"/>
            <a:pathLst>
              <a:path fill="none" w="759" h="799">
                <a:moveTo>
                  <a:pt x="0" y="0"/>
                </a:moveTo>
                <a:lnTo>
                  <a:pt x="759" y="0"/>
                </a:lnTo>
                <a:lnTo>
                  <a:pt x="759" y="799"/>
                </a:lnTo>
                <a:lnTo>
                  <a:pt x="0" y="79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4760" y="2700360"/>
            <a:ext cx="149760" cy="398880"/>
          </a:xfrm>
          <a:custGeom>
            <a:avLst/>
            <a:gdLst/>
            <a:ahLst/>
            <a:rect l="0" t="0" r="r" b="b"/>
            <a:pathLst>
              <a:path fill="none" w="416" h="1108">
                <a:moveTo>
                  <a:pt x="0" y="1108"/>
                </a:moveTo>
                <a:lnTo>
                  <a:pt x="0" y="936"/>
                </a:lnTo>
                <a:lnTo>
                  <a:pt x="0" y="830"/>
                </a:lnTo>
                <a:lnTo>
                  <a:pt x="0" y="693"/>
                </a:lnTo>
                <a:lnTo>
                  <a:pt x="0" y="622"/>
                </a:lnTo>
                <a:lnTo>
                  <a:pt x="416" y="314"/>
                </a:lnTo>
                <a:lnTo>
                  <a:pt x="416" y="207"/>
                </a:lnTo>
                <a:lnTo>
                  <a:pt x="416" y="70"/>
                </a:lnTo>
                <a:lnTo>
                  <a:pt x="41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3360" y="1852560"/>
            <a:ext cx="311400" cy="536760"/>
          </a:xfrm>
          <a:custGeom>
            <a:avLst/>
            <a:gdLst/>
            <a:ahLst/>
            <a:rect l="0" t="0" r="r" b="b"/>
            <a:pathLst>
              <a:path fill="none" w="865" h="1491">
                <a:moveTo>
                  <a:pt x="865" y="1491"/>
                </a:moveTo>
                <a:lnTo>
                  <a:pt x="865" y="1420"/>
                </a:lnTo>
                <a:lnTo>
                  <a:pt x="794" y="1385"/>
                </a:lnTo>
                <a:lnTo>
                  <a:pt x="728" y="1178"/>
                </a:lnTo>
                <a:lnTo>
                  <a:pt x="622" y="1076"/>
                </a:lnTo>
                <a:lnTo>
                  <a:pt x="552" y="1006"/>
                </a:lnTo>
                <a:lnTo>
                  <a:pt x="622" y="1006"/>
                </a:lnTo>
                <a:lnTo>
                  <a:pt x="622" y="935"/>
                </a:lnTo>
                <a:lnTo>
                  <a:pt x="658" y="869"/>
                </a:lnTo>
                <a:lnTo>
                  <a:pt x="728" y="869"/>
                </a:lnTo>
                <a:lnTo>
                  <a:pt x="728" y="834"/>
                </a:lnTo>
                <a:lnTo>
                  <a:pt x="794" y="834"/>
                </a:lnTo>
                <a:lnTo>
                  <a:pt x="794" y="763"/>
                </a:lnTo>
                <a:lnTo>
                  <a:pt x="865" y="763"/>
                </a:lnTo>
                <a:lnTo>
                  <a:pt x="865" y="692"/>
                </a:lnTo>
                <a:lnTo>
                  <a:pt x="865" y="626"/>
                </a:lnTo>
                <a:lnTo>
                  <a:pt x="794" y="626"/>
                </a:lnTo>
                <a:lnTo>
                  <a:pt x="794" y="555"/>
                </a:lnTo>
                <a:lnTo>
                  <a:pt x="728" y="555"/>
                </a:lnTo>
                <a:lnTo>
                  <a:pt x="622" y="520"/>
                </a:lnTo>
                <a:lnTo>
                  <a:pt x="343" y="454"/>
                </a:lnTo>
                <a:lnTo>
                  <a:pt x="313" y="454"/>
                </a:lnTo>
                <a:lnTo>
                  <a:pt x="313" y="383"/>
                </a:lnTo>
                <a:lnTo>
                  <a:pt x="313" y="313"/>
                </a:lnTo>
                <a:lnTo>
                  <a:pt x="313" y="277"/>
                </a:lnTo>
                <a:lnTo>
                  <a:pt x="313" y="211"/>
                </a:lnTo>
                <a:lnTo>
                  <a:pt x="313" y="141"/>
                </a:lnTo>
                <a:lnTo>
                  <a:pt x="343" y="141"/>
                </a:lnTo>
                <a:lnTo>
                  <a:pt x="343" y="70"/>
                </a:lnTo>
                <a:lnTo>
                  <a:pt x="313" y="70"/>
                </a:lnTo>
                <a:lnTo>
                  <a:pt x="242" y="70"/>
                </a:lnTo>
                <a:lnTo>
                  <a:pt x="242" y="0"/>
                </a:lnTo>
                <a:lnTo>
                  <a:pt x="171" y="0"/>
                </a:lnTo>
                <a:lnTo>
                  <a:pt x="101" y="0"/>
                </a:lnTo>
                <a:lnTo>
                  <a:pt x="7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19200" y="1816200"/>
            <a:ext cx="275040" cy="622800"/>
          </a:xfrm>
          <a:custGeom>
            <a:avLst/>
            <a:gdLst/>
            <a:ahLst/>
            <a:rect l="0" t="0" r="r" b="b"/>
            <a:pathLst>
              <a:path fill="none" w="764" h="1730">
                <a:moveTo>
                  <a:pt x="384" y="1730"/>
                </a:moveTo>
                <a:lnTo>
                  <a:pt x="384" y="1664"/>
                </a:lnTo>
                <a:lnTo>
                  <a:pt x="419" y="1664"/>
                </a:lnTo>
                <a:lnTo>
                  <a:pt x="486" y="1664"/>
                </a:lnTo>
                <a:lnTo>
                  <a:pt x="521" y="1629"/>
                </a:lnTo>
                <a:lnTo>
                  <a:pt x="628" y="1593"/>
                </a:lnTo>
                <a:lnTo>
                  <a:pt x="663" y="1593"/>
                </a:lnTo>
                <a:lnTo>
                  <a:pt x="663" y="1523"/>
                </a:lnTo>
                <a:lnTo>
                  <a:pt x="663" y="1488"/>
                </a:lnTo>
                <a:lnTo>
                  <a:pt x="694" y="1488"/>
                </a:lnTo>
                <a:lnTo>
                  <a:pt x="694" y="1457"/>
                </a:lnTo>
                <a:lnTo>
                  <a:pt x="764" y="1457"/>
                </a:lnTo>
                <a:lnTo>
                  <a:pt x="694" y="1457"/>
                </a:lnTo>
                <a:lnTo>
                  <a:pt x="694" y="1386"/>
                </a:lnTo>
                <a:lnTo>
                  <a:pt x="663" y="1386"/>
                </a:lnTo>
                <a:lnTo>
                  <a:pt x="556" y="1386"/>
                </a:lnTo>
                <a:lnTo>
                  <a:pt x="486" y="1351"/>
                </a:lnTo>
                <a:lnTo>
                  <a:pt x="486" y="1316"/>
                </a:lnTo>
                <a:lnTo>
                  <a:pt x="419" y="1316"/>
                </a:lnTo>
                <a:lnTo>
                  <a:pt x="486" y="1316"/>
                </a:lnTo>
                <a:lnTo>
                  <a:pt x="486" y="1244"/>
                </a:lnTo>
                <a:lnTo>
                  <a:pt x="521" y="1244"/>
                </a:lnTo>
                <a:lnTo>
                  <a:pt x="556" y="1178"/>
                </a:lnTo>
                <a:lnTo>
                  <a:pt x="628" y="1072"/>
                </a:lnTo>
                <a:lnTo>
                  <a:pt x="663" y="1037"/>
                </a:lnTo>
                <a:lnTo>
                  <a:pt x="694" y="1037"/>
                </a:lnTo>
                <a:lnTo>
                  <a:pt x="663" y="1037"/>
                </a:lnTo>
                <a:lnTo>
                  <a:pt x="628" y="971"/>
                </a:lnTo>
                <a:lnTo>
                  <a:pt x="486" y="935"/>
                </a:lnTo>
                <a:lnTo>
                  <a:pt x="419" y="900"/>
                </a:lnTo>
                <a:lnTo>
                  <a:pt x="349" y="900"/>
                </a:lnTo>
                <a:lnTo>
                  <a:pt x="278" y="830"/>
                </a:lnTo>
                <a:lnTo>
                  <a:pt x="349" y="794"/>
                </a:lnTo>
                <a:lnTo>
                  <a:pt x="384" y="794"/>
                </a:lnTo>
                <a:lnTo>
                  <a:pt x="419" y="693"/>
                </a:lnTo>
                <a:lnTo>
                  <a:pt x="486" y="658"/>
                </a:lnTo>
                <a:lnTo>
                  <a:pt x="521" y="622"/>
                </a:lnTo>
                <a:lnTo>
                  <a:pt x="521" y="556"/>
                </a:lnTo>
                <a:lnTo>
                  <a:pt x="556" y="556"/>
                </a:lnTo>
                <a:lnTo>
                  <a:pt x="521" y="556"/>
                </a:lnTo>
                <a:lnTo>
                  <a:pt x="521" y="521"/>
                </a:lnTo>
                <a:lnTo>
                  <a:pt x="486" y="486"/>
                </a:lnTo>
                <a:lnTo>
                  <a:pt x="349" y="414"/>
                </a:lnTo>
                <a:lnTo>
                  <a:pt x="243" y="414"/>
                </a:lnTo>
                <a:lnTo>
                  <a:pt x="212" y="343"/>
                </a:lnTo>
                <a:lnTo>
                  <a:pt x="212" y="277"/>
                </a:lnTo>
                <a:lnTo>
                  <a:pt x="278" y="242"/>
                </a:lnTo>
                <a:lnTo>
                  <a:pt x="349" y="207"/>
                </a:lnTo>
                <a:lnTo>
                  <a:pt x="349" y="136"/>
                </a:lnTo>
                <a:lnTo>
                  <a:pt x="384" y="136"/>
                </a:lnTo>
                <a:lnTo>
                  <a:pt x="384" y="101"/>
                </a:lnTo>
                <a:lnTo>
                  <a:pt x="278" y="101"/>
                </a:lnTo>
                <a:lnTo>
                  <a:pt x="141" y="7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7160" y="5977080"/>
            <a:ext cx="186120" cy="411480"/>
          </a:xfrm>
          <a:custGeom>
            <a:avLst/>
            <a:gdLst/>
            <a:ahLst/>
            <a:rect l="0" t="0" r="r" b="b"/>
            <a:pathLst>
              <a:path fill="none" w="517" h="1143">
                <a:moveTo>
                  <a:pt x="101" y="1143"/>
                </a:moveTo>
                <a:lnTo>
                  <a:pt x="137" y="1143"/>
                </a:lnTo>
                <a:lnTo>
                  <a:pt x="137" y="1041"/>
                </a:lnTo>
                <a:lnTo>
                  <a:pt x="243" y="971"/>
                </a:lnTo>
                <a:lnTo>
                  <a:pt x="380" y="728"/>
                </a:lnTo>
                <a:lnTo>
                  <a:pt x="487" y="485"/>
                </a:lnTo>
                <a:lnTo>
                  <a:pt x="517" y="414"/>
                </a:lnTo>
                <a:lnTo>
                  <a:pt x="517" y="348"/>
                </a:lnTo>
                <a:lnTo>
                  <a:pt x="487" y="348"/>
                </a:lnTo>
                <a:lnTo>
                  <a:pt x="487" y="313"/>
                </a:lnTo>
                <a:lnTo>
                  <a:pt x="416" y="313"/>
                </a:lnTo>
                <a:lnTo>
                  <a:pt x="380" y="277"/>
                </a:lnTo>
                <a:lnTo>
                  <a:pt x="344" y="277"/>
                </a:lnTo>
                <a:lnTo>
                  <a:pt x="243" y="277"/>
                </a:lnTo>
                <a:lnTo>
                  <a:pt x="243" y="207"/>
                </a:lnTo>
                <a:lnTo>
                  <a:pt x="243" y="70"/>
                </a:lnTo>
                <a:lnTo>
                  <a:pt x="243" y="0"/>
                </a:lnTo>
                <a:lnTo>
                  <a:pt x="208" y="0"/>
                </a:lnTo>
                <a:lnTo>
                  <a:pt x="101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4120" y="6649920"/>
            <a:ext cx="149760" cy="286200"/>
          </a:xfrm>
          <a:custGeom>
            <a:avLst/>
            <a:gdLst/>
            <a:ahLst/>
            <a:rect l="0" t="0" r="r" b="b"/>
            <a:pathLst>
              <a:path fill="none" w="416" h="795">
                <a:moveTo>
                  <a:pt x="243" y="0"/>
                </a:moveTo>
                <a:lnTo>
                  <a:pt x="243" y="70"/>
                </a:lnTo>
                <a:lnTo>
                  <a:pt x="172" y="70"/>
                </a:lnTo>
                <a:lnTo>
                  <a:pt x="137" y="136"/>
                </a:lnTo>
                <a:lnTo>
                  <a:pt x="106" y="208"/>
                </a:lnTo>
                <a:lnTo>
                  <a:pt x="35" y="278"/>
                </a:lnTo>
                <a:lnTo>
                  <a:pt x="0" y="278"/>
                </a:lnTo>
                <a:lnTo>
                  <a:pt x="35" y="278"/>
                </a:lnTo>
                <a:lnTo>
                  <a:pt x="35" y="344"/>
                </a:lnTo>
                <a:lnTo>
                  <a:pt x="172" y="344"/>
                </a:lnTo>
                <a:lnTo>
                  <a:pt x="315" y="415"/>
                </a:lnTo>
                <a:lnTo>
                  <a:pt x="381" y="415"/>
                </a:lnTo>
                <a:lnTo>
                  <a:pt x="416" y="415"/>
                </a:lnTo>
                <a:lnTo>
                  <a:pt x="381" y="486"/>
                </a:lnTo>
                <a:lnTo>
                  <a:pt x="381" y="521"/>
                </a:lnTo>
                <a:lnTo>
                  <a:pt x="278" y="623"/>
                </a:lnTo>
                <a:lnTo>
                  <a:pt x="172" y="694"/>
                </a:lnTo>
                <a:lnTo>
                  <a:pt x="243" y="694"/>
                </a:lnTo>
                <a:lnTo>
                  <a:pt x="243" y="764"/>
                </a:lnTo>
                <a:lnTo>
                  <a:pt x="315" y="764"/>
                </a:lnTo>
                <a:lnTo>
                  <a:pt x="381" y="795"/>
                </a:lnTo>
                <a:lnTo>
                  <a:pt x="416" y="7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54280" y="6624720"/>
            <a:ext cx="149760" cy="311400"/>
          </a:xfrm>
          <a:custGeom>
            <a:avLst/>
            <a:gdLst/>
            <a:ahLst/>
            <a:rect l="0" t="0" r="r" b="b"/>
            <a:pathLst>
              <a:path fill="none" w="416" h="865">
                <a:moveTo>
                  <a:pt x="101" y="0"/>
                </a:moveTo>
                <a:lnTo>
                  <a:pt x="101" y="35"/>
                </a:lnTo>
                <a:lnTo>
                  <a:pt x="30" y="35"/>
                </a:lnTo>
                <a:lnTo>
                  <a:pt x="30" y="70"/>
                </a:lnTo>
                <a:lnTo>
                  <a:pt x="30" y="141"/>
                </a:lnTo>
                <a:lnTo>
                  <a:pt x="30" y="171"/>
                </a:lnTo>
                <a:lnTo>
                  <a:pt x="0" y="207"/>
                </a:lnTo>
                <a:lnTo>
                  <a:pt x="0" y="277"/>
                </a:lnTo>
                <a:lnTo>
                  <a:pt x="30" y="277"/>
                </a:lnTo>
                <a:lnTo>
                  <a:pt x="101" y="313"/>
                </a:lnTo>
                <a:lnTo>
                  <a:pt x="243" y="348"/>
                </a:lnTo>
                <a:lnTo>
                  <a:pt x="243" y="414"/>
                </a:lnTo>
                <a:lnTo>
                  <a:pt x="172" y="414"/>
                </a:lnTo>
                <a:lnTo>
                  <a:pt x="137" y="486"/>
                </a:lnTo>
                <a:lnTo>
                  <a:pt x="137" y="556"/>
                </a:lnTo>
                <a:lnTo>
                  <a:pt x="137" y="591"/>
                </a:lnTo>
                <a:lnTo>
                  <a:pt x="172" y="591"/>
                </a:lnTo>
                <a:lnTo>
                  <a:pt x="243" y="591"/>
                </a:lnTo>
                <a:lnTo>
                  <a:pt x="243" y="622"/>
                </a:lnTo>
                <a:lnTo>
                  <a:pt x="274" y="622"/>
                </a:lnTo>
                <a:lnTo>
                  <a:pt x="274" y="693"/>
                </a:lnTo>
                <a:lnTo>
                  <a:pt x="274" y="728"/>
                </a:lnTo>
                <a:lnTo>
                  <a:pt x="243" y="763"/>
                </a:lnTo>
                <a:lnTo>
                  <a:pt x="243" y="834"/>
                </a:lnTo>
                <a:lnTo>
                  <a:pt x="243" y="865"/>
                </a:lnTo>
                <a:lnTo>
                  <a:pt x="274" y="865"/>
                </a:lnTo>
                <a:lnTo>
                  <a:pt x="309" y="865"/>
                </a:lnTo>
                <a:lnTo>
                  <a:pt x="309" y="834"/>
                </a:lnTo>
                <a:lnTo>
                  <a:pt x="416" y="83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1640" y="3597120"/>
            <a:ext cx="300240" cy="87840"/>
          </a:xfrm>
          <a:custGeom>
            <a:avLst/>
            <a:gdLst/>
            <a:ahLst/>
            <a:rect l="0" t="0" r="r" b="b"/>
            <a:pathLst>
              <a:path fill="none" w="834" h="244">
                <a:moveTo>
                  <a:pt x="834" y="0"/>
                </a:moveTo>
                <a:lnTo>
                  <a:pt x="763" y="0"/>
                </a:lnTo>
                <a:lnTo>
                  <a:pt x="728" y="0"/>
                </a:lnTo>
                <a:lnTo>
                  <a:pt x="486" y="106"/>
                </a:lnTo>
                <a:lnTo>
                  <a:pt x="277" y="172"/>
                </a:lnTo>
                <a:lnTo>
                  <a:pt x="277" y="244"/>
                </a:lnTo>
                <a:lnTo>
                  <a:pt x="277" y="172"/>
                </a:lnTo>
                <a:lnTo>
                  <a:pt x="207" y="142"/>
                </a:lnTo>
                <a:lnTo>
                  <a:pt x="171" y="106"/>
                </a:lnTo>
                <a:lnTo>
                  <a:pt x="70" y="0"/>
                </a:lnTo>
                <a:lnTo>
                  <a:pt x="35" y="0"/>
                </a:lnTo>
                <a:lnTo>
                  <a:pt x="35" y="35"/>
                </a:lnTo>
                <a:lnTo>
                  <a:pt x="0" y="106"/>
                </a:lnTo>
                <a:lnTo>
                  <a:pt x="0" y="14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79960" y="3448080"/>
            <a:ext cx="349560" cy="100440"/>
          </a:xfrm>
          <a:custGeom>
            <a:avLst/>
            <a:gdLst/>
            <a:ahLst/>
            <a:rect l="0" t="0" r="r" b="b"/>
            <a:pathLst>
              <a:path fill="none" w="971" h="279">
                <a:moveTo>
                  <a:pt x="0" y="279"/>
                </a:moveTo>
                <a:lnTo>
                  <a:pt x="35" y="279"/>
                </a:lnTo>
                <a:lnTo>
                  <a:pt x="136" y="279"/>
                </a:lnTo>
                <a:lnTo>
                  <a:pt x="277" y="279"/>
                </a:lnTo>
                <a:lnTo>
                  <a:pt x="343" y="279"/>
                </a:lnTo>
                <a:lnTo>
                  <a:pt x="343" y="244"/>
                </a:lnTo>
                <a:lnTo>
                  <a:pt x="343" y="172"/>
                </a:lnTo>
                <a:lnTo>
                  <a:pt x="343" y="35"/>
                </a:lnTo>
                <a:lnTo>
                  <a:pt x="414" y="0"/>
                </a:lnTo>
                <a:lnTo>
                  <a:pt x="449" y="0"/>
                </a:lnTo>
                <a:lnTo>
                  <a:pt x="449" y="35"/>
                </a:lnTo>
                <a:lnTo>
                  <a:pt x="552" y="106"/>
                </a:lnTo>
                <a:lnTo>
                  <a:pt x="693" y="172"/>
                </a:lnTo>
                <a:lnTo>
                  <a:pt x="693" y="137"/>
                </a:lnTo>
                <a:lnTo>
                  <a:pt x="728" y="106"/>
                </a:lnTo>
                <a:lnTo>
                  <a:pt x="763" y="35"/>
                </a:lnTo>
                <a:lnTo>
                  <a:pt x="763" y="0"/>
                </a:lnTo>
                <a:lnTo>
                  <a:pt x="830" y="35"/>
                </a:lnTo>
                <a:lnTo>
                  <a:pt x="830" y="106"/>
                </a:lnTo>
                <a:lnTo>
                  <a:pt x="900" y="106"/>
                </a:lnTo>
                <a:lnTo>
                  <a:pt x="900" y="137"/>
                </a:lnTo>
                <a:lnTo>
                  <a:pt x="971" y="1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3659040"/>
            <a:ext cx="362160" cy="87840"/>
          </a:xfrm>
          <a:custGeom>
            <a:avLst/>
            <a:gdLst/>
            <a:ahLst/>
            <a:rect l="0" t="0" r="r" b="b"/>
            <a:pathLst>
              <a:path fill="none" w="1006" h="244">
                <a:moveTo>
                  <a:pt x="0" y="0"/>
                </a:moveTo>
                <a:lnTo>
                  <a:pt x="35" y="0"/>
                </a:lnTo>
                <a:lnTo>
                  <a:pt x="70" y="71"/>
                </a:lnTo>
                <a:lnTo>
                  <a:pt x="277" y="142"/>
                </a:lnTo>
                <a:lnTo>
                  <a:pt x="343" y="213"/>
                </a:lnTo>
                <a:lnTo>
                  <a:pt x="343" y="142"/>
                </a:lnTo>
                <a:lnTo>
                  <a:pt x="414" y="142"/>
                </a:lnTo>
                <a:lnTo>
                  <a:pt x="414" y="106"/>
                </a:lnTo>
                <a:lnTo>
                  <a:pt x="449" y="106"/>
                </a:lnTo>
                <a:lnTo>
                  <a:pt x="449" y="142"/>
                </a:lnTo>
                <a:lnTo>
                  <a:pt x="552" y="213"/>
                </a:lnTo>
                <a:lnTo>
                  <a:pt x="587" y="244"/>
                </a:lnTo>
                <a:lnTo>
                  <a:pt x="622" y="244"/>
                </a:lnTo>
                <a:lnTo>
                  <a:pt x="622" y="213"/>
                </a:lnTo>
                <a:lnTo>
                  <a:pt x="693" y="213"/>
                </a:lnTo>
                <a:lnTo>
                  <a:pt x="693" y="106"/>
                </a:lnTo>
                <a:lnTo>
                  <a:pt x="728" y="106"/>
                </a:lnTo>
                <a:lnTo>
                  <a:pt x="728" y="71"/>
                </a:lnTo>
                <a:lnTo>
                  <a:pt x="728" y="106"/>
                </a:lnTo>
                <a:lnTo>
                  <a:pt x="763" y="142"/>
                </a:lnTo>
                <a:lnTo>
                  <a:pt x="865" y="213"/>
                </a:lnTo>
                <a:lnTo>
                  <a:pt x="900" y="244"/>
                </a:lnTo>
                <a:lnTo>
                  <a:pt x="900" y="213"/>
                </a:lnTo>
                <a:lnTo>
                  <a:pt x="971" y="213"/>
                </a:lnTo>
                <a:lnTo>
                  <a:pt x="971" y="142"/>
                </a:lnTo>
                <a:lnTo>
                  <a:pt x="1006" y="14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5400" y="2263680"/>
            <a:ext cx="386280" cy="262440"/>
          </a:xfrm>
          <a:custGeom>
            <a:avLst/>
            <a:gdLst/>
            <a:ahLst/>
            <a:rect l="0" t="0" r="r" b="b"/>
            <a:pathLst>
              <a:path w="1073" h="729">
                <a:moveTo>
                  <a:pt x="0" y="0"/>
                </a:moveTo>
                <a:lnTo>
                  <a:pt x="0" y="729"/>
                </a:lnTo>
                <a:lnTo>
                  <a:pt x="1073" y="729"/>
                </a:lnTo>
                <a:lnTo>
                  <a:pt x="1073" y="66"/>
                </a:lnTo>
                <a:lnTo>
                  <a:pt x="671" y="331"/>
                </a:lnTo>
                <a:lnTo>
                  <a:pt x="468" y="0"/>
                </a:lnTo>
                <a:lnTo>
                  <a:pt x="336" y="265"/>
                </a:lnTo>
                <a:lnTo>
                  <a:pt x="0" y="0"/>
                </a:lnTo>
                <a:close/>
              </a:path>
            </a:pathLst>
          </a:custGeom>
          <a:solidFill>
            <a:srgbClr val="0000d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2263680"/>
            <a:ext cx="398880" cy="275040"/>
          </a:xfrm>
          <a:custGeom>
            <a:avLst/>
            <a:gdLst/>
            <a:ahLst/>
            <a:rect l="0" t="0" r="r" b="b"/>
            <a:pathLst>
              <a:path fill="none" w="1108" h="764">
                <a:moveTo>
                  <a:pt x="0" y="0"/>
                </a:moveTo>
                <a:lnTo>
                  <a:pt x="0" y="764"/>
                </a:lnTo>
                <a:lnTo>
                  <a:pt x="1108" y="764"/>
                </a:lnTo>
                <a:lnTo>
                  <a:pt x="1108" y="70"/>
                </a:lnTo>
                <a:lnTo>
                  <a:pt x="693" y="349"/>
                </a:lnTo>
                <a:lnTo>
                  <a:pt x="481" y="0"/>
                </a:lnTo>
                <a:lnTo>
                  <a:pt x="344" y="27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3971880"/>
            <a:ext cx="211320" cy="522720"/>
          </a:xfrm>
          <a:custGeom>
            <a:avLst/>
            <a:gdLst/>
            <a:ahLst/>
            <a:rect l="0" t="0" r="r" b="b"/>
            <a:pathLst>
              <a:path w="587" h="1452">
                <a:moveTo>
                  <a:pt x="587" y="202"/>
                </a:moveTo>
                <a:lnTo>
                  <a:pt x="587" y="1452"/>
                </a:lnTo>
                <a:lnTo>
                  <a:pt x="97" y="1452"/>
                </a:lnTo>
                <a:lnTo>
                  <a:pt x="229" y="1010"/>
                </a:lnTo>
                <a:lnTo>
                  <a:pt x="66" y="706"/>
                </a:lnTo>
                <a:lnTo>
                  <a:pt x="327" y="468"/>
                </a:lnTo>
                <a:lnTo>
                  <a:pt x="0" y="0"/>
                </a:lnTo>
                <a:lnTo>
                  <a:pt x="587" y="202"/>
                </a:lnTo>
                <a:close/>
              </a:path>
            </a:pathLst>
          </a:custGeom>
          <a:solidFill>
            <a:srgbClr val="0000d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480" y="3971880"/>
            <a:ext cx="224280" cy="535320"/>
          </a:xfrm>
          <a:custGeom>
            <a:avLst/>
            <a:gdLst/>
            <a:ahLst/>
            <a:rect l="0" t="0" r="r" b="b"/>
            <a:pathLst>
              <a:path fill="none" w="623" h="1487">
                <a:moveTo>
                  <a:pt x="623" y="207"/>
                </a:moveTo>
                <a:lnTo>
                  <a:pt x="623" y="1487"/>
                </a:lnTo>
                <a:lnTo>
                  <a:pt x="101" y="1487"/>
                </a:lnTo>
                <a:lnTo>
                  <a:pt x="243" y="1037"/>
                </a:lnTo>
                <a:lnTo>
                  <a:pt x="70" y="723"/>
                </a:lnTo>
                <a:lnTo>
                  <a:pt x="344" y="480"/>
                </a:lnTo>
                <a:lnTo>
                  <a:pt x="0" y="0"/>
                </a:lnTo>
                <a:lnTo>
                  <a:pt x="623" y="2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53280" y="4545000"/>
            <a:ext cx="236880" cy="535320"/>
          </a:xfrm>
          <a:custGeom>
            <a:avLst/>
            <a:gdLst/>
            <a:ahLst/>
            <a:rect l="0" t="0" r="r" b="b"/>
            <a:pathLst>
              <a:path w="658" h="1487">
                <a:moveTo>
                  <a:pt x="105" y="0"/>
                </a:moveTo>
                <a:lnTo>
                  <a:pt x="658" y="0"/>
                </a:lnTo>
                <a:lnTo>
                  <a:pt x="384" y="515"/>
                </a:lnTo>
                <a:lnTo>
                  <a:pt x="658" y="830"/>
                </a:lnTo>
                <a:lnTo>
                  <a:pt x="384" y="1072"/>
                </a:lnTo>
                <a:lnTo>
                  <a:pt x="627" y="1487"/>
                </a:lnTo>
                <a:lnTo>
                  <a:pt x="0" y="1385"/>
                </a:lnTo>
                <a:lnTo>
                  <a:pt x="105" y="0"/>
                </a:lnTo>
                <a:close/>
              </a:path>
            </a:pathLst>
          </a:custGeom>
          <a:solidFill>
            <a:srgbClr val="0000d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64040" y="2550960"/>
            <a:ext cx="187560" cy="262440"/>
          </a:xfrm>
          <a:custGeom>
            <a:avLst/>
            <a:gdLst/>
            <a:ahLst/>
            <a:rect l="0" t="0" r="r" b="b"/>
            <a:pathLst>
              <a:path fill="none" w="521" h="729">
                <a:moveTo>
                  <a:pt x="278" y="0"/>
                </a:moveTo>
                <a:lnTo>
                  <a:pt x="278" y="35"/>
                </a:lnTo>
                <a:lnTo>
                  <a:pt x="278" y="105"/>
                </a:lnTo>
                <a:lnTo>
                  <a:pt x="242" y="105"/>
                </a:lnTo>
                <a:lnTo>
                  <a:pt x="207" y="243"/>
                </a:lnTo>
                <a:lnTo>
                  <a:pt x="141" y="278"/>
                </a:lnTo>
                <a:lnTo>
                  <a:pt x="141" y="314"/>
                </a:lnTo>
                <a:lnTo>
                  <a:pt x="105" y="314"/>
                </a:lnTo>
                <a:lnTo>
                  <a:pt x="70" y="314"/>
                </a:lnTo>
                <a:lnTo>
                  <a:pt x="70" y="415"/>
                </a:lnTo>
                <a:lnTo>
                  <a:pt x="0" y="450"/>
                </a:lnTo>
                <a:lnTo>
                  <a:pt x="70" y="450"/>
                </a:lnTo>
                <a:lnTo>
                  <a:pt x="207" y="557"/>
                </a:lnTo>
                <a:lnTo>
                  <a:pt x="419" y="694"/>
                </a:lnTo>
                <a:lnTo>
                  <a:pt x="486" y="729"/>
                </a:lnTo>
                <a:lnTo>
                  <a:pt x="521" y="7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14880" y="2813040"/>
            <a:ext cx="14940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2160" y="4756320"/>
            <a:ext cx="14940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3120" y="4195800"/>
            <a:ext cx="14940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0" y="4308480"/>
            <a:ext cx="262440" cy="86040"/>
          </a:xfrm>
          <a:custGeom>
            <a:avLst/>
            <a:gdLst/>
            <a:ahLst/>
            <a:rect l="0" t="0" r="r" b="b"/>
            <a:pathLst>
              <a:path fill="none" w="729" h="239">
                <a:moveTo>
                  <a:pt x="0" y="0"/>
                </a:moveTo>
                <a:lnTo>
                  <a:pt x="35" y="66"/>
                </a:lnTo>
                <a:lnTo>
                  <a:pt x="66" y="66"/>
                </a:lnTo>
                <a:lnTo>
                  <a:pt x="136" y="101"/>
                </a:lnTo>
                <a:lnTo>
                  <a:pt x="171" y="101"/>
                </a:lnTo>
                <a:lnTo>
                  <a:pt x="344" y="208"/>
                </a:lnTo>
                <a:lnTo>
                  <a:pt x="450" y="239"/>
                </a:lnTo>
                <a:lnTo>
                  <a:pt x="450" y="208"/>
                </a:lnTo>
                <a:lnTo>
                  <a:pt x="486" y="137"/>
                </a:lnTo>
                <a:lnTo>
                  <a:pt x="553" y="101"/>
                </a:lnTo>
                <a:lnTo>
                  <a:pt x="588" y="66"/>
                </a:lnTo>
                <a:lnTo>
                  <a:pt x="623" y="66"/>
                </a:lnTo>
                <a:lnTo>
                  <a:pt x="694" y="0"/>
                </a:lnTo>
                <a:lnTo>
                  <a:pt x="7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0040" y="4756320"/>
            <a:ext cx="298800" cy="100440"/>
          </a:xfrm>
          <a:custGeom>
            <a:avLst/>
            <a:gdLst/>
            <a:ahLst/>
            <a:rect l="0" t="0" r="r" b="b"/>
            <a:pathLst>
              <a:path fill="none" w="830" h="279">
                <a:moveTo>
                  <a:pt x="830" y="0"/>
                </a:moveTo>
                <a:lnTo>
                  <a:pt x="759" y="0"/>
                </a:lnTo>
                <a:lnTo>
                  <a:pt x="759" y="71"/>
                </a:lnTo>
                <a:lnTo>
                  <a:pt x="622" y="106"/>
                </a:lnTo>
                <a:lnTo>
                  <a:pt x="414" y="208"/>
                </a:lnTo>
                <a:lnTo>
                  <a:pt x="273" y="244"/>
                </a:lnTo>
                <a:lnTo>
                  <a:pt x="207" y="244"/>
                </a:lnTo>
                <a:lnTo>
                  <a:pt x="171" y="279"/>
                </a:lnTo>
                <a:lnTo>
                  <a:pt x="136" y="279"/>
                </a:lnTo>
                <a:lnTo>
                  <a:pt x="66" y="244"/>
                </a:lnTo>
                <a:lnTo>
                  <a:pt x="35" y="244"/>
                </a:lnTo>
                <a:lnTo>
                  <a:pt x="0" y="2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84800" y="2252520"/>
            <a:ext cx="125280" cy="4478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3920" y="2276640"/>
            <a:ext cx="125280" cy="44928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5354640"/>
            <a:ext cx="123840" cy="4478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8960" y="5367240"/>
            <a:ext cx="125280" cy="460440"/>
          </a:xfrm>
          <a:prstGeom prst="rect">
            <a:avLst/>
          </a:prstGeom>
          <a:solidFill>
            <a:srgbClr val="00801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45200" y="6238800"/>
            <a:ext cx="198360" cy="1983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45280" y="6039000"/>
            <a:ext cx="198360" cy="2001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57640" y="5989680"/>
            <a:ext cx="274680" cy="33660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8600" y="3011400"/>
            <a:ext cx="198360" cy="2001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" y="2813040"/>
            <a:ext cx="198360" cy="19836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762280"/>
            <a:ext cx="274680" cy="336600"/>
          </a:xfrm>
          <a:prstGeom prst="ellipse">
            <a:avLst/>
          </a:prstGeom>
          <a:solidFill>
            <a:srgbClr val="f2088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8680" y="5740560"/>
            <a:ext cx="236880" cy="262440"/>
          </a:xfrm>
          <a:custGeom>
            <a:avLst/>
            <a:gdLst/>
            <a:ahLst/>
            <a:rect l="0" t="0" r="r" b="b"/>
            <a:pathLst>
              <a:path fill="none" w="658" h="729">
                <a:moveTo>
                  <a:pt x="552" y="729"/>
                </a:moveTo>
                <a:lnTo>
                  <a:pt x="552" y="694"/>
                </a:lnTo>
                <a:lnTo>
                  <a:pt x="622" y="588"/>
                </a:lnTo>
                <a:lnTo>
                  <a:pt x="658" y="415"/>
                </a:lnTo>
                <a:lnTo>
                  <a:pt x="658" y="380"/>
                </a:lnTo>
                <a:lnTo>
                  <a:pt x="658" y="278"/>
                </a:lnTo>
                <a:lnTo>
                  <a:pt x="622" y="278"/>
                </a:lnTo>
                <a:lnTo>
                  <a:pt x="521" y="314"/>
                </a:lnTo>
                <a:lnTo>
                  <a:pt x="415" y="380"/>
                </a:lnTo>
                <a:lnTo>
                  <a:pt x="380" y="380"/>
                </a:lnTo>
                <a:lnTo>
                  <a:pt x="380" y="314"/>
                </a:lnTo>
                <a:lnTo>
                  <a:pt x="380" y="278"/>
                </a:lnTo>
                <a:lnTo>
                  <a:pt x="344" y="171"/>
                </a:lnTo>
                <a:lnTo>
                  <a:pt x="344" y="136"/>
                </a:lnTo>
                <a:lnTo>
                  <a:pt x="344" y="35"/>
                </a:lnTo>
                <a:lnTo>
                  <a:pt x="277" y="105"/>
                </a:lnTo>
                <a:lnTo>
                  <a:pt x="207" y="136"/>
                </a:lnTo>
                <a:lnTo>
                  <a:pt x="101" y="136"/>
                </a:lnTo>
                <a:lnTo>
                  <a:pt x="66" y="136"/>
                </a:lnTo>
                <a:lnTo>
                  <a:pt x="66" y="35"/>
                </a:lnTo>
                <a:lnTo>
                  <a:pt x="6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00" y="3186000"/>
            <a:ext cx="286200" cy="174960"/>
          </a:xfrm>
          <a:custGeom>
            <a:avLst/>
            <a:gdLst/>
            <a:ahLst/>
            <a:rect l="0" t="0" r="r" b="b"/>
            <a:pathLst>
              <a:path fill="none" w="795" h="486">
                <a:moveTo>
                  <a:pt x="0" y="0"/>
                </a:moveTo>
                <a:lnTo>
                  <a:pt x="0" y="35"/>
                </a:lnTo>
                <a:lnTo>
                  <a:pt x="0" y="70"/>
                </a:lnTo>
                <a:lnTo>
                  <a:pt x="0" y="141"/>
                </a:lnTo>
                <a:lnTo>
                  <a:pt x="0" y="207"/>
                </a:lnTo>
                <a:lnTo>
                  <a:pt x="0" y="278"/>
                </a:lnTo>
                <a:lnTo>
                  <a:pt x="66" y="278"/>
                </a:lnTo>
                <a:lnTo>
                  <a:pt x="136" y="278"/>
                </a:lnTo>
                <a:lnTo>
                  <a:pt x="486" y="171"/>
                </a:lnTo>
                <a:lnTo>
                  <a:pt x="623" y="171"/>
                </a:lnTo>
                <a:lnTo>
                  <a:pt x="623" y="207"/>
                </a:lnTo>
                <a:lnTo>
                  <a:pt x="552" y="207"/>
                </a:lnTo>
                <a:lnTo>
                  <a:pt x="486" y="349"/>
                </a:lnTo>
                <a:lnTo>
                  <a:pt x="415" y="450"/>
                </a:lnTo>
                <a:lnTo>
                  <a:pt x="415" y="486"/>
                </a:lnTo>
                <a:lnTo>
                  <a:pt x="486" y="486"/>
                </a:lnTo>
                <a:lnTo>
                  <a:pt x="516" y="486"/>
                </a:lnTo>
                <a:lnTo>
                  <a:pt x="694" y="486"/>
                </a:lnTo>
                <a:lnTo>
                  <a:pt x="760" y="486"/>
                </a:lnTo>
                <a:lnTo>
                  <a:pt x="795" y="48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6800" y="6338880"/>
            <a:ext cx="249480" cy="198720"/>
          </a:xfrm>
          <a:custGeom>
            <a:avLst/>
            <a:gdLst/>
            <a:ahLst/>
            <a:rect l="0" t="0" r="r" b="b"/>
            <a:pathLst>
              <a:path w="693" h="552">
                <a:moveTo>
                  <a:pt x="693" y="0"/>
                </a:moveTo>
                <a:lnTo>
                  <a:pt x="0" y="35"/>
                </a:lnTo>
                <a:lnTo>
                  <a:pt x="393" y="552"/>
                </a:lnTo>
                <a:lnTo>
                  <a:pt x="693" y="0"/>
                </a:lnTo>
                <a:close/>
              </a:path>
            </a:pathLst>
          </a:custGeom>
          <a:solidFill>
            <a:srgbClr val="dd080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6800" y="6338880"/>
            <a:ext cx="262440" cy="211320"/>
          </a:xfrm>
          <a:custGeom>
            <a:avLst/>
            <a:gdLst/>
            <a:ahLst/>
            <a:rect l="0" t="0" r="r" b="b"/>
            <a:pathLst>
              <a:path fill="none" w="729" h="587">
                <a:moveTo>
                  <a:pt x="729" y="0"/>
                </a:moveTo>
                <a:lnTo>
                  <a:pt x="0" y="35"/>
                </a:lnTo>
                <a:lnTo>
                  <a:pt x="415" y="587"/>
                </a:lnTo>
                <a:lnTo>
                  <a:pt x="7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5040" y="5030640"/>
            <a:ext cx="248040" cy="198720"/>
          </a:xfrm>
          <a:custGeom>
            <a:avLst/>
            <a:gdLst/>
            <a:ahLst/>
            <a:rect l="0" t="0" r="r" b="b"/>
            <a:pathLst>
              <a:path w="689" h="552">
                <a:moveTo>
                  <a:pt x="689" y="0"/>
                </a:moveTo>
                <a:lnTo>
                  <a:pt x="0" y="35"/>
                </a:lnTo>
                <a:lnTo>
                  <a:pt x="393" y="552"/>
                </a:lnTo>
                <a:lnTo>
                  <a:pt x="689" y="0"/>
                </a:lnTo>
                <a:close/>
              </a:path>
            </a:pathLst>
          </a:custGeom>
          <a:solidFill>
            <a:srgbClr val="dd080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75040" y="5030640"/>
            <a:ext cx="260640" cy="211320"/>
          </a:xfrm>
          <a:custGeom>
            <a:avLst/>
            <a:gdLst/>
            <a:ahLst/>
            <a:rect l="0" t="0" r="r" b="b"/>
            <a:pathLst>
              <a:path fill="none" w="724" h="587">
                <a:moveTo>
                  <a:pt x="724" y="0"/>
                </a:moveTo>
                <a:lnTo>
                  <a:pt x="0" y="35"/>
                </a:lnTo>
                <a:lnTo>
                  <a:pt x="415" y="587"/>
                </a:lnTo>
                <a:lnTo>
                  <a:pt x="72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86280" y="5280120"/>
            <a:ext cx="249480" cy="198720"/>
          </a:xfrm>
          <a:custGeom>
            <a:avLst/>
            <a:gdLst/>
            <a:ahLst/>
            <a:rect l="0" t="0" r="r" b="b"/>
            <a:pathLst>
              <a:path w="693" h="552">
                <a:moveTo>
                  <a:pt x="693" y="0"/>
                </a:moveTo>
                <a:lnTo>
                  <a:pt x="0" y="35"/>
                </a:lnTo>
                <a:lnTo>
                  <a:pt x="393" y="552"/>
                </a:lnTo>
                <a:lnTo>
                  <a:pt x="693" y="0"/>
                </a:lnTo>
                <a:close/>
              </a:path>
            </a:pathLst>
          </a:custGeom>
          <a:solidFill>
            <a:srgbClr val="dd080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86280" y="5280120"/>
            <a:ext cx="262440" cy="211320"/>
          </a:xfrm>
          <a:custGeom>
            <a:avLst/>
            <a:gdLst/>
            <a:ahLst/>
            <a:rect l="0" t="0" r="r" b="b"/>
            <a:pathLst>
              <a:path fill="none" w="729" h="587">
                <a:moveTo>
                  <a:pt x="729" y="0"/>
                </a:moveTo>
                <a:lnTo>
                  <a:pt x="0" y="35"/>
                </a:lnTo>
                <a:lnTo>
                  <a:pt x="415" y="587"/>
                </a:lnTo>
                <a:lnTo>
                  <a:pt x="7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35400" y="4992840"/>
            <a:ext cx="249480" cy="200520"/>
          </a:xfrm>
          <a:custGeom>
            <a:avLst/>
            <a:gdLst/>
            <a:ahLst/>
            <a:rect l="0" t="0" r="r" b="b"/>
            <a:pathLst>
              <a:path w="693" h="557">
                <a:moveTo>
                  <a:pt x="693" y="0"/>
                </a:moveTo>
                <a:lnTo>
                  <a:pt x="0" y="35"/>
                </a:lnTo>
                <a:lnTo>
                  <a:pt x="393" y="557"/>
                </a:lnTo>
                <a:lnTo>
                  <a:pt x="693" y="0"/>
                </a:lnTo>
                <a:close/>
              </a:path>
            </a:pathLst>
          </a:custGeom>
          <a:solidFill>
            <a:srgbClr val="dd080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35400" y="4992840"/>
            <a:ext cx="262440" cy="213120"/>
          </a:xfrm>
          <a:custGeom>
            <a:avLst/>
            <a:gdLst/>
            <a:ahLst/>
            <a:rect l="0" t="0" r="r" b="b"/>
            <a:pathLst>
              <a:path fill="none" w="729" h="592">
                <a:moveTo>
                  <a:pt x="729" y="0"/>
                </a:moveTo>
                <a:lnTo>
                  <a:pt x="0" y="35"/>
                </a:lnTo>
                <a:lnTo>
                  <a:pt x="415" y="592"/>
                </a:lnTo>
                <a:lnTo>
                  <a:pt x="7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0800" y="4730760"/>
            <a:ext cx="249480" cy="200520"/>
          </a:xfrm>
          <a:custGeom>
            <a:avLst/>
            <a:gdLst/>
            <a:ahLst/>
            <a:rect l="0" t="0" r="r" b="b"/>
            <a:pathLst>
              <a:path w="693" h="557">
                <a:moveTo>
                  <a:pt x="693" y="0"/>
                </a:moveTo>
                <a:lnTo>
                  <a:pt x="0" y="35"/>
                </a:lnTo>
                <a:lnTo>
                  <a:pt x="397" y="557"/>
                </a:lnTo>
                <a:lnTo>
                  <a:pt x="693" y="0"/>
                </a:lnTo>
                <a:close/>
              </a:path>
            </a:pathLst>
          </a:custGeom>
          <a:solidFill>
            <a:srgbClr val="dd080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0800" y="4730760"/>
            <a:ext cx="262440" cy="213120"/>
          </a:xfrm>
          <a:custGeom>
            <a:avLst/>
            <a:gdLst/>
            <a:ahLst/>
            <a:rect l="0" t="0" r="r" b="b"/>
            <a:pathLst>
              <a:path fill="none" w="729" h="592">
                <a:moveTo>
                  <a:pt x="729" y="0"/>
                </a:moveTo>
                <a:lnTo>
                  <a:pt x="0" y="35"/>
                </a:lnTo>
                <a:lnTo>
                  <a:pt x="419" y="592"/>
                </a:lnTo>
                <a:lnTo>
                  <a:pt x="72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62280" y="5216400"/>
            <a:ext cx="262440" cy="213120"/>
          </a:xfrm>
          <a:custGeom>
            <a:avLst/>
            <a:gdLst/>
            <a:ahLst/>
            <a:rect l="0" t="0" r="r" b="b"/>
            <a:pathLst>
              <a:path w="729" h="592">
                <a:moveTo>
                  <a:pt x="729" y="0"/>
                </a:moveTo>
                <a:lnTo>
                  <a:pt x="0" y="35"/>
                </a:lnTo>
                <a:lnTo>
                  <a:pt x="415" y="592"/>
                </a:lnTo>
                <a:lnTo>
                  <a:pt x="729" y="0"/>
                </a:lnTo>
                <a:close/>
              </a:path>
            </a:pathLst>
          </a:custGeom>
          <a:solidFill>
            <a:srgbClr val="dd080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7224840"/>
            <a:ext cx="1722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47640" y="3105000"/>
            <a:ext cx="6121440" cy="5003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42800" y="1677960"/>
            <a:ext cx="588024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ARIATION IN GAMMA 1 MYELOMA PROTEIN BINDING TO MACROPH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961920" y="5440320"/>
            <a:ext cx="2838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ERCENT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28520" y="2643120"/>
            <a:ext cx="6550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DEAD CELLS CAN BE A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5600" y="4336920"/>
            <a:ext cx="625968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ey bind antibodies nonspecif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ey masquerade as specific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ey cause data mis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51040" y="4375080"/>
            <a:ext cx="678240" cy="1541880"/>
          </a:xfrm>
          <a:custGeom>
            <a:avLst/>
            <a:gdLst/>
            <a:ahLst/>
            <a:rect l="0" t="0" r="r" b="b"/>
            <a:pathLst>
              <a:path w="1884" h="4283">
                <a:moveTo>
                  <a:pt x="0" y="4094"/>
                </a:moveTo>
                <a:lnTo>
                  <a:pt x="0" y="4001"/>
                </a:lnTo>
                <a:lnTo>
                  <a:pt x="0" y="3904"/>
                </a:lnTo>
                <a:lnTo>
                  <a:pt x="48" y="3812"/>
                </a:lnTo>
                <a:lnTo>
                  <a:pt x="0" y="3719"/>
                </a:lnTo>
                <a:lnTo>
                  <a:pt x="0" y="3622"/>
                </a:lnTo>
                <a:lnTo>
                  <a:pt x="0" y="3529"/>
                </a:lnTo>
                <a:lnTo>
                  <a:pt x="0" y="3437"/>
                </a:lnTo>
                <a:lnTo>
                  <a:pt x="48" y="3340"/>
                </a:lnTo>
                <a:lnTo>
                  <a:pt x="48" y="3247"/>
                </a:lnTo>
                <a:lnTo>
                  <a:pt x="48" y="3153"/>
                </a:lnTo>
                <a:lnTo>
                  <a:pt x="92" y="3056"/>
                </a:lnTo>
                <a:lnTo>
                  <a:pt x="92" y="2964"/>
                </a:lnTo>
                <a:lnTo>
                  <a:pt x="141" y="2871"/>
                </a:lnTo>
                <a:lnTo>
                  <a:pt x="233" y="2823"/>
                </a:lnTo>
                <a:lnTo>
                  <a:pt x="233" y="2730"/>
                </a:lnTo>
                <a:lnTo>
                  <a:pt x="233" y="2633"/>
                </a:lnTo>
                <a:lnTo>
                  <a:pt x="233" y="2541"/>
                </a:lnTo>
                <a:lnTo>
                  <a:pt x="189" y="2448"/>
                </a:lnTo>
                <a:lnTo>
                  <a:pt x="189" y="2351"/>
                </a:lnTo>
                <a:lnTo>
                  <a:pt x="141" y="2258"/>
                </a:lnTo>
                <a:lnTo>
                  <a:pt x="92" y="2166"/>
                </a:lnTo>
                <a:lnTo>
                  <a:pt x="92" y="2069"/>
                </a:lnTo>
                <a:lnTo>
                  <a:pt x="92" y="1976"/>
                </a:lnTo>
                <a:lnTo>
                  <a:pt x="141" y="1883"/>
                </a:lnTo>
                <a:lnTo>
                  <a:pt x="141" y="1786"/>
                </a:lnTo>
                <a:lnTo>
                  <a:pt x="189" y="1694"/>
                </a:lnTo>
                <a:lnTo>
                  <a:pt x="189" y="1601"/>
                </a:lnTo>
                <a:lnTo>
                  <a:pt x="189" y="1504"/>
                </a:lnTo>
                <a:lnTo>
                  <a:pt x="282" y="1412"/>
                </a:lnTo>
                <a:lnTo>
                  <a:pt x="282" y="1319"/>
                </a:lnTo>
                <a:lnTo>
                  <a:pt x="330" y="1222"/>
                </a:lnTo>
                <a:lnTo>
                  <a:pt x="282" y="1129"/>
                </a:lnTo>
                <a:lnTo>
                  <a:pt x="282" y="1036"/>
                </a:lnTo>
                <a:lnTo>
                  <a:pt x="282" y="939"/>
                </a:lnTo>
                <a:lnTo>
                  <a:pt x="330" y="846"/>
                </a:lnTo>
                <a:lnTo>
                  <a:pt x="330" y="754"/>
                </a:lnTo>
                <a:lnTo>
                  <a:pt x="374" y="612"/>
                </a:lnTo>
                <a:lnTo>
                  <a:pt x="423" y="515"/>
                </a:lnTo>
                <a:lnTo>
                  <a:pt x="423" y="423"/>
                </a:lnTo>
                <a:lnTo>
                  <a:pt x="423" y="282"/>
                </a:lnTo>
                <a:lnTo>
                  <a:pt x="472" y="189"/>
                </a:lnTo>
                <a:lnTo>
                  <a:pt x="472" y="92"/>
                </a:lnTo>
                <a:lnTo>
                  <a:pt x="565" y="48"/>
                </a:lnTo>
                <a:lnTo>
                  <a:pt x="658" y="0"/>
                </a:lnTo>
                <a:lnTo>
                  <a:pt x="755" y="0"/>
                </a:lnTo>
                <a:lnTo>
                  <a:pt x="847" y="0"/>
                </a:lnTo>
                <a:lnTo>
                  <a:pt x="940" y="0"/>
                </a:lnTo>
                <a:lnTo>
                  <a:pt x="1081" y="0"/>
                </a:lnTo>
                <a:lnTo>
                  <a:pt x="1178" y="0"/>
                </a:lnTo>
                <a:lnTo>
                  <a:pt x="1222" y="92"/>
                </a:lnTo>
                <a:lnTo>
                  <a:pt x="1271" y="189"/>
                </a:lnTo>
                <a:lnTo>
                  <a:pt x="1363" y="282"/>
                </a:lnTo>
                <a:lnTo>
                  <a:pt x="1505" y="374"/>
                </a:lnTo>
                <a:lnTo>
                  <a:pt x="1602" y="423"/>
                </a:lnTo>
                <a:lnTo>
                  <a:pt x="1695" y="423"/>
                </a:lnTo>
                <a:lnTo>
                  <a:pt x="1695" y="515"/>
                </a:lnTo>
                <a:lnTo>
                  <a:pt x="1646" y="612"/>
                </a:lnTo>
                <a:lnTo>
                  <a:pt x="1646" y="705"/>
                </a:lnTo>
                <a:lnTo>
                  <a:pt x="1836" y="846"/>
                </a:lnTo>
                <a:lnTo>
                  <a:pt x="1884" y="939"/>
                </a:lnTo>
                <a:lnTo>
                  <a:pt x="1836" y="1036"/>
                </a:lnTo>
                <a:lnTo>
                  <a:pt x="1836" y="1129"/>
                </a:lnTo>
                <a:lnTo>
                  <a:pt x="1884" y="1222"/>
                </a:lnTo>
                <a:lnTo>
                  <a:pt x="1884" y="1319"/>
                </a:lnTo>
                <a:lnTo>
                  <a:pt x="1787" y="1363"/>
                </a:lnTo>
                <a:lnTo>
                  <a:pt x="1787" y="1460"/>
                </a:lnTo>
                <a:lnTo>
                  <a:pt x="1743" y="1553"/>
                </a:lnTo>
                <a:lnTo>
                  <a:pt x="1743" y="1645"/>
                </a:lnTo>
                <a:lnTo>
                  <a:pt x="1695" y="1742"/>
                </a:lnTo>
                <a:lnTo>
                  <a:pt x="1695" y="1835"/>
                </a:lnTo>
                <a:lnTo>
                  <a:pt x="1695" y="1928"/>
                </a:lnTo>
                <a:lnTo>
                  <a:pt x="1743" y="2025"/>
                </a:lnTo>
                <a:lnTo>
                  <a:pt x="1743" y="2117"/>
                </a:lnTo>
                <a:lnTo>
                  <a:pt x="1787" y="2210"/>
                </a:lnTo>
                <a:lnTo>
                  <a:pt x="1787" y="2307"/>
                </a:lnTo>
                <a:lnTo>
                  <a:pt x="1743" y="2399"/>
                </a:lnTo>
                <a:lnTo>
                  <a:pt x="1695" y="2492"/>
                </a:lnTo>
                <a:lnTo>
                  <a:pt x="1602" y="2541"/>
                </a:lnTo>
                <a:lnTo>
                  <a:pt x="1505" y="2541"/>
                </a:lnTo>
                <a:lnTo>
                  <a:pt x="1412" y="2541"/>
                </a:lnTo>
                <a:lnTo>
                  <a:pt x="1271" y="2541"/>
                </a:lnTo>
                <a:lnTo>
                  <a:pt x="1178" y="2589"/>
                </a:lnTo>
                <a:lnTo>
                  <a:pt x="1178" y="2682"/>
                </a:lnTo>
                <a:lnTo>
                  <a:pt x="1178" y="2774"/>
                </a:lnTo>
                <a:lnTo>
                  <a:pt x="1129" y="2871"/>
                </a:lnTo>
                <a:lnTo>
                  <a:pt x="1129" y="2964"/>
                </a:lnTo>
                <a:lnTo>
                  <a:pt x="1081" y="3056"/>
                </a:lnTo>
                <a:lnTo>
                  <a:pt x="1037" y="3153"/>
                </a:lnTo>
                <a:lnTo>
                  <a:pt x="988" y="3247"/>
                </a:lnTo>
                <a:lnTo>
                  <a:pt x="940" y="3340"/>
                </a:lnTo>
                <a:lnTo>
                  <a:pt x="896" y="3437"/>
                </a:lnTo>
                <a:lnTo>
                  <a:pt x="896" y="3529"/>
                </a:lnTo>
                <a:lnTo>
                  <a:pt x="896" y="3622"/>
                </a:lnTo>
                <a:lnTo>
                  <a:pt x="847" y="3719"/>
                </a:lnTo>
                <a:lnTo>
                  <a:pt x="799" y="3812"/>
                </a:lnTo>
                <a:lnTo>
                  <a:pt x="799" y="3904"/>
                </a:lnTo>
                <a:lnTo>
                  <a:pt x="755" y="4001"/>
                </a:lnTo>
                <a:lnTo>
                  <a:pt x="706" y="4094"/>
                </a:lnTo>
                <a:lnTo>
                  <a:pt x="613" y="4142"/>
                </a:lnTo>
                <a:lnTo>
                  <a:pt x="516" y="4142"/>
                </a:lnTo>
                <a:lnTo>
                  <a:pt x="423" y="4142"/>
                </a:lnTo>
                <a:lnTo>
                  <a:pt x="330" y="4186"/>
                </a:lnTo>
                <a:lnTo>
                  <a:pt x="233" y="4283"/>
                </a:lnTo>
                <a:lnTo>
                  <a:pt x="141" y="4283"/>
                </a:lnTo>
                <a:lnTo>
                  <a:pt x="48" y="4235"/>
                </a:lnTo>
                <a:lnTo>
                  <a:pt x="48" y="4142"/>
                </a:lnTo>
                <a:lnTo>
                  <a:pt x="0" y="409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89240" y="4470480"/>
            <a:ext cx="678240" cy="1541880"/>
          </a:xfrm>
          <a:custGeom>
            <a:avLst/>
            <a:gdLst/>
            <a:ahLst/>
            <a:rect l="0" t="0" r="r" b="b"/>
            <a:pathLst>
              <a:path w="1884" h="4283">
                <a:moveTo>
                  <a:pt x="0" y="4094"/>
                </a:moveTo>
                <a:lnTo>
                  <a:pt x="0" y="4001"/>
                </a:lnTo>
                <a:lnTo>
                  <a:pt x="0" y="3904"/>
                </a:lnTo>
                <a:lnTo>
                  <a:pt x="48" y="3812"/>
                </a:lnTo>
                <a:lnTo>
                  <a:pt x="0" y="3719"/>
                </a:lnTo>
                <a:lnTo>
                  <a:pt x="0" y="3622"/>
                </a:lnTo>
                <a:lnTo>
                  <a:pt x="0" y="3529"/>
                </a:lnTo>
                <a:lnTo>
                  <a:pt x="0" y="3437"/>
                </a:lnTo>
                <a:lnTo>
                  <a:pt x="48" y="3340"/>
                </a:lnTo>
                <a:lnTo>
                  <a:pt x="48" y="3247"/>
                </a:lnTo>
                <a:lnTo>
                  <a:pt x="48" y="3153"/>
                </a:lnTo>
                <a:lnTo>
                  <a:pt x="92" y="3056"/>
                </a:lnTo>
                <a:lnTo>
                  <a:pt x="92" y="2964"/>
                </a:lnTo>
                <a:lnTo>
                  <a:pt x="141" y="2871"/>
                </a:lnTo>
                <a:lnTo>
                  <a:pt x="233" y="2823"/>
                </a:lnTo>
                <a:lnTo>
                  <a:pt x="233" y="2730"/>
                </a:lnTo>
                <a:lnTo>
                  <a:pt x="233" y="2633"/>
                </a:lnTo>
                <a:lnTo>
                  <a:pt x="233" y="2541"/>
                </a:lnTo>
                <a:lnTo>
                  <a:pt x="189" y="2448"/>
                </a:lnTo>
                <a:lnTo>
                  <a:pt x="189" y="2351"/>
                </a:lnTo>
                <a:lnTo>
                  <a:pt x="141" y="2258"/>
                </a:lnTo>
                <a:lnTo>
                  <a:pt x="92" y="2166"/>
                </a:lnTo>
                <a:lnTo>
                  <a:pt x="92" y="2069"/>
                </a:lnTo>
                <a:lnTo>
                  <a:pt x="92" y="1976"/>
                </a:lnTo>
                <a:lnTo>
                  <a:pt x="141" y="1883"/>
                </a:lnTo>
                <a:lnTo>
                  <a:pt x="141" y="1786"/>
                </a:lnTo>
                <a:lnTo>
                  <a:pt x="189" y="1694"/>
                </a:lnTo>
                <a:lnTo>
                  <a:pt x="189" y="1601"/>
                </a:lnTo>
                <a:lnTo>
                  <a:pt x="189" y="1504"/>
                </a:lnTo>
                <a:lnTo>
                  <a:pt x="282" y="1412"/>
                </a:lnTo>
                <a:lnTo>
                  <a:pt x="282" y="1319"/>
                </a:lnTo>
                <a:lnTo>
                  <a:pt x="330" y="1222"/>
                </a:lnTo>
                <a:lnTo>
                  <a:pt x="282" y="1129"/>
                </a:lnTo>
                <a:lnTo>
                  <a:pt x="282" y="1036"/>
                </a:lnTo>
                <a:lnTo>
                  <a:pt x="282" y="939"/>
                </a:lnTo>
                <a:lnTo>
                  <a:pt x="330" y="846"/>
                </a:lnTo>
                <a:lnTo>
                  <a:pt x="330" y="754"/>
                </a:lnTo>
                <a:lnTo>
                  <a:pt x="374" y="612"/>
                </a:lnTo>
                <a:lnTo>
                  <a:pt x="423" y="515"/>
                </a:lnTo>
                <a:lnTo>
                  <a:pt x="423" y="423"/>
                </a:lnTo>
                <a:lnTo>
                  <a:pt x="423" y="282"/>
                </a:lnTo>
                <a:lnTo>
                  <a:pt x="472" y="189"/>
                </a:lnTo>
                <a:lnTo>
                  <a:pt x="472" y="92"/>
                </a:lnTo>
                <a:lnTo>
                  <a:pt x="565" y="48"/>
                </a:lnTo>
                <a:lnTo>
                  <a:pt x="658" y="0"/>
                </a:lnTo>
                <a:lnTo>
                  <a:pt x="755" y="0"/>
                </a:lnTo>
                <a:lnTo>
                  <a:pt x="847" y="0"/>
                </a:lnTo>
                <a:lnTo>
                  <a:pt x="940" y="0"/>
                </a:lnTo>
                <a:lnTo>
                  <a:pt x="1081" y="0"/>
                </a:lnTo>
                <a:lnTo>
                  <a:pt x="1178" y="0"/>
                </a:lnTo>
                <a:lnTo>
                  <a:pt x="1222" y="92"/>
                </a:lnTo>
                <a:lnTo>
                  <a:pt x="1271" y="189"/>
                </a:lnTo>
                <a:lnTo>
                  <a:pt x="1363" y="282"/>
                </a:lnTo>
                <a:lnTo>
                  <a:pt x="1505" y="374"/>
                </a:lnTo>
                <a:lnTo>
                  <a:pt x="1602" y="423"/>
                </a:lnTo>
                <a:lnTo>
                  <a:pt x="1695" y="423"/>
                </a:lnTo>
                <a:lnTo>
                  <a:pt x="1695" y="515"/>
                </a:lnTo>
                <a:lnTo>
                  <a:pt x="1646" y="612"/>
                </a:lnTo>
                <a:lnTo>
                  <a:pt x="1646" y="705"/>
                </a:lnTo>
                <a:lnTo>
                  <a:pt x="1836" y="846"/>
                </a:lnTo>
                <a:lnTo>
                  <a:pt x="1884" y="939"/>
                </a:lnTo>
                <a:lnTo>
                  <a:pt x="1836" y="1036"/>
                </a:lnTo>
                <a:lnTo>
                  <a:pt x="1836" y="1129"/>
                </a:lnTo>
                <a:lnTo>
                  <a:pt x="1884" y="1222"/>
                </a:lnTo>
                <a:lnTo>
                  <a:pt x="1884" y="1319"/>
                </a:lnTo>
                <a:lnTo>
                  <a:pt x="1787" y="1363"/>
                </a:lnTo>
                <a:lnTo>
                  <a:pt x="1787" y="1460"/>
                </a:lnTo>
                <a:lnTo>
                  <a:pt x="1743" y="1553"/>
                </a:lnTo>
                <a:lnTo>
                  <a:pt x="1743" y="1645"/>
                </a:lnTo>
                <a:lnTo>
                  <a:pt x="1695" y="1742"/>
                </a:lnTo>
                <a:lnTo>
                  <a:pt x="1695" y="1835"/>
                </a:lnTo>
                <a:lnTo>
                  <a:pt x="1695" y="1928"/>
                </a:lnTo>
                <a:lnTo>
                  <a:pt x="1743" y="2025"/>
                </a:lnTo>
                <a:lnTo>
                  <a:pt x="1743" y="2117"/>
                </a:lnTo>
                <a:lnTo>
                  <a:pt x="1787" y="2210"/>
                </a:lnTo>
                <a:lnTo>
                  <a:pt x="1787" y="2307"/>
                </a:lnTo>
                <a:lnTo>
                  <a:pt x="1743" y="2399"/>
                </a:lnTo>
                <a:lnTo>
                  <a:pt x="1695" y="2492"/>
                </a:lnTo>
                <a:lnTo>
                  <a:pt x="1602" y="2541"/>
                </a:lnTo>
                <a:lnTo>
                  <a:pt x="1505" y="2541"/>
                </a:lnTo>
                <a:lnTo>
                  <a:pt x="1412" y="2541"/>
                </a:lnTo>
                <a:lnTo>
                  <a:pt x="1271" y="2541"/>
                </a:lnTo>
                <a:lnTo>
                  <a:pt x="1178" y="2589"/>
                </a:lnTo>
                <a:lnTo>
                  <a:pt x="1178" y="2682"/>
                </a:lnTo>
                <a:lnTo>
                  <a:pt x="1178" y="2774"/>
                </a:lnTo>
                <a:lnTo>
                  <a:pt x="1129" y="2871"/>
                </a:lnTo>
                <a:lnTo>
                  <a:pt x="1129" y="2964"/>
                </a:lnTo>
                <a:lnTo>
                  <a:pt x="1081" y="3056"/>
                </a:lnTo>
                <a:lnTo>
                  <a:pt x="1037" y="3153"/>
                </a:lnTo>
                <a:lnTo>
                  <a:pt x="988" y="3247"/>
                </a:lnTo>
                <a:lnTo>
                  <a:pt x="940" y="3340"/>
                </a:lnTo>
                <a:lnTo>
                  <a:pt x="896" y="3437"/>
                </a:lnTo>
                <a:lnTo>
                  <a:pt x="896" y="3529"/>
                </a:lnTo>
                <a:lnTo>
                  <a:pt x="896" y="3622"/>
                </a:lnTo>
                <a:lnTo>
                  <a:pt x="847" y="3719"/>
                </a:lnTo>
                <a:lnTo>
                  <a:pt x="799" y="3812"/>
                </a:lnTo>
                <a:lnTo>
                  <a:pt x="799" y="3904"/>
                </a:lnTo>
                <a:lnTo>
                  <a:pt x="755" y="4001"/>
                </a:lnTo>
                <a:lnTo>
                  <a:pt x="706" y="4094"/>
                </a:lnTo>
                <a:lnTo>
                  <a:pt x="613" y="4142"/>
                </a:lnTo>
                <a:lnTo>
                  <a:pt x="516" y="4142"/>
                </a:lnTo>
                <a:lnTo>
                  <a:pt x="423" y="4142"/>
                </a:lnTo>
                <a:lnTo>
                  <a:pt x="330" y="4186"/>
                </a:lnTo>
                <a:lnTo>
                  <a:pt x="233" y="4283"/>
                </a:lnTo>
                <a:lnTo>
                  <a:pt x="141" y="4283"/>
                </a:lnTo>
                <a:lnTo>
                  <a:pt x="48" y="4235"/>
                </a:lnTo>
                <a:lnTo>
                  <a:pt x="48" y="4142"/>
                </a:lnTo>
                <a:lnTo>
                  <a:pt x="0" y="409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55720" y="4132440"/>
            <a:ext cx="1862640" cy="1897560"/>
          </a:xfrm>
          <a:custGeom>
            <a:avLst/>
            <a:gdLst/>
            <a:ahLst/>
            <a:rect l="0" t="0" r="r" b="b"/>
            <a:pathLst>
              <a:path w="5174" h="5271">
                <a:moveTo>
                  <a:pt x="0" y="4892"/>
                </a:moveTo>
                <a:lnTo>
                  <a:pt x="0" y="4799"/>
                </a:lnTo>
                <a:lnTo>
                  <a:pt x="0" y="4707"/>
                </a:lnTo>
                <a:lnTo>
                  <a:pt x="0" y="4610"/>
                </a:lnTo>
                <a:lnTo>
                  <a:pt x="0" y="4517"/>
                </a:lnTo>
                <a:lnTo>
                  <a:pt x="0" y="4424"/>
                </a:lnTo>
                <a:lnTo>
                  <a:pt x="0" y="4327"/>
                </a:lnTo>
                <a:lnTo>
                  <a:pt x="0" y="4235"/>
                </a:lnTo>
                <a:lnTo>
                  <a:pt x="0" y="4142"/>
                </a:lnTo>
                <a:lnTo>
                  <a:pt x="44" y="4045"/>
                </a:lnTo>
                <a:lnTo>
                  <a:pt x="141" y="4045"/>
                </a:lnTo>
                <a:lnTo>
                  <a:pt x="233" y="4001"/>
                </a:lnTo>
                <a:lnTo>
                  <a:pt x="282" y="3903"/>
                </a:lnTo>
                <a:lnTo>
                  <a:pt x="326" y="3811"/>
                </a:lnTo>
                <a:lnTo>
                  <a:pt x="423" y="3718"/>
                </a:lnTo>
                <a:lnTo>
                  <a:pt x="515" y="3621"/>
                </a:lnTo>
                <a:lnTo>
                  <a:pt x="515" y="3528"/>
                </a:lnTo>
                <a:lnTo>
                  <a:pt x="467" y="3436"/>
                </a:lnTo>
                <a:lnTo>
                  <a:pt x="515" y="3339"/>
                </a:lnTo>
                <a:lnTo>
                  <a:pt x="515" y="3246"/>
                </a:lnTo>
                <a:lnTo>
                  <a:pt x="515" y="3153"/>
                </a:lnTo>
                <a:lnTo>
                  <a:pt x="608" y="3105"/>
                </a:lnTo>
                <a:lnTo>
                  <a:pt x="608" y="3012"/>
                </a:lnTo>
                <a:lnTo>
                  <a:pt x="564" y="2915"/>
                </a:lnTo>
                <a:lnTo>
                  <a:pt x="657" y="2871"/>
                </a:lnTo>
                <a:lnTo>
                  <a:pt x="705" y="2774"/>
                </a:lnTo>
                <a:lnTo>
                  <a:pt x="608" y="2730"/>
                </a:lnTo>
                <a:lnTo>
                  <a:pt x="515" y="2682"/>
                </a:lnTo>
                <a:lnTo>
                  <a:pt x="608" y="2589"/>
                </a:lnTo>
                <a:lnTo>
                  <a:pt x="705" y="2492"/>
                </a:lnTo>
                <a:lnTo>
                  <a:pt x="749" y="2399"/>
                </a:lnTo>
                <a:lnTo>
                  <a:pt x="749" y="2307"/>
                </a:lnTo>
                <a:lnTo>
                  <a:pt x="846" y="2258"/>
                </a:lnTo>
                <a:lnTo>
                  <a:pt x="1080" y="2166"/>
                </a:lnTo>
                <a:lnTo>
                  <a:pt x="1270" y="2117"/>
                </a:lnTo>
                <a:lnTo>
                  <a:pt x="1412" y="2117"/>
                </a:lnTo>
                <a:lnTo>
                  <a:pt x="1553" y="2025"/>
                </a:lnTo>
                <a:lnTo>
                  <a:pt x="1597" y="1928"/>
                </a:lnTo>
                <a:lnTo>
                  <a:pt x="1456" y="1883"/>
                </a:lnTo>
                <a:lnTo>
                  <a:pt x="1363" y="1883"/>
                </a:lnTo>
                <a:lnTo>
                  <a:pt x="1221" y="1883"/>
                </a:lnTo>
                <a:lnTo>
                  <a:pt x="1080" y="1883"/>
                </a:lnTo>
                <a:lnTo>
                  <a:pt x="987" y="1883"/>
                </a:lnTo>
                <a:lnTo>
                  <a:pt x="987" y="1786"/>
                </a:lnTo>
                <a:lnTo>
                  <a:pt x="1080" y="1742"/>
                </a:lnTo>
                <a:lnTo>
                  <a:pt x="1128" y="1645"/>
                </a:lnTo>
                <a:lnTo>
                  <a:pt x="1221" y="1601"/>
                </a:lnTo>
                <a:lnTo>
                  <a:pt x="1315" y="1601"/>
                </a:lnTo>
                <a:lnTo>
                  <a:pt x="1412" y="1601"/>
                </a:lnTo>
                <a:lnTo>
                  <a:pt x="1504" y="1601"/>
                </a:lnTo>
                <a:lnTo>
                  <a:pt x="1597" y="1553"/>
                </a:lnTo>
                <a:lnTo>
                  <a:pt x="1645" y="1645"/>
                </a:lnTo>
                <a:lnTo>
                  <a:pt x="1786" y="1694"/>
                </a:lnTo>
                <a:lnTo>
                  <a:pt x="1879" y="1742"/>
                </a:lnTo>
                <a:lnTo>
                  <a:pt x="1976" y="1742"/>
                </a:lnTo>
                <a:lnTo>
                  <a:pt x="1928" y="1835"/>
                </a:lnTo>
                <a:lnTo>
                  <a:pt x="1928" y="1928"/>
                </a:lnTo>
                <a:lnTo>
                  <a:pt x="2020" y="1928"/>
                </a:lnTo>
                <a:lnTo>
                  <a:pt x="2161" y="1928"/>
                </a:lnTo>
                <a:lnTo>
                  <a:pt x="2210" y="2025"/>
                </a:lnTo>
                <a:lnTo>
                  <a:pt x="2302" y="2069"/>
                </a:lnTo>
                <a:lnTo>
                  <a:pt x="2443" y="2117"/>
                </a:lnTo>
                <a:lnTo>
                  <a:pt x="2541" y="2166"/>
                </a:lnTo>
                <a:lnTo>
                  <a:pt x="2585" y="2069"/>
                </a:lnTo>
                <a:lnTo>
                  <a:pt x="2633" y="1976"/>
                </a:lnTo>
                <a:lnTo>
                  <a:pt x="2633" y="1883"/>
                </a:lnTo>
                <a:lnTo>
                  <a:pt x="2682" y="1786"/>
                </a:lnTo>
                <a:lnTo>
                  <a:pt x="2774" y="1694"/>
                </a:lnTo>
                <a:lnTo>
                  <a:pt x="2823" y="1601"/>
                </a:lnTo>
                <a:lnTo>
                  <a:pt x="2915" y="1460"/>
                </a:lnTo>
                <a:lnTo>
                  <a:pt x="2867" y="1319"/>
                </a:lnTo>
                <a:lnTo>
                  <a:pt x="2823" y="1221"/>
                </a:lnTo>
                <a:lnTo>
                  <a:pt x="2823" y="1128"/>
                </a:lnTo>
                <a:lnTo>
                  <a:pt x="2823" y="1036"/>
                </a:lnTo>
                <a:lnTo>
                  <a:pt x="2823" y="939"/>
                </a:lnTo>
                <a:lnTo>
                  <a:pt x="2867" y="846"/>
                </a:lnTo>
                <a:lnTo>
                  <a:pt x="2867" y="754"/>
                </a:lnTo>
                <a:lnTo>
                  <a:pt x="2964" y="657"/>
                </a:lnTo>
                <a:lnTo>
                  <a:pt x="3056" y="564"/>
                </a:lnTo>
                <a:lnTo>
                  <a:pt x="3149" y="423"/>
                </a:lnTo>
                <a:lnTo>
                  <a:pt x="3246" y="330"/>
                </a:lnTo>
                <a:lnTo>
                  <a:pt x="3290" y="189"/>
                </a:lnTo>
                <a:lnTo>
                  <a:pt x="3431" y="189"/>
                </a:lnTo>
                <a:lnTo>
                  <a:pt x="3669" y="1080"/>
                </a:lnTo>
                <a:lnTo>
                  <a:pt x="3762" y="92"/>
                </a:lnTo>
                <a:lnTo>
                  <a:pt x="3713" y="895"/>
                </a:lnTo>
                <a:lnTo>
                  <a:pt x="3904" y="798"/>
                </a:lnTo>
                <a:lnTo>
                  <a:pt x="3855" y="1177"/>
                </a:lnTo>
                <a:lnTo>
                  <a:pt x="4327" y="0"/>
                </a:lnTo>
                <a:lnTo>
                  <a:pt x="4327" y="92"/>
                </a:lnTo>
                <a:lnTo>
                  <a:pt x="4376" y="189"/>
                </a:lnTo>
                <a:lnTo>
                  <a:pt x="4469" y="282"/>
                </a:lnTo>
                <a:lnTo>
                  <a:pt x="4469" y="374"/>
                </a:lnTo>
                <a:lnTo>
                  <a:pt x="4561" y="423"/>
                </a:lnTo>
                <a:lnTo>
                  <a:pt x="4610" y="515"/>
                </a:lnTo>
                <a:lnTo>
                  <a:pt x="4702" y="564"/>
                </a:lnTo>
                <a:lnTo>
                  <a:pt x="4799" y="612"/>
                </a:lnTo>
                <a:lnTo>
                  <a:pt x="4799" y="705"/>
                </a:lnTo>
                <a:lnTo>
                  <a:pt x="4892" y="705"/>
                </a:lnTo>
                <a:lnTo>
                  <a:pt x="4469" y="939"/>
                </a:lnTo>
                <a:lnTo>
                  <a:pt x="4517" y="939"/>
                </a:lnTo>
                <a:lnTo>
                  <a:pt x="5174" y="846"/>
                </a:lnTo>
                <a:lnTo>
                  <a:pt x="5174" y="939"/>
                </a:lnTo>
                <a:lnTo>
                  <a:pt x="4235" y="1128"/>
                </a:lnTo>
                <a:lnTo>
                  <a:pt x="5082" y="1128"/>
                </a:lnTo>
                <a:lnTo>
                  <a:pt x="4327" y="1128"/>
                </a:lnTo>
                <a:lnTo>
                  <a:pt x="4940" y="1270"/>
                </a:lnTo>
                <a:lnTo>
                  <a:pt x="4940" y="1363"/>
                </a:lnTo>
                <a:lnTo>
                  <a:pt x="4843" y="1412"/>
                </a:lnTo>
                <a:lnTo>
                  <a:pt x="4376" y="1456"/>
                </a:lnTo>
                <a:lnTo>
                  <a:pt x="4610" y="1553"/>
                </a:lnTo>
                <a:lnTo>
                  <a:pt x="4517" y="1601"/>
                </a:lnTo>
                <a:lnTo>
                  <a:pt x="4469" y="1694"/>
                </a:lnTo>
                <a:lnTo>
                  <a:pt x="4469" y="1786"/>
                </a:lnTo>
                <a:lnTo>
                  <a:pt x="4327" y="1835"/>
                </a:lnTo>
                <a:lnTo>
                  <a:pt x="4235" y="1883"/>
                </a:lnTo>
                <a:lnTo>
                  <a:pt x="4186" y="1976"/>
                </a:lnTo>
                <a:lnTo>
                  <a:pt x="4094" y="2069"/>
                </a:lnTo>
                <a:lnTo>
                  <a:pt x="3953" y="2210"/>
                </a:lnTo>
                <a:lnTo>
                  <a:pt x="3904" y="2351"/>
                </a:lnTo>
                <a:lnTo>
                  <a:pt x="3904" y="2492"/>
                </a:lnTo>
                <a:lnTo>
                  <a:pt x="2915" y="2682"/>
                </a:lnTo>
                <a:lnTo>
                  <a:pt x="3762" y="2682"/>
                </a:lnTo>
                <a:lnTo>
                  <a:pt x="3669" y="2774"/>
                </a:lnTo>
                <a:lnTo>
                  <a:pt x="3713" y="2871"/>
                </a:lnTo>
                <a:lnTo>
                  <a:pt x="3904" y="2871"/>
                </a:lnTo>
                <a:lnTo>
                  <a:pt x="4094" y="2871"/>
                </a:lnTo>
                <a:lnTo>
                  <a:pt x="4279" y="2871"/>
                </a:lnTo>
                <a:lnTo>
                  <a:pt x="4186" y="2964"/>
                </a:lnTo>
                <a:lnTo>
                  <a:pt x="4045" y="3012"/>
                </a:lnTo>
                <a:lnTo>
                  <a:pt x="3953" y="3105"/>
                </a:lnTo>
                <a:lnTo>
                  <a:pt x="3855" y="3153"/>
                </a:lnTo>
                <a:lnTo>
                  <a:pt x="3762" y="3198"/>
                </a:lnTo>
                <a:lnTo>
                  <a:pt x="3669" y="3153"/>
                </a:lnTo>
                <a:lnTo>
                  <a:pt x="3528" y="3153"/>
                </a:lnTo>
                <a:lnTo>
                  <a:pt x="3387" y="3105"/>
                </a:lnTo>
                <a:lnTo>
                  <a:pt x="3246" y="3105"/>
                </a:lnTo>
                <a:lnTo>
                  <a:pt x="3149" y="3105"/>
                </a:lnTo>
                <a:lnTo>
                  <a:pt x="3008" y="3153"/>
                </a:lnTo>
                <a:lnTo>
                  <a:pt x="2867" y="3198"/>
                </a:lnTo>
                <a:lnTo>
                  <a:pt x="2682" y="3198"/>
                </a:lnTo>
                <a:lnTo>
                  <a:pt x="2585" y="3198"/>
                </a:lnTo>
                <a:lnTo>
                  <a:pt x="2541" y="3295"/>
                </a:lnTo>
                <a:lnTo>
                  <a:pt x="2633" y="3339"/>
                </a:lnTo>
                <a:lnTo>
                  <a:pt x="2541" y="3436"/>
                </a:lnTo>
                <a:lnTo>
                  <a:pt x="2443" y="3528"/>
                </a:lnTo>
                <a:lnTo>
                  <a:pt x="2351" y="3621"/>
                </a:lnTo>
                <a:lnTo>
                  <a:pt x="2302" y="3718"/>
                </a:lnTo>
                <a:lnTo>
                  <a:pt x="2258" y="3811"/>
                </a:lnTo>
                <a:lnTo>
                  <a:pt x="2020" y="3528"/>
                </a:lnTo>
                <a:lnTo>
                  <a:pt x="2069" y="3859"/>
                </a:lnTo>
                <a:lnTo>
                  <a:pt x="1928" y="3811"/>
                </a:lnTo>
                <a:lnTo>
                  <a:pt x="1456" y="3669"/>
                </a:lnTo>
                <a:lnTo>
                  <a:pt x="1270" y="3669"/>
                </a:lnTo>
                <a:lnTo>
                  <a:pt x="1221" y="3762"/>
                </a:lnTo>
                <a:lnTo>
                  <a:pt x="1128" y="3859"/>
                </a:lnTo>
                <a:lnTo>
                  <a:pt x="1031" y="3903"/>
                </a:lnTo>
                <a:lnTo>
                  <a:pt x="987" y="4001"/>
                </a:lnTo>
                <a:lnTo>
                  <a:pt x="1031" y="4094"/>
                </a:lnTo>
                <a:lnTo>
                  <a:pt x="939" y="4186"/>
                </a:lnTo>
                <a:lnTo>
                  <a:pt x="939" y="4283"/>
                </a:lnTo>
                <a:lnTo>
                  <a:pt x="939" y="4376"/>
                </a:lnTo>
                <a:lnTo>
                  <a:pt x="890" y="4469"/>
                </a:lnTo>
                <a:lnTo>
                  <a:pt x="846" y="4566"/>
                </a:lnTo>
                <a:lnTo>
                  <a:pt x="798" y="4658"/>
                </a:lnTo>
                <a:lnTo>
                  <a:pt x="846" y="4751"/>
                </a:lnTo>
                <a:lnTo>
                  <a:pt x="939" y="4751"/>
                </a:lnTo>
                <a:lnTo>
                  <a:pt x="939" y="4848"/>
                </a:lnTo>
                <a:lnTo>
                  <a:pt x="939" y="4940"/>
                </a:lnTo>
                <a:lnTo>
                  <a:pt x="890" y="5033"/>
                </a:lnTo>
                <a:lnTo>
                  <a:pt x="846" y="5130"/>
                </a:lnTo>
                <a:lnTo>
                  <a:pt x="749" y="5174"/>
                </a:lnTo>
                <a:lnTo>
                  <a:pt x="657" y="5223"/>
                </a:lnTo>
                <a:lnTo>
                  <a:pt x="564" y="5223"/>
                </a:lnTo>
                <a:lnTo>
                  <a:pt x="467" y="5271"/>
                </a:lnTo>
                <a:lnTo>
                  <a:pt x="374" y="5271"/>
                </a:lnTo>
                <a:lnTo>
                  <a:pt x="282" y="5223"/>
                </a:lnTo>
                <a:lnTo>
                  <a:pt x="185" y="5223"/>
                </a:lnTo>
                <a:lnTo>
                  <a:pt x="141" y="5130"/>
                </a:lnTo>
                <a:lnTo>
                  <a:pt x="92" y="5033"/>
                </a:lnTo>
                <a:lnTo>
                  <a:pt x="92" y="4940"/>
                </a:lnTo>
                <a:lnTo>
                  <a:pt x="0" y="4892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254240"/>
            <a:ext cx="63673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NTIBODIES BIND NON-SPECIF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O DEAD 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0800" y="3573360"/>
            <a:ext cx="2557440" cy="2421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54320" y="3573360"/>
            <a:ext cx="2557440" cy="2421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708120" y="4556160"/>
            <a:ext cx="2058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LAMB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998800" y="6267600"/>
            <a:ext cx="1693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-KA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00240" y="3592440"/>
            <a:ext cx="39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64280" y="3608280"/>
            <a:ext cx="514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87560" y="3102120"/>
            <a:ext cx="1930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135320" y="3100320"/>
            <a:ext cx="2516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VIAB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96720" y="3481560"/>
            <a:ext cx="447840" cy="2714400"/>
            <a:chOff x="396720" y="3481560"/>
            <a:chExt cx="447840" cy="2714400"/>
          </a:xfrm>
        </p:grpSpPr>
        <p:sp>
          <p:nvSpPr>
            <p:cNvPr id="418" name=""/>
            <p:cNvSpPr txBox="1"/>
            <p:nvPr/>
          </p:nvSpPr>
          <p:spPr>
            <a:xfrm>
              <a:off x="396720" y="5954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20840" y="3481560"/>
              <a:ext cx="423720" cy="2647800"/>
              <a:chOff x="420840" y="3481560"/>
              <a:chExt cx="423720" cy="264780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420840" y="3989520"/>
                <a:ext cx="421920" cy="298080"/>
                <a:chOff x="420840" y="3989520"/>
                <a:chExt cx="421920" cy="298080"/>
              </a:xfrm>
            </p:grpSpPr>
            <p:sp>
              <p:nvSpPr>
                <p:cNvPr id="421" name=""/>
                <p:cNvSpPr txBox="1"/>
                <p:nvPr/>
              </p:nvSpPr>
              <p:spPr>
                <a:xfrm>
                  <a:off x="420840" y="404640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590400" y="398952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 flipH="1">
                <a:off x="757080" y="3586320"/>
                <a:ext cx="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42800" y="3481560"/>
                <a:ext cx="397080" cy="302760"/>
                <a:chOff x="442800" y="3481560"/>
                <a:chExt cx="397080" cy="302760"/>
              </a:xfrm>
            </p:grpSpPr>
            <p:sp>
              <p:nvSpPr>
                <p:cNvPr id="425" name=""/>
                <p:cNvSpPr txBox="1"/>
                <p:nvPr/>
              </p:nvSpPr>
              <p:spPr>
                <a:xfrm>
                  <a:off x="442800" y="354312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 txBox="1"/>
                <p:nvPr/>
              </p:nvSpPr>
              <p:spPr>
                <a:xfrm>
                  <a:off x="595440" y="3481560"/>
                  <a:ext cx="244440" cy="21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52520" y="5192640"/>
                <a:ext cx="388800" cy="326880"/>
                <a:chOff x="452520" y="5192640"/>
                <a:chExt cx="388800" cy="326880"/>
              </a:xfrm>
            </p:grpSpPr>
            <p:sp>
              <p:nvSpPr>
                <p:cNvPr id="428" name=""/>
                <p:cNvSpPr txBox="1"/>
                <p:nvPr/>
              </p:nvSpPr>
              <p:spPr>
                <a:xfrm>
                  <a:off x="452520" y="527832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>
                  <a:off x="588960" y="519264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55760" y="4559400"/>
                <a:ext cx="388800" cy="331560"/>
                <a:chOff x="455760" y="4559400"/>
                <a:chExt cx="388800" cy="331560"/>
              </a:xfrm>
            </p:grpSpPr>
            <p:sp>
              <p:nvSpPr>
                <p:cNvPr id="431" name=""/>
                <p:cNvSpPr txBox="1"/>
                <p:nvPr/>
              </p:nvSpPr>
              <p:spPr>
                <a:xfrm>
                  <a:off x="455760" y="464976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 txBox="1"/>
                <p:nvPr/>
              </p:nvSpPr>
              <p:spPr>
                <a:xfrm>
                  <a:off x="592200" y="455940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 txBox="1"/>
              <p:nvPr/>
            </p:nvSpPr>
            <p:spPr>
              <a:xfrm>
                <a:off x="569880" y="590400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52400" y="6000840"/>
                <a:ext cx="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63560" y="468468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57080" y="5307120"/>
                <a:ext cx="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7080" y="4100400"/>
                <a:ext cx="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3652920" y="3475080"/>
            <a:ext cx="423720" cy="2739960"/>
            <a:chOff x="3652920" y="3475080"/>
            <a:chExt cx="423720" cy="2739960"/>
          </a:xfrm>
        </p:grpSpPr>
        <p:grpSp>
          <p:nvGrpSpPr>
            <p:cNvPr id="439" name=""/>
            <p:cNvGrpSpPr/>
            <p:nvPr/>
          </p:nvGrpSpPr>
          <p:grpSpPr>
            <a:xfrm>
              <a:off x="3652920" y="3475080"/>
              <a:ext cx="423720" cy="2647800"/>
              <a:chOff x="3652920" y="3475080"/>
              <a:chExt cx="423720" cy="26478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3652920" y="3983040"/>
                <a:ext cx="422280" cy="298440"/>
                <a:chOff x="3652920" y="3983040"/>
                <a:chExt cx="422280" cy="298440"/>
              </a:xfrm>
            </p:grpSpPr>
            <p:sp>
              <p:nvSpPr>
                <p:cNvPr id="441" name=""/>
                <p:cNvSpPr txBox="1"/>
                <p:nvPr/>
              </p:nvSpPr>
              <p:spPr>
                <a:xfrm>
                  <a:off x="3652920" y="404028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>
                  <a:off x="3822840" y="398304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 flipH="1">
                <a:off x="3989520" y="357984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3675240" y="3475080"/>
                <a:ext cx="396720" cy="303120"/>
                <a:chOff x="3675240" y="3475080"/>
                <a:chExt cx="396720" cy="303120"/>
              </a:xfrm>
            </p:grpSpPr>
            <p:sp>
              <p:nvSpPr>
                <p:cNvPr id="445" name=""/>
                <p:cNvSpPr txBox="1"/>
                <p:nvPr/>
              </p:nvSpPr>
              <p:spPr>
                <a:xfrm>
                  <a:off x="3675240" y="353700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>
                  <a:off x="3827520" y="3475080"/>
                  <a:ext cx="244440" cy="21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684600" y="5186520"/>
                <a:ext cx="388800" cy="326880"/>
                <a:chOff x="3684600" y="5186520"/>
                <a:chExt cx="388800" cy="326880"/>
              </a:xfrm>
            </p:grpSpPr>
            <p:sp>
              <p:nvSpPr>
                <p:cNvPr id="448" name=""/>
                <p:cNvSpPr txBox="1"/>
                <p:nvPr/>
              </p:nvSpPr>
              <p:spPr>
                <a:xfrm>
                  <a:off x="3684600" y="527220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 txBox="1"/>
                <p:nvPr/>
              </p:nvSpPr>
              <p:spPr>
                <a:xfrm>
                  <a:off x="3821040" y="518652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687840" y="4552920"/>
                <a:ext cx="388800" cy="331560"/>
                <a:chOff x="3687840" y="4552920"/>
                <a:chExt cx="388800" cy="331560"/>
              </a:xfrm>
            </p:grpSpPr>
            <p:sp>
              <p:nvSpPr>
                <p:cNvPr id="451" name=""/>
                <p:cNvSpPr txBox="1"/>
                <p:nvPr/>
              </p:nvSpPr>
              <p:spPr>
                <a:xfrm>
                  <a:off x="3687840" y="464328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 txBox="1"/>
                <p:nvPr/>
              </p:nvSpPr>
              <p:spPr>
                <a:xfrm>
                  <a:off x="3824280" y="455292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 txBox="1"/>
              <p:nvPr/>
            </p:nvSpPr>
            <p:spPr>
              <a:xfrm>
                <a:off x="3801960" y="58975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3984480" y="5994360"/>
                <a:ext cx="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995640" y="467820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989520" y="530064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989520" y="4094280"/>
                <a:ext cx="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 txBox="1"/>
            <p:nvPr/>
          </p:nvSpPr>
          <p:spPr>
            <a:xfrm>
              <a:off x="3673440" y="59738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833400" y="5308560"/>
            <a:ext cx="253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378080" y="357012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8440" y="5986440"/>
            <a:ext cx="2944800" cy="345960"/>
            <a:chOff x="568440" y="5986440"/>
            <a:chExt cx="2944800" cy="345960"/>
          </a:xfrm>
        </p:grpSpPr>
        <p:sp>
          <p:nvSpPr>
            <p:cNvPr id="462" name=""/>
            <p:cNvSpPr txBox="1"/>
            <p:nvPr/>
          </p:nvSpPr>
          <p:spPr>
            <a:xfrm>
              <a:off x="2478240" y="60912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2641680" y="59896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3116160" y="6089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3268800" y="599616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1150920" y="60912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281240" y="59864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814400" y="60912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982880" y="59943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568440" y="60879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28640" y="59864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825480" y="5996160"/>
            <a:ext cx="0" cy="4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8080" y="600228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70000" y="599616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60022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78240" y="59896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819600" y="6000840"/>
            <a:ext cx="2922480" cy="349200"/>
            <a:chOff x="3819600" y="6000840"/>
            <a:chExt cx="2922480" cy="349200"/>
          </a:xfrm>
        </p:grpSpPr>
        <p:sp>
          <p:nvSpPr>
            <p:cNvPr id="478" name=""/>
            <p:cNvSpPr txBox="1"/>
            <p:nvPr/>
          </p:nvSpPr>
          <p:spPr>
            <a:xfrm>
              <a:off x="5713560" y="61088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5875200" y="60040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6346800" y="61070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6497640" y="601020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4397400" y="61088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4525920" y="60008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5054760" y="61088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5221440" y="60087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3819600" y="61056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978360" y="60008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064040" y="59961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10160" y="59961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08560" y="599616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56200" y="599616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10320" y="59896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646280" y="3954600"/>
            <a:ext cx="1225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dea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64040" y="5300640"/>
            <a:ext cx="255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630680" y="3584520"/>
            <a:ext cx="0" cy="2398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920" y="2252520"/>
            <a:ext cx="6850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111240" y="746280"/>
            <a:ext cx="661824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EVALUATING V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WITH ETHIDIUM MONOAZ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1480" y="2506680"/>
            <a:ext cx="4757760" cy="399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98360" y="4334040"/>
            <a:ext cx="906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182680" y="6657840"/>
            <a:ext cx="2595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orward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95440" y="4556160"/>
            <a:ext cx="864000" cy="1252800"/>
          </a:xfrm>
          <a:custGeom>
            <a:avLst/>
            <a:gdLst/>
            <a:ahLst/>
            <a:rect l="0" t="0" r="r" b="b"/>
            <a:pathLst>
              <a:path w="2400" h="3480">
                <a:moveTo>
                  <a:pt x="92" y="515"/>
                </a:moveTo>
                <a:lnTo>
                  <a:pt x="44" y="612"/>
                </a:lnTo>
                <a:lnTo>
                  <a:pt x="44" y="705"/>
                </a:lnTo>
                <a:lnTo>
                  <a:pt x="44" y="798"/>
                </a:lnTo>
                <a:lnTo>
                  <a:pt x="0" y="895"/>
                </a:lnTo>
                <a:lnTo>
                  <a:pt x="0" y="987"/>
                </a:lnTo>
                <a:lnTo>
                  <a:pt x="0" y="1080"/>
                </a:lnTo>
                <a:lnTo>
                  <a:pt x="0" y="1177"/>
                </a:lnTo>
                <a:lnTo>
                  <a:pt x="0" y="1270"/>
                </a:lnTo>
                <a:lnTo>
                  <a:pt x="0" y="1362"/>
                </a:lnTo>
                <a:lnTo>
                  <a:pt x="0" y="1459"/>
                </a:lnTo>
                <a:lnTo>
                  <a:pt x="0" y="1552"/>
                </a:lnTo>
                <a:lnTo>
                  <a:pt x="0" y="1644"/>
                </a:lnTo>
                <a:lnTo>
                  <a:pt x="0" y="1786"/>
                </a:lnTo>
                <a:lnTo>
                  <a:pt x="0" y="1883"/>
                </a:lnTo>
                <a:lnTo>
                  <a:pt x="0" y="1976"/>
                </a:lnTo>
                <a:lnTo>
                  <a:pt x="0" y="2069"/>
                </a:lnTo>
                <a:lnTo>
                  <a:pt x="0" y="2166"/>
                </a:lnTo>
                <a:lnTo>
                  <a:pt x="44" y="2258"/>
                </a:lnTo>
                <a:lnTo>
                  <a:pt x="44" y="2351"/>
                </a:lnTo>
                <a:lnTo>
                  <a:pt x="44" y="2448"/>
                </a:lnTo>
                <a:lnTo>
                  <a:pt x="92" y="2541"/>
                </a:lnTo>
                <a:lnTo>
                  <a:pt x="92" y="2633"/>
                </a:lnTo>
                <a:lnTo>
                  <a:pt x="92" y="2730"/>
                </a:lnTo>
                <a:lnTo>
                  <a:pt x="92" y="2823"/>
                </a:lnTo>
                <a:lnTo>
                  <a:pt x="92" y="2915"/>
                </a:lnTo>
                <a:lnTo>
                  <a:pt x="44" y="3012"/>
                </a:lnTo>
                <a:lnTo>
                  <a:pt x="44" y="3105"/>
                </a:lnTo>
                <a:lnTo>
                  <a:pt x="92" y="3198"/>
                </a:lnTo>
                <a:lnTo>
                  <a:pt x="185" y="3246"/>
                </a:lnTo>
                <a:lnTo>
                  <a:pt x="282" y="3246"/>
                </a:lnTo>
                <a:lnTo>
                  <a:pt x="374" y="3295"/>
                </a:lnTo>
                <a:lnTo>
                  <a:pt x="467" y="3339"/>
                </a:lnTo>
                <a:lnTo>
                  <a:pt x="515" y="3436"/>
                </a:lnTo>
                <a:lnTo>
                  <a:pt x="609" y="3436"/>
                </a:lnTo>
                <a:lnTo>
                  <a:pt x="706" y="3480"/>
                </a:lnTo>
                <a:lnTo>
                  <a:pt x="799" y="3480"/>
                </a:lnTo>
                <a:lnTo>
                  <a:pt x="891" y="3436"/>
                </a:lnTo>
                <a:lnTo>
                  <a:pt x="940" y="3339"/>
                </a:lnTo>
                <a:lnTo>
                  <a:pt x="1032" y="3295"/>
                </a:lnTo>
                <a:lnTo>
                  <a:pt x="1129" y="3198"/>
                </a:lnTo>
                <a:lnTo>
                  <a:pt x="1173" y="3105"/>
                </a:lnTo>
                <a:lnTo>
                  <a:pt x="1222" y="3012"/>
                </a:lnTo>
                <a:lnTo>
                  <a:pt x="1315" y="3012"/>
                </a:lnTo>
                <a:lnTo>
                  <a:pt x="1363" y="2915"/>
                </a:lnTo>
                <a:lnTo>
                  <a:pt x="1456" y="2774"/>
                </a:lnTo>
                <a:lnTo>
                  <a:pt x="1504" y="2682"/>
                </a:lnTo>
                <a:lnTo>
                  <a:pt x="1553" y="2589"/>
                </a:lnTo>
                <a:lnTo>
                  <a:pt x="1645" y="2492"/>
                </a:lnTo>
                <a:lnTo>
                  <a:pt x="1694" y="2399"/>
                </a:lnTo>
                <a:lnTo>
                  <a:pt x="1742" y="2443"/>
                </a:lnTo>
                <a:lnTo>
                  <a:pt x="1836" y="2210"/>
                </a:lnTo>
                <a:lnTo>
                  <a:pt x="1880" y="2117"/>
                </a:lnTo>
                <a:lnTo>
                  <a:pt x="2026" y="1972"/>
                </a:lnTo>
                <a:lnTo>
                  <a:pt x="1977" y="1976"/>
                </a:lnTo>
                <a:lnTo>
                  <a:pt x="2070" y="1928"/>
                </a:lnTo>
                <a:lnTo>
                  <a:pt x="2118" y="1835"/>
                </a:lnTo>
                <a:lnTo>
                  <a:pt x="2162" y="1742"/>
                </a:lnTo>
                <a:lnTo>
                  <a:pt x="2162" y="1644"/>
                </a:lnTo>
                <a:lnTo>
                  <a:pt x="2167" y="1737"/>
                </a:lnTo>
                <a:lnTo>
                  <a:pt x="2211" y="1459"/>
                </a:lnTo>
                <a:lnTo>
                  <a:pt x="2215" y="1362"/>
                </a:lnTo>
                <a:lnTo>
                  <a:pt x="2211" y="1270"/>
                </a:lnTo>
                <a:lnTo>
                  <a:pt x="2211" y="1177"/>
                </a:lnTo>
                <a:lnTo>
                  <a:pt x="2211" y="1080"/>
                </a:lnTo>
                <a:lnTo>
                  <a:pt x="2211" y="987"/>
                </a:lnTo>
                <a:lnTo>
                  <a:pt x="2400" y="846"/>
                </a:lnTo>
                <a:lnTo>
                  <a:pt x="2162" y="798"/>
                </a:lnTo>
                <a:lnTo>
                  <a:pt x="2162" y="705"/>
                </a:lnTo>
                <a:lnTo>
                  <a:pt x="2162" y="612"/>
                </a:lnTo>
                <a:lnTo>
                  <a:pt x="2259" y="515"/>
                </a:lnTo>
                <a:lnTo>
                  <a:pt x="2118" y="423"/>
                </a:lnTo>
                <a:lnTo>
                  <a:pt x="2021" y="374"/>
                </a:lnTo>
                <a:lnTo>
                  <a:pt x="1929" y="330"/>
                </a:lnTo>
                <a:lnTo>
                  <a:pt x="1836" y="282"/>
                </a:lnTo>
                <a:lnTo>
                  <a:pt x="1694" y="233"/>
                </a:lnTo>
                <a:lnTo>
                  <a:pt x="1645" y="141"/>
                </a:lnTo>
                <a:lnTo>
                  <a:pt x="1553" y="92"/>
                </a:lnTo>
                <a:lnTo>
                  <a:pt x="1601" y="92"/>
                </a:lnTo>
                <a:lnTo>
                  <a:pt x="1363" y="92"/>
                </a:lnTo>
                <a:lnTo>
                  <a:pt x="1271" y="48"/>
                </a:lnTo>
                <a:lnTo>
                  <a:pt x="1037" y="44"/>
                </a:lnTo>
                <a:lnTo>
                  <a:pt x="1081" y="48"/>
                </a:lnTo>
                <a:lnTo>
                  <a:pt x="988" y="48"/>
                </a:lnTo>
                <a:lnTo>
                  <a:pt x="891" y="48"/>
                </a:lnTo>
                <a:lnTo>
                  <a:pt x="706" y="0"/>
                </a:lnTo>
                <a:lnTo>
                  <a:pt x="706" y="48"/>
                </a:lnTo>
                <a:lnTo>
                  <a:pt x="564" y="92"/>
                </a:lnTo>
                <a:lnTo>
                  <a:pt x="423" y="141"/>
                </a:lnTo>
                <a:lnTo>
                  <a:pt x="374" y="233"/>
                </a:lnTo>
                <a:lnTo>
                  <a:pt x="282" y="282"/>
                </a:lnTo>
                <a:lnTo>
                  <a:pt x="233" y="374"/>
                </a:lnTo>
                <a:lnTo>
                  <a:pt x="185" y="471"/>
                </a:lnTo>
                <a:lnTo>
                  <a:pt x="141" y="564"/>
                </a:lnTo>
                <a:lnTo>
                  <a:pt x="326" y="657"/>
                </a:lnTo>
                <a:lnTo>
                  <a:pt x="92" y="515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3080" y="3878280"/>
            <a:ext cx="609840" cy="457560"/>
          </a:xfrm>
          <a:custGeom>
            <a:avLst/>
            <a:gdLst/>
            <a:ahLst/>
            <a:rect l="0" t="0" r="r" b="b"/>
            <a:pathLst>
              <a:path w="1694" h="1271">
                <a:moveTo>
                  <a:pt x="0" y="847"/>
                </a:moveTo>
                <a:lnTo>
                  <a:pt x="92" y="891"/>
                </a:lnTo>
                <a:lnTo>
                  <a:pt x="189" y="891"/>
                </a:lnTo>
                <a:lnTo>
                  <a:pt x="282" y="940"/>
                </a:lnTo>
                <a:lnTo>
                  <a:pt x="374" y="988"/>
                </a:lnTo>
                <a:lnTo>
                  <a:pt x="471" y="1081"/>
                </a:lnTo>
                <a:lnTo>
                  <a:pt x="564" y="1129"/>
                </a:lnTo>
                <a:lnTo>
                  <a:pt x="657" y="1173"/>
                </a:lnTo>
                <a:lnTo>
                  <a:pt x="754" y="1271"/>
                </a:lnTo>
                <a:lnTo>
                  <a:pt x="846" y="1271"/>
                </a:lnTo>
                <a:lnTo>
                  <a:pt x="940" y="1222"/>
                </a:lnTo>
                <a:lnTo>
                  <a:pt x="1037" y="1173"/>
                </a:lnTo>
                <a:lnTo>
                  <a:pt x="1129" y="1173"/>
                </a:lnTo>
                <a:lnTo>
                  <a:pt x="1271" y="1129"/>
                </a:lnTo>
                <a:lnTo>
                  <a:pt x="1504" y="1173"/>
                </a:lnTo>
                <a:lnTo>
                  <a:pt x="1412" y="988"/>
                </a:lnTo>
                <a:lnTo>
                  <a:pt x="1601" y="988"/>
                </a:lnTo>
                <a:lnTo>
                  <a:pt x="1504" y="750"/>
                </a:lnTo>
                <a:lnTo>
                  <a:pt x="1694" y="658"/>
                </a:lnTo>
                <a:lnTo>
                  <a:pt x="1460" y="564"/>
                </a:lnTo>
                <a:lnTo>
                  <a:pt x="1363" y="467"/>
                </a:lnTo>
                <a:lnTo>
                  <a:pt x="1645" y="374"/>
                </a:lnTo>
                <a:lnTo>
                  <a:pt x="1222" y="326"/>
                </a:lnTo>
                <a:lnTo>
                  <a:pt x="1319" y="92"/>
                </a:lnTo>
                <a:lnTo>
                  <a:pt x="1037" y="233"/>
                </a:lnTo>
                <a:lnTo>
                  <a:pt x="940" y="185"/>
                </a:lnTo>
                <a:lnTo>
                  <a:pt x="896" y="92"/>
                </a:lnTo>
                <a:lnTo>
                  <a:pt x="657" y="44"/>
                </a:lnTo>
                <a:lnTo>
                  <a:pt x="657" y="141"/>
                </a:lnTo>
                <a:lnTo>
                  <a:pt x="515" y="0"/>
                </a:lnTo>
                <a:lnTo>
                  <a:pt x="48" y="233"/>
                </a:lnTo>
                <a:lnTo>
                  <a:pt x="330" y="282"/>
                </a:lnTo>
                <a:lnTo>
                  <a:pt x="233" y="282"/>
                </a:lnTo>
                <a:lnTo>
                  <a:pt x="189" y="374"/>
                </a:lnTo>
                <a:lnTo>
                  <a:pt x="189" y="467"/>
                </a:lnTo>
                <a:lnTo>
                  <a:pt x="141" y="564"/>
                </a:lnTo>
                <a:lnTo>
                  <a:pt x="189" y="750"/>
                </a:lnTo>
                <a:lnTo>
                  <a:pt x="48" y="750"/>
                </a:lnTo>
                <a:lnTo>
                  <a:pt x="48" y="847"/>
                </a:lnTo>
                <a:lnTo>
                  <a:pt x="330" y="799"/>
                </a:lnTo>
                <a:lnTo>
                  <a:pt x="0" y="847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81120" y="2743200"/>
            <a:ext cx="829080" cy="897120"/>
          </a:xfrm>
          <a:custGeom>
            <a:avLst/>
            <a:gdLst/>
            <a:ahLst/>
            <a:rect l="0" t="0" r="r" b="b"/>
            <a:pathLst>
              <a:path w="2303" h="2492">
                <a:moveTo>
                  <a:pt x="0" y="1650"/>
                </a:moveTo>
                <a:lnTo>
                  <a:pt x="92" y="1694"/>
                </a:lnTo>
                <a:lnTo>
                  <a:pt x="44" y="1976"/>
                </a:lnTo>
                <a:lnTo>
                  <a:pt x="141" y="1928"/>
                </a:lnTo>
                <a:lnTo>
                  <a:pt x="326" y="1928"/>
                </a:lnTo>
                <a:lnTo>
                  <a:pt x="326" y="2025"/>
                </a:lnTo>
                <a:lnTo>
                  <a:pt x="374" y="2210"/>
                </a:lnTo>
                <a:lnTo>
                  <a:pt x="564" y="2307"/>
                </a:lnTo>
                <a:lnTo>
                  <a:pt x="755" y="2073"/>
                </a:lnTo>
                <a:lnTo>
                  <a:pt x="847" y="2073"/>
                </a:lnTo>
                <a:lnTo>
                  <a:pt x="750" y="2166"/>
                </a:lnTo>
                <a:lnTo>
                  <a:pt x="750" y="2492"/>
                </a:lnTo>
                <a:lnTo>
                  <a:pt x="1787" y="2069"/>
                </a:lnTo>
                <a:lnTo>
                  <a:pt x="1271" y="1932"/>
                </a:lnTo>
                <a:lnTo>
                  <a:pt x="1456" y="1976"/>
                </a:lnTo>
                <a:lnTo>
                  <a:pt x="1597" y="1883"/>
                </a:lnTo>
                <a:lnTo>
                  <a:pt x="1787" y="1645"/>
                </a:lnTo>
                <a:lnTo>
                  <a:pt x="1504" y="1553"/>
                </a:lnTo>
                <a:lnTo>
                  <a:pt x="1460" y="1460"/>
                </a:lnTo>
                <a:lnTo>
                  <a:pt x="1597" y="1504"/>
                </a:lnTo>
                <a:lnTo>
                  <a:pt x="1694" y="1271"/>
                </a:lnTo>
                <a:lnTo>
                  <a:pt x="2259" y="939"/>
                </a:lnTo>
                <a:lnTo>
                  <a:pt x="2118" y="471"/>
                </a:lnTo>
                <a:lnTo>
                  <a:pt x="2303" y="939"/>
                </a:lnTo>
                <a:lnTo>
                  <a:pt x="1787" y="374"/>
                </a:lnTo>
                <a:lnTo>
                  <a:pt x="1597" y="233"/>
                </a:lnTo>
                <a:lnTo>
                  <a:pt x="1032" y="515"/>
                </a:lnTo>
                <a:lnTo>
                  <a:pt x="1222" y="92"/>
                </a:lnTo>
                <a:lnTo>
                  <a:pt x="799" y="48"/>
                </a:lnTo>
                <a:lnTo>
                  <a:pt x="282" y="0"/>
                </a:lnTo>
                <a:lnTo>
                  <a:pt x="141" y="754"/>
                </a:lnTo>
                <a:lnTo>
                  <a:pt x="330" y="1084"/>
                </a:lnTo>
                <a:lnTo>
                  <a:pt x="92" y="564"/>
                </a:lnTo>
                <a:lnTo>
                  <a:pt x="189" y="1177"/>
                </a:lnTo>
                <a:lnTo>
                  <a:pt x="189" y="1271"/>
                </a:lnTo>
                <a:lnTo>
                  <a:pt x="92" y="1645"/>
                </a:lnTo>
                <a:lnTo>
                  <a:pt x="92" y="1460"/>
                </a:lnTo>
                <a:lnTo>
                  <a:pt x="48" y="1553"/>
                </a:lnTo>
                <a:lnTo>
                  <a:pt x="48" y="1650"/>
                </a:lnTo>
                <a:lnTo>
                  <a:pt x="185" y="1694"/>
                </a:lnTo>
                <a:lnTo>
                  <a:pt x="0" y="165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17600" y="2577960"/>
            <a:ext cx="6019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TWO COLOR IMMUNOPHEN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33240" y="3187800"/>
            <a:ext cx="5753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Antibodies labeled with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es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17600" y="3797280"/>
            <a:ext cx="6265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Antibodies labeled with </a:t>
            </a:r>
            <a:r>
              <a:rPr b="1" lang="en-US" sz="24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phycoeryth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82760" y="1803240"/>
            <a:ext cx="6781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44520" y="3911760"/>
            <a:ext cx="729000" cy="744840"/>
          </a:xfrm>
          <a:custGeom>
            <a:avLst/>
            <a:gdLst/>
            <a:ahLst/>
            <a:rect l="0" t="0" r="r" b="b"/>
            <a:pathLst>
              <a:path w="2025" h="2069">
                <a:moveTo>
                  <a:pt x="0" y="1883"/>
                </a:moveTo>
                <a:lnTo>
                  <a:pt x="0" y="1786"/>
                </a:lnTo>
                <a:lnTo>
                  <a:pt x="0" y="1694"/>
                </a:lnTo>
                <a:lnTo>
                  <a:pt x="0" y="1601"/>
                </a:lnTo>
                <a:lnTo>
                  <a:pt x="48" y="1504"/>
                </a:lnTo>
                <a:lnTo>
                  <a:pt x="48" y="1412"/>
                </a:lnTo>
                <a:lnTo>
                  <a:pt x="141" y="1271"/>
                </a:lnTo>
                <a:lnTo>
                  <a:pt x="189" y="1178"/>
                </a:lnTo>
                <a:lnTo>
                  <a:pt x="282" y="1178"/>
                </a:lnTo>
                <a:lnTo>
                  <a:pt x="374" y="1129"/>
                </a:lnTo>
                <a:lnTo>
                  <a:pt x="423" y="1037"/>
                </a:lnTo>
                <a:lnTo>
                  <a:pt x="515" y="987"/>
                </a:lnTo>
                <a:lnTo>
                  <a:pt x="515" y="895"/>
                </a:lnTo>
                <a:lnTo>
                  <a:pt x="515" y="798"/>
                </a:lnTo>
                <a:lnTo>
                  <a:pt x="612" y="754"/>
                </a:lnTo>
                <a:lnTo>
                  <a:pt x="705" y="705"/>
                </a:lnTo>
                <a:lnTo>
                  <a:pt x="798" y="657"/>
                </a:lnTo>
                <a:lnTo>
                  <a:pt x="1081" y="515"/>
                </a:lnTo>
                <a:lnTo>
                  <a:pt x="1412" y="515"/>
                </a:lnTo>
                <a:lnTo>
                  <a:pt x="1601" y="189"/>
                </a:lnTo>
                <a:lnTo>
                  <a:pt x="2025" y="0"/>
                </a:lnTo>
                <a:lnTo>
                  <a:pt x="1222" y="515"/>
                </a:lnTo>
                <a:lnTo>
                  <a:pt x="1694" y="471"/>
                </a:lnTo>
                <a:lnTo>
                  <a:pt x="1553" y="612"/>
                </a:lnTo>
                <a:lnTo>
                  <a:pt x="1271" y="798"/>
                </a:lnTo>
                <a:lnTo>
                  <a:pt x="1271" y="895"/>
                </a:lnTo>
                <a:lnTo>
                  <a:pt x="1553" y="798"/>
                </a:lnTo>
                <a:lnTo>
                  <a:pt x="1129" y="1037"/>
                </a:lnTo>
                <a:lnTo>
                  <a:pt x="1081" y="1129"/>
                </a:lnTo>
                <a:lnTo>
                  <a:pt x="1129" y="1222"/>
                </a:lnTo>
                <a:lnTo>
                  <a:pt x="1129" y="1319"/>
                </a:lnTo>
                <a:lnTo>
                  <a:pt x="1129" y="1412"/>
                </a:lnTo>
                <a:lnTo>
                  <a:pt x="1037" y="1460"/>
                </a:lnTo>
                <a:lnTo>
                  <a:pt x="1037" y="1553"/>
                </a:lnTo>
                <a:lnTo>
                  <a:pt x="987" y="1645"/>
                </a:lnTo>
                <a:lnTo>
                  <a:pt x="895" y="1742"/>
                </a:lnTo>
                <a:lnTo>
                  <a:pt x="895" y="1835"/>
                </a:lnTo>
                <a:lnTo>
                  <a:pt x="798" y="1835"/>
                </a:lnTo>
                <a:lnTo>
                  <a:pt x="657" y="1928"/>
                </a:lnTo>
                <a:lnTo>
                  <a:pt x="657" y="2025"/>
                </a:lnTo>
                <a:lnTo>
                  <a:pt x="564" y="2025"/>
                </a:lnTo>
                <a:lnTo>
                  <a:pt x="471" y="2025"/>
                </a:lnTo>
                <a:lnTo>
                  <a:pt x="374" y="2025"/>
                </a:lnTo>
                <a:lnTo>
                  <a:pt x="282" y="2025"/>
                </a:lnTo>
                <a:lnTo>
                  <a:pt x="189" y="2069"/>
                </a:lnTo>
                <a:lnTo>
                  <a:pt x="92" y="2069"/>
                </a:lnTo>
                <a:lnTo>
                  <a:pt x="92" y="1976"/>
                </a:lnTo>
                <a:lnTo>
                  <a:pt x="0" y="1883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652920" y="3475080"/>
            <a:ext cx="3089160" cy="2874960"/>
            <a:chOff x="3652920" y="3475080"/>
            <a:chExt cx="3089160" cy="2874960"/>
          </a:xfrm>
        </p:grpSpPr>
        <p:grpSp>
          <p:nvGrpSpPr>
            <p:cNvPr id="510" name=""/>
            <p:cNvGrpSpPr/>
            <p:nvPr/>
          </p:nvGrpSpPr>
          <p:grpSpPr>
            <a:xfrm>
              <a:off x="3652920" y="3475080"/>
              <a:ext cx="2976480" cy="2739960"/>
              <a:chOff x="3652920" y="3475080"/>
              <a:chExt cx="2976480" cy="27399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3652920" y="3475080"/>
                <a:ext cx="423720" cy="2739960"/>
                <a:chOff x="3652920" y="3475080"/>
                <a:chExt cx="423720" cy="27399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3652920" y="3475080"/>
                  <a:ext cx="423720" cy="2647800"/>
                  <a:chOff x="3652920" y="3475080"/>
                  <a:chExt cx="423720" cy="264780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3652920" y="3983040"/>
                    <a:ext cx="422280" cy="298440"/>
                    <a:chOff x="3652920" y="3983040"/>
                    <a:chExt cx="422280" cy="298440"/>
                  </a:xfrm>
                </p:grpSpPr>
                <p:sp>
                  <p:nvSpPr>
                    <p:cNvPr id="514" name=""/>
                    <p:cNvSpPr txBox="1"/>
                    <p:nvPr/>
                  </p:nvSpPr>
                  <p:spPr>
                    <a:xfrm>
                      <a:off x="3652920" y="4040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 txBox="1"/>
                    <p:nvPr/>
                  </p:nvSpPr>
                  <p:spPr>
                    <a:xfrm>
                      <a:off x="3822840" y="39830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6" name=""/>
                  <p:cNvSpPr/>
                  <p:nvPr/>
                </p:nvSpPr>
                <p:spPr>
                  <a:xfrm flipH="1">
                    <a:off x="3989520" y="35798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3675240" y="3475080"/>
                    <a:ext cx="396720" cy="303120"/>
                    <a:chOff x="3675240" y="3475080"/>
                    <a:chExt cx="396720" cy="303120"/>
                  </a:xfrm>
                </p:grpSpPr>
                <p:sp>
                  <p:nvSpPr>
                    <p:cNvPr id="518" name=""/>
                    <p:cNvSpPr txBox="1"/>
                    <p:nvPr/>
                  </p:nvSpPr>
                  <p:spPr>
                    <a:xfrm>
                      <a:off x="3675240" y="35370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 txBox="1"/>
                    <p:nvPr/>
                  </p:nvSpPr>
                  <p:spPr>
                    <a:xfrm>
                      <a:off x="3827520" y="347508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3684600" y="5186520"/>
                    <a:ext cx="388800" cy="326880"/>
                    <a:chOff x="3684600" y="5186520"/>
                    <a:chExt cx="388800" cy="326880"/>
                  </a:xfrm>
                </p:grpSpPr>
                <p:sp>
                  <p:nvSpPr>
                    <p:cNvPr id="521" name=""/>
                    <p:cNvSpPr txBox="1"/>
                    <p:nvPr/>
                  </p:nvSpPr>
                  <p:spPr>
                    <a:xfrm>
                      <a:off x="3684600" y="52722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 txBox="1"/>
                    <p:nvPr/>
                  </p:nvSpPr>
                  <p:spPr>
                    <a:xfrm>
                      <a:off x="3821040" y="51865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3687840" y="4552920"/>
                    <a:ext cx="388800" cy="331560"/>
                    <a:chOff x="3687840" y="4552920"/>
                    <a:chExt cx="388800" cy="331560"/>
                  </a:xfrm>
                </p:grpSpPr>
                <p:sp>
                  <p:nvSpPr>
                    <p:cNvPr id="524" name=""/>
                    <p:cNvSpPr txBox="1"/>
                    <p:nvPr/>
                  </p:nvSpPr>
                  <p:spPr>
                    <a:xfrm>
                      <a:off x="3687840" y="4643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 txBox="1"/>
                    <p:nvPr/>
                  </p:nvSpPr>
                  <p:spPr>
                    <a:xfrm>
                      <a:off x="3824280" y="45529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6" name=""/>
                  <p:cNvSpPr txBox="1"/>
                  <p:nvPr/>
                </p:nvSpPr>
                <p:spPr>
                  <a:xfrm>
                    <a:off x="3801960" y="589752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3984480" y="5994360"/>
                    <a:ext cx="82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3995640" y="4678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>
                    <a:off x="3989520" y="53006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3989520" y="40942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"/>
                <p:cNvSpPr txBox="1"/>
                <p:nvPr/>
              </p:nvSpPr>
              <p:spPr>
                <a:xfrm>
                  <a:off x="3673440" y="597384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4071960" y="35733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819600" y="6000840"/>
              <a:ext cx="2922480" cy="349200"/>
              <a:chOff x="3819600" y="6000840"/>
              <a:chExt cx="2922480" cy="349200"/>
            </a:xfrm>
          </p:grpSpPr>
          <p:sp>
            <p:nvSpPr>
              <p:cNvPr id="534" name=""/>
              <p:cNvSpPr txBox="1"/>
              <p:nvPr/>
            </p:nvSpPr>
            <p:spPr>
              <a:xfrm>
                <a:off x="5713560" y="6108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5875200" y="60040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6346800" y="61070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6497640" y="601020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4397400" y="6108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525920" y="60008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5054760" y="6108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5221440" y="60087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3819600" y="61056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3978360" y="60008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"/>
          <p:cNvGrpSpPr/>
          <p:nvPr/>
        </p:nvGrpSpPr>
        <p:grpSpPr>
          <a:xfrm>
            <a:off x="452520" y="3462480"/>
            <a:ext cx="3089160" cy="2874600"/>
            <a:chOff x="452520" y="3462480"/>
            <a:chExt cx="3089160" cy="2874600"/>
          </a:xfrm>
        </p:grpSpPr>
        <p:grpSp>
          <p:nvGrpSpPr>
            <p:cNvPr id="545" name=""/>
            <p:cNvGrpSpPr/>
            <p:nvPr/>
          </p:nvGrpSpPr>
          <p:grpSpPr>
            <a:xfrm>
              <a:off x="452520" y="3462480"/>
              <a:ext cx="2976480" cy="2739960"/>
              <a:chOff x="452520" y="3462480"/>
              <a:chExt cx="2976480" cy="27399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52520" y="3462480"/>
                <a:ext cx="423720" cy="2739960"/>
                <a:chOff x="452520" y="3462480"/>
                <a:chExt cx="423720" cy="273996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52520" y="3462480"/>
                  <a:ext cx="423720" cy="2647800"/>
                  <a:chOff x="452520" y="3462480"/>
                  <a:chExt cx="423720" cy="2647800"/>
                </a:xfrm>
              </p:grpSpPr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452520" y="3970440"/>
                    <a:ext cx="422280" cy="298080"/>
                    <a:chOff x="452520" y="3970440"/>
                    <a:chExt cx="422280" cy="298080"/>
                  </a:xfrm>
                </p:grpSpPr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452520" y="40273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 txBox="1"/>
                    <p:nvPr/>
                  </p:nvSpPr>
                  <p:spPr>
                    <a:xfrm>
                      <a:off x="622440" y="39704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 flipH="1">
                    <a:off x="789120" y="35672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474840" y="3462480"/>
                    <a:ext cx="396720" cy="303120"/>
                    <a:chOff x="474840" y="3462480"/>
                    <a:chExt cx="396720" cy="303120"/>
                  </a:xfrm>
                </p:grpSpPr>
                <p:sp>
                  <p:nvSpPr>
                    <p:cNvPr id="553" name=""/>
                    <p:cNvSpPr txBox="1"/>
                    <p:nvPr/>
                  </p:nvSpPr>
                  <p:spPr>
                    <a:xfrm>
                      <a:off x="474840" y="35244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 txBox="1"/>
                    <p:nvPr/>
                  </p:nvSpPr>
                  <p:spPr>
                    <a:xfrm>
                      <a:off x="627120" y="346248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484200" y="5173560"/>
                    <a:ext cx="388800" cy="326880"/>
                    <a:chOff x="484200" y="5173560"/>
                    <a:chExt cx="388800" cy="326880"/>
                  </a:xfrm>
                </p:grpSpPr>
                <p:sp>
                  <p:nvSpPr>
                    <p:cNvPr id="556" name=""/>
                    <p:cNvSpPr txBox="1"/>
                    <p:nvPr/>
                  </p:nvSpPr>
                  <p:spPr>
                    <a:xfrm>
                      <a:off x="484200" y="52592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 txBox="1"/>
                    <p:nvPr/>
                  </p:nvSpPr>
                  <p:spPr>
                    <a:xfrm>
                      <a:off x="620640" y="51735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487440" y="4540320"/>
                    <a:ext cx="388800" cy="331560"/>
                    <a:chOff x="487440" y="4540320"/>
                    <a:chExt cx="388800" cy="331560"/>
                  </a:xfrm>
                </p:grpSpPr>
                <p:sp>
                  <p:nvSpPr>
                    <p:cNvPr id="559" name=""/>
                    <p:cNvSpPr txBox="1"/>
                    <p:nvPr/>
                  </p:nvSpPr>
                  <p:spPr>
                    <a:xfrm>
                      <a:off x="487440" y="46306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 txBox="1"/>
                    <p:nvPr/>
                  </p:nvSpPr>
                  <p:spPr>
                    <a:xfrm>
                      <a:off x="623880" y="45403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 txBox="1"/>
                  <p:nvPr/>
                </p:nvSpPr>
                <p:spPr>
                  <a:xfrm>
                    <a:off x="601560" y="588492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784080" y="5981760"/>
                    <a:ext cx="82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795240" y="46656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789120" y="52880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789120" y="40813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 txBox="1"/>
                <p:nvPr/>
              </p:nvSpPr>
              <p:spPr>
                <a:xfrm>
                  <a:off x="473040" y="596124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871560" y="35607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619200" y="5987880"/>
              <a:ext cx="2922480" cy="349200"/>
              <a:chOff x="619200" y="5987880"/>
              <a:chExt cx="2922480" cy="349200"/>
            </a:xfrm>
          </p:grpSpPr>
          <p:sp>
            <p:nvSpPr>
              <p:cNvPr id="569" name=""/>
              <p:cNvSpPr txBox="1"/>
              <p:nvPr/>
            </p:nvSpPr>
            <p:spPr>
              <a:xfrm>
                <a:off x="2513160" y="60958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2674800" y="59911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3146400" y="60944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3297240" y="599760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1197000" y="60958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>
                <a:off x="1325520" y="59878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1854360" y="60958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2021040" y="59961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619200" y="60930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777960" y="59878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 txBox="1"/>
          <p:nvPr/>
        </p:nvSpPr>
        <p:spPr>
          <a:xfrm>
            <a:off x="4170240" y="3070080"/>
            <a:ext cx="2278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22160" y="3068640"/>
            <a:ext cx="2905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un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3640" y="5283360"/>
            <a:ext cx="255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28760" y="3581280"/>
            <a:ext cx="0" cy="238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97160" y="5283360"/>
            <a:ext cx="255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88840" y="555480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40360" y="552132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06880" y="4030560"/>
            <a:ext cx="457560" cy="508320"/>
          </a:xfrm>
          <a:custGeom>
            <a:avLst/>
            <a:gdLst/>
            <a:ahLst/>
            <a:rect l="0" t="0" r="r" b="b"/>
            <a:pathLst>
              <a:path w="1271" h="1412">
                <a:moveTo>
                  <a:pt x="44" y="755"/>
                </a:moveTo>
                <a:lnTo>
                  <a:pt x="44" y="657"/>
                </a:lnTo>
                <a:lnTo>
                  <a:pt x="92" y="564"/>
                </a:lnTo>
                <a:lnTo>
                  <a:pt x="185" y="515"/>
                </a:lnTo>
                <a:lnTo>
                  <a:pt x="282" y="471"/>
                </a:lnTo>
                <a:lnTo>
                  <a:pt x="282" y="374"/>
                </a:lnTo>
                <a:lnTo>
                  <a:pt x="282" y="282"/>
                </a:lnTo>
                <a:lnTo>
                  <a:pt x="374" y="233"/>
                </a:lnTo>
                <a:lnTo>
                  <a:pt x="326" y="141"/>
                </a:lnTo>
                <a:lnTo>
                  <a:pt x="282" y="48"/>
                </a:lnTo>
                <a:lnTo>
                  <a:pt x="374" y="48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48"/>
                </a:lnTo>
                <a:lnTo>
                  <a:pt x="940" y="92"/>
                </a:lnTo>
                <a:lnTo>
                  <a:pt x="1032" y="141"/>
                </a:lnTo>
                <a:lnTo>
                  <a:pt x="1081" y="233"/>
                </a:lnTo>
                <a:lnTo>
                  <a:pt x="1129" y="330"/>
                </a:lnTo>
                <a:lnTo>
                  <a:pt x="1129" y="423"/>
                </a:lnTo>
                <a:lnTo>
                  <a:pt x="1173" y="515"/>
                </a:lnTo>
                <a:lnTo>
                  <a:pt x="1271" y="612"/>
                </a:lnTo>
                <a:lnTo>
                  <a:pt x="1271" y="705"/>
                </a:lnTo>
                <a:lnTo>
                  <a:pt x="1271" y="799"/>
                </a:lnTo>
                <a:lnTo>
                  <a:pt x="1222" y="896"/>
                </a:lnTo>
                <a:lnTo>
                  <a:pt x="1222" y="988"/>
                </a:lnTo>
                <a:lnTo>
                  <a:pt x="1222" y="1081"/>
                </a:lnTo>
                <a:lnTo>
                  <a:pt x="1173" y="1222"/>
                </a:lnTo>
                <a:lnTo>
                  <a:pt x="1129" y="1319"/>
                </a:lnTo>
                <a:lnTo>
                  <a:pt x="1032" y="1363"/>
                </a:lnTo>
                <a:lnTo>
                  <a:pt x="940" y="1412"/>
                </a:lnTo>
                <a:lnTo>
                  <a:pt x="847" y="1412"/>
                </a:lnTo>
                <a:lnTo>
                  <a:pt x="750" y="1412"/>
                </a:lnTo>
                <a:lnTo>
                  <a:pt x="658" y="1412"/>
                </a:lnTo>
                <a:lnTo>
                  <a:pt x="564" y="1363"/>
                </a:lnTo>
                <a:lnTo>
                  <a:pt x="467" y="1319"/>
                </a:lnTo>
                <a:lnTo>
                  <a:pt x="374" y="1363"/>
                </a:lnTo>
                <a:lnTo>
                  <a:pt x="282" y="1363"/>
                </a:lnTo>
                <a:lnTo>
                  <a:pt x="185" y="1319"/>
                </a:lnTo>
                <a:lnTo>
                  <a:pt x="141" y="1222"/>
                </a:lnTo>
                <a:lnTo>
                  <a:pt x="141" y="1129"/>
                </a:lnTo>
                <a:lnTo>
                  <a:pt x="92" y="1037"/>
                </a:lnTo>
                <a:lnTo>
                  <a:pt x="0" y="940"/>
                </a:lnTo>
                <a:lnTo>
                  <a:pt x="44" y="847"/>
                </a:lnTo>
                <a:lnTo>
                  <a:pt x="44" y="75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08560" y="5316480"/>
            <a:ext cx="406800" cy="660600"/>
          </a:xfrm>
          <a:custGeom>
            <a:avLst/>
            <a:gdLst/>
            <a:ahLst/>
            <a:rect l="0" t="0" r="r" b="b"/>
            <a:pathLst>
              <a:path w="1130" h="1835">
                <a:moveTo>
                  <a:pt x="516" y="1601"/>
                </a:moveTo>
                <a:lnTo>
                  <a:pt x="424" y="1601"/>
                </a:lnTo>
                <a:lnTo>
                  <a:pt x="331" y="1553"/>
                </a:lnTo>
                <a:lnTo>
                  <a:pt x="331" y="1460"/>
                </a:lnTo>
                <a:lnTo>
                  <a:pt x="283" y="1368"/>
                </a:lnTo>
                <a:lnTo>
                  <a:pt x="189" y="1319"/>
                </a:lnTo>
                <a:lnTo>
                  <a:pt x="189" y="1226"/>
                </a:lnTo>
                <a:lnTo>
                  <a:pt x="189" y="1129"/>
                </a:lnTo>
                <a:lnTo>
                  <a:pt x="189" y="1037"/>
                </a:lnTo>
                <a:lnTo>
                  <a:pt x="141" y="944"/>
                </a:lnTo>
                <a:lnTo>
                  <a:pt x="48" y="895"/>
                </a:lnTo>
                <a:lnTo>
                  <a:pt x="48" y="802"/>
                </a:lnTo>
                <a:lnTo>
                  <a:pt x="48" y="705"/>
                </a:lnTo>
                <a:lnTo>
                  <a:pt x="48" y="612"/>
                </a:lnTo>
                <a:lnTo>
                  <a:pt x="0" y="520"/>
                </a:lnTo>
                <a:lnTo>
                  <a:pt x="0" y="423"/>
                </a:lnTo>
                <a:lnTo>
                  <a:pt x="92" y="330"/>
                </a:lnTo>
                <a:lnTo>
                  <a:pt x="189" y="189"/>
                </a:lnTo>
                <a:lnTo>
                  <a:pt x="283" y="141"/>
                </a:lnTo>
                <a:lnTo>
                  <a:pt x="375" y="97"/>
                </a:lnTo>
                <a:lnTo>
                  <a:pt x="516" y="48"/>
                </a:lnTo>
                <a:lnTo>
                  <a:pt x="613" y="48"/>
                </a:lnTo>
                <a:lnTo>
                  <a:pt x="706" y="0"/>
                </a:lnTo>
                <a:lnTo>
                  <a:pt x="799" y="48"/>
                </a:lnTo>
                <a:lnTo>
                  <a:pt x="941" y="48"/>
                </a:lnTo>
                <a:lnTo>
                  <a:pt x="1038" y="48"/>
                </a:lnTo>
                <a:lnTo>
                  <a:pt x="1082" y="141"/>
                </a:lnTo>
                <a:lnTo>
                  <a:pt x="1038" y="238"/>
                </a:lnTo>
                <a:lnTo>
                  <a:pt x="941" y="379"/>
                </a:lnTo>
                <a:lnTo>
                  <a:pt x="989" y="471"/>
                </a:lnTo>
                <a:lnTo>
                  <a:pt x="1082" y="520"/>
                </a:lnTo>
                <a:lnTo>
                  <a:pt x="1082" y="612"/>
                </a:lnTo>
                <a:lnTo>
                  <a:pt x="1082" y="705"/>
                </a:lnTo>
                <a:lnTo>
                  <a:pt x="1038" y="802"/>
                </a:lnTo>
                <a:lnTo>
                  <a:pt x="1082" y="895"/>
                </a:lnTo>
                <a:lnTo>
                  <a:pt x="1130" y="988"/>
                </a:lnTo>
                <a:lnTo>
                  <a:pt x="1082" y="1085"/>
                </a:lnTo>
                <a:lnTo>
                  <a:pt x="1082" y="1178"/>
                </a:lnTo>
                <a:lnTo>
                  <a:pt x="1082" y="1271"/>
                </a:lnTo>
                <a:lnTo>
                  <a:pt x="1082" y="1368"/>
                </a:lnTo>
                <a:lnTo>
                  <a:pt x="1038" y="1460"/>
                </a:lnTo>
                <a:lnTo>
                  <a:pt x="989" y="1553"/>
                </a:lnTo>
                <a:lnTo>
                  <a:pt x="989" y="1650"/>
                </a:lnTo>
                <a:lnTo>
                  <a:pt x="941" y="1742"/>
                </a:lnTo>
                <a:lnTo>
                  <a:pt x="848" y="1791"/>
                </a:lnTo>
                <a:lnTo>
                  <a:pt x="755" y="1791"/>
                </a:lnTo>
                <a:lnTo>
                  <a:pt x="658" y="1835"/>
                </a:lnTo>
                <a:lnTo>
                  <a:pt x="565" y="1742"/>
                </a:lnTo>
                <a:lnTo>
                  <a:pt x="472" y="1742"/>
                </a:lnTo>
                <a:lnTo>
                  <a:pt x="472" y="1650"/>
                </a:lnTo>
                <a:lnTo>
                  <a:pt x="516" y="1601"/>
                </a:lnTo>
                <a:close/>
              </a:path>
            </a:pathLst>
          </a:cu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76560" y="4572000"/>
            <a:ext cx="592560" cy="406800"/>
          </a:xfrm>
          <a:custGeom>
            <a:avLst/>
            <a:gdLst/>
            <a:ahLst/>
            <a:rect l="0" t="0" r="r" b="b"/>
            <a:pathLst>
              <a:path w="1646" h="1130">
                <a:moveTo>
                  <a:pt x="141" y="848"/>
                </a:moveTo>
                <a:lnTo>
                  <a:pt x="233" y="755"/>
                </a:lnTo>
                <a:lnTo>
                  <a:pt x="326" y="658"/>
                </a:lnTo>
                <a:lnTo>
                  <a:pt x="424" y="613"/>
                </a:lnTo>
                <a:lnTo>
                  <a:pt x="424" y="516"/>
                </a:lnTo>
                <a:lnTo>
                  <a:pt x="516" y="472"/>
                </a:lnTo>
                <a:lnTo>
                  <a:pt x="609" y="424"/>
                </a:lnTo>
                <a:lnTo>
                  <a:pt x="706" y="375"/>
                </a:lnTo>
                <a:lnTo>
                  <a:pt x="750" y="283"/>
                </a:lnTo>
                <a:lnTo>
                  <a:pt x="847" y="233"/>
                </a:lnTo>
                <a:lnTo>
                  <a:pt x="891" y="141"/>
                </a:lnTo>
                <a:lnTo>
                  <a:pt x="988" y="92"/>
                </a:lnTo>
                <a:lnTo>
                  <a:pt x="1081" y="48"/>
                </a:lnTo>
                <a:lnTo>
                  <a:pt x="1173" y="0"/>
                </a:lnTo>
                <a:lnTo>
                  <a:pt x="1272" y="0"/>
                </a:lnTo>
                <a:lnTo>
                  <a:pt x="1364" y="0"/>
                </a:lnTo>
                <a:lnTo>
                  <a:pt x="1457" y="92"/>
                </a:lnTo>
                <a:lnTo>
                  <a:pt x="1554" y="92"/>
                </a:lnTo>
                <a:lnTo>
                  <a:pt x="1646" y="141"/>
                </a:lnTo>
                <a:lnTo>
                  <a:pt x="1646" y="233"/>
                </a:lnTo>
                <a:lnTo>
                  <a:pt x="1598" y="331"/>
                </a:lnTo>
                <a:lnTo>
                  <a:pt x="1505" y="424"/>
                </a:lnTo>
                <a:lnTo>
                  <a:pt x="1413" y="472"/>
                </a:lnTo>
                <a:lnTo>
                  <a:pt x="1316" y="565"/>
                </a:lnTo>
                <a:lnTo>
                  <a:pt x="1222" y="658"/>
                </a:lnTo>
                <a:lnTo>
                  <a:pt x="1129" y="706"/>
                </a:lnTo>
                <a:lnTo>
                  <a:pt x="1032" y="755"/>
                </a:lnTo>
                <a:lnTo>
                  <a:pt x="940" y="799"/>
                </a:lnTo>
                <a:lnTo>
                  <a:pt x="847" y="799"/>
                </a:lnTo>
                <a:lnTo>
                  <a:pt x="750" y="848"/>
                </a:lnTo>
                <a:lnTo>
                  <a:pt x="658" y="897"/>
                </a:lnTo>
                <a:lnTo>
                  <a:pt x="565" y="941"/>
                </a:lnTo>
                <a:lnTo>
                  <a:pt x="468" y="1038"/>
                </a:lnTo>
                <a:lnTo>
                  <a:pt x="374" y="1082"/>
                </a:lnTo>
                <a:lnTo>
                  <a:pt x="282" y="1082"/>
                </a:lnTo>
                <a:lnTo>
                  <a:pt x="185" y="1082"/>
                </a:lnTo>
                <a:lnTo>
                  <a:pt x="92" y="1082"/>
                </a:lnTo>
                <a:lnTo>
                  <a:pt x="0" y="1130"/>
                </a:lnTo>
                <a:lnTo>
                  <a:pt x="44" y="1038"/>
                </a:lnTo>
                <a:lnTo>
                  <a:pt x="92" y="941"/>
                </a:lnTo>
                <a:lnTo>
                  <a:pt x="141" y="848"/>
                </a:lnTo>
                <a:close/>
              </a:path>
            </a:pathLst>
          </a:cu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62640" y="3581280"/>
            <a:ext cx="0" cy="238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979560" y="4591080"/>
            <a:ext cx="2486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escen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490840" y="6370560"/>
            <a:ext cx="2486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escenc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413000" y="3235320"/>
            <a:ext cx="491040" cy="608400"/>
          </a:xfrm>
          <a:custGeom>
            <a:avLst/>
            <a:gdLst/>
            <a:ahLst/>
            <a:rect l="0" t="0" r="r" b="b"/>
            <a:pathLst>
              <a:path w="1364" h="1690">
                <a:moveTo>
                  <a:pt x="0" y="1540"/>
                </a:moveTo>
                <a:lnTo>
                  <a:pt x="0" y="1461"/>
                </a:lnTo>
                <a:lnTo>
                  <a:pt x="0" y="1386"/>
                </a:lnTo>
                <a:lnTo>
                  <a:pt x="0" y="1307"/>
                </a:lnTo>
                <a:lnTo>
                  <a:pt x="30" y="1226"/>
                </a:lnTo>
                <a:lnTo>
                  <a:pt x="30" y="1151"/>
                </a:lnTo>
                <a:lnTo>
                  <a:pt x="97" y="1037"/>
                </a:lnTo>
                <a:lnTo>
                  <a:pt x="127" y="962"/>
                </a:lnTo>
                <a:lnTo>
                  <a:pt x="189" y="962"/>
                </a:lnTo>
                <a:lnTo>
                  <a:pt x="251" y="922"/>
                </a:lnTo>
                <a:lnTo>
                  <a:pt x="286" y="847"/>
                </a:lnTo>
                <a:lnTo>
                  <a:pt x="349" y="807"/>
                </a:lnTo>
                <a:lnTo>
                  <a:pt x="349" y="733"/>
                </a:lnTo>
                <a:lnTo>
                  <a:pt x="349" y="653"/>
                </a:lnTo>
                <a:lnTo>
                  <a:pt x="415" y="618"/>
                </a:lnTo>
                <a:lnTo>
                  <a:pt x="477" y="578"/>
                </a:lnTo>
                <a:lnTo>
                  <a:pt x="538" y="538"/>
                </a:lnTo>
                <a:lnTo>
                  <a:pt x="728" y="424"/>
                </a:lnTo>
                <a:lnTo>
                  <a:pt x="949" y="424"/>
                </a:lnTo>
                <a:lnTo>
                  <a:pt x="1077" y="154"/>
                </a:lnTo>
                <a:lnTo>
                  <a:pt x="1364" y="0"/>
                </a:lnTo>
                <a:lnTo>
                  <a:pt x="821" y="424"/>
                </a:lnTo>
                <a:lnTo>
                  <a:pt x="1144" y="383"/>
                </a:lnTo>
                <a:lnTo>
                  <a:pt x="1047" y="503"/>
                </a:lnTo>
                <a:lnTo>
                  <a:pt x="856" y="653"/>
                </a:lnTo>
                <a:lnTo>
                  <a:pt x="856" y="733"/>
                </a:lnTo>
                <a:lnTo>
                  <a:pt x="1047" y="653"/>
                </a:lnTo>
                <a:lnTo>
                  <a:pt x="759" y="847"/>
                </a:lnTo>
                <a:lnTo>
                  <a:pt x="728" y="922"/>
                </a:lnTo>
                <a:lnTo>
                  <a:pt x="759" y="997"/>
                </a:lnTo>
                <a:lnTo>
                  <a:pt x="759" y="1076"/>
                </a:lnTo>
                <a:lnTo>
                  <a:pt x="759" y="1151"/>
                </a:lnTo>
                <a:lnTo>
                  <a:pt x="697" y="1191"/>
                </a:lnTo>
                <a:lnTo>
                  <a:pt x="697" y="1266"/>
                </a:lnTo>
                <a:lnTo>
                  <a:pt x="666" y="1346"/>
                </a:lnTo>
                <a:lnTo>
                  <a:pt x="605" y="1426"/>
                </a:lnTo>
                <a:lnTo>
                  <a:pt x="605" y="1501"/>
                </a:lnTo>
                <a:lnTo>
                  <a:pt x="538" y="1501"/>
                </a:lnTo>
                <a:lnTo>
                  <a:pt x="441" y="1576"/>
                </a:lnTo>
                <a:lnTo>
                  <a:pt x="441" y="1655"/>
                </a:lnTo>
                <a:lnTo>
                  <a:pt x="380" y="1655"/>
                </a:lnTo>
                <a:lnTo>
                  <a:pt x="317" y="1655"/>
                </a:lnTo>
                <a:lnTo>
                  <a:pt x="251" y="1655"/>
                </a:lnTo>
                <a:lnTo>
                  <a:pt x="189" y="1655"/>
                </a:lnTo>
                <a:lnTo>
                  <a:pt x="127" y="1690"/>
                </a:lnTo>
                <a:lnTo>
                  <a:pt x="61" y="1690"/>
                </a:lnTo>
                <a:lnTo>
                  <a:pt x="61" y="1615"/>
                </a:lnTo>
                <a:lnTo>
                  <a:pt x="0" y="154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687840" y="1833480"/>
            <a:ext cx="3089160" cy="2874960"/>
            <a:chOff x="3687840" y="1833480"/>
            <a:chExt cx="3089160" cy="2874960"/>
          </a:xfrm>
        </p:grpSpPr>
        <p:grpSp>
          <p:nvGrpSpPr>
            <p:cNvPr id="594" name=""/>
            <p:cNvGrpSpPr/>
            <p:nvPr/>
          </p:nvGrpSpPr>
          <p:grpSpPr>
            <a:xfrm>
              <a:off x="3687840" y="1833480"/>
              <a:ext cx="2976480" cy="2739960"/>
              <a:chOff x="3687840" y="1833480"/>
              <a:chExt cx="2976480" cy="27399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687840" y="1833480"/>
                <a:ext cx="423720" cy="2739960"/>
                <a:chOff x="3687840" y="1833480"/>
                <a:chExt cx="423720" cy="2739960"/>
              </a:xfrm>
            </p:grpSpPr>
            <p:grpSp>
              <p:nvGrpSpPr>
                <p:cNvPr id="596" name=""/>
                <p:cNvGrpSpPr/>
                <p:nvPr/>
              </p:nvGrpSpPr>
              <p:grpSpPr>
                <a:xfrm>
                  <a:off x="3687840" y="1833480"/>
                  <a:ext cx="423720" cy="2647800"/>
                  <a:chOff x="3687840" y="1833480"/>
                  <a:chExt cx="423720" cy="2647800"/>
                </a:xfrm>
              </p:grpSpPr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3687840" y="2341440"/>
                    <a:ext cx="422280" cy="298440"/>
                    <a:chOff x="3687840" y="2341440"/>
                    <a:chExt cx="422280" cy="298440"/>
                  </a:xfrm>
                </p:grpSpPr>
                <p:sp>
                  <p:nvSpPr>
                    <p:cNvPr id="598" name=""/>
                    <p:cNvSpPr txBox="1"/>
                    <p:nvPr/>
                  </p:nvSpPr>
                  <p:spPr>
                    <a:xfrm>
                      <a:off x="3687840" y="23986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 txBox="1"/>
                    <p:nvPr/>
                  </p:nvSpPr>
                  <p:spPr>
                    <a:xfrm>
                      <a:off x="3857760" y="23414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0" name=""/>
                  <p:cNvSpPr/>
                  <p:nvPr/>
                </p:nvSpPr>
                <p:spPr>
                  <a:xfrm flipH="1">
                    <a:off x="4024440" y="19382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710160" y="1833480"/>
                    <a:ext cx="396720" cy="303120"/>
                    <a:chOff x="3710160" y="1833480"/>
                    <a:chExt cx="396720" cy="303120"/>
                  </a:xfrm>
                </p:grpSpPr>
                <p:sp>
                  <p:nvSpPr>
                    <p:cNvPr id="602" name=""/>
                    <p:cNvSpPr txBox="1"/>
                    <p:nvPr/>
                  </p:nvSpPr>
                  <p:spPr>
                    <a:xfrm>
                      <a:off x="3710160" y="18954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 txBox="1"/>
                    <p:nvPr/>
                  </p:nvSpPr>
                  <p:spPr>
                    <a:xfrm>
                      <a:off x="3862440" y="183348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3719520" y="3544920"/>
                    <a:ext cx="388800" cy="326880"/>
                    <a:chOff x="3719520" y="3544920"/>
                    <a:chExt cx="388800" cy="326880"/>
                  </a:xfrm>
                </p:grpSpPr>
                <p:sp>
                  <p:nvSpPr>
                    <p:cNvPr id="605" name=""/>
                    <p:cNvSpPr txBox="1"/>
                    <p:nvPr/>
                  </p:nvSpPr>
                  <p:spPr>
                    <a:xfrm>
                      <a:off x="3719520" y="36306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 txBox="1"/>
                    <p:nvPr/>
                  </p:nvSpPr>
                  <p:spPr>
                    <a:xfrm>
                      <a:off x="3855960" y="35449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722760" y="2911320"/>
                    <a:ext cx="388800" cy="331920"/>
                    <a:chOff x="3722760" y="2911320"/>
                    <a:chExt cx="388800" cy="331920"/>
                  </a:xfrm>
                </p:grpSpPr>
                <p:sp>
                  <p:nvSpPr>
                    <p:cNvPr id="608" name=""/>
                    <p:cNvSpPr txBox="1"/>
                    <p:nvPr/>
                  </p:nvSpPr>
                  <p:spPr>
                    <a:xfrm>
                      <a:off x="3722760" y="30020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 txBox="1"/>
                    <p:nvPr/>
                  </p:nvSpPr>
                  <p:spPr>
                    <a:xfrm>
                      <a:off x="3859200" y="29113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 txBox="1"/>
                  <p:nvPr/>
                </p:nvSpPr>
                <p:spPr>
                  <a:xfrm>
                    <a:off x="3836880" y="425592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4019400" y="4352760"/>
                    <a:ext cx="82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4030560" y="30369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4024440" y="36590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4024440" y="24526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 txBox="1"/>
                <p:nvPr/>
              </p:nvSpPr>
              <p:spPr>
                <a:xfrm>
                  <a:off x="3708360" y="433224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4106880" y="193212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3854520" y="4359240"/>
              <a:ext cx="2922480" cy="349200"/>
              <a:chOff x="3854520" y="4359240"/>
              <a:chExt cx="2922480" cy="349200"/>
            </a:xfrm>
          </p:grpSpPr>
          <p:sp>
            <p:nvSpPr>
              <p:cNvPr id="618" name=""/>
              <p:cNvSpPr txBox="1"/>
              <p:nvPr/>
            </p:nvSpPr>
            <p:spPr>
              <a:xfrm>
                <a:off x="5748480" y="44672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5910120" y="43624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6381720" y="44658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6532560" y="436896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4432320" y="44672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4560840" y="43592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5089680" y="44672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5256360" y="43671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>
                <a:off x="3854520" y="44640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4013280" y="43592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487440" y="1820880"/>
            <a:ext cx="3089160" cy="2874960"/>
            <a:chOff x="487440" y="1820880"/>
            <a:chExt cx="3089160" cy="2874960"/>
          </a:xfrm>
        </p:grpSpPr>
        <p:grpSp>
          <p:nvGrpSpPr>
            <p:cNvPr id="629" name=""/>
            <p:cNvGrpSpPr/>
            <p:nvPr/>
          </p:nvGrpSpPr>
          <p:grpSpPr>
            <a:xfrm>
              <a:off x="487440" y="1820880"/>
              <a:ext cx="2976480" cy="2739960"/>
              <a:chOff x="487440" y="1820880"/>
              <a:chExt cx="2976480" cy="273996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487440" y="1820880"/>
                <a:ext cx="423720" cy="2739960"/>
                <a:chOff x="487440" y="1820880"/>
                <a:chExt cx="423720" cy="273996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487440" y="1820880"/>
                  <a:ext cx="423720" cy="2647800"/>
                  <a:chOff x="487440" y="1820880"/>
                  <a:chExt cx="423720" cy="264780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487440" y="2328840"/>
                    <a:ext cx="422280" cy="298440"/>
                    <a:chOff x="487440" y="2328840"/>
                    <a:chExt cx="422280" cy="298440"/>
                  </a:xfrm>
                </p:grpSpPr>
                <p:sp>
                  <p:nvSpPr>
                    <p:cNvPr id="633" name=""/>
                    <p:cNvSpPr txBox="1"/>
                    <p:nvPr/>
                  </p:nvSpPr>
                  <p:spPr>
                    <a:xfrm>
                      <a:off x="487440" y="23860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657360" y="23288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 flipH="1">
                    <a:off x="824040" y="19256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509760" y="1820880"/>
                    <a:ext cx="396720" cy="303120"/>
                    <a:chOff x="509760" y="1820880"/>
                    <a:chExt cx="396720" cy="303120"/>
                  </a:xfrm>
                </p:grpSpPr>
                <p:sp>
                  <p:nvSpPr>
                    <p:cNvPr id="637" name=""/>
                    <p:cNvSpPr txBox="1"/>
                    <p:nvPr/>
                  </p:nvSpPr>
                  <p:spPr>
                    <a:xfrm>
                      <a:off x="509760" y="18828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 txBox="1"/>
                    <p:nvPr/>
                  </p:nvSpPr>
                  <p:spPr>
                    <a:xfrm>
                      <a:off x="662040" y="182088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519120" y="3532320"/>
                    <a:ext cx="388800" cy="326880"/>
                    <a:chOff x="519120" y="3532320"/>
                    <a:chExt cx="388800" cy="326880"/>
                  </a:xfrm>
                </p:grpSpPr>
                <p:sp>
                  <p:nvSpPr>
                    <p:cNvPr id="640" name=""/>
                    <p:cNvSpPr txBox="1"/>
                    <p:nvPr/>
                  </p:nvSpPr>
                  <p:spPr>
                    <a:xfrm>
                      <a:off x="519120" y="36180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 txBox="1"/>
                    <p:nvPr/>
                  </p:nvSpPr>
                  <p:spPr>
                    <a:xfrm>
                      <a:off x="655560" y="35323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22360" y="2898720"/>
                    <a:ext cx="388800" cy="331920"/>
                    <a:chOff x="522360" y="2898720"/>
                    <a:chExt cx="388800" cy="331920"/>
                  </a:xfrm>
                </p:grpSpPr>
                <p:sp>
                  <p:nvSpPr>
                    <p:cNvPr id="643" name=""/>
                    <p:cNvSpPr txBox="1"/>
                    <p:nvPr/>
                  </p:nvSpPr>
                  <p:spPr>
                    <a:xfrm>
                      <a:off x="522360" y="29894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 txBox="1"/>
                    <p:nvPr/>
                  </p:nvSpPr>
                  <p:spPr>
                    <a:xfrm>
                      <a:off x="658800" y="28987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5" name=""/>
                  <p:cNvSpPr txBox="1"/>
                  <p:nvPr/>
                </p:nvSpPr>
                <p:spPr>
                  <a:xfrm>
                    <a:off x="636480" y="424332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819000" y="4340160"/>
                    <a:ext cx="82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830160" y="30243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824040" y="36464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824040" y="24400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"/>
                <p:cNvSpPr txBox="1"/>
                <p:nvPr/>
              </p:nvSpPr>
              <p:spPr>
                <a:xfrm>
                  <a:off x="507960" y="431964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906480" y="19191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54120" y="4346640"/>
              <a:ext cx="2922480" cy="349200"/>
              <a:chOff x="654120" y="4346640"/>
              <a:chExt cx="2922480" cy="349200"/>
            </a:xfrm>
          </p:grpSpPr>
          <p:sp>
            <p:nvSpPr>
              <p:cNvPr id="653" name=""/>
              <p:cNvSpPr txBox="1"/>
              <p:nvPr/>
            </p:nvSpPr>
            <p:spPr>
              <a:xfrm>
                <a:off x="2548080" y="44546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709720" y="43498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 txBox="1"/>
              <p:nvPr/>
            </p:nvSpPr>
            <p:spPr>
              <a:xfrm>
                <a:off x="3181320" y="4452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3332160" y="435600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1231920" y="44546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 txBox="1"/>
              <p:nvPr/>
            </p:nvSpPr>
            <p:spPr>
              <a:xfrm>
                <a:off x="1360440" y="43466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1889280" y="44546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2055960" y="43545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654120" y="44514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812880" y="43466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"/>
          <p:cNvSpPr txBox="1"/>
          <p:nvPr/>
        </p:nvSpPr>
        <p:spPr>
          <a:xfrm>
            <a:off x="4222800" y="1106640"/>
            <a:ext cx="2278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ar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57080" y="1427040"/>
            <a:ext cx="2905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un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98560" y="3641760"/>
            <a:ext cx="255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63680" y="1940040"/>
            <a:ext cx="0" cy="238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23760" y="391320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75280" y="387972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98840" y="7450200"/>
            <a:ext cx="322560" cy="457560"/>
          </a:xfrm>
          <a:custGeom>
            <a:avLst/>
            <a:gdLst/>
            <a:ahLst/>
            <a:rect l="0" t="0" r="r" b="b"/>
            <a:pathLst>
              <a:path w="896" h="1271">
                <a:moveTo>
                  <a:pt x="30" y="680"/>
                </a:moveTo>
                <a:lnTo>
                  <a:pt x="30" y="590"/>
                </a:lnTo>
                <a:lnTo>
                  <a:pt x="66" y="507"/>
                </a:lnTo>
                <a:lnTo>
                  <a:pt x="132" y="463"/>
                </a:lnTo>
                <a:lnTo>
                  <a:pt x="198" y="423"/>
                </a:lnTo>
                <a:lnTo>
                  <a:pt x="198" y="339"/>
                </a:lnTo>
                <a:lnTo>
                  <a:pt x="198" y="255"/>
                </a:lnTo>
                <a:lnTo>
                  <a:pt x="264" y="211"/>
                </a:lnTo>
                <a:lnTo>
                  <a:pt x="229" y="127"/>
                </a:lnTo>
                <a:lnTo>
                  <a:pt x="198" y="44"/>
                </a:lnTo>
                <a:lnTo>
                  <a:pt x="264" y="44"/>
                </a:lnTo>
                <a:lnTo>
                  <a:pt x="330" y="0"/>
                </a:lnTo>
                <a:lnTo>
                  <a:pt x="396" y="0"/>
                </a:lnTo>
                <a:lnTo>
                  <a:pt x="464" y="0"/>
                </a:lnTo>
                <a:lnTo>
                  <a:pt x="530" y="0"/>
                </a:lnTo>
                <a:lnTo>
                  <a:pt x="596" y="44"/>
                </a:lnTo>
                <a:lnTo>
                  <a:pt x="662" y="83"/>
                </a:lnTo>
                <a:lnTo>
                  <a:pt x="728" y="127"/>
                </a:lnTo>
                <a:lnTo>
                  <a:pt x="763" y="211"/>
                </a:lnTo>
                <a:lnTo>
                  <a:pt x="794" y="299"/>
                </a:lnTo>
                <a:lnTo>
                  <a:pt x="794" y="379"/>
                </a:lnTo>
                <a:lnTo>
                  <a:pt x="825" y="463"/>
                </a:lnTo>
                <a:lnTo>
                  <a:pt x="896" y="551"/>
                </a:lnTo>
                <a:lnTo>
                  <a:pt x="896" y="635"/>
                </a:lnTo>
                <a:lnTo>
                  <a:pt x="896" y="719"/>
                </a:lnTo>
                <a:lnTo>
                  <a:pt x="860" y="807"/>
                </a:lnTo>
                <a:lnTo>
                  <a:pt x="860" y="891"/>
                </a:lnTo>
                <a:lnTo>
                  <a:pt x="860" y="975"/>
                </a:lnTo>
                <a:lnTo>
                  <a:pt x="825" y="1099"/>
                </a:lnTo>
                <a:lnTo>
                  <a:pt x="794" y="1187"/>
                </a:lnTo>
                <a:lnTo>
                  <a:pt x="728" y="1226"/>
                </a:lnTo>
                <a:lnTo>
                  <a:pt x="662" y="1271"/>
                </a:lnTo>
                <a:lnTo>
                  <a:pt x="596" y="1271"/>
                </a:lnTo>
                <a:lnTo>
                  <a:pt x="530" y="1271"/>
                </a:lnTo>
                <a:lnTo>
                  <a:pt x="464" y="1271"/>
                </a:lnTo>
                <a:lnTo>
                  <a:pt x="396" y="1226"/>
                </a:lnTo>
                <a:lnTo>
                  <a:pt x="330" y="1187"/>
                </a:lnTo>
                <a:lnTo>
                  <a:pt x="264" y="1226"/>
                </a:lnTo>
                <a:lnTo>
                  <a:pt x="198" y="1226"/>
                </a:lnTo>
                <a:lnTo>
                  <a:pt x="132" y="1187"/>
                </a:lnTo>
                <a:lnTo>
                  <a:pt x="101" y="1099"/>
                </a:lnTo>
                <a:lnTo>
                  <a:pt x="101" y="1015"/>
                </a:lnTo>
                <a:lnTo>
                  <a:pt x="66" y="935"/>
                </a:lnTo>
                <a:lnTo>
                  <a:pt x="0" y="847"/>
                </a:lnTo>
                <a:lnTo>
                  <a:pt x="30" y="763"/>
                </a:lnTo>
                <a:lnTo>
                  <a:pt x="30" y="680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52880" y="3657600"/>
            <a:ext cx="203400" cy="643320"/>
          </a:xfrm>
          <a:custGeom>
            <a:avLst/>
            <a:gdLst/>
            <a:ahLst/>
            <a:rect l="0" t="0" r="r" b="b"/>
            <a:pathLst>
              <a:path w="565" h="1787">
                <a:moveTo>
                  <a:pt x="260" y="1558"/>
                </a:moveTo>
                <a:lnTo>
                  <a:pt x="211" y="1558"/>
                </a:lnTo>
                <a:lnTo>
                  <a:pt x="167" y="1514"/>
                </a:lnTo>
                <a:lnTo>
                  <a:pt x="167" y="1421"/>
                </a:lnTo>
                <a:lnTo>
                  <a:pt x="141" y="1332"/>
                </a:lnTo>
                <a:lnTo>
                  <a:pt x="97" y="1284"/>
                </a:lnTo>
                <a:lnTo>
                  <a:pt x="97" y="1196"/>
                </a:lnTo>
                <a:lnTo>
                  <a:pt x="97" y="1099"/>
                </a:lnTo>
                <a:lnTo>
                  <a:pt x="97" y="1010"/>
                </a:lnTo>
                <a:lnTo>
                  <a:pt x="70" y="918"/>
                </a:lnTo>
                <a:lnTo>
                  <a:pt x="26" y="874"/>
                </a:lnTo>
                <a:lnTo>
                  <a:pt x="26" y="781"/>
                </a:lnTo>
                <a:lnTo>
                  <a:pt x="26" y="688"/>
                </a:lnTo>
                <a:lnTo>
                  <a:pt x="26" y="596"/>
                </a:lnTo>
                <a:lnTo>
                  <a:pt x="0" y="508"/>
                </a:lnTo>
                <a:lnTo>
                  <a:pt x="0" y="410"/>
                </a:lnTo>
                <a:lnTo>
                  <a:pt x="48" y="321"/>
                </a:lnTo>
                <a:lnTo>
                  <a:pt x="97" y="185"/>
                </a:lnTo>
                <a:lnTo>
                  <a:pt x="141" y="136"/>
                </a:lnTo>
                <a:lnTo>
                  <a:pt x="189" y="92"/>
                </a:lnTo>
                <a:lnTo>
                  <a:pt x="260" y="48"/>
                </a:lnTo>
                <a:lnTo>
                  <a:pt x="309" y="48"/>
                </a:lnTo>
                <a:lnTo>
                  <a:pt x="353" y="0"/>
                </a:lnTo>
                <a:lnTo>
                  <a:pt x="402" y="48"/>
                </a:lnTo>
                <a:lnTo>
                  <a:pt x="472" y="48"/>
                </a:lnTo>
                <a:lnTo>
                  <a:pt x="521" y="48"/>
                </a:lnTo>
                <a:lnTo>
                  <a:pt x="543" y="136"/>
                </a:lnTo>
                <a:lnTo>
                  <a:pt x="521" y="233"/>
                </a:lnTo>
                <a:lnTo>
                  <a:pt x="472" y="370"/>
                </a:lnTo>
                <a:lnTo>
                  <a:pt x="494" y="459"/>
                </a:lnTo>
                <a:lnTo>
                  <a:pt x="543" y="508"/>
                </a:lnTo>
                <a:lnTo>
                  <a:pt x="543" y="596"/>
                </a:lnTo>
                <a:lnTo>
                  <a:pt x="543" y="688"/>
                </a:lnTo>
                <a:lnTo>
                  <a:pt x="521" y="781"/>
                </a:lnTo>
                <a:lnTo>
                  <a:pt x="543" y="874"/>
                </a:lnTo>
                <a:lnTo>
                  <a:pt x="565" y="962"/>
                </a:lnTo>
                <a:lnTo>
                  <a:pt x="543" y="1054"/>
                </a:lnTo>
                <a:lnTo>
                  <a:pt x="543" y="1147"/>
                </a:lnTo>
                <a:lnTo>
                  <a:pt x="543" y="1235"/>
                </a:lnTo>
                <a:lnTo>
                  <a:pt x="543" y="1332"/>
                </a:lnTo>
                <a:lnTo>
                  <a:pt x="521" y="1421"/>
                </a:lnTo>
                <a:lnTo>
                  <a:pt x="494" y="1514"/>
                </a:lnTo>
                <a:lnTo>
                  <a:pt x="494" y="1607"/>
                </a:lnTo>
                <a:lnTo>
                  <a:pt x="472" y="1699"/>
                </a:lnTo>
                <a:lnTo>
                  <a:pt x="424" y="1743"/>
                </a:lnTo>
                <a:lnTo>
                  <a:pt x="380" y="1743"/>
                </a:lnTo>
                <a:lnTo>
                  <a:pt x="331" y="1787"/>
                </a:lnTo>
                <a:lnTo>
                  <a:pt x="283" y="1699"/>
                </a:lnTo>
                <a:lnTo>
                  <a:pt x="238" y="1699"/>
                </a:lnTo>
                <a:lnTo>
                  <a:pt x="238" y="1607"/>
                </a:lnTo>
                <a:lnTo>
                  <a:pt x="260" y="1558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2776680"/>
            <a:ext cx="363960" cy="373320"/>
          </a:xfrm>
          <a:custGeom>
            <a:avLst/>
            <a:gdLst/>
            <a:ahLst/>
            <a:rect l="0" t="0" r="r" b="b"/>
            <a:pathLst>
              <a:path w="1011" h="1037">
                <a:moveTo>
                  <a:pt x="950" y="229"/>
                </a:moveTo>
                <a:lnTo>
                  <a:pt x="901" y="313"/>
                </a:lnTo>
                <a:lnTo>
                  <a:pt x="848" y="396"/>
                </a:lnTo>
                <a:lnTo>
                  <a:pt x="786" y="445"/>
                </a:lnTo>
                <a:lnTo>
                  <a:pt x="800" y="521"/>
                </a:lnTo>
                <a:lnTo>
                  <a:pt x="741" y="565"/>
                </a:lnTo>
                <a:lnTo>
                  <a:pt x="684" y="613"/>
                </a:lnTo>
                <a:lnTo>
                  <a:pt x="627" y="662"/>
                </a:lnTo>
                <a:lnTo>
                  <a:pt x="609" y="741"/>
                </a:lnTo>
                <a:lnTo>
                  <a:pt x="547" y="790"/>
                </a:lnTo>
                <a:lnTo>
                  <a:pt x="530" y="865"/>
                </a:lnTo>
                <a:lnTo>
                  <a:pt x="468" y="913"/>
                </a:lnTo>
                <a:lnTo>
                  <a:pt x="411" y="962"/>
                </a:lnTo>
                <a:lnTo>
                  <a:pt x="353" y="1010"/>
                </a:lnTo>
                <a:lnTo>
                  <a:pt x="287" y="1024"/>
                </a:lnTo>
                <a:lnTo>
                  <a:pt x="224" y="1037"/>
                </a:lnTo>
                <a:lnTo>
                  <a:pt x="149" y="979"/>
                </a:lnTo>
                <a:lnTo>
                  <a:pt x="83" y="997"/>
                </a:lnTo>
                <a:lnTo>
                  <a:pt x="13" y="975"/>
                </a:lnTo>
                <a:lnTo>
                  <a:pt x="0" y="904"/>
                </a:lnTo>
                <a:lnTo>
                  <a:pt x="22" y="825"/>
                </a:lnTo>
                <a:lnTo>
                  <a:pt x="74" y="741"/>
                </a:lnTo>
                <a:lnTo>
                  <a:pt x="127" y="697"/>
                </a:lnTo>
                <a:lnTo>
                  <a:pt x="185" y="609"/>
                </a:lnTo>
                <a:lnTo>
                  <a:pt x="238" y="525"/>
                </a:lnTo>
                <a:lnTo>
                  <a:pt x="292" y="476"/>
                </a:lnTo>
                <a:lnTo>
                  <a:pt x="353" y="427"/>
                </a:lnTo>
                <a:lnTo>
                  <a:pt x="411" y="379"/>
                </a:lnTo>
                <a:lnTo>
                  <a:pt x="472" y="366"/>
                </a:lnTo>
                <a:lnTo>
                  <a:pt x="534" y="317"/>
                </a:lnTo>
                <a:lnTo>
                  <a:pt x="591" y="268"/>
                </a:lnTo>
                <a:lnTo>
                  <a:pt x="649" y="224"/>
                </a:lnTo>
                <a:lnTo>
                  <a:pt x="702" y="136"/>
                </a:lnTo>
                <a:lnTo>
                  <a:pt x="760" y="88"/>
                </a:lnTo>
                <a:lnTo>
                  <a:pt x="826" y="74"/>
                </a:lnTo>
                <a:lnTo>
                  <a:pt x="888" y="61"/>
                </a:lnTo>
                <a:lnTo>
                  <a:pt x="954" y="48"/>
                </a:lnTo>
                <a:lnTo>
                  <a:pt x="1011" y="0"/>
                </a:lnTo>
                <a:lnTo>
                  <a:pt x="994" y="74"/>
                </a:lnTo>
                <a:lnTo>
                  <a:pt x="972" y="158"/>
                </a:lnTo>
                <a:lnTo>
                  <a:pt x="950" y="229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97560" y="1940040"/>
            <a:ext cx="0" cy="238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944640" y="2949480"/>
            <a:ext cx="2486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escen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2490840" y="8335800"/>
            <a:ext cx="2486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escenc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093760" y="5491080"/>
            <a:ext cx="3089520" cy="2874960"/>
            <a:chOff x="2093760" y="5491080"/>
            <a:chExt cx="3089520" cy="2874960"/>
          </a:xfrm>
        </p:grpSpPr>
        <p:grpSp>
          <p:nvGrpSpPr>
            <p:cNvPr id="676" name=""/>
            <p:cNvGrpSpPr/>
            <p:nvPr/>
          </p:nvGrpSpPr>
          <p:grpSpPr>
            <a:xfrm>
              <a:off x="2093760" y="5491080"/>
              <a:ext cx="2976840" cy="2739960"/>
              <a:chOff x="2093760" y="5491080"/>
              <a:chExt cx="2976840" cy="273996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2093760" y="5491080"/>
                <a:ext cx="424080" cy="2739960"/>
                <a:chOff x="2093760" y="5491080"/>
                <a:chExt cx="424080" cy="2739960"/>
              </a:xfrm>
            </p:grpSpPr>
            <p:grpSp>
              <p:nvGrpSpPr>
                <p:cNvPr id="678" name=""/>
                <p:cNvGrpSpPr/>
                <p:nvPr/>
              </p:nvGrpSpPr>
              <p:grpSpPr>
                <a:xfrm>
                  <a:off x="2093760" y="5491080"/>
                  <a:ext cx="424080" cy="2647800"/>
                  <a:chOff x="2093760" y="5491080"/>
                  <a:chExt cx="424080" cy="2647800"/>
                </a:xfrm>
              </p:grpSpPr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93760" y="5999040"/>
                    <a:ext cx="422280" cy="298440"/>
                    <a:chOff x="2093760" y="5999040"/>
                    <a:chExt cx="422280" cy="298440"/>
                  </a:xfrm>
                </p:grpSpPr>
                <p:sp>
                  <p:nvSpPr>
                    <p:cNvPr id="680" name=""/>
                    <p:cNvSpPr txBox="1"/>
                    <p:nvPr/>
                  </p:nvSpPr>
                  <p:spPr>
                    <a:xfrm>
                      <a:off x="2093760" y="6056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 txBox="1"/>
                    <p:nvPr/>
                  </p:nvSpPr>
                  <p:spPr>
                    <a:xfrm>
                      <a:off x="2263680" y="59990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2" name=""/>
                  <p:cNvSpPr/>
                  <p:nvPr/>
                </p:nvSpPr>
                <p:spPr>
                  <a:xfrm flipH="1">
                    <a:off x="2430360" y="55958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2116080" y="5491080"/>
                    <a:ext cx="396720" cy="303120"/>
                    <a:chOff x="2116080" y="5491080"/>
                    <a:chExt cx="396720" cy="303120"/>
                  </a:xfrm>
                </p:grpSpPr>
                <p:sp>
                  <p:nvSpPr>
                    <p:cNvPr id="684" name=""/>
                    <p:cNvSpPr txBox="1"/>
                    <p:nvPr/>
                  </p:nvSpPr>
                  <p:spPr>
                    <a:xfrm>
                      <a:off x="2116080" y="55530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 txBox="1"/>
                    <p:nvPr/>
                  </p:nvSpPr>
                  <p:spPr>
                    <a:xfrm>
                      <a:off x="2268360" y="549108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125800" y="7202520"/>
                    <a:ext cx="388800" cy="326880"/>
                    <a:chOff x="2125800" y="7202520"/>
                    <a:chExt cx="388800" cy="326880"/>
                  </a:xfrm>
                </p:grpSpPr>
                <p:sp>
                  <p:nvSpPr>
                    <p:cNvPr id="687" name=""/>
                    <p:cNvSpPr txBox="1"/>
                    <p:nvPr/>
                  </p:nvSpPr>
                  <p:spPr>
                    <a:xfrm>
                      <a:off x="2125800" y="72882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 txBox="1"/>
                    <p:nvPr/>
                  </p:nvSpPr>
                  <p:spPr>
                    <a:xfrm>
                      <a:off x="2262240" y="72025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2128680" y="6568920"/>
                    <a:ext cx="389160" cy="331920"/>
                    <a:chOff x="2128680" y="6568920"/>
                    <a:chExt cx="389160" cy="331920"/>
                  </a:xfrm>
                </p:grpSpPr>
                <p:sp>
                  <p:nvSpPr>
                    <p:cNvPr id="690" name=""/>
                    <p:cNvSpPr txBox="1"/>
                    <p:nvPr/>
                  </p:nvSpPr>
                  <p:spPr>
                    <a:xfrm>
                      <a:off x="2128680" y="66596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 txBox="1"/>
                    <p:nvPr/>
                  </p:nvSpPr>
                  <p:spPr>
                    <a:xfrm>
                      <a:off x="2265480" y="65689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"/>
                  <p:cNvSpPr txBox="1"/>
                  <p:nvPr/>
                </p:nvSpPr>
                <p:spPr>
                  <a:xfrm>
                    <a:off x="2243160" y="791352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2425680" y="801036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436840" y="66945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2430360" y="73166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430360" y="61102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7" name=""/>
                <p:cNvSpPr txBox="1"/>
                <p:nvPr/>
              </p:nvSpPr>
              <p:spPr>
                <a:xfrm>
                  <a:off x="2114640" y="798984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"/>
              <p:cNvSpPr/>
              <p:nvPr/>
            </p:nvSpPr>
            <p:spPr>
              <a:xfrm>
                <a:off x="2513160" y="558972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260440" y="8016840"/>
              <a:ext cx="2922840" cy="349200"/>
              <a:chOff x="2260440" y="8016840"/>
              <a:chExt cx="2922840" cy="349200"/>
            </a:xfrm>
          </p:grpSpPr>
          <p:sp>
            <p:nvSpPr>
              <p:cNvPr id="700" name=""/>
              <p:cNvSpPr txBox="1"/>
              <p:nvPr/>
            </p:nvSpPr>
            <p:spPr>
              <a:xfrm>
                <a:off x="4154400" y="8124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4316400" y="80200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4788000" y="81234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4938840" y="802656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 txBox="1"/>
              <p:nvPr/>
            </p:nvSpPr>
            <p:spPr>
              <a:xfrm>
                <a:off x="2838600" y="8124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2967120" y="80168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3495600" y="812484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3662280" y="80247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2260440" y="812160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2419200" y="801684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"/>
          <p:cNvSpPr txBox="1"/>
          <p:nvPr/>
        </p:nvSpPr>
        <p:spPr>
          <a:xfrm>
            <a:off x="2646360" y="4746600"/>
            <a:ext cx="2278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717640" y="2168640"/>
            <a:ext cx="475200" cy="354240"/>
          </a:xfrm>
          <a:custGeom>
            <a:avLst/>
            <a:gdLst/>
            <a:ahLst/>
            <a:rect l="0" t="0" r="r" b="b"/>
            <a:pathLst>
              <a:path w="1320" h="984">
                <a:moveTo>
                  <a:pt x="114" y="737"/>
                </a:moveTo>
                <a:lnTo>
                  <a:pt x="185" y="658"/>
                </a:lnTo>
                <a:lnTo>
                  <a:pt x="260" y="574"/>
                </a:lnTo>
                <a:lnTo>
                  <a:pt x="340" y="534"/>
                </a:lnTo>
                <a:lnTo>
                  <a:pt x="340" y="449"/>
                </a:lnTo>
                <a:lnTo>
                  <a:pt x="415" y="410"/>
                </a:lnTo>
                <a:lnTo>
                  <a:pt x="490" y="370"/>
                </a:lnTo>
                <a:lnTo>
                  <a:pt x="565" y="326"/>
                </a:lnTo>
                <a:lnTo>
                  <a:pt x="600" y="246"/>
                </a:lnTo>
                <a:lnTo>
                  <a:pt x="680" y="202"/>
                </a:lnTo>
                <a:lnTo>
                  <a:pt x="715" y="123"/>
                </a:lnTo>
                <a:lnTo>
                  <a:pt x="794" y="79"/>
                </a:lnTo>
                <a:lnTo>
                  <a:pt x="865" y="44"/>
                </a:lnTo>
                <a:lnTo>
                  <a:pt x="940" y="0"/>
                </a:lnTo>
                <a:lnTo>
                  <a:pt x="1020" y="0"/>
                </a:lnTo>
                <a:lnTo>
                  <a:pt x="1095" y="0"/>
                </a:lnTo>
                <a:lnTo>
                  <a:pt x="1170" y="79"/>
                </a:lnTo>
                <a:lnTo>
                  <a:pt x="1245" y="79"/>
                </a:lnTo>
                <a:lnTo>
                  <a:pt x="1320" y="123"/>
                </a:lnTo>
                <a:lnTo>
                  <a:pt x="1320" y="202"/>
                </a:lnTo>
                <a:lnTo>
                  <a:pt x="1280" y="286"/>
                </a:lnTo>
                <a:lnTo>
                  <a:pt x="1205" y="370"/>
                </a:lnTo>
                <a:lnTo>
                  <a:pt x="1135" y="410"/>
                </a:lnTo>
                <a:lnTo>
                  <a:pt x="1055" y="494"/>
                </a:lnTo>
                <a:lnTo>
                  <a:pt x="979" y="574"/>
                </a:lnTo>
                <a:lnTo>
                  <a:pt x="904" y="613"/>
                </a:lnTo>
                <a:lnTo>
                  <a:pt x="830" y="658"/>
                </a:lnTo>
                <a:lnTo>
                  <a:pt x="755" y="697"/>
                </a:lnTo>
                <a:lnTo>
                  <a:pt x="680" y="697"/>
                </a:lnTo>
                <a:lnTo>
                  <a:pt x="600" y="737"/>
                </a:lnTo>
                <a:lnTo>
                  <a:pt x="525" y="781"/>
                </a:lnTo>
                <a:lnTo>
                  <a:pt x="455" y="821"/>
                </a:lnTo>
                <a:lnTo>
                  <a:pt x="375" y="904"/>
                </a:lnTo>
                <a:lnTo>
                  <a:pt x="299" y="940"/>
                </a:lnTo>
                <a:lnTo>
                  <a:pt x="224" y="940"/>
                </a:lnTo>
                <a:lnTo>
                  <a:pt x="149" y="940"/>
                </a:lnTo>
                <a:lnTo>
                  <a:pt x="74" y="940"/>
                </a:lnTo>
                <a:lnTo>
                  <a:pt x="0" y="984"/>
                </a:lnTo>
                <a:lnTo>
                  <a:pt x="35" y="904"/>
                </a:lnTo>
                <a:lnTo>
                  <a:pt x="74" y="821"/>
                </a:lnTo>
                <a:lnTo>
                  <a:pt x="114" y="737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1374840" y="87480"/>
            <a:ext cx="4040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OMPENSA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INTENSIT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1800" y="5600880"/>
            <a:ext cx="0" cy="241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308560" y="3675240"/>
            <a:ext cx="151200" cy="574920"/>
          </a:xfrm>
          <a:custGeom>
            <a:avLst/>
            <a:gdLst/>
            <a:ahLst/>
            <a:rect l="0" t="0" r="r" b="b"/>
            <a:pathLst>
              <a:path w="420" h="1597">
                <a:moveTo>
                  <a:pt x="190" y="1394"/>
                </a:moveTo>
                <a:lnTo>
                  <a:pt x="159" y="1394"/>
                </a:lnTo>
                <a:lnTo>
                  <a:pt x="124" y="1350"/>
                </a:lnTo>
                <a:lnTo>
                  <a:pt x="124" y="1271"/>
                </a:lnTo>
                <a:lnTo>
                  <a:pt x="106" y="1191"/>
                </a:lnTo>
                <a:lnTo>
                  <a:pt x="70" y="1147"/>
                </a:lnTo>
                <a:lnTo>
                  <a:pt x="70" y="1068"/>
                </a:lnTo>
                <a:lnTo>
                  <a:pt x="70" y="984"/>
                </a:lnTo>
                <a:lnTo>
                  <a:pt x="70" y="900"/>
                </a:lnTo>
                <a:lnTo>
                  <a:pt x="52" y="821"/>
                </a:lnTo>
                <a:lnTo>
                  <a:pt x="17" y="780"/>
                </a:lnTo>
                <a:lnTo>
                  <a:pt x="17" y="696"/>
                </a:lnTo>
                <a:lnTo>
                  <a:pt x="17" y="612"/>
                </a:lnTo>
                <a:lnTo>
                  <a:pt x="17" y="533"/>
                </a:lnTo>
                <a:lnTo>
                  <a:pt x="0" y="454"/>
                </a:lnTo>
                <a:lnTo>
                  <a:pt x="0" y="370"/>
                </a:lnTo>
                <a:lnTo>
                  <a:pt x="35" y="286"/>
                </a:lnTo>
                <a:lnTo>
                  <a:pt x="70" y="163"/>
                </a:lnTo>
                <a:lnTo>
                  <a:pt x="106" y="123"/>
                </a:lnTo>
                <a:lnTo>
                  <a:pt x="142" y="83"/>
                </a:lnTo>
                <a:lnTo>
                  <a:pt x="190" y="44"/>
                </a:lnTo>
                <a:lnTo>
                  <a:pt x="230" y="44"/>
                </a:lnTo>
                <a:lnTo>
                  <a:pt x="261" y="0"/>
                </a:lnTo>
                <a:lnTo>
                  <a:pt x="296" y="44"/>
                </a:lnTo>
                <a:lnTo>
                  <a:pt x="350" y="44"/>
                </a:lnTo>
                <a:lnTo>
                  <a:pt x="385" y="44"/>
                </a:lnTo>
                <a:lnTo>
                  <a:pt x="403" y="123"/>
                </a:lnTo>
                <a:lnTo>
                  <a:pt x="385" y="207"/>
                </a:lnTo>
                <a:lnTo>
                  <a:pt x="350" y="330"/>
                </a:lnTo>
                <a:lnTo>
                  <a:pt x="368" y="410"/>
                </a:lnTo>
                <a:lnTo>
                  <a:pt x="403" y="454"/>
                </a:lnTo>
                <a:lnTo>
                  <a:pt x="403" y="533"/>
                </a:lnTo>
                <a:lnTo>
                  <a:pt x="403" y="612"/>
                </a:lnTo>
                <a:lnTo>
                  <a:pt x="385" y="696"/>
                </a:lnTo>
                <a:lnTo>
                  <a:pt x="403" y="780"/>
                </a:lnTo>
                <a:lnTo>
                  <a:pt x="420" y="860"/>
                </a:lnTo>
                <a:lnTo>
                  <a:pt x="403" y="944"/>
                </a:lnTo>
                <a:lnTo>
                  <a:pt x="403" y="1024"/>
                </a:lnTo>
                <a:lnTo>
                  <a:pt x="403" y="1107"/>
                </a:lnTo>
                <a:lnTo>
                  <a:pt x="403" y="1191"/>
                </a:lnTo>
                <a:lnTo>
                  <a:pt x="385" y="1271"/>
                </a:lnTo>
                <a:lnTo>
                  <a:pt x="368" y="1350"/>
                </a:lnTo>
                <a:lnTo>
                  <a:pt x="368" y="1434"/>
                </a:lnTo>
                <a:lnTo>
                  <a:pt x="350" y="1517"/>
                </a:lnTo>
                <a:lnTo>
                  <a:pt x="314" y="1557"/>
                </a:lnTo>
                <a:lnTo>
                  <a:pt x="278" y="1557"/>
                </a:lnTo>
                <a:lnTo>
                  <a:pt x="243" y="1597"/>
                </a:lnTo>
                <a:lnTo>
                  <a:pt x="212" y="1517"/>
                </a:lnTo>
                <a:lnTo>
                  <a:pt x="177" y="1517"/>
                </a:lnTo>
                <a:lnTo>
                  <a:pt x="177" y="1434"/>
                </a:lnTo>
                <a:lnTo>
                  <a:pt x="190" y="1394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81800" y="3538440"/>
            <a:ext cx="167040" cy="727560"/>
          </a:xfrm>
          <a:custGeom>
            <a:avLst/>
            <a:gdLst/>
            <a:ahLst/>
            <a:rect l="0" t="0" r="r" b="b"/>
            <a:pathLst>
              <a:path w="464" h="2021">
                <a:moveTo>
                  <a:pt x="211" y="1765"/>
                </a:moveTo>
                <a:lnTo>
                  <a:pt x="171" y="1765"/>
                </a:lnTo>
                <a:lnTo>
                  <a:pt x="136" y="1712"/>
                </a:lnTo>
                <a:lnTo>
                  <a:pt x="136" y="1607"/>
                </a:lnTo>
                <a:lnTo>
                  <a:pt x="114" y="1504"/>
                </a:lnTo>
                <a:lnTo>
                  <a:pt x="79" y="1451"/>
                </a:lnTo>
                <a:lnTo>
                  <a:pt x="79" y="1350"/>
                </a:lnTo>
                <a:lnTo>
                  <a:pt x="79" y="1244"/>
                </a:lnTo>
                <a:lnTo>
                  <a:pt x="79" y="1143"/>
                </a:lnTo>
                <a:lnTo>
                  <a:pt x="57" y="1041"/>
                </a:lnTo>
                <a:lnTo>
                  <a:pt x="22" y="984"/>
                </a:lnTo>
                <a:lnTo>
                  <a:pt x="22" y="882"/>
                </a:lnTo>
                <a:lnTo>
                  <a:pt x="22" y="777"/>
                </a:lnTo>
                <a:lnTo>
                  <a:pt x="22" y="675"/>
                </a:lnTo>
                <a:lnTo>
                  <a:pt x="0" y="574"/>
                </a:lnTo>
                <a:lnTo>
                  <a:pt x="0" y="467"/>
                </a:lnTo>
                <a:lnTo>
                  <a:pt x="39" y="366"/>
                </a:lnTo>
                <a:lnTo>
                  <a:pt x="79" y="207"/>
                </a:lnTo>
                <a:lnTo>
                  <a:pt x="114" y="154"/>
                </a:lnTo>
                <a:lnTo>
                  <a:pt x="154" y="105"/>
                </a:lnTo>
                <a:lnTo>
                  <a:pt x="211" y="52"/>
                </a:lnTo>
                <a:lnTo>
                  <a:pt x="252" y="52"/>
                </a:lnTo>
                <a:lnTo>
                  <a:pt x="292" y="0"/>
                </a:lnTo>
                <a:lnTo>
                  <a:pt x="327" y="52"/>
                </a:lnTo>
                <a:lnTo>
                  <a:pt x="384" y="52"/>
                </a:lnTo>
                <a:lnTo>
                  <a:pt x="424" y="52"/>
                </a:lnTo>
                <a:lnTo>
                  <a:pt x="441" y="154"/>
                </a:lnTo>
                <a:lnTo>
                  <a:pt x="424" y="260"/>
                </a:lnTo>
                <a:lnTo>
                  <a:pt x="384" y="418"/>
                </a:lnTo>
                <a:lnTo>
                  <a:pt x="406" y="521"/>
                </a:lnTo>
                <a:lnTo>
                  <a:pt x="441" y="574"/>
                </a:lnTo>
                <a:lnTo>
                  <a:pt x="441" y="675"/>
                </a:lnTo>
                <a:lnTo>
                  <a:pt x="441" y="777"/>
                </a:lnTo>
                <a:lnTo>
                  <a:pt x="424" y="882"/>
                </a:lnTo>
                <a:lnTo>
                  <a:pt x="441" y="984"/>
                </a:lnTo>
                <a:lnTo>
                  <a:pt x="464" y="1090"/>
                </a:lnTo>
                <a:lnTo>
                  <a:pt x="441" y="1196"/>
                </a:lnTo>
                <a:lnTo>
                  <a:pt x="441" y="1297"/>
                </a:lnTo>
                <a:lnTo>
                  <a:pt x="441" y="1398"/>
                </a:lnTo>
                <a:lnTo>
                  <a:pt x="441" y="1504"/>
                </a:lnTo>
                <a:lnTo>
                  <a:pt x="424" y="1607"/>
                </a:lnTo>
                <a:lnTo>
                  <a:pt x="406" y="1712"/>
                </a:lnTo>
                <a:lnTo>
                  <a:pt x="406" y="1818"/>
                </a:lnTo>
                <a:lnTo>
                  <a:pt x="384" y="1920"/>
                </a:lnTo>
                <a:lnTo>
                  <a:pt x="349" y="1973"/>
                </a:lnTo>
                <a:lnTo>
                  <a:pt x="309" y="1973"/>
                </a:lnTo>
                <a:lnTo>
                  <a:pt x="269" y="2021"/>
                </a:lnTo>
                <a:lnTo>
                  <a:pt x="234" y="1920"/>
                </a:lnTo>
                <a:lnTo>
                  <a:pt x="194" y="1920"/>
                </a:lnTo>
                <a:lnTo>
                  <a:pt x="194" y="1818"/>
                </a:lnTo>
                <a:lnTo>
                  <a:pt x="211" y="1765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935680" y="3319560"/>
            <a:ext cx="168480" cy="743400"/>
          </a:xfrm>
          <a:custGeom>
            <a:avLst/>
            <a:gdLst/>
            <a:ahLst/>
            <a:rect l="0" t="0" r="r" b="b"/>
            <a:pathLst>
              <a:path w="468" h="2065">
                <a:moveTo>
                  <a:pt x="211" y="1801"/>
                </a:moveTo>
                <a:lnTo>
                  <a:pt x="176" y="1801"/>
                </a:lnTo>
                <a:lnTo>
                  <a:pt x="136" y="1748"/>
                </a:lnTo>
                <a:lnTo>
                  <a:pt x="136" y="1642"/>
                </a:lnTo>
                <a:lnTo>
                  <a:pt x="119" y="1539"/>
                </a:lnTo>
                <a:lnTo>
                  <a:pt x="79" y="1482"/>
                </a:lnTo>
                <a:lnTo>
                  <a:pt x="79" y="1381"/>
                </a:lnTo>
                <a:lnTo>
                  <a:pt x="79" y="1270"/>
                </a:lnTo>
                <a:lnTo>
                  <a:pt x="79" y="1165"/>
                </a:lnTo>
                <a:lnTo>
                  <a:pt x="57" y="1063"/>
                </a:lnTo>
                <a:lnTo>
                  <a:pt x="22" y="1006"/>
                </a:lnTo>
                <a:lnTo>
                  <a:pt x="22" y="904"/>
                </a:lnTo>
                <a:lnTo>
                  <a:pt x="22" y="794"/>
                </a:lnTo>
                <a:lnTo>
                  <a:pt x="22" y="688"/>
                </a:lnTo>
                <a:lnTo>
                  <a:pt x="0" y="587"/>
                </a:lnTo>
                <a:lnTo>
                  <a:pt x="0" y="476"/>
                </a:lnTo>
                <a:lnTo>
                  <a:pt x="39" y="370"/>
                </a:lnTo>
                <a:lnTo>
                  <a:pt x="79" y="211"/>
                </a:lnTo>
                <a:lnTo>
                  <a:pt x="119" y="158"/>
                </a:lnTo>
                <a:lnTo>
                  <a:pt x="154" y="110"/>
                </a:lnTo>
                <a:lnTo>
                  <a:pt x="211" y="52"/>
                </a:lnTo>
                <a:lnTo>
                  <a:pt x="256" y="52"/>
                </a:lnTo>
                <a:lnTo>
                  <a:pt x="292" y="0"/>
                </a:lnTo>
                <a:lnTo>
                  <a:pt x="331" y="52"/>
                </a:lnTo>
                <a:lnTo>
                  <a:pt x="389" y="52"/>
                </a:lnTo>
                <a:lnTo>
                  <a:pt x="428" y="52"/>
                </a:lnTo>
                <a:lnTo>
                  <a:pt x="446" y="158"/>
                </a:lnTo>
                <a:lnTo>
                  <a:pt x="428" y="268"/>
                </a:lnTo>
                <a:lnTo>
                  <a:pt x="389" y="427"/>
                </a:lnTo>
                <a:lnTo>
                  <a:pt x="411" y="530"/>
                </a:lnTo>
                <a:lnTo>
                  <a:pt x="446" y="587"/>
                </a:lnTo>
                <a:lnTo>
                  <a:pt x="446" y="688"/>
                </a:lnTo>
                <a:lnTo>
                  <a:pt x="446" y="794"/>
                </a:lnTo>
                <a:lnTo>
                  <a:pt x="428" y="904"/>
                </a:lnTo>
                <a:lnTo>
                  <a:pt x="446" y="1006"/>
                </a:lnTo>
                <a:lnTo>
                  <a:pt x="468" y="1112"/>
                </a:lnTo>
                <a:lnTo>
                  <a:pt x="446" y="1222"/>
                </a:lnTo>
                <a:lnTo>
                  <a:pt x="446" y="1323"/>
                </a:lnTo>
                <a:lnTo>
                  <a:pt x="446" y="1429"/>
                </a:lnTo>
                <a:lnTo>
                  <a:pt x="446" y="1539"/>
                </a:lnTo>
                <a:lnTo>
                  <a:pt x="428" y="1642"/>
                </a:lnTo>
                <a:lnTo>
                  <a:pt x="411" y="1748"/>
                </a:lnTo>
                <a:lnTo>
                  <a:pt x="411" y="1858"/>
                </a:lnTo>
                <a:lnTo>
                  <a:pt x="389" y="1959"/>
                </a:lnTo>
                <a:lnTo>
                  <a:pt x="353" y="2017"/>
                </a:lnTo>
                <a:lnTo>
                  <a:pt x="314" y="2017"/>
                </a:lnTo>
                <a:lnTo>
                  <a:pt x="274" y="2065"/>
                </a:lnTo>
                <a:lnTo>
                  <a:pt x="233" y="1959"/>
                </a:lnTo>
                <a:lnTo>
                  <a:pt x="194" y="1959"/>
                </a:lnTo>
                <a:lnTo>
                  <a:pt x="194" y="1858"/>
                </a:lnTo>
                <a:lnTo>
                  <a:pt x="211" y="1801"/>
                </a:lnTo>
                <a:close/>
              </a:path>
            </a:pathLst>
          </a:cu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40600" y="3116160"/>
            <a:ext cx="117720" cy="625680"/>
          </a:xfrm>
          <a:custGeom>
            <a:avLst/>
            <a:gdLst/>
            <a:ahLst/>
            <a:rect l="0" t="0" r="r" b="b"/>
            <a:pathLst>
              <a:path w="327" h="1738">
                <a:moveTo>
                  <a:pt x="149" y="1517"/>
                </a:moveTo>
                <a:lnTo>
                  <a:pt x="123" y="1517"/>
                </a:lnTo>
                <a:lnTo>
                  <a:pt x="97" y="1469"/>
                </a:lnTo>
                <a:lnTo>
                  <a:pt x="97" y="1381"/>
                </a:lnTo>
                <a:lnTo>
                  <a:pt x="83" y="1297"/>
                </a:lnTo>
                <a:lnTo>
                  <a:pt x="52" y="1248"/>
                </a:lnTo>
                <a:lnTo>
                  <a:pt x="52" y="1160"/>
                </a:lnTo>
                <a:lnTo>
                  <a:pt x="52" y="1068"/>
                </a:lnTo>
                <a:lnTo>
                  <a:pt x="52" y="984"/>
                </a:lnTo>
                <a:lnTo>
                  <a:pt x="39" y="896"/>
                </a:lnTo>
                <a:lnTo>
                  <a:pt x="13" y="846"/>
                </a:lnTo>
                <a:lnTo>
                  <a:pt x="13" y="758"/>
                </a:lnTo>
                <a:lnTo>
                  <a:pt x="13" y="670"/>
                </a:lnTo>
                <a:lnTo>
                  <a:pt x="13" y="582"/>
                </a:lnTo>
                <a:lnTo>
                  <a:pt x="0" y="493"/>
                </a:lnTo>
                <a:lnTo>
                  <a:pt x="0" y="401"/>
                </a:lnTo>
                <a:lnTo>
                  <a:pt x="26" y="313"/>
                </a:lnTo>
                <a:lnTo>
                  <a:pt x="52" y="180"/>
                </a:lnTo>
                <a:lnTo>
                  <a:pt x="83" y="132"/>
                </a:lnTo>
                <a:lnTo>
                  <a:pt x="110" y="92"/>
                </a:lnTo>
                <a:lnTo>
                  <a:pt x="149" y="44"/>
                </a:lnTo>
                <a:lnTo>
                  <a:pt x="177" y="44"/>
                </a:lnTo>
                <a:lnTo>
                  <a:pt x="203" y="0"/>
                </a:lnTo>
                <a:lnTo>
                  <a:pt x="230" y="44"/>
                </a:lnTo>
                <a:lnTo>
                  <a:pt x="274" y="44"/>
                </a:lnTo>
                <a:lnTo>
                  <a:pt x="300" y="44"/>
                </a:lnTo>
                <a:lnTo>
                  <a:pt x="314" y="132"/>
                </a:lnTo>
                <a:lnTo>
                  <a:pt x="300" y="224"/>
                </a:lnTo>
                <a:lnTo>
                  <a:pt x="274" y="357"/>
                </a:lnTo>
                <a:lnTo>
                  <a:pt x="287" y="445"/>
                </a:lnTo>
                <a:lnTo>
                  <a:pt x="314" y="493"/>
                </a:lnTo>
                <a:lnTo>
                  <a:pt x="314" y="582"/>
                </a:lnTo>
                <a:lnTo>
                  <a:pt x="314" y="670"/>
                </a:lnTo>
                <a:lnTo>
                  <a:pt x="300" y="758"/>
                </a:lnTo>
                <a:lnTo>
                  <a:pt x="314" y="846"/>
                </a:lnTo>
                <a:lnTo>
                  <a:pt x="327" y="935"/>
                </a:lnTo>
                <a:lnTo>
                  <a:pt x="314" y="1028"/>
                </a:lnTo>
                <a:lnTo>
                  <a:pt x="314" y="1116"/>
                </a:lnTo>
                <a:lnTo>
                  <a:pt x="314" y="1204"/>
                </a:lnTo>
                <a:lnTo>
                  <a:pt x="314" y="1297"/>
                </a:lnTo>
                <a:lnTo>
                  <a:pt x="300" y="1381"/>
                </a:lnTo>
                <a:lnTo>
                  <a:pt x="287" y="1469"/>
                </a:lnTo>
                <a:lnTo>
                  <a:pt x="287" y="1562"/>
                </a:lnTo>
                <a:lnTo>
                  <a:pt x="274" y="1650"/>
                </a:lnTo>
                <a:lnTo>
                  <a:pt x="247" y="1698"/>
                </a:lnTo>
                <a:lnTo>
                  <a:pt x="217" y="1698"/>
                </a:lnTo>
                <a:lnTo>
                  <a:pt x="190" y="1738"/>
                </a:lnTo>
                <a:lnTo>
                  <a:pt x="164" y="1650"/>
                </a:lnTo>
                <a:lnTo>
                  <a:pt x="136" y="1650"/>
                </a:lnTo>
                <a:lnTo>
                  <a:pt x="136" y="1562"/>
                </a:lnTo>
                <a:lnTo>
                  <a:pt x="149" y="1517"/>
                </a:lnTo>
                <a:close/>
              </a:path>
            </a:pathLst>
          </a:cu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32440" y="3641760"/>
            <a:ext cx="255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429000" y="7299360"/>
            <a:ext cx="143280" cy="643320"/>
          </a:xfrm>
          <a:custGeom>
            <a:avLst/>
            <a:gdLst/>
            <a:ahLst/>
            <a:rect l="0" t="0" r="r" b="b"/>
            <a:pathLst>
              <a:path w="398" h="1787">
                <a:moveTo>
                  <a:pt x="181" y="1558"/>
                </a:moveTo>
                <a:lnTo>
                  <a:pt x="150" y="1558"/>
                </a:lnTo>
                <a:lnTo>
                  <a:pt x="115" y="1514"/>
                </a:lnTo>
                <a:lnTo>
                  <a:pt x="115" y="1421"/>
                </a:lnTo>
                <a:lnTo>
                  <a:pt x="102" y="1332"/>
                </a:lnTo>
                <a:lnTo>
                  <a:pt x="66" y="1284"/>
                </a:lnTo>
                <a:lnTo>
                  <a:pt x="66" y="1196"/>
                </a:lnTo>
                <a:lnTo>
                  <a:pt x="66" y="1099"/>
                </a:lnTo>
                <a:lnTo>
                  <a:pt x="66" y="1010"/>
                </a:lnTo>
                <a:lnTo>
                  <a:pt x="48" y="918"/>
                </a:lnTo>
                <a:lnTo>
                  <a:pt x="17" y="874"/>
                </a:lnTo>
                <a:lnTo>
                  <a:pt x="17" y="781"/>
                </a:lnTo>
                <a:lnTo>
                  <a:pt x="17" y="688"/>
                </a:lnTo>
                <a:lnTo>
                  <a:pt x="17" y="596"/>
                </a:lnTo>
                <a:lnTo>
                  <a:pt x="0" y="508"/>
                </a:lnTo>
                <a:lnTo>
                  <a:pt x="0" y="410"/>
                </a:lnTo>
                <a:lnTo>
                  <a:pt x="30" y="321"/>
                </a:lnTo>
                <a:lnTo>
                  <a:pt x="66" y="185"/>
                </a:lnTo>
                <a:lnTo>
                  <a:pt x="102" y="136"/>
                </a:lnTo>
                <a:lnTo>
                  <a:pt x="133" y="92"/>
                </a:lnTo>
                <a:lnTo>
                  <a:pt x="181" y="48"/>
                </a:lnTo>
                <a:lnTo>
                  <a:pt x="217" y="48"/>
                </a:lnTo>
                <a:lnTo>
                  <a:pt x="247" y="0"/>
                </a:lnTo>
                <a:lnTo>
                  <a:pt x="283" y="48"/>
                </a:lnTo>
                <a:lnTo>
                  <a:pt x="332" y="48"/>
                </a:lnTo>
                <a:lnTo>
                  <a:pt x="368" y="48"/>
                </a:lnTo>
                <a:lnTo>
                  <a:pt x="381" y="136"/>
                </a:lnTo>
                <a:lnTo>
                  <a:pt x="368" y="233"/>
                </a:lnTo>
                <a:lnTo>
                  <a:pt x="332" y="370"/>
                </a:lnTo>
                <a:lnTo>
                  <a:pt x="350" y="459"/>
                </a:lnTo>
                <a:lnTo>
                  <a:pt x="381" y="508"/>
                </a:lnTo>
                <a:lnTo>
                  <a:pt x="381" y="596"/>
                </a:lnTo>
                <a:lnTo>
                  <a:pt x="381" y="688"/>
                </a:lnTo>
                <a:lnTo>
                  <a:pt x="368" y="781"/>
                </a:lnTo>
                <a:lnTo>
                  <a:pt x="381" y="874"/>
                </a:lnTo>
                <a:lnTo>
                  <a:pt x="398" y="962"/>
                </a:lnTo>
                <a:lnTo>
                  <a:pt x="381" y="1054"/>
                </a:lnTo>
                <a:lnTo>
                  <a:pt x="381" y="1147"/>
                </a:lnTo>
                <a:lnTo>
                  <a:pt x="381" y="1235"/>
                </a:lnTo>
                <a:lnTo>
                  <a:pt x="381" y="1332"/>
                </a:lnTo>
                <a:lnTo>
                  <a:pt x="368" y="1421"/>
                </a:lnTo>
                <a:lnTo>
                  <a:pt x="350" y="1514"/>
                </a:lnTo>
                <a:lnTo>
                  <a:pt x="350" y="1607"/>
                </a:lnTo>
                <a:lnTo>
                  <a:pt x="332" y="1699"/>
                </a:lnTo>
                <a:lnTo>
                  <a:pt x="301" y="1743"/>
                </a:lnTo>
                <a:lnTo>
                  <a:pt x="265" y="1743"/>
                </a:lnTo>
                <a:lnTo>
                  <a:pt x="230" y="1787"/>
                </a:lnTo>
                <a:lnTo>
                  <a:pt x="199" y="1699"/>
                </a:lnTo>
                <a:lnTo>
                  <a:pt x="168" y="1699"/>
                </a:lnTo>
                <a:lnTo>
                  <a:pt x="168" y="1607"/>
                </a:lnTo>
                <a:lnTo>
                  <a:pt x="181" y="1558"/>
                </a:lnTo>
                <a:close/>
              </a:path>
            </a:pathLst>
          </a:cu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701880" y="7334280"/>
            <a:ext cx="163800" cy="574920"/>
          </a:xfrm>
          <a:custGeom>
            <a:avLst/>
            <a:gdLst/>
            <a:ahLst/>
            <a:rect l="0" t="0" r="r" b="b"/>
            <a:pathLst>
              <a:path w="455" h="1597">
                <a:moveTo>
                  <a:pt x="207" y="1394"/>
                </a:moveTo>
                <a:lnTo>
                  <a:pt x="171" y="1394"/>
                </a:lnTo>
                <a:lnTo>
                  <a:pt x="132" y="1350"/>
                </a:lnTo>
                <a:lnTo>
                  <a:pt x="132" y="1271"/>
                </a:lnTo>
                <a:lnTo>
                  <a:pt x="114" y="1191"/>
                </a:lnTo>
                <a:lnTo>
                  <a:pt x="74" y="1147"/>
                </a:lnTo>
                <a:lnTo>
                  <a:pt x="74" y="1068"/>
                </a:lnTo>
                <a:lnTo>
                  <a:pt x="74" y="984"/>
                </a:lnTo>
                <a:lnTo>
                  <a:pt x="74" y="900"/>
                </a:lnTo>
                <a:lnTo>
                  <a:pt x="57" y="821"/>
                </a:lnTo>
                <a:lnTo>
                  <a:pt x="17" y="780"/>
                </a:lnTo>
                <a:lnTo>
                  <a:pt x="17" y="696"/>
                </a:lnTo>
                <a:lnTo>
                  <a:pt x="17" y="612"/>
                </a:lnTo>
                <a:lnTo>
                  <a:pt x="17" y="533"/>
                </a:lnTo>
                <a:lnTo>
                  <a:pt x="0" y="454"/>
                </a:lnTo>
                <a:lnTo>
                  <a:pt x="0" y="370"/>
                </a:lnTo>
                <a:lnTo>
                  <a:pt x="35" y="286"/>
                </a:lnTo>
                <a:lnTo>
                  <a:pt x="74" y="163"/>
                </a:lnTo>
                <a:lnTo>
                  <a:pt x="114" y="123"/>
                </a:lnTo>
                <a:lnTo>
                  <a:pt x="149" y="83"/>
                </a:lnTo>
                <a:lnTo>
                  <a:pt x="207" y="44"/>
                </a:lnTo>
                <a:lnTo>
                  <a:pt x="247" y="44"/>
                </a:lnTo>
                <a:lnTo>
                  <a:pt x="283" y="0"/>
                </a:lnTo>
                <a:lnTo>
                  <a:pt x="322" y="44"/>
                </a:lnTo>
                <a:lnTo>
                  <a:pt x="380" y="44"/>
                </a:lnTo>
                <a:lnTo>
                  <a:pt x="419" y="44"/>
                </a:lnTo>
                <a:lnTo>
                  <a:pt x="437" y="123"/>
                </a:lnTo>
                <a:lnTo>
                  <a:pt x="419" y="207"/>
                </a:lnTo>
                <a:lnTo>
                  <a:pt x="380" y="330"/>
                </a:lnTo>
                <a:lnTo>
                  <a:pt x="397" y="410"/>
                </a:lnTo>
                <a:lnTo>
                  <a:pt x="437" y="454"/>
                </a:lnTo>
                <a:lnTo>
                  <a:pt x="437" y="533"/>
                </a:lnTo>
                <a:lnTo>
                  <a:pt x="437" y="612"/>
                </a:lnTo>
                <a:lnTo>
                  <a:pt x="419" y="696"/>
                </a:lnTo>
                <a:lnTo>
                  <a:pt x="437" y="780"/>
                </a:lnTo>
                <a:lnTo>
                  <a:pt x="455" y="860"/>
                </a:lnTo>
                <a:lnTo>
                  <a:pt x="437" y="944"/>
                </a:lnTo>
                <a:lnTo>
                  <a:pt x="437" y="1024"/>
                </a:lnTo>
                <a:lnTo>
                  <a:pt x="437" y="1107"/>
                </a:lnTo>
                <a:lnTo>
                  <a:pt x="437" y="1191"/>
                </a:lnTo>
                <a:lnTo>
                  <a:pt x="419" y="1271"/>
                </a:lnTo>
                <a:lnTo>
                  <a:pt x="397" y="1350"/>
                </a:lnTo>
                <a:lnTo>
                  <a:pt x="397" y="1434"/>
                </a:lnTo>
                <a:lnTo>
                  <a:pt x="380" y="1517"/>
                </a:lnTo>
                <a:lnTo>
                  <a:pt x="340" y="1557"/>
                </a:lnTo>
                <a:lnTo>
                  <a:pt x="305" y="1557"/>
                </a:lnTo>
                <a:lnTo>
                  <a:pt x="265" y="1597"/>
                </a:lnTo>
                <a:lnTo>
                  <a:pt x="230" y="1517"/>
                </a:lnTo>
                <a:lnTo>
                  <a:pt x="189" y="1517"/>
                </a:lnTo>
                <a:lnTo>
                  <a:pt x="189" y="1434"/>
                </a:lnTo>
                <a:lnTo>
                  <a:pt x="207" y="1394"/>
                </a:lnTo>
                <a:close/>
              </a:path>
            </a:pathLst>
          </a:custGeom>
          <a:blipFill rotWithShape="0">
            <a:blip r:embed="rId1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071960" y="7348680"/>
            <a:ext cx="149760" cy="628920"/>
          </a:xfrm>
          <a:custGeom>
            <a:avLst/>
            <a:gdLst/>
            <a:ahLst/>
            <a:rect l="0" t="0" r="r" b="b"/>
            <a:pathLst>
              <a:path w="416" h="1747">
                <a:moveTo>
                  <a:pt x="190" y="1526"/>
                </a:moveTo>
                <a:lnTo>
                  <a:pt x="155" y="1526"/>
                </a:lnTo>
                <a:lnTo>
                  <a:pt x="124" y="1478"/>
                </a:lnTo>
                <a:lnTo>
                  <a:pt x="124" y="1390"/>
                </a:lnTo>
                <a:lnTo>
                  <a:pt x="106" y="1301"/>
                </a:lnTo>
                <a:lnTo>
                  <a:pt x="70" y="1257"/>
                </a:lnTo>
                <a:lnTo>
                  <a:pt x="70" y="1169"/>
                </a:lnTo>
                <a:lnTo>
                  <a:pt x="70" y="1076"/>
                </a:lnTo>
                <a:lnTo>
                  <a:pt x="70" y="988"/>
                </a:lnTo>
                <a:lnTo>
                  <a:pt x="52" y="900"/>
                </a:lnTo>
                <a:lnTo>
                  <a:pt x="17" y="851"/>
                </a:lnTo>
                <a:lnTo>
                  <a:pt x="17" y="762"/>
                </a:lnTo>
                <a:lnTo>
                  <a:pt x="17" y="670"/>
                </a:lnTo>
                <a:lnTo>
                  <a:pt x="17" y="582"/>
                </a:lnTo>
                <a:lnTo>
                  <a:pt x="0" y="493"/>
                </a:lnTo>
                <a:lnTo>
                  <a:pt x="0" y="401"/>
                </a:lnTo>
                <a:lnTo>
                  <a:pt x="35" y="313"/>
                </a:lnTo>
                <a:lnTo>
                  <a:pt x="70" y="180"/>
                </a:lnTo>
                <a:lnTo>
                  <a:pt x="106" y="132"/>
                </a:lnTo>
                <a:lnTo>
                  <a:pt x="137" y="92"/>
                </a:lnTo>
                <a:lnTo>
                  <a:pt x="190" y="44"/>
                </a:lnTo>
                <a:lnTo>
                  <a:pt x="225" y="44"/>
                </a:lnTo>
                <a:lnTo>
                  <a:pt x="261" y="0"/>
                </a:lnTo>
                <a:lnTo>
                  <a:pt x="292" y="44"/>
                </a:lnTo>
                <a:lnTo>
                  <a:pt x="345" y="44"/>
                </a:lnTo>
                <a:lnTo>
                  <a:pt x="381" y="44"/>
                </a:lnTo>
                <a:lnTo>
                  <a:pt x="398" y="132"/>
                </a:lnTo>
                <a:lnTo>
                  <a:pt x="381" y="224"/>
                </a:lnTo>
                <a:lnTo>
                  <a:pt x="345" y="361"/>
                </a:lnTo>
                <a:lnTo>
                  <a:pt x="363" y="449"/>
                </a:lnTo>
                <a:lnTo>
                  <a:pt x="398" y="493"/>
                </a:lnTo>
                <a:lnTo>
                  <a:pt x="398" y="582"/>
                </a:lnTo>
                <a:lnTo>
                  <a:pt x="398" y="670"/>
                </a:lnTo>
                <a:lnTo>
                  <a:pt x="381" y="762"/>
                </a:lnTo>
                <a:lnTo>
                  <a:pt x="398" y="851"/>
                </a:lnTo>
                <a:lnTo>
                  <a:pt x="416" y="940"/>
                </a:lnTo>
                <a:lnTo>
                  <a:pt x="398" y="1032"/>
                </a:lnTo>
                <a:lnTo>
                  <a:pt x="398" y="1121"/>
                </a:lnTo>
                <a:lnTo>
                  <a:pt x="398" y="1209"/>
                </a:lnTo>
                <a:lnTo>
                  <a:pt x="398" y="1301"/>
                </a:lnTo>
                <a:lnTo>
                  <a:pt x="381" y="1390"/>
                </a:lnTo>
                <a:lnTo>
                  <a:pt x="363" y="1478"/>
                </a:lnTo>
                <a:lnTo>
                  <a:pt x="363" y="1570"/>
                </a:lnTo>
                <a:lnTo>
                  <a:pt x="345" y="1659"/>
                </a:lnTo>
                <a:lnTo>
                  <a:pt x="315" y="1703"/>
                </a:lnTo>
                <a:lnTo>
                  <a:pt x="278" y="1703"/>
                </a:lnTo>
                <a:lnTo>
                  <a:pt x="243" y="1747"/>
                </a:lnTo>
                <a:lnTo>
                  <a:pt x="208" y="1659"/>
                </a:lnTo>
                <a:lnTo>
                  <a:pt x="172" y="1659"/>
                </a:lnTo>
                <a:lnTo>
                  <a:pt x="172" y="1570"/>
                </a:lnTo>
                <a:lnTo>
                  <a:pt x="190" y="1526"/>
                </a:lnTo>
                <a:close/>
              </a:path>
            </a:pathLst>
          </a:custGeom>
          <a:blipFill rotWithShape="0">
            <a:blip r:embed="rId1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56000" y="7265880"/>
            <a:ext cx="181440" cy="743400"/>
          </a:xfrm>
          <a:custGeom>
            <a:avLst/>
            <a:gdLst/>
            <a:ahLst/>
            <a:rect l="0" t="0" r="r" b="b"/>
            <a:pathLst>
              <a:path w="504" h="2065">
                <a:moveTo>
                  <a:pt x="230" y="1801"/>
                </a:moveTo>
                <a:lnTo>
                  <a:pt x="190" y="1801"/>
                </a:lnTo>
                <a:lnTo>
                  <a:pt x="146" y="1748"/>
                </a:lnTo>
                <a:lnTo>
                  <a:pt x="146" y="1642"/>
                </a:lnTo>
                <a:lnTo>
                  <a:pt x="128" y="1539"/>
                </a:lnTo>
                <a:lnTo>
                  <a:pt x="83" y="1482"/>
                </a:lnTo>
                <a:lnTo>
                  <a:pt x="83" y="1381"/>
                </a:lnTo>
                <a:lnTo>
                  <a:pt x="83" y="1271"/>
                </a:lnTo>
                <a:lnTo>
                  <a:pt x="83" y="1165"/>
                </a:lnTo>
                <a:lnTo>
                  <a:pt x="61" y="1063"/>
                </a:lnTo>
                <a:lnTo>
                  <a:pt x="22" y="1006"/>
                </a:lnTo>
                <a:lnTo>
                  <a:pt x="22" y="904"/>
                </a:lnTo>
                <a:lnTo>
                  <a:pt x="22" y="794"/>
                </a:lnTo>
                <a:lnTo>
                  <a:pt x="22" y="688"/>
                </a:lnTo>
                <a:lnTo>
                  <a:pt x="0" y="587"/>
                </a:lnTo>
                <a:lnTo>
                  <a:pt x="0" y="476"/>
                </a:lnTo>
                <a:lnTo>
                  <a:pt x="39" y="370"/>
                </a:lnTo>
                <a:lnTo>
                  <a:pt x="83" y="211"/>
                </a:lnTo>
                <a:lnTo>
                  <a:pt x="128" y="158"/>
                </a:lnTo>
                <a:lnTo>
                  <a:pt x="168" y="110"/>
                </a:lnTo>
                <a:lnTo>
                  <a:pt x="230" y="52"/>
                </a:lnTo>
                <a:lnTo>
                  <a:pt x="274" y="52"/>
                </a:lnTo>
                <a:lnTo>
                  <a:pt x="314" y="0"/>
                </a:lnTo>
                <a:lnTo>
                  <a:pt x="358" y="52"/>
                </a:lnTo>
                <a:lnTo>
                  <a:pt x="420" y="52"/>
                </a:lnTo>
                <a:lnTo>
                  <a:pt x="465" y="52"/>
                </a:lnTo>
                <a:lnTo>
                  <a:pt x="482" y="158"/>
                </a:lnTo>
                <a:lnTo>
                  <a:pt x="465" y="268"/>
                </a:lnTo>
                <a:lnTo>
                  <a:pt x="420" y="427"/>
                </a:lnTo>
                <a:lnTo>
                  <a:pt x="442" y="530"/>
                </a:lnTo>
                <a:lnTo>
                  <a:pt x="482" y="587"/>
                </a:lnTo>
                <a:lnTo>
                  <a:pt x="482" y="688"/>
                </a:lnTo>
                <a:lnTo>
                  <a:pt x="482" y="794"/>
                </a:lnTo>
                <a:lnTo>
                  <a:pt x="465" y="904"/>
                </a:lnTo>
                <a:lnTo>
                  <a:pt x="482" y="1006"/>
                </a:lnTo>
                <a:lnTo>
                  <a:pt x="504" y="1112"/>
                </a:lnTo>
                <a:lnTo>
                  <a:pt x="482" y="1222"/>
                </a:lnTo>
                <a:lnTo>
                  <a:pt x="482" y="1323"/>
                </a:lnTo>
                <a:lnTo>
                  <a:pt x="482" y="1429"/>
                </a:lnTo>
                <a:lnTo>
                  <a:pt x="482" y="1539"/>
                </a:lnTo>
                <a:lnTo>
                  <a:pt x="465" y="1642"/>
                </a:lnTo>
                <a:lnTo>
                  <a:pt x="442" y="1748"/>
                </a:lnTo>
                <a:lnTo>
                  <a:pt x="442" y="1858"/>
                </a:lnTo>
                <a:lnTo>
                  <a:pt x="420" y="1959"/>
                </a:lnTo>
                <a:lnTo>
                  <a:pt x="381" y="2017"/>
                </a:lnTo>
                <a:lnTo>
                  <a:pt x="336" y="2017"/>
                </a:lnTo>
                <a:lnTo>
                  <a:pt x="292" y="2065"/>
                </a:lnTo>
                <a:lnTo>
                  <a:pt x="252" y="1959"/>
                </a:lnTo>
                <a:lnTo>
                  <a:pt x="212" y="1959"/>
                </a:lnTo>
                <a:lnTo>
                  <a:pt x="212" y="1858"/>
                </a:lnTo>
                <a:lnTo>
                  <a:pt x="230" y="1801"/>
                </a:lnTo>
                <a:close/>
              </a:path>
            </a:pathLst>
          </a:custGeom>
          <a:blipFill rotWithShape="0">
            <a:blip r:embed="rId1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62360" y="7162920"/>
            <a:ext cx="171720" cy="779760"/>
          </a:xfrm>
          <a:custGeom>
            <a:avLst/>
            <a:gdLst/>
            <a:ahLst/>
            <a:rect l="0" t="0" r="r" b="b"/>
            <a:pathLst>
              <a:path w="477" h="2166">
                <a:moveTo>
                  <a:pt x="216" y="1888"/>
                </a:moveTo>
                <a:lnTo>
                  <a:pt x="180" y="1888"/>
                </a:lnTo>
                <a:lnTo>
                  <a:pt x="141" y="1831"/>
                </a:lnTo>
                <a:lnTo>
                  <a:pt x="141" y="1725"/>
                </a:lnTo>
                <a:lnTo>
                  <a:pt x="119" y="1614"/>
                </a:lnTo>
                <a:lnTo>
                  <a:pt x="79" y="1557"/>
                </a:lnTo>
                <a:lnTo>
                  <a:pt x="79" y="1447"/>
                </a:lnTo>
                <a:lnTo>
                  <a:pt x="79" y="1332"/>
                </a:lnTo>
                <a:lnTo>
                  <a:pt x="79" y="1222"/>
                </a:lnTo>
                <a:lnTo>
                  <a:pt x="61" y="1116"/>
                </a:lnTo>
                <a:lnTo>
                  <a:pt x="22" y="1058"/>
                </a:lnTo>
                <a:lnTo>
                  <a:pt x="22" y="948"/>
                </a:lnTo>
                <a:lnTo>
                  <a:pt x="22" y="833"/>
                </a:lnTo>
                <a:lnTo>
                  <a:pt x="22" y="723"/>
                </a:lnTo>
                <a:lnTo>
                  <a:pt x="0" y="612"/>
                </a:lnTo>
                <a:lnTo>
                  <a:pt x="0" y="498"/>
                </a:lnTo>
                <a:lnTo>
                  <a:pt x="39" y="392"/>
                </a:lnTo>
                <a:lnTo>
                  <a:pt x="79" y="224"/>
                </a:lnTo>
                <a:lnTo>
                  <a:pt x="119" y="167"/>
                </a:lnTo>
                <a:lnTo>
                  <a:pt x="158" y="114"/>
                </a:lnTo>
                <a:lnTo>
                  <a:pt x="216" y="57"/>
                </a:lnTo>
                <a:lnTo>
                  <a:pt x="261" y="57"/>
                </a:lnTo>
                <a:lnTo>
                  <a:pt x="300" y="0"/>
                </a:lnTo>
                <a:lnTo>
                  <a:pt x="336" y="57"/>
                </a:lnTo>
                <a:lnTo>
                  <a:pt x="397" y="57"/>
                </a:lnTo>
                <a:lnTo>
                  <a:pt x="437" y="57"/>
                </a:lnTo>
                <a:lnTo>
                  <a:pt x="455" y="167"/>
                </a:lnTo>
                <a:lnTo>
                  <a:pt x="437" y="282"/>
                </a:lnTo>
                <a:lnTo>
                  <a:pt x="397" y="449"/>
                </a:lnTo>
                <a:lnTo>
                  <a:pt x="419" y="555"/>
                </a:lnTo>
                <a:lnTo>
                  <a:pt x="455" y="612"/>
                </a:lnTo>
                <a:lnTo>
                  <a:pt x="455" y="723"/>
                </a:lnTo>
                <a:lnTo>
                  <a:pt x="455" y="833"/>
                </a:lnTo>
                <a:lnTo>
                  <a:pt x="437" y="948"/>
                </a:lnTo>
                <a:lnTo>
                  <a:pt x="455" y="1058"/>
                </a:lnTo>
                <a:lnTo>
                  <a:pt x="477" y="1165"/>
                </a:lnTo>
                <a:lnTo>
                  <a:pt x="455" y="1279"/>
                </a:lnTo>
                <a:lnTo>
                  <a:pt x="455" y="1390"/>
                </a:lnTo>
                <a:lnTo>
                  <a:pt x="455" y="1500"/>
                </a:lnTo>
                <a:lnTo>
                  <a:pt x="455" y="1614"/>
                </a:lnTo>
                <a:lnTo>
                  <a:pt x="437" y="1725"/>
                </a:lnTo>
                <a:lnTo>
                  <a:pt x="419" y="1831"/>
                </a:lnTo>
                <a:lnTo>
                  <a:pt x="419" y="1945"/>
                </a:lnTo>
                <a:lnTo>
                  <a:pt x="397" y="2055"/>
                </a:lnTo>
                <a:lnTo>
                  <a:pt x="358" y="2113"/>
                </a:lnTo>
                <a:lnTo>
                  <a:pt x="318" y="2113"/>
                </a:lnTo>
                <a:lnTo>
                  <a:pt x="278" y="2166"/>
                </a:lnTo>
                <a:lnTo>
                  <a:pt x="239" y="2055"/>
                </a:lnTo>
                <a:lnTo>
                  <a:pt x="198" y="2055"/>
                </a:lnTo>
                <a:lnTo>
                  <a:pt x="198" y="1945"/>
                </a:lnTo>
                <a:lnTo>
                  <a:pt x="216" y="1888"/>
                </a:lnTo>
                <a:close/>
              </a:path>
            </a:pathLst>
          </a:custGeom>
          <a:blipFill rotWithShape="0">
            <a:blip r:embed="rId1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22520" y="7297560"/>
            <a:ext cx="254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223920" y="2319480"/>
            <a:ext cx="6313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WO COLOR IMMUNO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4680" y="3286080"/>
            <a:ext cx="677232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1. Ig Block +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FL-second antibody F(ab’)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Ig Block + PE-MAB</a:t>
            </a:r>
            <a:r>
              <a:rPr b="1" lang="en-US" sz="20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2. Ig Block + B-MAB + FL -MAB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PE-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3. Ig Block + FL-MAB + PE-MAB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25520" y="2879640"/>
            <a:ext cx="5965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ONE COLOR IMMUNOPHEN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76280" y="3349800"/>
            <a:ext cx="5935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Antibodies Labeled with Fluores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71600" y="5108400"/>
            <a:ext cx="973080" cy="118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17600" y="5108400"/>
            <a:ext cx="973080" cy="118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022640" y="5119560"/>
            <a:ext cx="974880" cy="118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541840" y="5132520"/>
            <a:ext cx="974880" cy="1181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450800" y="3510000"/>
            <a:ext cx="32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3330720"/>
            <a:ext cx="263520" cy="29520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330720"/>
            <a:ext cx="276480" cy="308160"/>
          </a:xfrm>
          <a:custGeom>
            <a:avLst/>
            <a:gdLst/>
            <a:ahLst/>
            <a:rect l="0" t="0" r="r" b="b"/>
            <a:pathLst>
              <a:path fill="none" w="768" h="856">
                <a:moveTo>
                  <a:pt x="0" y="0"/>
                </a:moveTo>
                <a:lnTo>
                  <a:pt x="768" y="0"/>
                </a:lnTo>
                <a:lnTo>
                  <a:pt x="768" y="856"/>
                </a:lnTo>
                <a:lnTo>
                  <a:pt x="0" y="856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08640" y="663588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57800" y="6313320"/>
            <a:ext cx="263520" cy="29520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7800" y="6313320"/>
            <a:ext cx="276480" cy="308160"/>
          </a:xfrm>
          <a:custGeom>
            <a:avLst/>
            <a:gdLst/>
            <a:ahLst/>
            <a:rect l="0" t="0" r="r" b="b"/>
            <a:pathLst>
              <a:path fill="none" w="768" h="856">
                <a:moveTo>
                  <a:pt x="0" y="0"/>
                </a:moveTo>
                <a:lnTo>
                  <a:pt x="768" y="0"/>
                </a:lnTo>
                <a:lnTo>
                  <a:pt x="768" y="856"/>
                </a:lnTo>
                <a:lnTo>
                  <a:pt x="0" y="856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47880" y="6635880"/>
            <a:ext cx="0" cy="338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97040" y="6302520"/>
            <a:ext cx="263520" cy="293760"/>
          </a:xfrm>
          <a:prstGeom prst="rect">
            <a:avLst/>
          </a:prstGeom>
          <a:solidFill>
            <a:srgbClr val="fdfa1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97040" y="6302520"/>
            <a:ext cx="276480" cy="306720"/>
          </a:xfrm>
          <a:custGeom>
            <a:avLst/>
            <a:gdLst/>
            <a:ahLst/>
            <a:rect l="0" t="0" r="r" b="b"/>
            <a:pathLst>
              <a:path fill="none" w="768" h="852">
                <a:moveTo>
                  <a:pt x="0" y="0"/>
                </a:moveTo>
                <a:lnTo>
                  <a:pt x="768" y="0"/>
                </a:lnTo>
                <a:lnTo>
                  <a:pt x="768" y="852"/>
                </a:lnTo>
                <a:lnTo>
                  <a:pt x="0" y="85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94080" y="4280040"/>
            <a:ext cx="32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73320" y="4137120"/>
            <a:ext cx="263520" cy="29520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73320" y="4137120"/>
            <a:ext cx="276480" cy="308160"/>
          </a:xfrm>
          <a:custGeom>
            <a:avLst/>
            <a:gdLst/>
            <a:ahLst/>
            <a:rect l="0" t="0" r="r" b="b"/>
            <a:pathLst>
              <a:path fill="none" w="768" h="856">
                <a:moveTo>
                  <a:pt x="0" y="0"/>
                </a:moveTo>
                <a:lnTo>
                  <a:pt x="768" y="0"/>
                </a:lnTo>
                <a:lnTo>
                  <a:pt x="768" y="856"/>
                </a:lnTo>
                <a:lnTo>
                  <a:pt x="0" y="856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68320" y="5676840"/>
            <a:ext cx="32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57280" y="5521320"/>
            <a:ext cx="263520" cy="29520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57280" y="5521320"/>
            <a:ext cx="276480" cy="308160"/>
          </a:xfrm>
          <a:custGeom>
            <a:avLst/>
            <a:gdLst/>
            <a:ahLst/>
            <a:rect l="0" t="0" r="r" b="b"/>
            <a:pathLst>
              <a:path fill="none" w="768" h="856">
                <a:moveTo>
                  <a:pt x="0" y="0"/>
                </a:moveTo>
                <a:lnTo>
                  <a:pt x="768" y="0"/>
                </a:lnTo>
                <a:lnTo>
                  <a:pt x="768" y="856"/>
                </a:lnTo>
                <a:lnTo>
                  <a:pt x="0" y="856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05320" y="5711760"/>
            <a:ext cx="32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3920" y="555768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93920" y="5557680"/>
            <a:ext cx="276480" cy="306720"/>
          </a:xfrm>
          <a:custGeom>
            <a:avLst/>
            <a:gdLst/>
            <a:ahLst/>
            <a:rect l="0" t="0" r="r" b="b"/>
            <a:pathLst>
              <a:path fill="none" w="768" h="852">
                <a:moveTo>
                  <a:pt x="0" y="0"/>
                </a:moveTo>
                <a:lnTo>
                  <a:pt x="768" y="0"/>
                </a:lnTo>
                <a:lnTo>
                  <a:pt x="768" y="852"/>
                </a:lnTo>
                <a:lnTo>
                  <a:pt x="0" y="85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935600" y="677556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673520" y="664524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73520" y="6645240"/>
            <a:ext cx="276480" cy="306720"/>
          </a:xfrm>
          <a:custGeom>
            <a:avLst/>
            <a:gdLst/>
            <a:ahLst/>
            <a:rect l="0" t="0" r="r" b="b"/>
            <a:pathLst>
              <a:path fill="none" w="768" h="852">
                <a:moveTo>
                  <a:pt x="0" y="0"/>
                </a:moveTo>
                <a:lnTo>
                  <a:pt x="768" y="0"/>
                </a:lnTo>
                <a:lnTo>
                  <a:pt x="768" y="852"/>
                </a:lnTo>
                <a:lnTo>
                  <a:pt x="0" y="85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03280" y="6834240"/>
            <a:ext cx="32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122480" y="6692760"/>
            <a:ext cx="263520" cy="293760"/>
          </a:xfrm>
          <a:prstGeom prst="rect">
            <a:avLst/>
          </a:pr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122480" y="6692760"/>
            <a:ext cx="276480" cy="306720"/>
          </a:xfrm>
          <a:custGeom>
            <a:avLst/>
            <a:gdLst/>
            <a:ahLst/>
            <a:rect l="0" t="0" r="r" b="b"/>
            <a:pathLst>
              <a:path fill="none" w="768" h="852">
                <a:moveTo>
                  <a:pt x="0" y="0"/>
                </a:moveTo>
                <a:lnTo>
                  <a:pt x="768" y="0"/>
                </a:lnTo>
                <a:lnTo>
                  <a:pt x="768" y="852"/>
                </a:lnTo>
                <a:lnTo>
                  <a:pt x="0" y="85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48200" y="3252960"/>
            <a:ext cx="154080" cy="18720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5800" y="6703920"/>
            <a:ext cx="174600" cy="20016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25920" y="6680160"/>
            <a:ext cx="155520" cy="189000"/>
          </a:xfrm>
          <a:prstGeom prst="ellipse">
            <a:avLst/>
          </a:prstGeom>
          <a:solidFill>
            <a:srgbClr val="59e1c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025640" y="874800"/>
            <a:ext cx="519264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BINED INDIRECT AND DIR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36720" y="1158840"/>
            <a:ext cx="52992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MMUNOFLUORESCENCE ST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2346480" y="2098800"/>
            <a:ext cx="22701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NO </a:t>
            </a:r>
            <a:r>
              <a:rPr b="1" lang="en-US" sz="22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BLO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1920" y="2825640"/>
            <a:ext cx="33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rimary Antibody: mMA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565440" y="2827440"/>
            <a:ext cx="32209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Second Antibody: FG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739960" y="3741840"/>
            <a:ext cx="1415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E-mMA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469800" y="2806560"/>
            <a:ext cx="2976480" cy="2739960"/>
            <a:chOff x="469800" y="2806560"/>
            <a:chExt cx="2976480" cy="2739960"/>
          </a:xfrm>
        </p:grpSpPr>
        <p:grpSp>
          <p:nvGrpSpPr>
            <p:cNvPr id="765" name=""/>
            <p:cNvGrpSpPr/>
            <p:nvPr/>
          </p:nvGrpSpPr>
          <p:grpSpPr>
            <a:xfrm>
              <a:off x="469800" y="2806560"/>
              <a:ext cx="424080" cy="2739960"/>
              <a:chOff x="469800" y="2806560"/>
              <a:chExt cx="424080" cy="273996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469800" y="2806560"/>
                <a:ext cx="424080" cy="2648160"/>
                <a:chOff x="469800" y="2806560"/>
                <a:chExt cx="424080" cy="264816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469800" y="3314880"/>
                  <a:ext cx="422280" cy="298080"/>
                  <a:chOff x="469800" y="3314880"/>
                  <a:chExt cx="422280" cy="298080"/>
                </a:xfrm>
              </p:grpSpPr>
              <p:sp>
                <p:nvSpPr>
                  <p:cNvPr id="768" name=""/>
                  <p:cNvSpPr txBox="1"/>
                  <p:nvPr/>
                </p:nvSpPr>
                <p:spPr>
                  <a:xfrm>
                    <a:off x="469800" y="337176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 txBox="1"/>
                  <p:nvPr/>
                </p:nvSpPr>
                <p:spPr>
                  <a:xfrm>
                    <a:off x="639720" y="331488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0" name=""/>
                <p:cNvSpPr/>
                <p:nvPr/>
              </p:nvSpPr>
              <p:spPr>
                <a:xfrm flipH="1">
                  <a:off x="806400" y="291132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492120" y="2806560"/>
                  <a:ext cx="396720" cy="303120"/>
                  <a:chOff x="492120" y="2806560"/>
                  <a:chExt cx="396720" cy="303120"/>
                </a:xfrm>
              </p:grpSpPr>
              <p:sp>
                <p:nvSpPr>
                  <p:cNvPr id="772" name=""/>
                  <p:cNvSpPr txBox="1"/>
                  <p:nvPr/>
                </p:nvSpPr>
                <p:spPr>
                  <a:xfrm>
                    <a:off x="492120" y="286848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 txBox="1"/>
                  <p:nvPr/>
                </p:nvSpPr>
                <p:spPr>
                  <a:xfrm>
                    <a:off x="644400" y="2806560"/>
                    <a:ext cx="244440" cy="21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501480" y="4518000"/>
                  <a:ext cx="389160" cy="326880"/>
                  <a:chOff x="501480" y="4518000"/>
                  <a:chExt cx="389160" cy="326880"/>
                </a:xfrm>
              </p:grpSpPr>
              <p:sp>
                <p:nvSpPr>
                  <p:cNvPr id="775" name=""/>
                  <p:cNvSpPr txBox="1"/>
                  <p:nvPr/>
                </p:nvSpPr>
                <p:spPr>
                  <a:xfrm>
                    <a:off x="501480" y="460368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 txBox="1"/>
                  <p:nvPr/>
                </p:nvSpPr>
                <p:spPr>
                  <a:xfrm>
                    <a:off x="638280" y="45180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504720" y="3884760"/>
                  <a:ext cx="389160" cy="331560"/>
                  <a:chOff x="504720" y="3884760"/>
                  <a:chExt cx="389160" cy="331560"/>
                </a:xfrm>
              </p:grpSpPr>
              <p:sp>
                <p:nvSpPr>
                  <p:cNvPr id="778" name=""/>
                  <p:cNvSpPr txBox="1"/>
                  <p:nvPr/>
                </p:nvSpPr>
                <p:spPr>
                  <a:xfrm>
                    <a:off x="504720" y="397512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 txBox="1"/>
                  <p:nvPr/>
                </p:nvSpPr>
                <p:spPr>
                  <a:xfrm>
                    <a:off x="641520" y="388476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0" name=""/>
                <p:cNvSpPr txBox="1"/>
                <p:nvPr/>
              </p:nvSpPr>
              <p:spPr>
                <a:xfrm>
                  <a:off x="619200" y="522936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801720" y="5326200"/>
                  <a:ext cx="8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812880" y="401004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806400" y="463248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806400" y="342576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"/>
              <p:cNvSpPr txBox="1"/>
              <p:nvPr/>
            </p:nvSpPr>
            <p:spPr>
              <a:xfrm>
                <a:off x="490680" y="53053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888840" y="2905200"/>
              <a:ext cx="2557440" cy="242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 txBox="1"/>
          <p:nvPr/>
        </p:nvSpPr>
        <p:spPr>
          <a:xfrm>
            <a:off x="1387440" y="5684760"/>
            <a:ext cx="1376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795240" y="3879720"/>
            <a:ext cx="2185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 + FG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955880" y="2946240"/>
            <a:ext cx="1455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N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492280" y="54658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654280" y="536112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125880" y="54640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276720" y="5367240"/>
            <a:ext cx="2444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176480" y="54658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305000" y="535788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33480" y="54658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00160" y="536580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598320" y="546264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57080" y="535788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35480" y="531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74880" y="5329080"/>
            <a:ext cx="0" cy="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127240" y="532908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441440" y="5335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95320" y="53420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14400" y="3962520"/>
            <a:ext cx="101880" cy="1346400"/>
          </a:xfrm>
          <a:custGeom>
            <a:avLst/>
            <a:gdLst/>
            <a:ahLst/>
            <a:rect l="0" t="0" r="r" b="b"/>
            <a:pathLst>
              <a:path w="283" h="3740">
                <a:moveTo>
                  <a:pt x="0" y="0"/>
                </a:moveTo>
                <a:lnTo>
                  <a:pt x="0" y="70"/>
                </a:lnTo>
                <a:lnTo>
                  <a:pt x="0" y="141"/>
                </a:lnTo>
                <a:lnTo>
                  <a:pt x="0" y="211"/>
                </a:lnTo>
                <a:lnTo>
                  <a:pt x="0" y="282"/>
                </a:lnTo>
                <a:lnTo>
                  <a:pt x="0" y="352"/>
                </a:lnTo>
                <a:lnTo>
                  <a:pt x="0" y="423"/>
                </a:lnTo>
                <a:lnTo>
                  <a:pt x="92" y="493"/>
                </a:lnTo>
                <a:lnTo>
                  <a:pt x="92" y="564"/>
                </a:lnTo>
                <a:lnTo>
                  <a:pt x="0" y="635"/>
                </a:lnTo>
                <a:lnTo>
                  <a:pt x="0" y="705"/>
                </a:lnTo>
                <a:lnTo>
                  <a:pt x="92" y="776"/>
                </a:lnTo>
                <a:lnTo>
                  <a:pt x="92" y="846"/>
                </a:lnTo>
                <a:lnTo>
                  <a:pt x="190" y="917"/>
                </a:lnTo>
                <a:lnTo>
                  <a:pt x="190" y="1023"/>
                </a:lnTo>
                <a:lnTo>
                  <a:pt x="190" y="1093"/>
                </a:lnTo>
                <a:lnTo>
                  <a:pt x="190" y="1164"/>
                </a:lnTo>
                <a:lnTo>
                  <a:pt x="283" y="1234"/>
                </a:lnTo>
                <a:lnTo>
                  <a:pt x="283" y="1305"/>
                </a:lnTo>
                <a:lnTo>
                  <a:pt x="283" y="1375"/>
                </a:lnTo>
                <a:lnTo>
                  <a:pt x="283" y="1446"/>
                </a:lnTo>
                <a:lnTo>
                  <a:pt x="190" y="1516"/>
                </a:lnTo>
                <a:lnTo>
                  <a:pt x="190" y="1587"/>
                </a:lnTo>
                <a:lnTo>
                  <a:pt x="190" y="1658"/>
                </a:lnTo>
                <a:lnTo>
                  <a:pt x="92" y="1728"/>
                </a:lnTo>
                <a:lnTo>
                  <a:pt x="92" y="1799"/>
                </a:lnTo>
                <a:lnTo>
                  <a:pt x="92" y="1869"/>
                </a:lnTo>
                <a:lnTo>
                  <a:pt x="92" y="1976"/>
                </a:lnTo>
                <a:lnTo>
                  <a:pt x="92" y="2047"/>
                </a:lnTo>
                <a:lnTo>
                  <a:pt x="92" y="2117"/>
                </a:lnTo>
                <a:lnTo>
                  <a:pt x="190" y="2188"/>
                </a:lnTo>
                <a:lnTo>
                  <a:pt x="190" y="2258"/>
                </a:lnTo>
                <a:lnTo>
                  <a:pt x="190" y="2329"/>
                </a:lnTo>
                <a:lnTo>
                  <a:pt x="190" y="2399"/>
                </a:lnTo>
                <a:lnTo>
                  <a:pt x="190" y="2470"/>
                </a:lnTo>
                <a:lnTo>
                  <a:pt x="190" y="2541"/>
                </a:lnTo>
                <a:lnTo>
                  <a:pt x="92" y="2611"/>
                </a:lnTo>
                <a:lnTo>
                  <a:pt x="92" y="2682"/>
                </a:lnTo>
                <a:lnTo>
                  <a:pt x="92" y="2752"/>
                </a:lnTo>
                <a:lnTo>
                  <a:pt x="92" y="2823"/>
                </a:lnTo>
                <a:lnTo>
                  <a:pt x="0" y="2893"/>
                </a:lnTo>
                <a:lnTo>
                  <a:pt x="92" y="2964"/>
                </a:lnTo>
                <a:lnTo>
                  <a:pt x="190" y="3034"/>
                </a:lnTo>
                <a:lnTo>
                  <a:pt x="190" y="3105"/>
                </a:lnTo>
                <a:lnTo>
                  <a:pt x="283" y="3176"/>
                </a:lnTo>
                <a:lnTo>
                  <a:pt x="283" y="3246"/>
                </a:lnTo>
                <a:lnTo>
                  <a:pt x="283" y="3317"/>
                </a:lnTo>
                <a:lnTo>
                  <a:pt x="283" y="3387"/>
                </a:lnTo>
                <a:lnTo>
                  <a:pt x="190" y="3458"/>
                </a:lnTo>
                <a:lnTo>
                  <a:pt x="190" y="3528"/>
                </a:lnTo>
                <a:lnTo>
                  <a:pt x="190" y="3599"/>
                </a:lnTo>
                <a:lnTo>
                  <a:pt x="92" y="3669"/>
                </a:lnTo>
                <a:lnTo>
                  <a:pt x="0" y="37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92240" y="5207040"/>
            <a:ext cx="1587960" cy="101880"/>
          </a:xfrm>
          <a:custGeom>
            <a:avLst/>
            <a:gdLst/>
            <a:ahLst/>
            <a:rect l="0" t="0" r="r" b="b"/>
            <a:pathLst>
              <a:path w="4411" h="283">
                <a:moveTo>
                  <a:pt x="0" y="199"/>
                </a:moveTo>
                <a:lnTo>
                  <a:pt x="74" y="168"/>
                </a:lnTo>
                <a:lnTo>
                  <a:pt x="185" y="83"/>
                </a:lnTo>
                <a:lnTo>
                  <a:pt x="255" y="57"/>
                </a:lnTo>
                <a:lnTo>
                  <a:pt x="366" y="57"/>
                </a:lnTo>
                <a:lnTo>
                  <a:pt x="440" y="83"/>
                </a:lnTo>
                <a:lnTo>
                  <a:pt x="515" y="57"/>
                </a:lnTo>
                <a:lnTo>
                  <a:pt x="626" y="26"/>
                </a:lnTo>
                <a:lnTo>
                  <a:pt x="696" y="26"/>
                </a:lnTo>
                <a:lnTo>
                  <a:pt x="771" y="26"/>
                </a:lnTo>
                <a:lnTo>
                  <a:pt x="846" y="57"/>
                </a:lnTo>
                <a:lnTo>
                  <a:pt x="917" y="57"/>
                </a:lnTo>
                <a:lnTo>
                  <a:pt x="992" y="83"/>
                </a:lnTo>
                <a:lnTo>
                  <a:pt x="1067" y="57"/>
                </a:lnTo>
                <a:lnTo>
                  <a:pt x="1138" y="57"/>
                </a:lnTo>
                <a:lnTo>
                  <a:pt x="1213" y="83"/>
                </a:lnTo>
                <a:lnTo>
                  <a:pt x="1288" y="83"/>
                </a:lnTo>
                <a:lnTo>
                  <a:pt x="1359" y="57"/>
                </a:lnTo>
                <a:lnTo>
                  <a:pt x="1434" y="57"/>
                </a:lnTo>
                <a:lnTo>
                  <a:pt x="1509" y="57"/>
                </a:lnTo>
                <a:lnTo>
                  <a:pt x="1579" y="83"/>
                </a:lnTo>
                <a:lnTo>
                  <a:pt x="1689" y="83"/>
                </a:lnTo>
                <a:lnTo>
                  <a:pt x="1764" y="114"/>
                </a:lnTo>
                <a:lnTo>
                  <a:pt x="1875" y="114"/>
                </a:lnTo>
                <a:lnTo>
                  <a:pt x="1985" y="83"/>
                </a:lnTo>
                <a:lnTo>
                  <a:pt x="2060" y="57"/>
                </a:lnTo>
                <a:lnTo>
                  <a:pt x="2130" y="57"/>
                </a:lnTo>
                <a:lnTo>
                  <a:pt x="2280" y="57"/>
                </a:lnTo>
                <a:lnTo>
                  <a:pt x="2351" y="57"/>
                </a:lnTo>
                <a:lnTo>
                  <a:pt x="2426" y="57"/>
                </a:lnTo>
                <a:lnTo>
                  <a:pt x="2536" y="83"/>
                </a:lnTo>
                <a:lnTo>
                  <a:pt x="2611" y="83"/>
                </a:lnTo>
                <a:lnTo>
                  <a:pt x="2682" y="83"/>
                </a:lnTo>
                <a:lnTo>
                  <a:pt x="2757" y="83"/>
                </a:lnTo>
                <a:lnTo>
                  <a:pt x="2867" y="57"/>
                </a:lnTo>
                <a:lnTo>
                  <a:pt x="2977" y="26"/>
                </a:lnTo>
                <a:lnTo>
                  <a:pt x="3087" y="0"/>
                </a:lnTo>
                <a:lnTo>
                  <a:pt x="3162" y="0"/>
                </a:lnTo>
                <a:lnTo>
                  <a:pt x="3233" y="26"/>
                </a:lnTo>
                <a:lnTo>
                  <a:pt x="3309" y="26"/>
                </a:lnTo>
                <a:lnTo>
                  <a:pt x="3384" y="57"/>
                </a:lnTo>
                <a:lnTo>
                  <a:pt x="3454" y="83"/>
                </a:lnTo>
                <a:lnTo>
                  <a:pt x="3565" y="114"/>
                </a:lnTo>
                <a:lnTo>
                  <a:pt x="3750" y="114"/>
                </a:lnTo>
                <a:lnTo>
                  <a:pt x="3825" y="142"/>
                </a:lnTo>
                <a:lnTo>
                  <a:pt x="3895" y="168"/>
                </a:lnTo>
                <a:lnTo>
                  <a:pt x="3970" y="199"/>
                </a:lnTo>
                <a:lnTo>
                  <a:pt x="4116" y="199"/>
                </a:lnTo>
                <a:lnTo>
                  <a:pt x="4191" y="199"/>
                </a:lnTo>
                <a:lnTo>
                  <a:pt x="4266" y="256"/>
                </a:lnTo>
                <a:lnTo>
                  <a:pt x="4336" y="283"/>
                </a:lnTo>
                <a:lnTo>
                  <a:pt x="4411" y="283"/>
                </a:lnTo>
                <a:lnTo>
                  <a:pt x="0" y="199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17440" y="3771720"/>
            <a:ext cx="1295640" cy="597240"/>
          </a:xfrm>
          <a:custGeom>
            <a:avLst/>
            <a:gdLst/>
            <a:ahLst/>
            <a:rect l="0" t="0" r="r" b="b"/>
            <a:pathLst>
              <a:path w="3599" h="1659">
                <a:moveTo>
                  <a:pt x="211" y="1412"/>
                </a:moveTo>
                <a:lnTo>
                  <a:pt x="282" y="1412"/>
                </a:lnTo>
                <a:lnTo>
                  <a:pt x="352" y="1412"/>
                </a:lnTo>
                <a:lnTo>
                  <a:pt x="423" y="1376"/>
                </a:lnTo>
                <a:lnTo>
                  <a:pt x="493" y="1376"/>
                </a:lnTo>
                <a:lnTo>
                  <a:pt x="564" y="1376"/>
                </a:lnTo>
                <a:lnTo>
                  <a:pt x="635" y="1271"/>
                </a:lnTo>
                <a:lnTo>
                  <a:pt x="705" y="1235"/>
                </a:lnTo>
                <a:lnTo>
                  <a:pt x="776" y="1235"/>
                </a:lnTo>
                <a:lnTo>
                  <a:pt x="881" y="1271"/>
                </a:lnTo>
                <a:lnTo>
                  <a:pt x="952" y="1235"/>
                </a:lnTo>
                <a:lnTo>
                  <a:pt x="1023" y="1235"/>
                </a:lnTo>
                <a:lnTo>
                  <a:pt x="1128" y="1200"/>
                </a:lnTo>
                <a:lnTo>
                  <a:pt x="1199" y="1200"/>
                </a:lnTo>
                <a:lnTo>
                  <a:pt x="1270" y="1165"/>
                </a:lnTo>
                <a:lnTo>
                  <a:pt x="1340" y="1129"/>
                </a:lnTo>
                <a:lnTo>
                  <a:pt x="1411" y="1094"/>
                </a:lnTo>
                <a:lnTo>
                  <a:pt x="1481" y="1059"/>
                </a:lnTo>
                <a:lnTo>
                  <a:pt x="1552" y="1024"/>
                </a:lnTo>
                <a:lnTo>
                  <a:pt x="1622" y="1024"/>
                </a:lnTo>
                <a:lnTo>
                  <a:pt x="1693" y="1024"/>
                </a:lnTo>
                <a:lnTo>
                  <a:pt x="1763" y="988"/>
                </a:lnTo>
                <a:lnTo>
                  <a:pt x="1835" y="988"/>
                </a:lnTo>
                <a:lnTo>
                  <a:pt x="1906" y="918"/>
                </a:lnTo>
                <a:lnTo>
                  <a:pt x="1976" y="882"/>
                </a:lnTo>
                <a:lnTo>
                  <a:pt x="2011" y="811"/>
                </a:lnTo>
                <a:lnTo>
                  <a:pt x="2082" y="776"/>
                </a:lnTo>
                <a:lnTo>
                  <a:pt x="2117" y="705"/>
                </a:lnTo>
                <a:lnTo>
                  <a:pt x="2188" y="670"/>
                </a:lnTo>
                <a:lnTo>
                  <a:pt x="2223" y="599"/>
                </a:lnTo>
                <a:lnTo>
                  <a:pt x="2294" y="529"/>
                </a:lnTo>
                <a:lnTo>
                  <a:pt x="2329" y="458"/>
                </a:lnTo>
                <a:lnTo>
                  <a:pt x="2399" y="423"/>
                </a:lnTo>
                <a:lnTo>
                  <a:pt x="2435" y="352"/>
                </a:lnTo>
                <a:lnTo>
                  <a:pt x="2470" y="282"/>
                </a:lnTo>
                <a:lnTo>
                  <a:pt x="2541" y="246"/>
                </a:lnTo>
                <a:lnTo>
                  <a:pt x="2611" y="176"/>
                </a:lnTo>
                <a:lnTo>
                  <a:pt x="2682" y="141"/>
                </a:lnTo>
                <a:lnTo>
                  <a:pt x="2752" y="105"/>
                </a:lnTo>
                <a:lnTo>
                  <a:pt x="2823" y="70"/>
                </a:lnTo>
                <a:lnTo>
                  <a:pt x="2893" y="35"/>
                </a:lnTo>
                <a:lnTo>
                  <a:pt x="2964" y="0"/>
                </a:lnTo>
                <a:lnTo>
                  <a:pt x="3034" y="0"/>
                </a:lnTo>
                <a:lnTo>
                  <a:pt x="3105" y="0"/>
                </a:lnTo>
                <a:lnTo>
                  <a:pt x="3176" y="0"/>
                </a:lnTo>
                <a:lnTo>
                  <a:pt x="3246" y="35"/>
                </a:lnTo>
                <a:lnTo>
                  <a:pt x="3317" y="35"/>
                </a:lnTo>
                <a:lnTo>
                  <a:pt x="3387" y="35"/>
                </a:lnTo>
                <a:lnTo>
                  <a:pt x="3422" y="105"/>
                </a:lnTo>
                <a:lnTo>
                  <a:pt x="3493" y="176"/>
                </a:lnTo>
                <a:lnTo>
                  <a:pt x="3564" y="246"/>
                </a:lnTo>
                <a:lnTo>
                  <a:pt x="3599" y="317"/>
                </a:lnTo>
                <a:lnTo>
                  <a:pt x="3599" y="388"/>
                </a:lnTo>
                <a:lnTo>
                  <a:pt x="3564" y="458"/>
                </a:lnTo>
                <a:lnTo>
                  <a:pt x="3564" y="529"/>
                </a:lnTo>
                <a:lnTo>
                  <a:pt x="3528" y="599"/>
                </a:lnTo>
                <a:lnTo>
                  <a:pt x="3528" y="670"/>
                </a:lnTo>
                <a:lnTo>
                  <a:pt x="3564" y="776"/>
                </a:lnTo>
                <a:lnTo>
                  <a:pt x="3564" y="847"/>
                </a:lnTo>
                <a:lnTo>
                  <a:pt x="3528" y="953"/>
                </a:lnTo>
                <a:lnTo>
                  <a:pt x="3528" y="1024"/>
                </a:lnTo>
                <a:lnTo>
                  <a:pt x="3493" y="1094"/>
                </a:lnTo>
                <a:lnTo>
                  <a:pt x="3493" y="1165"/>
                </a:lnTo>
                <a:lnTo>
                  <a:pt x="3528" y="1235"/>
                </a:lnTo>
                <a:lnTo>
                  <a:pt x="3493" y="1306"/>
                </a:lnTo>
                <a:lnTo>
                  <a:pt x="3458" y="1376"/>
                </a:lnTo>
                <a:lnTo>
                  <a:pt x="3387" y="1412"/>
                </a:lnTo>
                <a:lnTo>
                  <a:pt x="3387" y="1482"/>
                </a:lnTo>
                <a:lnTo>
                  <a:pt x="3352" y="1553"/>
                </a:lnTo>
                <a:lnTo>
                  <a:pt x="3317" y="1623"/>
                </a:lnTo>
                <a:lnTo>
                  <a:pt x="3246" y="1659"/>
                </a:lnTo>
                <a:lnTo>
                  <a:pt x="3176" y="1659"/>
                </a:lnTo>
                <a:lnTo>
                  <a:pt x="3105" y="1623"/>
                </a:lnTo>
                <a:lnTo>
                  <a:pt x="3034" y="1588"/>
                </a:lnTo>
                <a:lnTo>
                  <a:pt x="2964" y="1588"/>
                </a:lnTo>
                <a:lnTo>
                  <a:pt x="2893" y="1588"/>
                </a:lnTo>
                <a:lnTo>
                  <a:pt x="2823" y="1517"/>
                </a:lnTo>
                <a:lnTo>
                  <a:pt x="2752" y="1517"/>
                </a:lnTo>
                <a:lnTo>
                  <a:pt x="2682" y="1517"/>
                </a:lnTo>
                <a:lnTo>
                  <a:pt x="2611" y="1517"/>
                </a:lnTo>
                <a:lnTo>
                  <a:pt x="2541" y="1517"/>
                </a:lnTo>
                <a:lnTo>
                  <a:pt x="2470" y="1517"/>
                </a:lnTo>
                <a:lnTo>
                  <a:pt x="2399" y="1517"/>
                </a:lnTo>
                <a:lnTo>
                  <a:pt x="2329" y="1517"/>
                </a:lnTo>
                <a:lnTo>
                  <a:pt x="2258" y="1588"/>
                </a:lnTo>
                <a:lnTo>
                  <a:pt x="2188" y="1588"/>
                </a:lnTo>
                <a:lnTo>
                  <a:pt x="2117" y="1623"/>
                </a:lnTo>
                <a:lnTo>
                  <a:pt x="2047" y="1623"/>
                </a:lnTo>
                <a:lnTo>
                  <a:pt x="1976" y="1588"/>
                </a:lnTo>
                <a:lnTo>
                  <a:pt x="1906" y="1553"/>
                </a:lnTo>
                <a:lnTo>
                  <a:pt x="1800" y="1482"/>
                </a:lnTo>
                <a:lnTo>
                  <a:pt x="1728" y="1447"/>
                </a:lnTo>
                <a:lnTo>
                  <a:pt x="1658" y="1447"/>
                </a:lnTo>
                <a:lnTo>
                  <a:pt x="1587" y="1447"/>
                </a:lnTo>
                <a:lnTo>
                  <a:pt x="1516" y="1412"/>
                </a:lnTo>
                <a:lnTo>
                  <a:pt x="1446" y="1412"/>
                </a:lnTo>
                <a:lnTo>
                  <a:pt x="1411" y="1341"/>
                </a:lnTo>
                <a:lnTo>
                  <a:pt x="1340" y="1306"/>
                </a:lnTo>
                <a:lnTo>
                  <a:pt x="1270" y="1306"/>
                </a:lnTo>
                <a:lnTo>
                  <a:pt x="1199" y="1341"/>
                </a:lnTo>
                <a:lnTo>
                  <a:pt x="1128" y="1376"/>
                </a:lnTo>
                <a:lnTo>
                  <a:pt x="1058" y="1412"/>
                </a:lnTo>
                <a:lnTo>
                  <a:pt x="987" y="1447"/>
                </a:lnTo>
                <a:lnTo>
                  <a:pt x="917" y="1482"/>
                </a:lnTo>
                <a:lnTo>
                  <a:pt x="846" y="1482"/>
                </a:lnTo>
                <a:lnTo>
                  <a:pt x="811" y="1553"/>
                </a:lnTo>
                <a:lnTo>
                  <a:pt x="740" y="1553"/>
                </a:lnTo>
                <a:lnTo>
                  <a:pt x="670" y="1588"/>
                </a:lnTo>
                <a:lnTo>
                  <a:pt x="599" y="1588"/>
                </a:lnTo>
                <a:lnTo>
                  <a:pt x="529" y="1588"/>
                </a:lnTo>
                <a:lnTo>
                  <a:pt x="458" y="1553"/>
                </a:lnTo>
                <a:lnTo>
                  <a:pt x="388" y="1588"/>
                </a:lnTo>
                <a:lnTo>
                  <a:pt x="317" y="1588"/>
                </a:lnTo>
                <a:lnTo>
                  <a:pt x="211" y="1588"/>
                </a:lnTo>
                <a:lnTo>
                  <a:pt x="70" y="1588"/>
                </a:lnTo>
                <a:lnTo>
                  <a:pt x="35" y="1517"/>
                </a:lnTo>
                <a:lnTo>
                  <a:pt x="0" y="1447"/>
                </a:lnTo>
                <a:lnTo>
                  <a:pt x="0" y="1376"/>
                </a:lnTo>
                <a:lnTo>
                  <a:pt x="35" y="1306"/>
                </a:lnTo>
                <a:lnTo>
                  <a:pt x="105" y="1271"/>
                </a:lnTo>
                <a:lnTo>
                  <a:pt x="176" y="1271"/>
                </a:lnTo>
                <a:lnTo>
                  <a:pt x="317" y="1271"/>
                </a:lnTo>
                <a:lnTo>
                  <a:pt x="423" y="1306"/>
                </a:lnTo>
                <a:lnTo>
                  <a:pt x="493" y="1341"/>
                </a:lnTo>
                <a:lnTo>
                  <a:pt x="564" y="1341"/>
                </a:lnTo>
                <a:lnTo>
                  <a:pt x="670" y="1341"/>
                </a:lnTo>
                <a:lnTo>
                  <a:pt x="776" y="1306"/>
                </a:lnTo>
                <a:lnTo>
                  <a:pt x="881" y="1235"/>
                </a:lnTo>
                <a:lnTo>
                  <a:pt x="846" y="1306"/>
                </a:lnTo>
                <a:lnTo>
                  <a:pt x="211" y="1412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12920" y="4584600"/>
            <a:ext cx="34128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506680" y="4430880"/>
            <a:ext cx="696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4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960480" y="4605480"/>
            <a:ext cx="493560" cy="341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390680" y="4435560"/>
            <a:ext cx="546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544760" y="3576600"/>
            <a:ext cx="341280" cy="341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947880" y="3127320"/>
            <a:ext cx="696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792600" y="2819520"/>
            <a:ext cx="2976480" cy="2739960"/>
            <a:chOff x="3792600" y="2819520"/>
            <a:chExt cx="2976480" cy="2739960"/>
          </a:xfrm>
        </p:grpSpPr>
        <p:grpSp>
          <p:nvGrpSpPr>
            <p:cNvPr id="815" name=""/>
            <p:cNvGrpSpPr/>
            <p:nvPr/>
          </p:nvGrpSpPr>
          <p:grpSpPr>
            <a:xfrm>
              <a:off x="3792600" y="2819520"/>
              <a:ext cx="423720" cy="2739960"/>
              <a:chOff x="3792600" y="2819520"/>
              <a:chExt cx="423720" cy="273996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3792600" y="2819520"/>
                <a:ext cx="423720" cy="2647800"/>
                <a:chOff x="3792600" y="2819520"/>
                <a:chExt cx="423720" cy="264780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3792600" y="3327480"/>
                  <a:ext cx="422280" cy="298440"/>
                  <a:chOff x="3792600" y="3327480"/>
                  <a:chExt cx="422280" cy="298440"/>
                </a:xfrm>
              </p:grpSpPr>
              <p:sp>
                <p:nvSpPr>
                  <p:cNvPr id="818" name=""/>
                  <p:cNvSpPr txBox="1"/>
                  <p:nvPr/>
                </p:nvSpPr>
                <p:spPr>
                  <a:xfrm>
                    <a:off x="3792600" y="338472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 txBox="1"/>
                  <p:nvPr/>
                </p:nvSpPr>
                <p:spPr>
                  <a:xfrm>
                    <a:off x="3962520" y="332748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0" name=""/>
                <p:cNvSpPr/>
                <p:nvPr/>
              </p:nvSpPr>
              <p:spPr>
                <a:xfrm flipH="1">
                  <a:off x="4129200" y="292428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3814920" y="2819520"/>
                  <a:ext cx="396720" cy="303120"/>
                  <a:chOff x="3814920" y="2819520"/>
                  <a:chExt cx="396720" cy="303120"/>
                </a:xfrm>
              </p:grpSpPr>
              <p:sp>
                <p:nvSpPr>
                  <p:cNvPr id="822" name=""/>
                  <p:cNvSpPr txBox="1"/>
                  <p:nvPr/>
                </p:nvSpPr>
                <p:spPr>
                  <a:xfrm>
                    <a:off x="3814920" y="288144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 txBox="1"/>
                  <p:nvPr/>
                </p:nvSpPr>
                <p:spPr>
                  <a:xfrm>
                    <a:off x="3967200" y="2819520"/>
                    <a:ext cx="244440" cy="21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3824280" y="4530600"/>
                  <a:ext cx="388800" cy="326880"/>
                  <a:chOff x="3824280" y="4530600"/>
                  <a:chExt cx="388800" cy="326880"/>
                </a:xfrm>
              </p:grpSpPr>
              <p:sp>
                <p:nvSpPr>
                  <p:cNvPr id="825" name=""/>
                  <p:cNvSpPr txBox="1"/>
                  <p:nvPr/>
                </p:nvSpPr>
                <p:spPr>
                  <a:xfrm>
                    <a:off x="3824280" y="461628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 txBox="1"/>
                  <p:nvPr/>
                </p:nvSpPr>
                <p:spPr>
                  <a:xfrm>
                    <a:off x="3960720" y="45306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3827520" y="3897360"/>
                  <a:ext cx="388800" cy="331560"/>
                  <a:chOff x="3827520" y="3897360"/>
                  <a:chExt cx="388800" cy="331560"/>
                </a:xfrm>
              </p:grpSpPr>
              <p:sp>
                <p:nvSpPr>
                  <p:cNvPr id="828" name=""/>
                  <p:cNvSpPr txBox="1"/>
                  <p:nvPr/>
                </p:nvSpPr>
                <p:spPr>
                  <a:xfrm>
                    <a:off x="3827520" y="3987720"/>
                    <a:ext cx="338040" cy="24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 txBox="1"/>
                  <p:nvPr/>
                </p:nvSpPr>
                <p:spPr>
                  <a:xfrm>
                    <a:off x="3963960" y="389736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 txBox="1"/>
                <p:nvPr/>
              </p:nvSpPr>
              <p:spPr>
                <a:xfrm>
                  <a:off x="3941640" y="5241960"/>
                  <a:ext cx="2523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4124160" y="5338800"/>
                  <a:ext cx="8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4135320" y="402264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4129200" y="464508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4129200" y="3438360"/>
                  <a:ext cx="7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5" name=""/>
              <p:cNvSpPr txBox="1"/>
              <p:nvPr/>
            </p:nvSpPr>
            <p:spPr>
              <a:xfrm>
                <a:off x="3813120" y="53182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4211640" y="2917800"/>
              <a:ext cx="2557440" cy="242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 txBox="1"/>
          <p:nvPr/>
        </p:nvSpPr>
        <p:spPr>
          <a:xfrm>
            <a:off x="4710240" y="5697360"/>
            <a:ext cx="1376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639880" y="3878280"/>
            <a:ext cx="2185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 + FG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492880" y="2959200"/>
            <a:ext cx="10270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815080" y="54784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977080" y="537372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448320" y="547704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599160" y="5380200"/>
            <a:ext cx="2444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498920" y="54784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627440" y="537048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156280" y="547848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322960" y="537840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921120" y="5475240"/>
            <a:ext cx="3380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079880" y="5370480"/>
            <a:ext cx="252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57920" y="53290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97680" y="534204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450040" y="5342040"/>
            <a:ext cx="0" cy="4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64240" y="53481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18120" y="53546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237200" y="3975120"/>
            <a:ext cx="101880" cy="1346400"/>
          </a:xfrm>
          <a:custGeom>
            <a:avLst/>
            <a:gdLst/>
            <a:ahLst/>
            <a:rect l="0" t="0" r="r" b="b"/>
            <a:pathLst>
              <a:path w="283" h="3740">
                <a:moveTo>
                  <a:pt x="0" y="0"/>
                </a:moveTo>
                <a:lnTo>
                  <a:pt x="0" y="70"/>
                </a:lnTo>
                <a:lnTo>
                  <a:pt x="0" y="141"/>
                </a:lnTo>
                <a:lnTo>
                  <a:pt x="0" y="211"/>
                </a:lnTo>
                <a:lnTo>
                  <a:pt x="0" y="282"/>
                </a:lnTo>
                <a:lnTo>
                  <a:pt x="0" y="352"/>
                </a:lnTo>
                <a:lnTo>
                  <a:pt x="0" y="423"/>
                </a:lnTo>
                <a:lnTo>
                  <a:pt x="92" y="493"/>
                </a:lnTo>
                <a:lnTo>
                  <a:pt x="92" y="564"/>
                </a:lnTo>
                <a:lnTo>
                  <a:pt x="0" y="635"/>
                </a:lnTo>
                <a:lnTo>
                  <a:pt x="0" y="705"/>
                </a:lnTo>
                <a:lnTo>
                  <a:pt x="92" y="776"/>
                </a:lnTo>
                <a:lnTo>
                  <a:pt x="92" y="846"/>
                </a:lnTo>
                <a:lnTo>
                  <a:pt x="190" y="917"/>
                </a:lnTo>
                <a:lnTo>
                  <a:pt x="190" y="1023"/>
                </a:lnTo>
                <a:lnTo>
                  <a:pt x="190" y="1093"/>
                </a:lnTo>
                <a:lnTo>
                  <a:pt x="190" y="1164"/>
                </a:lnTo>
                <a:lnTo>
                  <a:pt x="283" y="1234"/>
                </a:lnTo>
                <a:lnTo>
                  <a:pt x="283" y="1305"/>
                </a:lnTo>
                <a:lnTo>
                  <a:pt x="283" y="1375"/>
                </a:lnTo>
                <a:lnTo>
                  <a:pt x="283" y="1446"/>
                </a:lnTo>
                <a:lnTo>
                  <a:pt x="190" y="1516"/>
                </a:lnTo>
                <a:lnTo>
                  <a:pt x="190" y="1587"/>
                </a:lnTo>
                <a:lnTo>
                  <a:pt x="190" y="1658"/>
                </a:lnTo>
                <a:lnTo>
                  <a:pt x="92" y="1728"/>
                </a:lnTo>
                <a:lnTo>
                  <a:pt x="92" y="1799"/>
                </a:lnTo>
                <a:lnTo>
                  <a:pt x="92" y="1869"/>
                </a:lnTo>
                <a:lnTo>
                  <a:pt x="92" y="1976"/>
                </a:lnTo>
                <a:lnTo>
                  <a:pt x="92" y="2047"/>
                </a:lnTo>
                <a:lnTo>
                  <a:pt x="92" y="2117"/>
                </a:lnTo>
                <a:lnTo>
                  <a:pt x="190" y="2188"/>
                </a:lnTo>
                <a:lnTo>
                  <a:pt x="190" y="2258"/>
                </a:lnTo>
                <a:lnTo>
                  <a:pt x="190" y="2329"/>
                </a:lnTo>
                <a:lnTo>
                  <a:pt x="190" y="2399"/>
                </a:lnTo>
                <a:lnTo>
                  <a:pt x="190" y="2470"/>
                </a:lnTo>
                <a:lnTo>
                  <a:pt x="190" y="2541"/>
                </a:lnTo>
                <a:lnTo>
                  <a:pt x="92" y="2611"/>
                </a:lnTo>
                <a:lnTo>
                  <a:pt x="92" y="2682"/>
                </a:lnTo>
                <a:lnTo>
                  <a:pt x="92" y="2752"/>
                </a:lnTo>
                <a:lnTo>
                  <a:pt x="92" y="2823"/>
                </a:lnTo>
                <a:lnTo>
                  <a:pt x="0" y="2893"/>
                </a:lnTo>
                <a:lnTo>
                  <a:pt x="92" y="2964"/>
                </a:lnTo>
                <a:lnTo>
                  <a:pt x="190" y="3034"/>
                </a:lnTo>
                <a:lnTo>
                  <a:pt x="190" y="3105"/>
                </a:lnTo>
                <a:lnTo>
                  <a:pt x="283" y="3176"/>
                </a:lnTo>
                <a:lnTo>
                  <a:pt x="283" y="3246"/>
                </a:lnTo>
                <a:lnTo>
                  <a:pt x="283" y="3317"/>
                </a:lnTo>
                <a:lnTo>
                  <a:pt x="283" y="3387"/>
                </a:lnTo>
                <a:lnTo>
                  <a:pt x="190" y="3458"/>
                </a:lnTo>
                <a:lnTo>
                  <a:pt x="190" y="3528"/>
                </a:lnTo>
                <a:lnTo>
                  <a:pt x="190" y="3599"/>
                </a:lnTo>
                <a:lnTo>
                  <a:pt x="92" y="3669"/>
                </a:lnTo>
                <a:lnTo>
                  <a:pt x="0" y="37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430880" y="5046840"/>
            <a:ext cx="1690920" cy="281520"/>
          </a:xfrm>
          <a:custGeom>
            <a:avLst/>
            <a:gdLst/>
            <a:ahLst/>
            <a:rect l="0" t="0" r="r" b="b"/>
            <a:pathLst>
              <a:path w="4697" h="782">
                <a:moveTo>
                  <a:pt x="0" y="698"/>
                </a:moveTo>
                <a:lnTo>
                  <a:pt x="79" y="667"/>
                </a:lnTo>
                <a:lnTo>
                  <a:pt x="194" y="583"/>
                </a:lnTo>
                <a:lnTo>
                  <a:pt x="273" y="556"/>
                </a:lnTo>
                <a:lnTo>
                  <a:pt x="392" y="556"/>
                </a:lnTo>
                <a:lnTo>
                  <a:pt x="471" y="583"/>
                </a:lnTo>
                <a:lnTo>
                  <a:pt x="546" y="556"/>
                </a:lnTo>
                <a:lnTo>
                  <a:pt x="665" y="525"/>
                </a:lnTo>
                <a:lnTo>
                  <a:pt x="745" y="525"/>
                </a:lnTo>
                <a:lnTo>
                  <a:pt x="820" y="525"/>
                </a:lnTo>
                <a:lnTo>
                  <a:pt x="899" y="556"/>
                </a:lnTo>
                <a:lnTo>
                  <a:pt x="978" y="556"/>
                </a:lnTo>
                <a:lnTo>
                  <a:pt x="1058" y="583"/>
                </a:lnTo>
                <a:lnTo>
                  <a:pt x="1133" y="556"/>
                </a:lnTo>
                <a:lnTo>
                  <a:pt x="1212" y="556"/>
                </a:lnTo>
                <a:lnTo>
                  <a:pt x="1292" y="583"/>
                </a:lnTo>
                <a:lnTo>
                  <a:pt x="1371" y="583"/>
                </a:lnTo>
                <a:lnTo>
                  <a:pt x="1446" y="556"/>
                </a:lnTo>
                <a:lnTo>
                  <a:pt x="1525" y="556"/>
                </a:lnTo>
                <a:lnTo>
                  <a:pt x="1605" y="556"/>
                </a:lnTo>
                <a:lnTo>
                  <a:pt x="1684" y="583"/>
                </a:lnTo>
                <a:lnTo>
                  <a:pt x="1799" y="583"/>
                </a:lnTo>
                <a:lnTo>
                  <a:pt x="1878" y="610"/>
                </a:lnTo>
                <a:lnTo>
                  <a:pt x="1931" y="247"/>
                </a:lnTo>
                <a:lnTo>
                  <a:pt x="2006" y="464"/>
                </a:lnTo>
                <a:lnTo>
                  <a:pt x="2191" y="556"/>
                </a:lnTo>
                <a:lnTo>
                  <a:pt x="2116" y="176"/>
                </a:lnTo>
                <a:lnTo>
                  <a:pt x="2341" y="212"/>
                </a:lnTo>
                <a:lnTo>
                  <a:pt x="2382" y="141"/>
                </a:lnTo>
                <a:lnTo>
                  <a:pt x="2116" y="141"/>
                </a:lnTo>
                <a:lnTo>
                  <a:pt x="2871" y="105"/>
                </a:lnTo>
                <a:lnTo>
                  <a:pt x="2761" y="35"/>
                </a:lnTo>
                <a:lnTo>
                  <a:pt x="2532" y="70"/>
                </a:lnTo>
                <a:lnTo>
                  <a:pt x="2946" y="0"/>
                </a:lnTo>
                <a:lnTo>
                  <a:pt x="3321" y="105"/>
                </a:lnTo>
                <a:lnTo>
                  <a:pt x="3356" y="247"/>
                </a:lnTo>
                <a:lnTo>
                  <a:pt x="3211" y="35"/>
                </a:lnTo>
                <a:lnTo>
                  <a:pt x="3731" y="176"/>
                </a:lnTo>
                <a:lnTo>
                  <a:pt x="3621" y="283"/>
                </a:lnTo>
                <a:lnTo>
                  <a:pt x="3996" y="318"/>
                </a:lnTo>
                <a:lnTo>
                  <a:pt x="4071" y="283"/>
                </a:lnTo>
                <a:lnTo>
                  <a:pt x="4035" y="428"/>
                </a:lnTo>
                <a:lnTo>
                  <a:pt x="3797" y="610"/>
                </a:lnTo>
                <a:lnTo>
                  <a:pt x="3991" y="610"/>
                </a:lnTo>
                <a:lnTo>
                  <a:pt x="4071" y="641"/>
                </a:lnTo>
                <a:lnTo>
                  <a:pt x="4150" y="667"/>
                </a:lnTo>
                <a:lnTo>
                  <a:pt x="4229" y="698"/>
                </a:lnTo>
                <a:lnTo>
                  <a:pt x="4384" y="698"/>
                </a:lnTo>
                <a:lnTo>
                  <a:pt x="4463" y="698"/>
                </a:lnTo>
                <a:lnTo>
                  <a:pt x="4543" y="756"/>
                </a:lnTo>
                <a:lnTo>
                  <a:pt x="4617" y="782"/>
                </a:lnTo>
                <a:lnTo>
                  <a:pt x="4697" y="782"/>
                </a:lnTo>
                <a:lnTo>
                  <a:pt x="0" y="698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241880" y="3492360"/>
            <a:ext cx="389160" cy="825840"/>
          </a:xfrm>
          <a:custGeom>
            <a:avLst/>
            <a:gdLst/>
            <a:ahLst/>
            <a:rect l="0" t="0" r="r" b="b"/>
            <a:pathLst>
              <a:path w="1081" h="2294">
                <a:moveTo>
                  <a:pt x="975" y="224"/>
                </a:moveTo>
                <a:lnTo>
                  <a:pt x="957" y="229"/>
                </a:lnTo>
                <a:lnTo>
                  <a:pt x="935" y="229"/>
                </a:lnTo>
                <a:lnTo>
                  <a:pt x="922" y="282"/>
                </a:lnTo>
                <a:lnTo>
                  <a:pt x="900" y="286"/>
                </a:lnTo>
                <a:lnTo>
                  <a:pt x="878" y="291"/>
                </a:lnTo>
                <a:lnTo>
                  <a:pt x="874" y="423"/>
                </a:lnTo>
                <a:lnTo>
                  <a:pt x="856" y="467"/>
                </a:lnTo>
                <a:lnTo>
                  <a:pt x="834" y="471"/>
                </a:lnTo>
                <a:lnTo>
                  <a:pt x="794" y="440"/>
                </a:lnTo>
                <a:lnTo>
                  <a:pt x="781" y="480"/>
                </a:lnTo>
                <a:lnTo>
                  <a:pt x="759" y="485"/>
                </a:lnTo>
                <a:lnTo>
                  <a:pt x="1081" y="467"/>
                </a:lnTo>
                <a:lnTo>
                  <a:pt x="706" y="537"/>
                </a:lnTo>
                <a:lnTo>
                  <a:pt x="702" y="590"/>
                </a:lnTo>
                <a:lnTo>
                  <a:pt x="755" y="604"/>
                </a:lnTo>
                <a:lnTo>
                  <a:pt x="662" y="687"/>
                </a:lnTo>
                <a:lnTo>
                  <a:pt x="649" y="732"/>
                </a:lnTo>
                <a:lnTo>
                  <a:pt x="631" y="780"/>
                </a:lnTo>
                <a:lnTo>
                  <a:pt x="613" y="784"/>
                </a:lnTo>
                <a:lnTo>
                  <a:pt x="957" y="736"/>
                </a:lnTo>
                <a:lnTo>
                  <a:pt x="574" y="833"/>
                </a:lnTo>
                <a:lnTo>
                  <a:pt x="547" y="833"/>
                </a:lnTo>
                <a:lnTo>
                  <a:pt x="543" y="926"/>
                </a:lnTo>
                <a:lnTo>
                  <a:pt x="799" y="1023"/>
                </a:lnTo>
                <a:lnTo>
                  <a:pt x="1081" y="1062"/>
                </a:lnTo>
                <a:lnTo>
                  <a:pt x="507" y="1115"/>
                </a:lnTo>
                <a:lnTo>
                  <a:pt x="706" y="1306"/>
                </a:lnTo>
                <a:lnTo>
                  <a:pt x="957" y="1323"/>
                </a:lnTo>
                <a:lnTo>
                  <a:pt x="489" y="1337"/>
                </a:lnTo>
                <a:lnTo>
                  <a:pt x="480" y="1429"/>
                </a:lnTo>
                <a:lnTo>
                  <a:pt x="480" y="1517"/>
                </a:lnTo>
                <a:lnTo>
                  <a:pt x="189" y="1632"/>
                </a:lnTo>
                <a:lnTo>
                  <a:pt x="467" y="1654"/>
                </a:lnTo>
                <a:lnTo>
                  <a:pt x="733" y="1866"/>
                </a:lnTo>
                <a:lnTo>
                  <a:pt x="458" y="1786"/>
                </a:lnTo>
                <a:lnTo>
                  <a:pt x="440" y="1875"/>
                </a:lnTo>
                <a:lnTo>
                  <a:pt x="957" y="2073"/>
                </a:lnTo>
                <a:lnTo>
                  <a:pt x="410" y="1976"/>
                </a:lnTo>
                <a:lnTo>
                  <a:pt x="613" y="2294"/>
                </a:lnTo>
                <a:lnTo>
                  <a:pt x="374" y="2073"/>
                </a:lnTo>
                <a:lnTo>
                  <a:pt x="366" y="2117"/>
                </a:lnTo>
                <a:lnTo>
                  <a:pt x="339" y="2122"/>
                </a:lnTo>
                <a:lnTo>
                  <a:pt x="317" y="2126"/>
                </a:lnTo>
                <a:lnTo>
                  <a:pt x="295" y="2130"/>
                </a:lnTo>
                <a:lnTo>
                  <a:pt x="268" y="2095"/>
                </a:lnTo>
                <a:lnTo>
                  <a:pt x="246" y="2095"/>
                </a:lnTo>
                <a:lnTo>
                  <a:pt x="224" y="2100"/>
                </a:lnTo>
                <a:lnTo>
                  <a:pt x="207" y="2016"/>
                </a:lnTo>
                <a:lnTo>
                  <a:pt x="176" y="1928"/>
                </a:lnTo>
                <a:lnTo>
                  <a:pt x="145" y="1848"/>
                </a:lnTo>
                <a:lnTo>
                  <a:pt x="123" y="1769"/>
                </a:lnTo>
                <a:lnTo>
                  <a:pt x="110" y="1681"/>
                </a:lnTo>
                <a:lnTo>
                  <a:pt x="114" y="1592"/>
                </a:lnTo>
                <a:lnTo>
                  <a:pt x="733" y="1592"/>
                </a:lnTo>
                <a:lnTo>
                  <a:pt x="92" y="1539"/>
                </a:lnTo>
                <a:lnTo>
                  <a:pt x="92" y="1632"/>
                </a:lnTo>
                <a:lnTo>
                  <a:pt x="61" y="1204"/>
                </a:lnTo>
                <a:lnTo>
                  <a:pt x="48" y="1115"/>
                </a:lnTo>
                <a:lnTo>
                  <a:pt x="39" y="983"/>
                </a:lnTo>
                <a:lnTo>
                  <a:pt x="35" y="899"/>
                </a:lnTo>
                <a:lnTo>
                  <a:pt x="35" y="806"/>
                </a:lnTo>
                <a:lnTo>
                  <a:pt x="26" y="723"/>
                </a:lnTo>
                <a:lnTo>
                  <a:pt x="0" y="639"/>
                </a:lnTo>
                <a:lnTo>
                  <a:pt x="0" y="542"/>
                </a:lnTo>
                <a:lnTo>
                  <a:pt x="0" y="467"/>
                </a:lnTo>
                <a:lnTo>
                  <a:pt x="13" y="414"/>
                </a:lnTo>
                <a:lnTo>
                  <a:pt x="4" y="330"/>
                </a:lnTo>
                <a:lnTo>
                  <a:pt x="0" y="242"/>
                </a:lnTo>
                <a:lnTo>
                  <a:pt x="4" y="145"/>
                </a:lnTo>
                <a:lnTo>
                  <a:pt x="17" y="105"/>
                </a:lnTo>
                <a:lnTo>
                  <a:pt x="39" y="101"/>
                </a:lnTo>
                <a:lnTo>
                  <a:pt x="66" y="136"/>
                </a:lnTo>
                <a:lnTo>
                  <a:pt x="92" y="176"/>
                </a:lnTo>
                <a:lnTo>
                  <a:pt x="119" y="171"/>
                </a:lnTo>
                <a:lnTo>
                  <a:pt x="136" y="171"/>
                </a:lnTo>
                <a:lnTo>
                  <a:pt x="171" y="251"/>
                </a:lnTo>
                <a:lnTo>
                  <a:pt x="194" y="246"/>
                </a:lnTo>
                <a:lnTo>
                  <a:pt x="211" y="242"/>
                </a:lnTo>
                <a:lnTo>
                  <a:pt x="233" y="233"/>
                </a:lnTo>
                <a:lnTo>
                  <a:pt x="260" y="229"/>
                </a:lnTo>
                <a:lnTo>
                  <a:pt x="282" y="229"/>
                </a:lnTo>
                <a:lnTo>
                  <a:pt x="299" y="224"/>
                </a:lnTo>
                <a:lnTo>
                  <a:pt x="317" y="220"/>
                </a:lnTo>
                <a:lnTo>
                  <a:pt x="326" y="132"/>
                </a:lnTo>
                <a:lnTo>
                  <a:pt x="352" y="123"/>
                </a:lnTo>
                <a:lnTo>
                  <a:pt x="370" y="79"/>
                </a:lnTo>
                <a:lnTo>
                  <a:pt x="388" y="74"/>
                </a:lnTo>
                <a:lnTo>
                  <a:pt x="414" y="114"/>
                </a:lnTo>
                <a:lnTo>
                  <a:pt x="440" y="149"/>
                </a:lnTo>
                <a:lnTo>
                  <a:pt x="485" y="233"/>
                </a:lnTo>
                <a:lnTo>
                  <a:pt x="511" y="273"/>
                </a:lnTo>
                <a:lnTo>
                  <a:pt x="533" y="268"/>
                </a:lnTo>
                <a:lnTo>
                  <a:pt x="556" y="260"/>
                </a:lnTo>
                <a:lnTo>
                  <a:pt x="583" y="304"/>
                </a:lnTo>
                <a:lnTo>
                  <a:pt x="605" y="299"/>
                </a:lnTo>
                <a:lnTo>
                  <a:pt x="622" y="383"/>
                </a:lnTo>
                <a:lnTo>
                  <a:pt x="653" y="418"/>
                </a:lnTo>
                <a:lnTo>
                  <a:pt x="675" y="414"/>
                </a:lnTo>
                <a:lnTo>
                  <a:pt x="688" y="366"/>
                </a:lnTo>
                <a:lnTo>
                  <a:pt x="706" y="326"/>
                </a:lnTo>
                <a:lnTo>
                  <a:pt x="715" y="277"/>
                </a:lnTo>
                <a:lnTo>
                  <a:pt x="737" y="229"/>
                </a:lnTo>
                <a:lnTo>
                  <a:pt x="755" y="185"/>
                </a:lnTo>
                <a:lnTo>
                  <a:pt x="777" y="176"/>
                </a:lnTo>
                <a:lnTo>
                  <a:pt x="772" y="88"/>
                </a:lnTo>
                <a:lnTo>
                  <a:pt x="794" y="83"/>
                </a:lnTo>
                <a:lnTo>
                  <a:pt x="812" y="35"/>
                </a:lnTo>
                <a:lnTo>
                  <a:pt x="834" y="30"/>
                </a:lnTo>
                <a:lnTo>
                  <a:pt x="856" y="26"/>
                </a:lnTo>
                <a:lnTo>
                  <a:pt x="878" y="66"/>
                </a:lnTo>
                <a:lnTo>
                  <a:pt x="900" y="22"/>
                </a:lnTo>
                <a:lnTo>
                  <a:pt x="922" y="17"/>
                </a:lnTo>
                <a:lnTo>
                  <a:pt x="953" y="8"/>
                </a:lnTo>
                <a:lnTo>
                  <a:pt x="993" y="0"/>
                </a:lnTo>
                <a:lnTo>
                  <a:pt x="1015" y="83"/>
                </a:lnTo>
                <a:lnTo>
                  <a:pt x="1037" y="167"/>
                </a:lnTo>
                <a:lnTo>
                  <a:pt x="1046" y="255"/>
                </a:lnTo>
                <a:lnTo>
                  <a:pt x="1041" y="339"/>
                </a:lnTo>
                <a:lnTo>
                  <a:pt x="1032" y="392"/>
                </a:lnTo>
                <a:lnTo>
                  <a:pt x="1015" y="392"/>
                </a:lnTo>
                <a:lnTo>
                  <a:pt x="971" y="401"/>
                </a:lnTo>
                <a:lnTo>
                  <a:pt x="931" y="361"/>
                </a:lnTo>
                <a:lnTo>
                  <a:pt x="904" y="326"/>
                </a:lnTo>
                <a:lnTo>
                  <a:pt x="882" y="330"/>
                </a:lnTo>
                <a:lnTo>
                  <a:pt x="852" y="335"/>
                </a:lnTo>
                <a:lnTo>
                  <a:pt x="821" y="383"/>
                </a:lnTo>
                <a:lnTo>
                  <a:pt x="799" y="480"/>
                </a:lnTo>
                <a:lnTo>
                  <a:pt x="799" y="388"/>
                </a:lnTo>
                <a:lnTo>
                  <a:pt x="975" y="224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291280" y="4630680"/>
            <a:ext cx="328320" cy="328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5578560" y="4384800"/>
            <a:ext cx="696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81440" y="3860640"/>
            <a:ext cx="5572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879800" y="3546360"/>
            <a:ext cx="696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36800" y="4983120"/>
            <a:ext cx="1849680" cy="351360"/>
          </a:xfrm>
          <a:custGeom>
            <a:avLst/>
            <a:gdLst/>
            <a:ahLst/>
            <a:rect l="0" t="0" r="r" b="b"/>
            <a:pathLst>
              <a:path w="5138" h="976">
                <a:moveTo>
                  <a:pt x="0" y="870"/>
                </a:moveTo>
                <a:lnTo>
                  <a:pt x="83" y="835"/>
                </a:lnTo>
                <a:lnTo>
                  <a:pt x="216" y="728"/>
                </a:lnTo>
                <a:lnTo>
                  <a:pt x="299" y="693"/>
                </a:lnTo>
                <a:lnTo>
                  <a:pt x="427" y="693"/>
                </a:lnTo>
                <a:lnTo>
                  <a:pt x="515" y="728"/>
                </a:lnTo>
                <a:lnTo>
                  <a:pt x="599" y="693"/>
                </a:lnTo>
                <a:lnTo>
                  <a:pt x="727" y="658"/>
                </a:lnTo>
                <a:lnTo>
                  <a:pt x="811" y="658"/>
                </a:lnTo>
                <a:lnTo>
                  <a:pt x="899" y="658"/>
                </a:lnTo>
                <a:lnTo>
                  <a:pt x="983" y="693"/>
                </a:lnTo>
                <a:lnTo>
                  <a:pt x="1071" y="693"/>
                </a:lnTo>
                <a:lnTo>
                  <a:pt x="1155" y="728"/>
                </a:lnTo>
                <a:lnTo>
                  <a:pt x="1243" y="693"/>
                </a:lnTo>
                <a:lnTo>
                  <a:pt x="1327" y="693"/>
                </a:lnTo>
                <a:lnTo>
                  <a:pt x="1411" y="728"/>
                </a:lnTo>
                <a:lnTo>
                  <a:pt x="1512" y="600"/>
                </a:lnTo>
                <a:lnTo>
                  <a:pt x="1468" y="600"/>
                </a:lnTo>
                <a:lnTo>
                  <a:pt x="1671" y="693"/>
                </a:lnTo>
                <a:lnTo>
                  <a:pt x="1755" y="693"/>
                </a:lnTo>
                <a:lnTo>
                  <a:pt x="1838" y="728"/>
                </a:lnTo>
                <a:lnTo>
                  <a:pt x="1706" y="508"/>
                </a:lnTo>
                <a:lnTo>
                  <a:pt x="2054" y="764"/>
                </a:lnTo>
                <a:lnTo>
                  <a:pt x="2112" y="309"/>
                </a:lnTo>
                <a:lnTo>
                  <a:pt x="2196" y="578"/>
                </a:lnTo>
                <a:lnTo>
                  <a:pt x="2398" y="693"/>
                </a:lnTo>
                <a:lnTo>
                  <a:pt x="1609" y="269"/>
                </a:lnTo>
                <a:lnTo>
                  <a:pt x="2562" y="265"/>
                </a:lnTo>
                <a:lnTo>
                  <a:pt x="2607" y="176"/>
                </a:lnTo>
                <a:lnTo>
                  <a:pt x="2315" y="176"/>
                </a:lnTo>
                <a:lnTo>
                  <a:pt x="3140" y="132"/>
                </a:lnTo>
                <a:lnTo>
                  <a:pt x="2880" y="269"/>
                </a:lnTo>
                <a:lnTo>
                  <a:pt x="2765" y="88"/>
                </a:lnTo>
                <a:lnTo>
                  <a:pt x="3224" y="0"/>
                </a:lnTo>
                <a:lnTo>
                  <a:pt x="3634" y="132"/>
                </a:lnTo>
                <a:lnTo>
                  <a:pt x="3669" y="309"/>
                </a:lnTo>
                <a:lnTo>
                  <a:pt x="3511" y="44"/>
                </a:lnTo>
                <a:lnTo>
                  <a:pt x="4084" y="220"/>
                </a:lnTo>
                <a:lnTo>
                  <a:pt x="3960" y="353"/>
                </a:lnTo>
                <a:lnTo>
                  <a:pt x="4371" y="397"/>
                </a:lnTo>
                <a:lnTo>
                  <a:pt x="4454" y="353"/>
                </a:lnTo>
                <a:lnTo>
                  <a:pt x="4415" y="534"/>
                </a:lnTo>
                <a:lnTo>
                  <a:pt x="4154" y="764"/>
                </a:lnTo>
                <a:lnTo>
                  <a:pt x="4366" y="764"/>
                </a:lnTo>
                <a:lnTo>
                  <a:pt x="4454" y="800"/>
                </a:lnTo>
                <a:lnTo>
                  <a:pt x="4538" y="835"/>
                </a:lnTo>
                <a:lnTo>
                  <a:pt x="4626" y="870"/>
                </a:lnTo>
                <a:lnTo>
                  <a:pt x="4794" y="870"/>
                </a:lnTo>
                <a:lnTo>
                  <a:pt x="4882" y="870"/>
                </a:lnTo>
                <a:lnTo>
                  <a:pt x="4966" y="941"/>
                </a:lnTo>
                <a:lnTo>
                  <a:pt x="5054" y="976"/>
                </a:lnTo>
                <a:lnTo>
                  <a:pt x="5138" y="976"/>
                </a:lnTo>
                <a:lnTo>
                  <a:pt x="0" y="870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1401840" y="2046240"/>
            <a:ext cx="41702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VERIFICATION OF BLO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633680" y="2859120"/>
            <a:ext cx="35701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econd Reagent Blo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92280" y="3303720"/>
            <a:ext cx="53103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gIg  + 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FL-GAM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 PE-mI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09520" y="3895560"/>
            <a:ext cx="62164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gIg +  MAB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 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-GAM 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23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 mIg + PE-mI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281160" y="638280"/>
            <a:ext cx="6416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REE COLOR IMMUNOPHEN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06360" y="1716120"/>
            <a:ext cx="48657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143240" y="1712880"/>
            <a:ext cx="2263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59fde6"/>
                </a:solidFill>
                <a:latin typeface="Bookman Old Style"/>
                <a:ea typeface="Bookman Old Style"/>
              </a:rPr>
              <a:t>Fluores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7760" y="2398680"/>
            <a:ext cx="3997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938760" y="2382840"/>
            <a:ext cx="2455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dd0806"/>
                </a:solidFill>
                <a:latin typeface="Bookman Old Style"/>
                <a:ea typeface="Bookman Old Style"/>
              </a:rPr>
              <a:t>Phycoeryth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111240" y="3133800"/>
            <a:ext cx="3997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Antibodies label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908520" y="3132000"/>
            <a:ext cx="2936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59dc"/>
                </a:solidFill>
                <a:latin typeface="Bookman Old Style"/>
                <a:ea typeface="Bookman Old Style"/>
              </a:rPr>
              <a:t>Tandem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408560" y="3556080"/>
            <a:ext cx="1741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to Avi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31920" y="4476600"/>
            <a:ext cx="613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Tandem Complexes are Texas Red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CY 5 coupled  to Phycoeryth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139680" y="5923080"/>
            <a:ext cx="63993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er CP is a natural Tandem Complex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eridinin and chlorophyll a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152280" y="2957400"/>
            <a:ext cx="2398680" cy="2158920"/>
            <a:chOff x="152280" y="2957400"/>
            <a:chExt cx="2398680" cy="2158920"/>
          </a:xfrm>
        </p:grpSpPr>
        <p:sp>
          <p:nvSpPr>
            <p:cNvPr id="878" name=""/>
            <p:cNvSpPr/>
            <p:nvPr/>
          </p:nvSpPr>
          <p:spPr>
            <a:xfrm>
              <a:off x="360360" y="2957400"/>
              <a:ext cx="2055960" cy="184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152280" y="4792680"/>
              <a:ext cx="2398680" cy="323640"/>
              <a:chOff x="152280" y="4792680"/>
              <a:chExt cx="2398680" cy="32364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167652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1806480" y="47959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2184480" y="48736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2306520" y="480060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61740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720720" y="47926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114624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279440" y="47991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152280" y="48718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281160" y="47926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 flipH="1">
              <a:off x="320760" y="2963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16080" y="3079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17520" y="31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316080" y="32907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17520" y="3406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12840" y="3522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16080" y="36291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17520" y="3745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2840" y="38606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11040" y="3954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12840" y="40734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07800" y="41878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12840" y="42721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312840" y="4375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12840" y="4476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12840" y="4591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14280" y="47131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5040" y="480384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4960" y="48006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51080" y="48070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78120" y="480384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16320" y="48006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338560" y="2957400"/>
            <a:ext cx="2398680" cy="2158920"/>
            <a:chOff x="2338560" y="2957400"/>
            <a:chExt cx="2398680" cy="2158920"/>
          </a:xfrm>
        </p:grpSpPr>
        <p:sp>
          <p:nvSpPr>
            <p:cNvPr id="913" name=""/>
            <p:cNvSpPr/>
            <p:nvPr/>
          </p:nvSpPr>
          <p:spPr>
            <a:xfrm>
              <a:off x="2546280" y="2957400"/>
              <a:ext cx="2055960" cy="184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2338560" y="4792680"/>
              <a:ext cx="2398680" cy="323640"/>
              <a:chOff x="2338560" y="4792680"/>
              <a:chExt cx="2398680" cy="323640"/>
            </a:xfrm>
          </p:grpSpPr>
          <p:sp>
            <p:nvSpPr>
              <p:cNvPr id="915" name=""/>
              <p:cNvSpPr txBox="1"/>
              <p:nvPr/>
            </p:nvSpPr>
            <p:spPr>
              <a:xfrm>
                <a:off x="386244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3992400" y="47959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4370400" y="48736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4492800" y="480060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280368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2906640" y="47926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>
                <a:off x="3332160" y="48751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3465360" y="47991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2338560" y="48718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2467080" y="479268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flipH="1">
              <a:off x="2506680" y="29638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2502000" y="307980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503440" y="31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502000" y="32907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503440" y="3406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2498760" y="3522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502000" y="36291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503440" y="3745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498760" y="38606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2496960" y="3954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498760" y="40734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494080" y="4187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498760" y="42721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2498760" y="4375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498760" y="4476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2498760" y="45910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500200" y="47131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50960" y="480384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90880" y="48006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37000" y="48070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64040" y="480384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02240" y="48006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506840" y="2963880"/>
            <a:ext cx="2398680" cy="2168280"/>
            <a:chOff x="4506840" y="2963880"/>
            <a:chExt cx="2398680" cy="2168280"/>
          </a:xfrm>
        </p:grpSpPr>
        <p:sp>
          <p:nvSpPr>
            <p:cNvPr id="948" name=""/>
            <p:cNvSpPr/>
            <p:nvPr/>
          </p:nvSpPr>
          <p:spPr>
            <a:xfrm>
              <a:off x="4714920" y="2963880"/>
              <a:ext cx="2055960" cy="185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4506840" y="4808520"/>
              <a:ext cx="2398680" cy="323640"/>
              <a:chOff x="4506840" y="4808520"/>
              <a:chExt cx="2398680" cy="323640"/>
            </a:xfrm>
          </p:grpSpPr>
          <p:sp>
            <p:nvSpPr>
              <p:cNvPr id="950" name=""/>
              <p:cNvSpPr txBox="1"/>
              <p:nvPr/>
            </p:nvSpPr>
            <p:spPr>
              <a:xfrm>
                <a:off x="6031080" y="489096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 txBox="1"/>
              <p:nvPr/>
            </p:nvSpPr>
            <p:spPr>
              <a:xfrm>
                <a:off x="6161040" y="481176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 txBox="1"/>
              <p:nvPr/>
            </p:nvSpPr>
            <p:spPr>
              <a:xfrm>
                <a:off x="6539040" y="488952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6661080" y="4816440"/>
                <a:ext cx="2444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 txBox="1"/>
              <p:nvPr/>
            </p:nvSpPr>
            <p:spPr>
              <a:xfrm>
                <a:off x="4971960" y="489096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>
                <a:off x="5075280" y="48085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5500800" y="489096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 txBox="1"/>
              <p:nvPr/>
            </p:nvSpPr>
            <p:spPr>
              <a:xfrm>
                <a:off x="5634000" y="481500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 txBox="1"/>
              <p:nvPr/>
            </p:nvSpPr>
            <p:spPr>
              <a:xfrm>
                <a:off x="4506840" y="4888080"/>
                <a:ext cx="338040" cy="2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4635360" y="4808520"/>
                <a:ext cx="252360" cy="22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Bookman Old Style"/>
                    <a:ea typeface="Bookman Old Style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H="1">
              <a:off x="4675320" y="297036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4670280" y="3086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4672080" y="32036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670280" y="32986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672080" y="3414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67400" y="3532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4670280" y="36385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4672080" y="3755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4667400" y="38718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665600" y="39654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667400" y="4086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662360" y="42004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667400" y="4284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667400" y="43894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4667400" y="44910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4667400" y="4605480"/>
              <a:ext cx="5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668840" y="472932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19600" y="48196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59520" y="48164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05640" y="482292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32680" y="48196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70520" y="48164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 txBox="1"/>
          <p:nvPr/>
        </p:nvSpPr>
        <p:spPr>
          <a:xfrm>
            <a:off x="-824040" y="3727440"/>
            <a:ext cx="2014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numbe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006560" y="5083200"/>
            <a:ext cx="679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240000" y="5065560"/>
            <a:ext cx="679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5324400" y="5099040"/>
            <a:ext cx="679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6440" y="3206880"/>
            <a:ext cx="1473480" cy="1581480"/>
          </a:xfrm>
          <a:custGeom>
            <a:avLst/>
            <a:gdLst/>
            <a:ahLst/>
            <a:rect l="0" t="0" r="r" b="b"/>
            <a:pathLst>
              <a:path w="4093" h="4393">
                <a:moveTo>
                  <a:pt x="0" y="4375"/>
                </a:moveTo>
                <a:lnTo>
                  <a:pt x="17" y="4340"/>
                </a:lnTo>
                <a:lnTo>
                  <a:pt x="52" y="4322"/>
                </a:lnTo>
                <a:lnTo>
                  <a:pt x="70" y="4287"/>
                </a:lnTo>
                <a:lnTo>
                  <a:pt x="105" y="4269"/>
                </a:lnTo>
                <a:lnTo>
                  <a:pt x="105" y="4234"/>
                </a:lnTo>
                <a:lnTo>
                  <a:pt x="141" y="4216"/>
                </a:lnTo>
                <a:lnTo>
                  <a:pt x="141" y="4181"/>
                </a:lnTo>
                <a:lnTo>
                  <a:pt x="176" y="4163"/>
                </a:lnTo>
                <a:lnTo>
                  <a:pt x="194" y="4110"/>
                </a:lnTo>
                <a:lnTo>
                  <a:pt x="229" y="4093"/>
                </a:lnTo>
                <a:lnTo>
                  <a:pt x="246" y="4057"/>
                </a:lnTo>
                <a:lnTo>
                  <a:pt x="246" y="4022"/>
                </a:lnTo>
                <a:lnTo>
                  <a:pt x="264" y="3987"/>
                </a:lnTo>
                <a:lnTo>
                  <a:pt x="282" y="3952"/>
                </a:lnTo>
                <a:lnTo>
                  <a:pt x="299" y="3916"/>
                </a:lnTo>
                <a:lnTo>
                  <a:pt x="317" y="3881"/>
                </a:lnTo>
                <a:lnTo>
                  <a:pt x="317" y="3846"/>
                </a:lnTo>
                <a:lnTo>
                  <a:pt x="317" y="3811"/>
                </a:lnTo>
                <a:lnTo>
                  <a:pt x="335" y="3775"/>
                </a:lnTo>
                <a:lnTo>
                  <a:pt x="335" y="3740"/>
                </a:lnTo>
                <a:lnTo>
                  <a:pt x="335" y="3687"/>
                </a:lnTo>
                <a:lnTo>
                  <a:pt x="335" y="3634"/>
                </a:lnTo>
                <a:lnTo>
                  <a:pt x="335" y="3599"/>
                </a:lnTo>
                <a:lnTo>
                  <a:pt x="335" y="3564"/>
                </a:lnTo>
                <a:lnTo>
                  <a:pt x="335" y="3528"/>
                </a:lnTo>
                <a:lnTo>
                  <a:pt x="335" y="3493"/>
                </a:lnTo>
                <a:lnTo>
                  <a:pt x="335" y="3458"/>
                </a:lnTo>
                <a:lnTo>
                  <a:pt x="352" y="3405"/>
                </a:lnTo>
                <a:lnTo>
                  <a:pt x="352" y="3370"/>
                </a:lnTo>
                <a:lnTo>
                  <a:pt x="370" y="3317"/>
                </a:lnTo>
                <a:lnTo>
                  <a:pt x="370" y="3281"/>
                </a:lnTo>
                <a:lnTo>
                  <a:pt x="370" y="3246"/>
                </a:lnTo>
                <a:lnTo>
                  <a:pt x="370" y="3211"/>
                </a:lnTo>
                <a:lnTo>
                  <a:pt x="388" y="3176"/>
                </a:lnTo>
                <a:lnTo>
                  <a:pt x="388" y="3140"/>
                </a:lnTo>
                <a:lnTo>
                  <a:pt x="405" y="3087"/>
                </a:lnTo>
                <a:lnTo>
                  <a:pt x="405" y="3052"/>
                </a:lnTo>
                <a:lnTo>
                  <a:pt x="423" y="3017"/>
                </a:lnTo>
                <a:lnTo>
                  <a:pt x="423" y="2964"/>
                </a:lnTo>
                <a:lnTo>
                  <a:pt x="423" y="2929"/>
                </a:lnTo>
                <a:lnTo>
                  <a:pt x="440" y="2893"/>
                </a:lnTo>
                <a:lnTo>
                  <a:pt x="440" y="2858"/>
                </a:lnTo>
                <a:lnTo>
                  <a:pt x="440" y="2805"/>
                </a:lnTo>
                <a:lnTo>
                  <a:pt x="458" y="2770"/>
                </a:lnTo>
                <a:lnTo>
                  <a:pt x="476" y="2717"/>
                </a:lnTo>
                <a:lnTo>
                  <a:pt x="476" y="2682"/>
                </a:lnTo>
                <a:lnTo>
                  <a:pt x="493" y="2646"/>
                </a:lnTo>
                <a:lnTo>
                  <a:pt x="493" y="2611"/>
                </a:lnTo>
                <a:lnTo>
                  <a:pt x="511" y="2576"/>
                </a:lnTo>
                <a:lnTo>
                  <a:pt x="511" y="2541"/>
                </a:lnTo>
                <a:lnTo>
                  <a:pt x="529" y="2452"/>
                </a:lnTo>
                <a:lnTo>
                  <a:pt x="546" y="2399"/>
                </a:lnTo>
                <a:lnTo>
                  <a:pt x="564" y="2364"/>
                </a:lnTo>
                <a:lnTo>
                  <a:pt x="564" y="2294"/>
                </a:lnTo>
                <a:lnTo>
                  <a:pt x="582" y="2223"/>
                </a:lnTo>
                <a:lnTo>
                  <a:pt x="599" y="2187"/>
                </a:lnTo>
                <a:lnTo>
                  <a:pt x="599" y="2151"/>
                </a:lnTo>
                <a:lnTo>
                  <a:pt x="599" y="2116"/>
                </a:lnTo>
                <a:lnTo>
                  <a:pt x="617" y="2046"/>
                </a:lnTo>
                <a:lnTo>
                  <a:pt x="635" y="2010"/>
                </a:lnTo>
                <a:lnTo>
                  <a:pt x="635" y="1957"/>
                </a:lnTo>
                <a:lnTo>
                  <a:pt x="635" y="1922"/>
                </a:lnTo>
                <a:lnTo>
                  <a:pt x="652" y="1834"/>
                </a:lnTo>
                <a:lnTo>
                  <a:pt x="670" y="1799"/>
                </a:lnTo>
                <a:lnTo>
                  <a:pt x="670" y="1746"/>
                </a:lnTo>
                <a:lnTo>
                  <a:pt x="670" y="1710"/>
                </a:lnTo>
                <a:lnTo>
                  <a:pt x="687" y="1658"/>
                </a:lnTo>
                <a:lnTo>
                  <a:pt x="705" y="1622"/>
                </a:lnTo>
                <a:lnTo>
                  <a:pt x="705" y="1587"/>
                </a:lnTo>
                <a:lnTo>
                  <a:pt x="705" y="1534"/>
                </a:lnTo>
                <a:lnTo>
                  <a:pt x="723" y="1481"/>
                </a:lnTo>
                <a:lnTo>
                  <a:pt x="740" y="1428"/>
                </a:lnTo>
                <a:lnTo>
                  <a:pt x="740" y="1375"/>
                </a:lnTo>
                <a:lnTo>
                  <a:pt x="740" y="1340"/>
                </a:lnTo>
                <a:lnTo>
                  <a:pt x="740" y="1305"/>
                </a:lnTo>
                <a:lnTo>
                  <a:pt x="758" y="1270"/>
                </a:lnTo>
                <a:lnTo>
                  <a:pt x="758" y="1234"/>
                </a:lnTo>
                <a:lnTo>
                  <a:pt x="758" y="1199"/>
                </a:lnTo>
                <a:lnTo>
                  <a:pt x="776" y="1164"/>
                </a:lnTo>
                <a:lnTo>
                  <a:pt x="776" y="1128"/>
                </a:lnTo>
                <a:lnTo>
                  <a:pt x="776" y="1093"/>
                </a:lnTo>
                <a:lnTo>
                  <a:pt x="776" y="1023"/>
                </a:lnTo>
                <a:lnTo>
                  <a:pt x="793" y="987"/>
                </a:lnTo>
                <a:lnTo>
                  <a:pt x="793" y="952"/>
                </a:lnTo>
                <a:lnTo>
                  <a:pt x="793" y="917"/>
                </a:lnTo>
                <a:lnTo>
                  <a:pt x="811" y="864"/>
                </a:lnTo>
                <a:lnTo>
                  <a:pt x="811" y="829"/>
                </a:lnTo>
                <a:lnTo>
                  <a:pt x="811" y="793"/>
                </a:lnTo>
                <a:lnTo>
                  <a:pt x="811" y="829"/>
                </a:lnTo>
                <a:lnTo>
                  <a:pt x="811" y="864"/>
                </a:lnTo>
                <a:lnTo>
                  <a:pt x="829" y="899"/>
                </a:lnTo>
                <a:lnTo>
                  <a:pt x="846" y="934"/>
                </a:lnTo>
                <a:lnTo>
                  <a:pt x="864" y="970"/>
                </a:lnTo>
                <a:lnTo>
                  <a:pt x="881" y="1005"/>
                </a:lnTo>
                <a:lnTo>
                  <a:pt x="881" y="1040"/>
                </a:lnTo>
                <a:lnTo>
                  <a:pt x="881" y="1075"/>
                </a:lnTo>
                <a:lnTo>
                  <a:pt x="881" y="1111"/>
                </a:lnTo>
                <a:lnTo>
                  <a:pt x="881" y="1146"/>
                </a:lnTo>
                <a:lnTo>
                  <a:pt x="881" y="1181"/>
                </a:lnTo>
                <a:lnTo>
                  <a:pt x="899" y="1217"/>
                </a:lnTo>
                <a:lnTo>
                  <a:pt x="899" y="1252"/>
                </a:lnTo>
                <a:lnTo>
                  <a:pt x="899" y="1287"/>
                </a:lnTo>
                <a:lnTo>
                  <a:pt x="899" y="1322"/>
                </a:lnTo>
                <a:lnTo>
                  <a:pt x="899" y="1358"/>
                </a:lnTo>
                <a:lnTo>
                  <a:pt x="899" y="1393"/>
                </a:lnTo>
                <a:lnTo>
                  <a:pt x="917" y="1428"/>
                </a:lnTo>
                <a:lnTo>
                  <a:pt x="917" y="1464"/>
                </a:lnTo>
                <a:lnTo>
                  <a:pt x="917" y="1499"/>
                </a:lnTo>
                <a:lnTo>
                  <a:pt x="917" y="1534"/>
                </a:lnTo>
                <a:lnTo>
                  <a:pt x="917" y="1569"/>
                </a:lnTo>
                <a:lnTo>
                  <a:pt x="917" y="1605"/>
                </a:lnTo>
                <a:lnTo>
                  <a:pt x="917" y="1640"/>
                </a:lnTo>
                <a:lnTo>
                  <a:pt x="917" y="1675"/>
                </a:lnTo>
                <a:lnTo>
                  <a:pt x="934" y="1710"/>
                </a:lnTo>
                <a:lnTo>
                  <a:pt x="934" y="1746"/>
                </a:lnTo>
                <a:lnTo>
                  <a:pt x="934" y="1781"/>
                </a:lnTo>
                <a:lnTo>
                  <a:pt x="934" y="1816"/>
                </a:lnTo>
                <a:lnTo>
                  <a:pt x="934" y="1852"/>
                </a:lnTo>
                <a:lnTo>
                  <a:pt x="934" y="1887"/>
                </a:lnTo>
                <a:lnTo>
                  <a:pt x="934" y="1922"/>
                </a:lnTo>
                <a:lnTo>
                  <a:pt x="952" y="1957"/>
                </a:lnTo>
                <a:lnTo>
                  <a:pt x="952" y="1993"/>
                </a:lnTo>
                <a:lnTo>
                  <a:pt x="952" y="2028"/>
                </a:lnTo>
                <a:lnTo>
                  <a:pt x="970" y="2063"/>
                </a:lnTo>
                <a:lnTo>
                  <a:pt x="970" y="2099"/>
                </a:lnTo>
                <a:lnTo>
                  <a:pt x="987" y="2134"/>
                </a:lnTo>
                <a:lnTo>
                  <a:pt x="1005" y="2187"/>
                </a:lnTo>
                <a:lnTo>
                  <a:pt x="1005" y="2241"/>
                </a:lnTo>
                <a:lnTo>
                  <a:pt x="1005" y="2276"/>
                </a:lnTo>
                <a:lnTo>
                  <a:pt x="1023" y="2329"/>
                </a:lnTo>
                <a:lnTo>
                  <a:pt x="1023" y="2382"/>
                </a:lnTo>
                <a:lnTo>
                  <a:pt x="1040" y="2435"/>
                </a:lnTo>
                <a:lnTo>
                  <a:pt x="1040" y="2470"/>
                </a:lnTo>
                <a:lnTo>
                  <a:pt x="1040" y="2505"/>
                </a:lnTo>
                <a:lnTo>
                  <a:pt x="1040" y="2541"/>
                </a:lnTo>
                <a:lnTo>
                  <a:pt x="1040" y="2576"/>
                </a:lnTo>
                <a:lnTo>
                  <a:pt x="1023" y="2611"/>
                </a:lnTo>
                <a:lnTo>
                  <a:pt x="1023" y="2646"/>
                </a:lnTo>
                <a:lnTo>
                  <a:pt x="1040" y="2611"/>
                </a:lnTo>
                <a:lnTo>
                  <a:pt x="1075" y="2593"/>
                </a:lnTo>
                <a:lnTo>
                  <a:pt x="1075" y="2558"/>
                </a:lnTo>
                <a:lnTo>
                  <a:pt x="1093" y="2523"/>
                </a:lnTo>
                <a:lnTo>
                  <a:pt x="1093" y="2488"/>
                </a:lnTo>
                <a:lnTo>
                  <a:pt x="1111" y="2452"/>
                </a:lnTo>
                <a:lnTo>
                  <a:pt x="1111" y="2417"/>
                </a:lnTo>
                <a:lnTo>
                  <a:pt x="1128" y="2382"/>
                </a:lnTo>
                <a:lnTo>
                  <a:pt x="1146" y="2346"/>
                </a:lnTo>
                <a:lnTo>
                  <a:pt x="1146" y="2311"/>
                </a:lnTo>
                <a:lnTo>
                  <a:pt x="1164" y="2276"/>
                </a:lnTo>
                <a:lnTo>
                  <a:pt x="1164" y="2241"/>
                </a:lnTo>
                <a:lnTo>
                  <a:pt x="1164" y="2205"/>
                </a:lnTo>
                <a:lnTo>
                  <a:pt x="1181" y="2169"/>
                </a:lnTo>
                <a:lnTo>
                  <a:pt x="1181" y="2134"/>
                </a:lnTo>
                <a:lnTo>
                  <a:pt x="1199" y="2099"/>
                </a:lnTo>
                <a:lnTo>
                  <a:pt x="1199" y="2063"/>
                </a:lnTo>
                <a:lnTo>
                  <a:pt x="1217" y="2028"/>
                </a:lnTo>
                <a:lnTo>
                  <a:pt x="1234" y="1957"/>
                </a:lnTo>
                <a:lnTo>
                  <a:pt x="1234" y="1922"/>
                </a:lnTo>
                <a:lnTo>
                  <a:pt x="1270" y="1834"/>
                </a:lnTo>
                <a:lnTo>
                  <a:pt x="1287" y="1799"/>
                </a:lnTo>
                <a:lnTo>
                  <a:pt x="1287" y="1763"/>
                </a:lnTo>
                <a:lnTo>
                  <a:pt x="1305" y="1728"/>
                </a:lnTo>
                <a:lnTo>
                  <a:pt x="1305" y="1693"/>
                </a:lnTo>
                <a:lnTo>
                  <a:pt x="1305" y="1640"/>
                </a:lnTo>
                <a:lnTo>
                  <a:pt x="1322" y="1605"/>
                </a:lnTo>
                <a:lnTo>
                  <a:pt x="1322" y="1569"/>
                </a:lnTo>
                <a:lnTo>
                  <a:pt x="1322" y="1534"/>
                </a:lnTo>
                <a:lnTo>
                  <a:pt x="1340" y="1499"/>
                </a:lnTo>
                <a:lnTo>
                  <a:pt x="1340" y="1464"/>
                </a:lnTo>
                <a:lnTo>
                  <a:pt x="1340" y="1428"/>
                </a:lnTo>
                <a:lnTo>
                  <a:pt x="1358" y="1393"/>
                </a:lnTo>
                <a:lnTo>
                  <a:pt x="1358" y="1340"/>
                </a:lnTo>
                <a:lnTo>
                  <a:pt x="1358" y="1305"/>
                </a:lnTo>
                <a:lnTo>
                  <a:pt x="1375" y="1340"/>
                </a:lnTo>
                <a:lnTo>
                  <a:pt x="1375" y="1375"/>
                </a:lnTo>
                <a:lnTo>
                  <a:pt x="1375" y="1411"/>
                </a:lnTo>
                <a:lnTo>
                  <a:pt x="1375" y="1446"/>
                </a:lnTo>
                <a:lnTo>
                  <a:pt x="1393" y="1481"/>
                </a:lnTo>
                <a:lnTo>
                  <a:pt x="1393" y="1516"/>
                </a:lnTo>
                <a:lnTo>
                  <a:pt x="1411" y="1552"/>
                </a:lnTo>
                <a:lnTo>
                  <a:pt x="1428" y="1587"/>
                </a:lnTo>
                <a:lnTo>
                  <a:pt x="1428" y="1622"/>
                </a:lnTo>
                <a:lnTo>
                  <a:pt x="1446" y="1658"/>
                </a:lnTo>
                <a:lnTo>
                  <a:pt x="1446" y="1693"/>
                </a:lnTo>
                <a:lnTo>
                  <a:pt x="1446" y="1728"/>
                </a:lnTo>
                <a:lnTo>
                  <a:pt x="1464" y="1763"/>
                </a:lnTo>
                <a:lnTo>
                  <a:pt x="1464" y="1799"/>
                </a:lnTo>
                <a:lnTo>
                  <a:pt x="1464" y="1834"/>
                </a:lnTo>
                <a:lnTo>
                  <a:pt x="1481" y="1869"/>
                </a:lnTo>
                <a:lnTo>
                  <a:pt x="1499" y="1905"/>
                </a:lnTo>
                <a:lnTo>
                  <a:pt x="1499" y="1940"/>
                </a:lnTo>
                <a:lnTo>
                  <a:pt x="1516" y="1975"/>
                </a:lnTo>
                <a:lnTo>
                  <a:pt x="1516" y="2010"/>
                </a:lnTo>
                <a:lnTo>
                  <a:pt x="1516" y="2046"/>
                </a:lnTo>
                <a:lnTo>
                  <a:pt x="1534" y="2081"/>
                </a:lnTo>
                <a:lnTo>
                  <a:pt x="1534" y="2116"/>
                </a:lnTo>
                <a:lnTo>
                  <a:pt x="1534" y="2151"/>
                </a:lnTo>
                <a:lnTo>
                  <a:pt x="1552" y="2205"/>
                </a:lnTo>
                <a:lnTo>
                  <a:pt x="1569" y="2241"/>
                </a:lnTo>
                <a:lnTo>
                  <a:pt x="1587" y="2276"/>
                </a:lnTo>
                <a:lnTo>
                  <a:pt x="1605" y="2311"/>
                </a:lnTo>
                <a:lnTo>
                  <a:pt x="1640" y="2382"/>
                </a:lnTo>
                <a:lnTo>
                  <a:pt x="1640" y="2435"/>
                </a:lnTo>
                <a:lnTo>
                  <a:pt x="1658" y="2523"/>
                </a:lnTo>
                <a:lnTo>
                  <a:pt x="1658" y="2558"/>
                </a:lnTo>
                <a:lnTo>
                  <a:pt x="1658" y="2611"/>
                </a:lnTo>
                <a:lnTo>
                  <a:pt x="1658" y="2664"/>
                </a:lnTo>
                <a:lnTo>
                  <a:pt x="1658" y="2699"/>
                </a:lnTo>
                <a:lnTo>
                  <a:pt x="1658" y="2752"/>
                </a:lnTo>
                <a:lnTo>
                  <a:pt x="1658" y="2787"/>
                </a:lnTo>
                <a:lnTo>
                  <a:pt x="1658" y="2858"/>
                </a:lnTo>
                <a:lnTo>
                  <a:pt x="1658" y="2893"/>
                </a:lnTo>
                <a:lnTo>
                  <a:pt x="1658" y="2946"/>
                </a:lnTo>
                <a:lnTo>
                  <a:pt x="1658" y="3017"/>
                </a:lnTo>
                <a:lnTo>
                  <a:pt x="1658" y="3070"/>
                </a:lnTo>
                <a:lnTo>
                  <a:pt x="1658" y="3105"/>
                </a:lnTo>
                <a:lnTo>
                  <a:pt x="1658" y="3158"/>
                </a:lnTo>
                <a:lnTo>
                  <a:pt x="1675" y="3193"/>
                </a:lnTo>
                <a:lnTo>
                  <a:pt x="1675" y="3228"/>
                </a:lnTo>
                <a:lnTo>
                  <a:pt x="1675" y="3264"/>
                </a:lnTo>
                <a:lnTo>
                  <a:pt x="1675" y="3299"/>
                </a:lnTo>
                <a:lnTo>
                  <a:pt x="1693" y="3352"/>
                </a:lnTo>
                <a:lnTo>
                  <a:pt x="1693" y="3387"/>
                </a:lnTo>
                <a:lnTo>
                  <a:pt x="1710" y="3422"/>
                </a:lnTo>
                <a:lnTo>
                  <a:pt x="1710" y="3475"/>
                </a:lnTo>
                <a:lnTo>
                  <a:pt x="1710" y="3511"/>
                </a:lnTo>
                <a:lnTo>
                  <a:pt x="1728" y="3546"/>
                </a:lnTo>
                <a:lnTo>
                  <a:pt x="1728" y="3599"/>
                </a:lnTo>
                <a:lnTo>
                  <a:pt x="1746" y="3634"/>
                </a:lnTo>
                <a:lnTo>
                  <a:pt x="1746" y="3687"/>
                </a:lnTo>
                <a:lnTo>
                  <a:pt x="1763" y="3722"/>
                </a:lnTo>
                <a:lnTo>
                  <a:pt x="1763" y="3758"/>
                </a:lnTo>
                <a:lnTo>
                  <a:pt x="1781" y="3793"/>
                </a:lnTo>
                <a:lnTo>
                  <a:pt x="1799" y="3828"/>
                </a:lnTo>
                <a:lnTo>
                  <a:pt x="1816" y="3881"/>
                </a:lnTo>
                <a:lnTo>
                  <a:pt x="1816" y="3916"/>
                </a:lnTo>
                <a:lnTo>
                  <a:pt x="1852" y="3934"/>
                </a:lnTo>
                <a:lnTo>
                  <a:pt x="1887" y="3934"/>
                </a:lnTo>
                <a:lnTo>
                  <a:pt x="1905" y="3899"/>
                </a:lnTo>
                <a:lnTo>
                  <a:pt x="1940" y="3899"/>
                </a:lnTo>
                <a:lnTo>
                  <a:pt x="1975" y="3899"/>
                </a:lnTo>
                <a:lnTo>
                  <a:pt x="2010" y="3934"/>
                </a:lnTo>
                <a:lnTo>
                  <a:pt x="2028" y="3969"/>
                </a:lnTo>
                <a:lnTo>
                  <a:pt x="2047" y="4005"/>
                </a:lnTo>
                <a:lnTo>
                  <a:pt x="2082" y="4022"/>
                </a:lnTo>
                <a:lnTo>
                  <a:pt x="2117" y="4022"/>
                </a:lnTo>
                <a:lnTo>
                  <a:pt x="2135" y="3987"/>
                </a:lnTo>
                <a:lnTo>
                  <a:pt x="2152" y="4022"/>
                </a:lnTo>
                <a:lnTo>
                  <a:pt x="2170" y="4057"/>
                </a:lnTo>
                <a:lnTo>
                  <a:pt x="2223" y="4093"/>
                </a:lnTo>
                <a:lnTo>
                  <a:pt x="2258" y="4075"/>
                </a:lnTo>
                <a:lnTo>
                  <a:pt x="2294" y="4057"/>
                </a:lnTo>
                <a:lnTo>
                  <a:pt x="2311" y="4093"/>
                </a:lnTo>
                <a:lnTo>
                  <a:pt x="2329" y="4128"/>
                </a:lnTo>
                <a:lnTo>
                  <a:pt x="2364" y="4128"/>
                </a:lnTo>
                <a:lnTo>
                  <a:pt x="2399" y="4146"/>
                </a:lnTo>
                <a:lnTo>
                  <a:pt x="2417" y="4181"/>
                </a:lnTo>
                <a:lnTo>
                  <a:pt x="2452" y="4216"/>
                </a:lnTo>
                <a:lnTo>
                  <a:pt x="2488" y="4234"/>
                </a:lnTo>
                <a:lnTo>
                  <a:pt x="2505" y="4199"/>
                </a:lnTo>
                <a:lnTo>
                  <a:pt x="2541" y="4181"/>
                </a:lnTo>
                <a:lnTo>
                  <a:pt x="2541" y="4146"/>
                </a:lnTo>
                <a:lnTo>
                  <a:pt x="2576" y="4110"/>
                </a:lnTo>
                <a:lnTo>
                  <a:pt x="2576" y="4075"/>
                </a:lnTo>
                <a:lnTo>
                  <a:pt x="2593" y="4040"/>
                </a:lnTo>
                <a:lnTo>
                  <a:pt x="2611" y="4005"/>
                </a:lnTo>
                <a:lnTo>
                  <a:pt x="2629" y="3969"/>
                </a:lnTo>
                <a:lnTo>
                  <a:pt x="2629" y="3916"/>
                </a:lnTo>
                <a:lnTo>
                  <a:pt x="2646" y="3863"/>
                </a:lnTo>
                <a:lnTo>
                  <a:pt x="2664" y="3828"/>
                </a:lnTo>
                <a:lnTo>
                  <a:pt x="2664" y="3793"/>
                </a:lnTo>
                <a:lnTo>
                  <a:pt x="2682" y="3758"/>
                </a:lnTo>
                <a:lnTo>
                  <a:pt x="2682" y="3705"/>
                </a:lnTo>
                <a:lnTo>
                  <a:pt x="2699" y="3669"/>
                </a:lnTo>
                <a:lnTo>
                  <a:pt x="2699" y="3634"/>
                </a:lnTo>
                <a:lnTo>
                  <a:pt x="2735" y="3564"/>
                </a:lnTo>
                <a:lnTo>
                  <a:pt x="2752" y="3511"/>
                </a:lnTo>
                <a:lnTo>
                  <a:pt x="2752" y="3475"/>
                </a:lnTo>
                <a:lnTo>
                  <a:pt x="2752" y="3440"/>
                </a:lnTo>
                <a:lnTo>
                  <a:pt x="2770" y="3405"/>
                </a:lnTo>
                <a:lnTo>
                  <a:pt x="2770" y="3370"/>
                </a:lnTo>
                <a:lnTo>
                  <a:pt x="2787" y="3334"/>
                </a:lnTo>
                <a:lnTo>
                  <a:pt x="2787" y="3299"/>
                </a:lnTo>
                <a:lnTo>
                  <a:pt x="2787" y="3264"/>
                </a:lnTo>
                <a:lnTo>
                  <a:pt x="2805" y="3228"/>
                </a:lnTo>
                <a:lnTo>
                  <a:pt x="2805" y="3193"/>
                </a:lnTo>
                <a:lnTo>
                  <a:pt x="2805" y="3158"/>
                </a:lnTo>
                <a:lnTo>
                  <a:pt x="2823" y="3105"/>
                </a:lnTo>
                <a:lnTo>
                  <a:pt x="2823" y="3052"/>
                </a:lnTo>
                <a:lnTo>
                  <a:pt x="2823" y="3017"/>
                </a:lnTo>
                <a:lnTo>
                  <a:pt x="2840" y="2981"/>
                </a:lnTo>
                <a:lnTo>
                  <a:pt x="2840" y="2946"/>
                </a:lnTo>
                <a:lnTo>
                  <a:pt x="2858" y="2893"/>
                </a:lnTo>
                <a:lnTo>
                  <a:pt x="2858" y="2858"/>
                </a:lnTo>
                <a:lnTo>
                  <a:pt x="2858" y="2823"/>
                </a:lnTo>
                <a:lnTo>
                  <a:pt x="2858" y="2770"/>
                </a:lnTo>
                <a:lnTo>
                  <a:pt x="2858" y="2735"/>
                </a:lnTo>
                <a:lnTo>
                  <a:pt x="2858" y="2699"/>
                </a:lnTo>
                <a:lnTo>
                  <a:pt x="2876" y="2664"/>
                </a:lnTo>
                <a:lnTo>
                  <a:pt x="2876" y="2593"/>
                </a:lnTo>
                <a:lnTo>
                  <a:pt x="2893" y="2558"/>
                </a:lnTo>
                <a:lnTo>
                  <a:pt x="2893" y="2523"/>
                </a:lnTo>
                <a:lnTo>
                  <a:pt x="2893" y="2488"/>
                </a:lnTo>
                <a:lnTo>
                  <a:pt x="2893" y="2435"/>
                </a:lnTo>
                <a:lnTo>
                  <a:pt x="2893" y="2399"/>
                </a:lnTo>
                <a:lnTo>
                  <a:pt x="2893" y="2364"/>
                </a:lnTo>
                <a:lnTo>
                  <a:pt x="2893" y="2329"/>
                </a:lnTo>
                <a:lnTo>
                  <a:pt x="2893" y="2276"/>
                </a:lnTo>
                <a:lnTo>
                  <a:pt x="2893" y="2223"/>
                </a:lnTo>
                <a:lnTo>
                  <a:pt x="2893" y="2187"/>
                </a:lnTo>
                <a:lnTo>
                  <a:pt x="2893" y="2151"/>
                </a:lnTo>
                <a:lnTo>
                  <a:pt x="2911" y="2081"/>
                </a:lnTo>
                <a:lnTo>
                  <a:pt x="2911" y="2046"/>
                </a:lnTo>
                <a:lnTo>
                  <a:pt x="2911" y="2010"/>
                </a:lnTo>
                <a:lnTo>
                  <a:pt x="2911" y="1975"/>
                </a:lnTo>
                <a:lnTo>
                  <a:pt x="2911" y="1905"/>
                </a:lnTo>
                <a:lnTo>
                  <a:pt x="2911" y="1869"/>
                </a:lnTo>
                <a:lnTo>
                  <a:pt x="2929" y="1834"/>
                </a:lnTo>
                <a:lnTo>
                  <a:pt x="2929" y="1799"/>
                </a:lnTo>
                <a:lnTo>
                  <a:pt x="2946" y="1710"/>
                </a:lnTo>
                <a:lnTo>
                  <a:pt x="2946" y="1675"/>
                </a:lnTo>
                <a:lnTo>
                  <a:pt x="2946" y="1640"/>
                </a:lnTo>
                <a:lnTo>
                  <a:pt x="2946" y="1587"/>
                </a:lnTo>
                <a:lnTo>
                  <a:pt x="2964" y="1552"/>
                </a:lnTo>
                <a:lnTo>
                  <a:pt x="2964" y="1516"/>
                </a:lnTo>
                <a:lnTo>
                  <a:pt x="2964" y="1481"/>
                </a:lnTo>
                <a:lnTo>
                  <a:pt x="2981" y="1446"/>
                </a:lnTo>
                <a:lnTo>
                  <a:pt x="2981" y="1411"/>
                </a:lnTo>
                <a:lnTo>
                  <a:pt x="2999" y="1375"/>
                </a:lnTo>
                <a:lnTo>
                  <a:pt x="2999" y="1340"/>
                </a:lnTo>
                <a:lnTo>
                  <a:pt x="2999" y="1305"/>
                </a:lnTo>
                <a:lnTo>
                  <a:pt x="3017" y="1270"/>
                </a:lnTo>
                <a:lnTo>
                  <a:pt x="3017" y="1234"/>
                </a:lnTo>
                <a:lnTo>
                  <a:pt x="3034" y="1181"/>
                </a:lnTo>
                <a:lnTo>
                  <a:pt x="3034" y="1146"/>
                </a:lnTo>
                <a:lnTo>
                  <a:pt x="3034" y="1111"/>
                </a:lnTo>
                <a:lnTo>
                  <a:pt x="3052" y="1075"/>
                </a:lnTo>
                <a:lnTo>
                  <a:pt x="3052" y="1040"/>
                </a:lnTo>
                <a:lnTo>
                  <a:pt x="3070" y="1005"/>
                </a:lnTo>
                <a:lnTo>
                  <a:pt x="3070" y="970"/>
                </a:lnTo>
                <a:lnTo>
                  <a:pt x="3070" y="934"/>
                </a:lnTo>
                <a:lnTo>
                  <a:pt x="3087" y="899"/>
                </a:lnTo>
                <a:lnTo>
                  <a:pt x="3105" y="829"/>
                </a:lnTo>
                <a:lnTo>
                  <a:pt x="3123" y="793"/>
                </a:lnTo>
                <a:lnTo>
                  <a:pt x="3123" y="740"/>
                </a:lnTo>
                <a:lnTo>
                  <a:pt x="3140" y="670"/>
                </a:lnTo>
                <a:lnTo>
                  <a:pt x="3176" y="635"/>
                </a:lnTo>
                <a:lnTo>
                  <a:pt x="3176" y="599"/>
                </a:lnTo>
                <a:lnTo>
                  <a:pt x="3193" y="564"/>
                </a:lnTo>
                <a:lnTo>
                  <a:pt x="3193" y="529"/>
                </a:lnTo>
                <a:lnTo>
                  <a:pt x="3211" y="493"/>
                </a:lnTo>
                <a:lnTo>
                  <a:pt x="3211" y="458"/>
                </a:lnTo>
                <a:lnTo>
                  <a:pt x="3228" y="423"/>
                </a:lnTo>
                <a:lnTo>
                  <a:pt x="3246" y="352"/>
                </a:lnTo>
                <a:lnTo>
                  <a:pt x="3264" y="317"/>
                </a:lnTo>
                <a:lnTo>
                  <a:pt x="3281" y="282"/>
                </a:lnTo>
                <a:lnTo>
                  <a:pt x="3281" y="246"/>
                </a:lnTo>
                <a:lnTo>
                  <a:pt x="3281" y="211"/>
                </a:lnTo>
                <a:lnTo>
                  <a:pt x="3299" y="176"/>
                </a:lnTo>
                <a:lnTo>
                  <a:pt x="3317" y="141"/>
                </a:lnTo>
                <a:lnTo>
                  <a:pt x="3317" y="105"/>
                </a:lnTo>
                <a:lnTo>
                  <a:pt x="3334" y="70"/>
                </a:lnTo>
                <a:lnTo>
                  <a:pt x="3352" y="35"/>
                </a:lnTo>
                <a:lnTo>
                  <a:pt x="3370" y="0"/>
                </a:lnTo>
                <a:lnTo>
                  <a:pt x="3370" y="35"/>
                </a:lnTo>
                <a:lnTo>
                  <a:pt x="3370" y="70"/>
                </a:lnTo>
                <a:lnTo>
                  <a:pt x="3370" y="105"/>
                </a:lnTo>
                <a:lnTo>
                  <a:pt x="3370" y="141"/>
                </a:lnTo>
                <a:lnTo>
                  <a:pt x="3387" y="176"/>
                </a:lnTo>
                <a:lnTo>
                  <a:pt x="3387" y="211"/>
                </a:lnTo>
                <a:lnTo>
                  <a:pt x="3405" y="246"/>
                </a:lnTo>
                <a:lnTo>
                  <a:pt x="3405" y="282"/>
                </a:lnTo>
                <a:lnTo>
                  <a:pt x="3422" y="317"/>
                </a:lnTo>
                <a:lnTo>
                  <a:pt x="3422" y="352"/>
                </a:lnTo>
                <a:lnTo>
                  <a:pt x="3440" y="388"/>
                </a:lnTo>
                <a:lnTo>
                  <a:pt x="3440" y="423"/>
                </a:lnTo>
                <a:lnTo>
                  <a:pt x="3440" y="458"/>
                </a:lnTo>
                <a:lnTo>
                  <a:pt x="3458" y="511"/>
                </a:lnTo>
                <a:lnTo>
                  <a:pt x="3458" y="546"/>
                </a:lnTo>
                <a:lnTo>
                  <a:pt x="3475" y="599"/>
                </a:lnTo>
                <a:lnTo>
                  <a:pt x="3493" y="652"/>
                </a:lnTo>
                <a:lnTo>
                  <a:pt x="3511" y="687"/>
                </a:lnTo>
                <a:lnTo>
                  <a:pt x="3528" y="740"/>
                </a:lnTo>
                <a:lnTo>
                  <a:pt x="3528" y="776"/>
                </a:lnTo>
                <a:lnTo>
                  <a:pt x="3528" y="829"/>
                </a:lnTo>
                <a:lnTo>
                  <a:pt x="3528" y="881"/>
                </a:lnTo>
                <a:lnTo>
                  <a:pt x="3546" y="934"/>
                </a:lnTo>
                <a:lnTo>
                  <a:pt x="3546" y="987"/>
                </a:lnTo>
                <a:lnTo>
                  <a:pt x="3546" y="1023"/>
                </a:lnTo>
                <a:lnTo>
                  <a:pt x="3546" y="1058"/>
                </a:lnTo>
                <a:lnTo>
                  <a:pt x="3564" y="1093"/>
                </a:lnTo>
                <a:lnTo>
                  <a:pt x="3564" y="1128"/>
                </a:lnTo>
                <a:lnTo>
                  <a:pt x="3564" y="1164"/>
                </a:lnTo>
                <a:lnTo>
                  <a:pt x="3581" y="1199"/>
                </a:lnTo>
                <a:lnTo>
                  <a:pt x="3581" y="1234"/>
                </a:lnTo>
                <a:lnTo>
                  <a:pt x="3581" y="1270"/>
                </a:lnTo>
                <a:lnTo>
                  <a:pt x="3599" y="1322"/>
                </a:lnTo>
                <a:lnTo>
                  <a:pt x="3599" y="1358"/>
                </a:lnTo>
                <a:lnTo>
                  <a:pt x="3616" y="1393"/>
                </a:lnTo>
                <a:lnTo>
                  <a:pt x="3634" y="1464"/>
                </a:lnTo>
                <a:lnTo>
                  <a:pt x="3634" y="1499"/>
                </a:lnTo>
                <a:lnTo>
                  <a:pt x="3652" y="1534"/>
                </a:lnTo>
                <a:lnTo>
                  <a:pt x="3652" y="1569"/>
                </a:lnTo>
                <a:lnTo>
                  <a:pt x="3652" y="1605"/>
                </a:lnTo>
                <a:lnTo>
                  <a:pt x="3652" y="1640"/>
                </a:lnTo>
                <a:lnTo>
                  <a:pt x="3669" y="1675"/>
                </a:lnTo>
                <a:lnTo>
                  <a:pt x="3687" y="1710"/>
                </a:lnTo>
                <a:lnTo>
                  <a:pt x="3687" y="1746"/>
                </a:lnTo>
                <a:lnTo>
                  <a:pt x="3687" y="1799"/>
                </a:lnTo>
                <a:lnTo>
                  <a:pt x="3687" y="1834"/>
                </a:lnTo>
                <a:lnTo>
                  <a:pt x="3687" y="1887"/>
                </a:lnTo>
                <a:lnTo>
                  <a:pt x="3687" y="1922"/>
                </a:lnTo>
                <a:lnTo>
                  <a:pt x="3687" y="1957"/>
                </a:lnTo>
                <a:lnTo>
                  <a:pt x="3687" y="1993"/>
                </a:lnTo>
                <a:lnTo>
                  <a:pt x="3687" y="2028"/>
                </a:lnTo>
                <a:lnTo>
                  <a:pt x="3705" y="2063"/>
                </a:lnTo>
                <a:lnTo>
                  <a:pt x="3705" y="2099"/>
                </a:lnTo>
                <a:lnTo>
                  <a:pt x="3705" y="2134"/>
                </a:lnTo>
                <a:lnTo>
                  <a:pt x="3705" y="2169"/>
                </a:lnTo>
                <a:lnTo>
                  <a:pt x="3722" y="2205"/>
                </a:lnTo>
                <a:lnTo>
                  <a:pt x="3722" y="2258"/>
                </a:lnTo>
                <a:lnTo>
                  <a:pt x="3740" y="2294"/>
                </a:lnTo>
                <a:lnTo>
                  <a:pt x="3740" y="2329"/>
                </a:lnTo>
                <a:lnTo>
                  <a:pt x="3740" y="2382"/>
                </a:lnTo>
                <a:lnTo>
                  <a:pt x="3740" y="2417"/>
                </a:lnTo>
                <a:lnTo>
                  <a:pt x="3758" y="2452"/>
                </a:lnTo>
                <a:lnTo>
                  <a:pt x="3758" y="2505"/>
                </a:lnTo>
                <a:lnTo>
                  <a:pt x="3758" y="2541"/>
                </a:lnTo>
                <a:lnTo>
                  <a:pt x="3758" y="2576"/>
                </a:lnTo>
                <a:lnTo>
                  <a:pt x="3775" y="2611"/>
                </a:lnTo>
                <a:lnTo>
                  <a:pt x="3775" y="2664"/>
                </a:lnTo>
                <a:lnTo>
                  <a:pt x="3793" y="2699"/>
                </a:lnTo>
                <a:lnTo>
                  <a:pt x="3793" y="2752"/>
                </a:lnTo>
                <a:lnTo>
                  <a:pt x="3793" y="2787"/>
                </a:lnTo>
                <a:lnTo>
                  <a:pt x="3793" y="2858"/>
                </a:lnTo>
                <a:lnTo>
                  <a:pt x="3793" y="2911"/>
                </a:lnTo>
                <a:lnTo>
                  <a:pt x="3793" y="2946"/>
                </a:lnTo>
                <a:lnTo>
                  <a:pt x="3793" y="2999"/>
                </a:lnTo>
                <a:lnTo>
                  <a:pt x="3793" y="3034"/>
                </a:lnTo>
                <a:lnTo>
                  <a:pt x="3793" y="3070"/>
                </a:lnTo>
                <a:lnTo>
                  <a:pt x="3793" y="3158"/>
                </a:lnTo>
                <a:lnTo>
                  <a:pt x="3793" y="3193"/>
                </a:lnTo>
                <a:lnTo>
                  <a:pt x="3793" y="3228"/>
                </a:lnTo>
                <a:lnTo>
                  <a:pt x="3793" y="3264"/>
                </a:lnTo>
                <a:lnTo>
                  <a:pt x="3793" y="3317"/>
                </a:lnTo>
                <a:lnTo>
                  <a:pt x="3811" y="3370"/>
                </a:lnTo>
                <a:lnTo>
                  <a:pt x="3811" y="3405"/>
                </a:lnTo>
                <a:lnTo>
                  <a:pt x="3811" y="3440"/>
                </a:lnTo>
                <a:lnTo>
                  <a:pt x="3811" y="3475"/>
                </a:lnTo>
                <a:lnTo>
                  <a:pt x="3828" y="3511"/>
                </a:lnTo>
                <a:lnTo>
                  <a:pt x="3828" y="3546"/>
                </a:lnTo>
                <a:lnTo>
                  <a:pt x="3846" y="3581"/>
                </a:lnTo>
                <a:lnTo>
                  <a:pt x="3863" y="3616"/>
                </a:lnTo>
                <a:lnTo>
                  <a:pt x="3863" y="3652"/>
                </a:lnTo>
                <a:lnTo>
                  <a:pt x="3881" y="3687"/>
                </a:lnTo>
                <a:lnTo>
                  <a:pt x="3899" y="3722"/>
                </a:lnTo>
                <a:lnTo>
                  <a:pt x="3899" y="3758"/>
                </a:lnTo>
                <a:lnTo>
                  <a:pt x="3899" y="3793"/>
                </a:lnTo>
                <a:lnTo>
                  <a:pt x="3916" y="3828"/>
                </a:lnTo>
                <a:lnTo>
                  <a:pt x="3934" y="3863"/>
                </a:lnTo>
                <a:lnTo>
                  <a:pt x="3934" y="3899"/>
                </a:lnTo>
                <a:lnTo>
                  <a:pt x="3952" y="3934"/>
                </a:lnTo>
                <a:lnTo>
                  <a:pt x="3952" y="3969"/>
                </a:lnTo>
                <a:lnTo>
                  <a:pt x="3969" y="4005"/>
                </a:lnTo>
                <a:lnTo>
                  <a:pt x="3987" y="4040"/>
                </a:lnTo>
                <a:lnTo>
                  <a:pt x="3987" y="4075"/>
                </a:lnTo>
                <a:lnTo>
                  <a:pt x="4005" y="4110"/>
                </a:lnTo>
                <a:lnTo>
                  <a:pt x="4005" y="4146"/>
                </a:lnTo>
                <a:lnTo>
                  <a:pt x="4005" y="4181"/>
                </a:lnTo>
                <a:lnTo>
                  <a:pt x="4022" y="4216"/>
                </a:lnTo>
                <a:lnTo>
                  <a:pt x="4040" y="4251"/>
                </a:lnTo>
                <a:lnTo>
                  <a:pt x="4057" y="4287"/>
                </a:lnTo>
                <a:lnTo>
                  <a:pt x="4057" y="4322"/>
                </a:lnTo>
                <a:lnTo>
                  <a:pt x="4075" y="4357"/>
                </a:lnTo>
                <a:lnTo>
                  <a:pt x="4093" y="4393"/>
                </a:lnTo>
                <a:lnTo>
                  <a:pt x="0" y="4375"/>
                </a:lnTo>
                <a:close/>
              </a:path>
            </a:pathLst>
          </a:custGeom>
          <a:solidFill>
            <a:srgbClr val="50009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558880" y="3301920"/>
            <a:ext cx="1752840" cy="1492560"/>
          </a:xfrm>
          <a:custGeom>
            <a:avLst/>
            <a:gdLst/>
            <a:ahLst/>
            <a:rect l="0" t="0" r="r" b="b"/>
            <a:pathLst>
              <a:path w="4869" h="4146">
                <a:moveTo>
                  <a:pt x="0" y="4022"/>
                </a:moveTo>
                <a:lnTo>
                  <a:pt x="0" y="3987"/>
                </a:lnTo>
                <a:lnTo>
                  <a:pt x="0" y="3952"/>
                </a:lnTo>
                <a:lnTo>
                  <a:pt x="0" y="3916"/>
                </a:lnTo>
                <a:lnTo>
                  <a:pt x="0" y="3881"/>
                </a:lnTo>
                <a:lnTo>
                  <a:pt x="0" y="3846"/>
                </a:lnTo>
                <a:lnTo>
                  <a:pt x="17" y="3810"/>
                </a:lnTo>
                <a:lnTo>
                  <a:pt x="17" y="3775"/>
                </a:lnTo>
                <a:lnTo>
                  <a:pt x="35" y="3722"/>
                </a:lnTo>
                <a:lnTo>
                  <a:pt x="52" y="3687"/>
                </a:lnTo>
                <a:lnTo>
                  <a:pt x="70" y="3652"/>
                </a:lnTo>
                <a:lnTo>
                  <a:pt x="70" y="3616"/>
                </a:lnTo>
                <a:lnTo>
                  <a:pt x="70" y="3581"/>
                </a:lnTo>
                <a:lnTo>
                  <a:pt x="88" y="3546"/>
                </a:lnTo>
                <a:lnTo>
                  <a:pt x="123" y="3528"/>
                </a:lnTo>
                <a:lnTo>
                  <a:pt x="123" y="3493"/>
                </a:lnTo>
                <a:lnTo>
                  <a:pt x="123" y="3458"/>
                </a:lnTo>
                <a:lnTo>
                  <a:pt x="141" y="3422"/>
                </a:lnTo>
                <a:lnTo>
                  <a:pt x="158" y="3387"/>
                </a:lnTo>
                <a:lnTo>
                  <a:pt x="176" y="3352"/>
                </a:lnTo>
                <a:lnTo>
                  <a:pt x="176" y="3317"/>
                </a:lnTo>
                <a:lnTo>
                  <a:pt x="194" y="3281"/>
                </a:lnTo>
                <a:lnTo>
                  <a:pt x="194" y="3246"/>
                </a:lnTo>
                <a:lnTo>
                  <a:pt x="194" y="3211"/>
                </a:lnTo>
                <a:lnTo>
                  <a:pt x="194" y="3175"/>
                </a:lnTo>
                <a:lnTo>
                  <a:pt x="194" y="3140"/>
                </a:lnTo>
                <a:lnTo>
                  <a:pt x="211" y="3087"/>
                </a:lnTo>
                <a:lnTo>
                  <a:pt x="229" y="3034"/>
                </a:lnTo>
                <a:lnTo>
                  <a:pt x="246" y="2999"/>
                </a:lnTo>
                <a:lnTo>
                  <a:pt x="264" y="2964"/>
                </a:lnTo>
                <a:lnTo>
                  <a:pt x="264" y="2929"/>
                </a:lnTo>
                <a:lnTo>
                  <a:pt x="264" y="2893"/>
                </a:lnTo>
                <a:lnTo>
                  <a:pt x="282" y="2858"/>
                </a:lnTo>
                <a:lnTo>
                  <a:pt x="282" y="2823"/>
                </a:lnTo>
                <a:lnTo>
                  <a:pt x="299" y="2787"/>
                </a:lnTo>
                <a:lnTo>
                  <a:pt x="299" y="2735"/>
                </a:lnTo>
                <a:lnTo>
                  <a:pt x="317" y="2699"/>
                </a:lnTo>
                <a:lnTo>
                  <a:pt x="317" y="2664"/>
                </a:lnTo>
                <a:lnTo>
                  <a:pt x="317" y="2629"/>
                </a:lnTo>
                <a:lnTo>
                  <a:pt x="335" y="2593"/>
                </a:lnTo>
                <a:lnTo>
                  <a:pt x="335" y="2558"/>
                </a:lnTo>
                <a:lnTo>
                  <a:pt x="352" y="2523"/>
                </a:lnTo>
                <a:lnTo>
                  <a:pt x="370" y="2488"/>
                </a:lnTo>
                <a:lnTo>
                  <a:pt x="370" y="2452"/>
                </a:lnTo>
                <a:lnTo>
                  <a:pt x="388" y="2417"/>
                </a:lnTo>
                <a:lnTo>
                  <a:pt x="388" y="2382"/>
                </a:lnTo>
                <a:lnTo>
                  <a:pt x="405" y="2346"/>
                </a:lnTo>
                <a:lnTo>
                  <a:pt x="405" y="2311"/>
                </a:lnTo>
                <a:lnTo>
                  <a:pt x="423" y="2276"/>
                </a:lnTo>
                <a:lnTo>
                  <a:pt x="440" y="2241"/>
                </a:lnTo>
                <a:lnTo>
                  <a:pt x="458" y="2205"/>
                </a:lnTo>
                <a:lnTo>
                  <a:pt x="458" y="2170"/>
                </a:lnTo>
                <a:lnTo>
                  <a:pt x="476" y="2135"/>
                </a:lnTo>
                <a:lnTo>
                  <a:pt x="493" y="2082"/>
                </a:lnTo>
                <a:lnTo>
                  <a:pt x="493" y="2046"/>
                </a:lnTo>
                <a:lnTo>
                  <a:pt x="511" y="2010"/>
                </a:lnTo>
                <a:lnTo>
                  <a:pt x="546" y="1975"/>
                </a:lnTo>
                <a:lnTo>
                  <a:pt x="546" y="1940"/>
                </a:lnTo>
                <a:lnTo>
                  <a:pt x="564" y="1904"/>
                </a:lnTo>
                <a:lnTo>
                  <a:pt x="564" y="1869"/>
                </a:lnTo>
                <a:lnTo>
                  <a:pt x="599" y="1852"/>
                </a:lnTo>
                <a:lnTo>
                  <a:pt x="635" y="1781"/>
                </a:lnTo>
                <a:lnTo>
                  <a:pt x="652" y="1746"/>
                </a:lnTo>
                <a:lnTo>
                  <a:pt x="670" y="1710"/>
                </a:lnTo>
                <a:lnTo>
                  <a:pt x="687" y="1675"/>
                </a:lnTo>
                <a:lnTo>
                  <a:pt x="723" y="1658"/>
                </a:lnTo>
                <a:lnTo>
                  <a:pt x="758" y="1622"/>
                </a:lnTo>
                <a:lnTo>
                  <a:pt x="793" y="1587"/>
                </a:lnTo>
                <a:lnTo>
                  <a:pt x="829" y="1587"/>
                </a:lnTo>
                <a:lnTo>
                  <a:pt x="864" y="1605"/>
                </a:lnTo>
                <a:lnTo>
                  <a:pt x="899" y="1640"/>
                </a:lnTo>
                <a:lnTo>
                  <a:pt x="934" y="1658"/>
                </a:lnTo>
                <a:lnTo>
                  <a:pt x="934" y="1693"/>
                </a:lnTo>
                <a:lnTo>
                  <a:pt x="970" y="1728"/>
                </a:lnTo>
                <a:lnTo>
                  <a:pt x="970" y="1781"/>
                </a:lnTo>
                <a:lnTo>
                  <a:pt x="987" y="1816"/>
                </a:lnTo>
                <a:lnTo>
                  <a:pt x="987" y="1852"/>
                </a:lnTo>
                <a:lnTo>
                  <a:pt x="1005" y="1887"/>
                </a:lnTo>
                <a:lnTo>
                  <a:pt x="1040" y="1904"/>
                </a:lnTo>
                <a:lnTo>
                  <a:pt x="1058" y="1940"/>
                </a:lnTo>
                <a:lnTo>
                  <a:pt x="1058" y="1975"/>
                </a:lnTo>
                <a:lnTo>
                  <a:pt x="1058" y="2010"/>
                </a:lnTo>
                <a:lnTo>
                  <a:pt x="1075" y="2046"/>
                </a:lnTo>
                <a:lnTo>
                  <a:pt x="1093" y="2082"/>
                </a:lnTo>
                <a:lnTo>
                  <a:pt x="1111" y="2117"/>
                </a:lnTo>
                <a:lnTo>
                  <a:pt x="1128" y="2152"/>
                </a:lnTo>
                <a:lnTo>
                  <a:pt x="1146" y="2188"/>
                </a:lnTo>
                <a:lnTo>
                  <a:pt x="1146" y="2241"/>
                </a:lnTo>
                <a:lnTo>
                  <a:pt x="1181" y="2294"/>
                </a:lnTo>
                <a:lnTo>
                  <a:pt x="1217" y="2329"/>
                </a:lnTo>
                <a:lnTo>
                  <a:pt x="1234" y="2364"/>
                </a:lnTo>
                <a:lnTo>
                  <a:pt x="1252" y="2399"/>
                </a:lnTo>
                <a:lnTo>
                  <a:pt x="1252" y="2435"/>
                </a:lnTo>
                <a:lnTo>
                  <a:pt x="1270" y="2470"/>
                </a:lnTo>
                <a:lnTo>
                  <a:pt x="1270" y="2505"/>
                </a:lnTo>
                <a:lnTo>
                  <a:pt x="1270" y="2540"/>
                </a:lnTo>
                <a:lnTo>
                  <a:pt x="1270" y="2593"/>
                </a:lnTo>
                <a:lnTo>
                  <a:pt x="1270" y="2629"/>
                </a:lnTo>
                <a:lnTo>
                  <a:pt x="1270" y="2664"/>
                </a:lnTo>
                <a:lnTo>
                  <a:pt x="1270" y="2699"/>
                </a:lnTo>
                <a:lnTo>
                  <a:pt x="1305" y="2735"/>
                </a:lnTo>
                <a:lnTo>
                  <a:pt x="1340" y="2770"/>
                </a:lnTo>
                <a:lnTo>
                  <a:pt x="1340" y="2805"/>
                </a:lnTo>
                <a:lnTo>
                  <a:pt x="1375" y="2858"/>
                </a:lnTo>
                <a:lnTo>
                  <a:pt x="1393" y="2893"/>
                </a:lnTo>
                <a:lnTo>
                  <a:pt x="1393" y="2929"/>
                </a:lnTo>
                <a:lnTo>
                  <a:pt x="1393" y="2981"/>
                </a:lnTo>
                <a:lnTo>
                  <a:pt x="1411" y="3034"/>
                </a:lnTo>
                <a:lnTo>
                  <a:pt x="1411" y="3070"/>
                </a:lnTo>
                <a:lnTo>
                  <a:pt x="1446" y="3123"/>
                </a:lnTo>
                <a:lnTo>
                  <a:pt x="1464" y="3158"/>
                </a:lnTo>
                <a:lnTo>
                  <a:pt x="1481" y="3193"/>
                </a:lnTo>
                <a:lnTo>
                  <a:pt x="1499" y="3228"/>
                </a:lnTo>
                <a:lnTo>
                  <a:pt x="1499" y="3264"/>
                </a:lnTo>
                <a:lnTo>
                  <a:pt x="1499" y="3299"/>
                </a:lnTo>
                <a:lnTo>
                  <a:pt x="1516" y="3334"/>
                </a:lnTo>
                <a:lnTo>
                  <a:pt x="1534" y="3387"/>
                </a:lnTo>
                <a:lnTo>
                  <a:pt x="1569" y="3405"/>
                </a:lnTo>
                <a:lnTo>
                  <a:pt x="1569" y="3440"/>
                </a:lnTo>
                <a:lnTo>
                  <a:pt x="1587" y="3475"/>
                </a:lnTo>
                <a:lnTo>
                  <a:pt x="1587" y="3511"/>
                </a:lnTo>
                <a:lnTo>
                  <a:pt x="1605" y="3546"/>
                </a:lnTo>
                <a:lnTo>
                  <a:pt x="1622" y="3581"/>
                </a:lnTo>
                <a:lnTo>
                  <a:pt x="1658" y="3616"/>
                </a:lnTo>
                <a:lnTo>
                  <a:pt x="1693" y="3634"/>
                </a:lnTo>
                <a:lnTo>
                  <a:pt x="1728" y="3652"/>
                </a:lnTo>
                <a:lnTo>
                  <a:pt x="1728" y="3687"/>
                </a:lnTo>
                <a:lnTo>
                  <a:pt x="1746" y="3722"/>
                </a:lnTo>
                <a:lnTo>
                  <a:pt x="1763" y="3758"/>
                </a:lnTo>
                <a:lnTo>
                  <a:pt x="1781" y="3793"/>
                </a:lnTo>
                <a:lnTo>
                  <a:pt x="1781" y="3828"/>
                </a:lnTo>
                <a:lnTo>
                  <a:pt x="1799" y="3863"/>
                </a:lnTo>
                <a:lnTo>
                  <a:pt x="1816" y="3916"/>
                </a:lnTo>
                <a:lnTo>
                  <a:pt x="1834" y="3952"/>
                </a:lnTo>
                <a:lnTo>
                  <a:pt x="1869" y="3969"/>
                </a:lnTo>
                <a:lnTo>
                  <a:pt x="1887" y="4005"/>
                </a:lnTo>
                <a:lnTo>
                  <a:pt x="1922" y="4022"/>
                </a:lnTo>
                <a:lnTo>
                  <a:pt x="1922" y="4057"/>
                </a:lnTo>
                <a:lnTo>
                  <a:pt x="1940" y="4093"/>
                </a:lnTo>
                <a:lnTo>
                  <a:pt x="1957" y="4128"/>
                </a:lnTo>
                <a:lnTo>
                  <a:pt x="1993" y="4128"/>
                </a:lnTo>
                <a:lnTo>
                  <a:pt x="2028" y="4110"/>
                </a:lnTo>
                <a:lnTo>
                  <a:pt x="2063" y="4093"/>
                </a:lnTo>
                <a:lnTo>
                  <a:pt x="2081" y="4057"/>
                </a:lnTo>
                <a:lnTo>
                  <a:pt x="2081" y="4022"/>
                </a:lnTo>
                <a:lnTo>
                  <a:pt x="2099" y="3987"/>
                </a:lnTo>
                <a:lnTo>
                  <a:pt x="2116" y="3952"/>
                </a:lnTo>
                <a:lnTo>
                  <a:pt x="2134" y="3916"/>
                </a:lnTo>
                <a:lnTo>
                  <a:pt x="2151" y="3881"/>
                </a:lnTo>
                <a:lnTo>
                  <a:pt x="2169" y="3846"/>
                </a:lnTo>
                <a:lnTo>
                  <a:pt x="2169" y="3810"/>
                </a:lnTo>
                <a:lnTo>
                  <a:pt x="2187" y="3775"/>
                </a:lnTo>
                <a:lnTo>
                  <a:pt x="2204" y="3740"/>
                </a:lnTo>
                <a:lnTo>
                  <a:pt x="2204" y="3705"/>
                </a:lnTo>
                <a:lnTo>
                  <a:pt x="2204" y="3652"/>
                </a:lnTo>
                <a:lnTo>
                  <a:pt x="2222" y="3599"/>
                </a:lnTo>
                <a:lnTo>
                  <a:pt x="2240" y="3564"/>
                </a:lnTo>
                <a:lnTo>
                  <a:pt x="2240" y="3528"/>
                </a:lnTo>
                <a:lnTo>
                  <a:pt x="2257" y="3475"/>
                </a:lnTo>
                <a:lnTo>
                  <a:pt x="2293" y="3422"/>
                </a:lnTo>
                <a:lnTo>
                  <a:pt x="2293" y="3387"/>
                </a:lnTo>
                <a:lnTo>
                  <a:pt x="2328" y="3317"/>
                </a:lnTo>
                <a:lnTo>
                  <a:pt x="2328" y="3264"/>
                </a:lnTo>
                <a:lnTo>
                  <a:pt x="2345" y="3228"/>
                </a:lnTo>
                <a:lnTo>
                  <a:pt x="2363" y="3193"/>
                </a:lnTo>
                <a:lnTo>
                  <a:pt x="2363" y="3140"/>
                </a:lnTo>
                <a:lnTo>
                  <a:pt x="2381" y="3087"/>
                </a:lnTo>
                <a:lnTo>
                  <a:pt x="2381" y="3052"/>
                </a:lnTo>
                <a:lnTo>
                  <a:pt x="2398" y="3017"/>
                </a:lnTo>
                <a:lnTo>
                  <a:pt x="2398" y="2964"/>
                </a:lnTo>
                <a:lnTo>
                  <a:pt x="2416" y="2911"/>
                </a:lnTo>
                <a:lnTo>
                  <a:pt x="2434" y="2858"/>
                </a:lnTo>
                <a:lnTo>
                  <a:pt x="2434" y="2823"/>
                </a:lnTo>
                <a:lnTo>
                  <a:pt x="2452" y="2735"/>
                </a:lnTo>
                <a:lnTo>
                  <a:pt x="2452" y="2699"/>
                </a:lnTo>
                <a:lnTo>
                  <a:pt x="2452" y="2664"/>
                </a:lnTo>
                <a:lnTo>
                  <a:pt x="2470" y="2593"/>
                </a:lnTo>
                <a:lnTo>
                  <a:pt x="2488" y="2540"/>
                </a:lnTo>
                <a:lnTo>
                  <a:pt x="2488" y="2505"/>
                </a:lnTo>
                <a:lnTo>
                  <a:pt x="2488" y="2470"/>
                </a:lnTo>
                <a:lnTo>
                  <a:pt x="2505" y="2435"/>
                </a:lnTo>
                <a:lnTo>
                  <a:pt x="2523" y="2399"/>
                </a:lnTo>
                <a:lnTo>
                  <a:pt x="2541" y="2346"/>
                </a:lnTo>
                <a:lnTo>
                  <a:pt x="2541" y="2311"/>
                </a:lnTo>
                <a:lnTo>
                  <a:pt x="2558" y="2276"/>
                </a:lnTo>
                <a:lnTo>
                  <a:pt x="2558" y="2241"/>
                </a:lnTo>
                <a:lnTo>
                  <a:pt x="2558" y="2205"/>
                </a:lnTo>
                <a:lnTo>
                  <a:pt x="2576" y="2170"/>
                </a:lnTo>
                <a:lnTo>
                  <a:pt x="2611" y="2135"/>
                </a:lnTo>
                <a:lnTo>
                  <a:pt x="2629" y="2100"/>
                </a:lnTo>
                <a:lnTo>
                  <a:pt x="2664" y="2082"/>
                </a:lnTo>
                <a:lnTo>
                  <a:pt x="2664" y="2046"/>
                </a:lnTo>
                <a:lnTo>
                  <a:pt x="2699" y="2028"/>
                </a:lnTo>
                <a:lnTo>
                  <a:pt x="2699" y="2063"/>
                </a:lnTo>
                <a:lnTo>
                  <a:pt x="2717" y="2100"/>
                </a:lnTo>
                <a:lnTo>
                  <a:pt x="2752" y="2100"/>
                </a:lnTo>
                <a:lnTo>
                  <a:pt x="2787" y="2135"/>
                </a:lnTo>
                <a:lnTo>
                  <a:pt x="2823" y="2152"/>
                </a:lnTo>
                <a:lnTo>
                  <a:pt x="2858" y="2188"/>
                </a:lnTo>
                <a:lnTo>
                  <a:pt x="2858" y="2223"/>
                </a:lnTo>
                <a:lnTo>
                  <a:pt x="2876" y="2258"/>
                </a:lnTo>
                <a:lnTo>
                  <a:pt x="2911" y="2311"/>
                </a:lnTo>
                <a:lnTo>
                  <a:pt x="2929" y="2346"/>
                </a:lnTo>
                <a:lnTo>
                  <a:pt x="2964" y="2382"/>
                </a:lnTo>
                <a:lnTo>
                  <a:pt x="2964" y="2417"/>
                </a:lnTo>
                <a:lnTo>
                  <a:pt x="2981" y="2452"/>
                </a:lnTo>
                <a:lnTo>
                  <a:pt x="2981" y="2488"/>
                </a:lnTo>
                <a:lnTo>
                  <a:pt x="2999" y="2540"/>
                </a:lnTo>
                <a:lnTo>
                  <a:pt x="2999" y="2576"/>
                </a:lnTo>
                <a:lnTo>
                  <a:pt x="3017" y="2611"/>
                </a:lnTo>
                <a:lnTo>
                  <a:pt x="3052" y="2611"/>
                </a:lnTo>
                <a:lnTo>
                  <a:pt x="3070" y="2664"/>
                </a:lnTo>
                <a:lnTo>
                  <a:pt x="3087" y="2717"/>
                </a:lnTo>
                <a:lnTo>
                  <a:pt x="3105" y="2752"/>
                </a:lnTo>
                <a:lnTo>
                  <a:pt x="3105" y="2787"/>
                </a:lnTo>
                <a:lnTo>
                  <a:pt x="3158" y="2876"/>
                </a:lnTo>
                <a:lnTo>
                  <a:pt x="3158" y="2911"/>
                </a:lnTo>
                <a:lnTo>
                  <a:pt x="3193" y="2929"/>
                </a:lnTo>
                <a:lnTo>
                  <a:pt x="3211" y="2964"/>
                </a:lnTo>
                <a:lnTo>
                  <a:pt x="3228" y="3034"/>
                </a:lnTo>
                <a:lnTo>
                  <a:pt x="3228" y="3070"/>
                </a:lnTo>
                <a:lnTo>
                  <a:pt x="3246" y="3105"/>
                </a:lnTo>
                <a:lnTo>
                  <a:pt x="3246" y="3140"/>
                </a:lnTo>
                <a:lnTo>
                  <a:pt x="3246" y="3175"/>
                </a:lnTo>
                <a:lnTo>
                  <a:pt x="3264" y="3228"/>
                </a:lnTo>
                <a:lnTo>
                  <a:pt x="3299" y="3281"/>
                </a:lnTo>
                <a:lnTo>
                  <a:pt x="3317" y="3352"/>
                </a:lnTo>
                <a:lnTo>
                  <a:pt x="3317" y="3405"/>
                </a:lnTo>
                <a:lnTo>
                  <a:pt x="3334" y="3440"/>
                </a:lnTo>
                <a:lnTo>
                  <a:pt x="3352" y="3475"/>
                </a:lnTo>
                <a:lnTo>
                  <a:pt x="3370" y="3511"/>
                </a:lnTo>
                <a:lnTo>
                  <a:pt x="3387" y="3546"/>
                </a:lnTo>
                <a:lnTo>
                  <a:pt x="3387" y="3581"/>
                </a:lnTo>
                <a:lnTo>
                  <a:pt x="3405" y="3616"/>
                </a:lnTo>
                <a:lnTo>
                  <a:pt x="3405" y="3652"/>
                </a:lnTo>
                <a:lnTo>
                  <a:pt x="3422" y="3687"/>
                </a:lnTo>
                <a:lnTo>
                  <a:pt x="3422" y="3722"/>
                </a:lnTo>
                <a:lnTo>
                  <a:pt x="3440" y="3758"/>
                </a:lnTo>
                <a:lnTo>
                  <a:pt x="3458" y="3793"/>
                </a:lnTo>
                <a:lnTo>
                  <a:pt x="3458" y="3846"/>
                </a:lnTo>
                <a:lnTo>
                  <a:pt x="3458" y="3881"/>
                </a:lnTo>
                <a:lnTo>
                  <a:pt x="3475" y="3916"/>
                </a:lnTo>
                <a:lnTo>
                  <a:pt x="3493" y="3969"/>
                </a:lnTo>
                <a:lnTo>
                  <a:pt x="3528" y="4005"/>
                </a:lnTo>
                <a:lnTo>
                  <a:pt x="3528" y="4040"/>
                </a:lnTo>
                <a:lnTo>
                  <a:pt x="3564" y="4057"/>
                </a:lnTo>
                <a:lnTo>
                  <a:pt x="3564" y="4093"/>
                </a:lnTo>
                <a:lnTo>
                  <a:pt x="3599" y="4110"/>
                </a:lnTo>
                <a:lnTo>
                  <a:pt x="3634" y="4093"/>
                </a:lnTo>
                <a:lnTo>
                  <a:pt x="3669" y="4057"/>
                </a:lnTo>
                <a:lnTo>
                  <a:pt x="3669" y="4093"/>
                </a:lnTo>
                <a:lnTo>
                  <a:pt x="3687" y="4057"/>
                </a:lnTo>
                <a:lnTo>
                  <a:pt x="3722" y="4040"/>
                </a:lnTo>
                <a:lnTo>
                  <a:pt x="3740" y="4005"/>
                </a:lnTo>
                <a:lnTo>
                  <a:pt x="3740" y="4040"/>
                </a:lnTo>
                <a:lnTo>
                  <a:pt x="3740" y="4075"/>
                </a:lnTo>
                <a:lnTo>
                  <a:pt x="3775" y="4093"/>
                </a:lnTo>
                <a:lnTo>
                  <a:pt x="3810" y="4075"/>
                </a:lnTo>
                <a:lnTo>
                  <a:pt x="3846" y="4075"/>
                </a:lnTo>
                <a:lnTo>
                  <a:pt x="3881" y="4057"/>
                </a:lnTo>
                <a:lnTo>
                  <a:pt x="3899" y="4093"/>
                </a:lnTo>
                <a:lnTo>
                  <a:pt x="3916" y="4057"/>
                </a:lnTo>
                <a:lnTo>
                  <a:pt x="3916" y="4022"/>
                </a:lnTo>
                <a:lnTo>
                  <a:pt x="3916" y="3987"/>
                </a:lnTo>
                <a:lnTo>
                  <a:pt x="3916" y="3952"/>
                </a:lnTo>
                <a:lnTo>
                  <a:pt x="3916" y="3916"/>
                </a:lnTo>
                <a:lnTo>
                  <a:pt x="3916" y="3881"/>
                </a:lnTo>
                <a:lnTo>
                  <a:pt x="3916" y="3846"/>
                </a:lnTo>
                <a:lnTo>
                  <a:pt x="3934" y="3810"/>
                </a:lnTo>
                <a:lnTo>
                  <a:pt x="3934" y="3775"/>
                </a:lnTo>
                <a:lnTo>
                  <a:pt x="3952" y="3740"/>
                </a:lnTo>
                <a:lnTo>
                  <a:pt x="3952" y="3687"/>
                </a:lnTo>
                <a:lnTo>
                  <a:pt x="3969" y="3652"/>
                </a:lnTo>
                <a:lnTo>
                  <a:pt x="3969" y="3599"/>
                </a:lnTo>
                <a:lnTo>
                  <a:pt x="3987" y="3564"/>
                </a:lnTo>
                <a:lnTo>
                  <a:pt x="3987" y="3528"/>
                </a:lnTo>
                <a:lnTo>
                  <a:pt x="3987" y="3493"/>
                </a:lnTo>
                <a:lnTo>
                  <a:pt x="3987" y="3458"/>
                </a:lnTo>
                <a:lnTo>
                  <a:pt x="4005" y="3422"/>
                </a:lnTo>
                <a:lnTo>
                  <a:pt x="4022" y="3387"/>
                </a:lnTo>
                <a:lnTo>
                  <a:pt x="4022" y="3352"/>
                </a:lnTo>
                <a:lnTo>
                  <a:pt x="4022" y="3317"/>
                </a:lnTo>
                <a:lnTo>
                  <a:pt x="4040" y="3281"/>
                </a:lnTo>
                <a:lnTo>
                  <a:pt x="4040" y="3246"/>
                </a:lnTo>
                <a:lnTo>
                  <a:pt x="4040" y="3211"/>
                </a:lnTo>
                <a:lnTo>
                  <a:pt x="4040" y="3175"/>
                </a:lnTo>
                <a:lnTo>
                  <a:pt x="4040" y="3140"/>
                </a:lnTo>
                <a:lnTo>
                  <a:pt x="4040" y="3105"/>
                </a:lnTo>
                <a:lnTo>
                  <a:pt x="4040" y="3070"/>
                </a:lnTo>
                <a:lnTo>
                  <a:pt x="4040" y="3034"/>
                </a:lnTo>
                <a:lnTo>
                  <a:pt x="4040" y="2999"/>
                </a:lnTo>
                <a:lnTo>
                  <a:pt x="4040" y="2964"/>
                </a:lnTo>
                <a:lnTo>
                  <a:pt x="4040" y="2929"/>
                </a:lnTo>
                <a:lnTo>
                  <a:pt x="4040" y="2893"/>
                </a:lnTo>
                <a:lnTo>
                  <a:pt x="4040" y="2858"/>
                </a:lnTo>
                <a:lnTo>
                  <a:pt x="4040" y="2823"/>
                </a:lnTo>
                <a:lnTo>
                  <a:pt x="4040" y="2787"/>
                </a:lnTo>
                <a:lnTo>
                  <a:pt x="4040" y="2752"/>
                </a:lnTo>
                <a:lnTo>
                  <a:pt x="4022" y="2717"/>
                </a:lnTo>
                <a:lnTo>
                  <a:pt x="4022" y="2682"/>
                </a:lnTo>
                <a:lnTo>
                  <a:pt x="4022" y="2646"/>
                </a:lnTo>
                <a:lnTo>
                  <a:pt x="4022" y="2611"/>
                </a:lnTo>
                <a:lnTo>
                  <a:pt x="4022" y="2576"/>
                </a:lnTo>
                <a:lnTo>
                  <a:pt x="4022" y="2523"/>
                </a:lnTo>
                <a:lnTo>
                  <a:pt x="4022" y="2470"/>
                </a:lnTo>
                <a:lnTo>
                  <a:pt x="4040" y="2435"/>
                </a:lnTo>
                <a:lnTo>
                  <a:pt x="4040" y="2399"/>
                </a:lnTo>
                <a:lnTo>
                  <a:pt x="4040" y="2346"/>
                </a:lnTo>
                <a:lnTo>
                  <a:pt x="4040" y="2294"/>
                </a:lnTo>
                <a:lnTo>
                  <a:pt x="4040" y="2241"/>
                </a:lnTo>
                <a:lnTo>
                  <a:pt x="4040" y="2205"/>
                </a:lnTo>
                <a:lnTo>
                  <a:pt x="4040" y="2170"/>
                </a:lnTo>
                <a:lnTo>
                  <a:pt x="4040" y="2135"/>
                </a:lnTo>
                <a:lnTo>
                  <a:pt x="4057" y="2100"/>
                </a:lnTo>
                <a:lnTo>
                  <a:pt x="4057" y="2046"/>
                </a:lnTo>
                <a:lnTo>
                  <a:pt x="4057" y="2010"/>
                </a:lnTo>
                <a:lnTo>
                  <a:pt x="4057" y="1975"/>
                </a:lnTo>
                <a:lnTo>
                  <a:pt x="4057" y="1940"/>
                </a:lnTo>
                <a:lnTo>
                  <a:pt x="4075" y="1904"/>
                </a:lnTo>
                <a:lnTo>
                  <a:pt x="4075" y="1869"/>
                </a:lnTo>
                <a:lnTo>
                  <a:pt x="4075" y="1834"/>
                </a:lnTo>
                <a:lnTo>
                  <a:pt x="4075" y="1799"/>
                </a:lnTo>
                <a:lnTo>
                  <a:pt x="4075" y="1746"/>
                </a:lnTo>
                <a:lnTo>
                  <a:pt x="4093" y="1710"/>
                </a:lnTo>
                <a:lnTo>
                  <a:pt x="4093" y="1675"/>
                </a:lnTo>
                <a:lnTo>
                  <a:pt x="4093" y="1640"/>
                </a:lnTo>
                <a:lnTo>
                  <a:pt x="4110" y="1605"/>
                </a:lnTo>
                <a:lnTo>
                  <a:pt x="4110" y="1569"/>
                </a:lnTo>
                <a:lnTo>
                  <a:pt x="4128" y="1516"/>
                </a:lnTo>
                <a:lnTo>
                  <a:pt x="4128" y="1481"/>
                </a:lnTo>
                <a:lnTo>
                  <a:pt x="4146" y="1446"/>
                </a:lnTo>
                <a:lnTo>
                  <a:pt x="4146" y="1411"/>
                </a:lnTo>
                <a:lnTo>
                  <a:pt x="4146" y="1375"/>
                </a:lnTo>
                <a:lnTo>
                  <a:pt x="4163" y="1340"/>
                </a:lnTo>
                <a:lnTo>
                  <a:pt x="4163" y="1305"/>
                </a:lnTo>
                <a:lnTo>
                  <a:pt x="4163" y="1269"/>
                </a:lnTo>
                <a:lnTo>
                  <a:pt x="4163" y="1234"/>
                </a:lnTo>
                <a:lnTo>
                  <a:pt x="4163" y="1199"/>
                </a:lnTo>
                <a:lnTo>
                  <a:pt x="4163" y="1164"/>
                </a:lnTo>
                <a:lnTo>
                  <a:pt x="4181" y="1128"/>
                </a:lnTo>
                <a:lnTo>
                  <a:pt x="4181" y="1093"/>
                </a:lnTo>
                <a:lnTo>
                  <a:pt x="4181" y="1058"/>
                </a:lnTo>
                <a:lnTo>
                  <a:pt x="4181" y="1023"/>
                </a:lnTo>
                <a:lnTo>
                  <a:pt x="4199" y="987"/>
                </a:lnTo>
                <a:lnTo>
                  <a:pt x="4199" y="952"/>
                </a:lnTo>
                <a:lnTo>
                  <a:pt x="4199" y="917"/>
                </a:lnTo>
                <a:lnTo>
                  <a:pt x="4216" y="881"/>
                </a:lnTo>
                <a:lnTo>
                  <a:pt x="4216" y="846"/>
                </a:lnTo>
                <a:lnTo>
                  <a:pt x="4216" y="811"/>
                </a:lnTo>
                <a:lnTo>
                  <a:pt x="4216" y="776"/>
                </a:lnTo>
                <a:lnTo>
                  <a:pt x="4216" y="723"/>
                </a:lnTo>
                <a:lnTo>
                  <a:pt x="4216" y="687"/>
                </a:lnTo>
                <a:lnTo>
                  <a:pt x="4216" y="652"/>
                </a:lnTo>
                <a:lnTo>
                  <a:pt x="4216" y="617"/>
                </a:lnTo>
                <a:lnTo>
                  <a:pt x="4216" y="564"/>
                </a:lnTo>
                <a:lnTo>
                  <a:pt x="4216" y="529"/>
                </a:lnTo>
                <a:lnTo>
                  <a:pt x="4216" y="476"/>
                </a:lnTo>
                <a:lnTo>
                  <a:pt x="4216" y="440"/>
                </a:lnTo>
                <a:lnTo>
                  <a:pt x="4216" y="405"/>
                </a:lnTo>
                <a:lnTo>
                  <a:pt x="4216" y="352"/>
                </a:lnTo>
                <a:lnTo>
                  <a:pt x="4216" y="317"/>
                </a:lnTo>
                <a:lnTo>
                  <a:pt x="4216" y="282"/>
                </a:lnTo>
                <a:lnTo>
                  <a:pt x="4234" y="246"/>
                </a:lnTo>
                <a:lnTo>
                  <a:pt x="4234" y="211"/>
                </a:lnTo>
                <a:lnTo>
                  <a:pt x="4234" y="176"/>
                </a:lnTo>
                <a:lnTo>
                  <a:pt x="4251" y="141"/>
                </a:lnTo>
                <a:lnTo>
                  <a:pt x="4251" y="105"/>
                </a:lnTo>
                <a:lnTo>
                  <a:pt x="4251" y="70"/>
                </a:lnTo>
                <a:lnTo>
                  <a:pt x="4269" y="35"/>
                </a:lnTo>
                <a:lnTo>
                  <a:pt x="4287" y="0"/>
                </a:lnTo>
                <a:lnTo>
                  <a:pt x="4287" y="35"/>
                </a:lnTo>
                <a:lnTo>
                  <a:pt x="4287" y="70"/>
                </a:lnTo>
                <a:lnTo>
                  <a:pt x="4287" y="105"/>
                </a:lnTo>
                <a:lnTo>
                  <a:pt x="4287" y="158"/>
                </a:lnTo>
                <a:lnTo>
                  <a:pt x="4287" y="194"/>
                </a:lnTo>
                <a:lnTo>
                  <a:pt x="4304" y="229"/>
                </a:lnTo>
                <a:lnTo>
                  <a:pt x="4304" y="264"/>
                </a:lnTo>
                <a:lnTo>
                  <a:pt x="4322" y="299"/>
                </a:lnTo>
                <a:lnTo>
                  <a:pt x="4322" y="335"/>
                </a:lnTo>
                <a:lnTo>
                  <a:pt x="4322" y="370"/>
                </a:lnTo>
                <a:lnTo>
                  <a:pt x="4340" y="405"/>
                </a:lnTo>
                <a:lnTo>
                  <a:pt x="4340" y="440"/>
                </a:lnTo>
                <a:lnTo>
                  <a:pt x="4340" y="476"/>
                </a:lnTo>
                <a:lnTo>
                  <a:pt x="4357" y="511"/>
                </a:lnTo>
                <a:lnTo>
                  <a:pt x="4357" y="546"/>
                </a:lnTo>
                <a:lnTo>
                  <a:pt x="4357" y="582"/>
                </a:lnTo>
                <a:lnTo>
                  <a:pt x="4357" y="617"/>
                </a:lnTo>
                <a:lnTo>
                  <a:pt x="4357" y="670"/>
                </a:lnTo>
                <a:lnTo>
                  <a:pt x="4357" y="705"/>
                </a:lnTo>
                <a:lnTo>
                  <a:pt x="4375" y="740"/>
                </a:lnTo>
                <a:lnTo>
                  <a:pt x="4375" y="776"/>
                </a:lnTo>
                <a:lnTo>
                  <a:pt x="4375" y="829"/>
                </a:lnTo>
                <a:lnTo>
                  <a:pt x="4375" y="864"/>
                </a:lnTo>
                <a:lnTo>
                  <a:pt x="4393" y="899"/>
                </a:lnTo>
                <a:lnTo>
                  <a:pt x="4410" y="934"/>
                </a:lnTo>
                <a:lnTo>
                  <a:pt x="4410" y="970"/>
                </a:lnTo>
                <a:lnTo>
                  <a:pt x="4410" y="1005"/>
                </a:lnTo>
                <a:lnTo>
                  <a:pt x="4428" y="1040"/>
                </a:lnTo>
                <a:lnTo>
                  <a:pt x="4428" y="1075"/>
                </a:lnTo>
                <a:lnTo>
                  <a:pt x="4428" y="1111"/>
                </a:lnTo>
                <a:lnTo>
                  <a:pt x="4428" y="1146"/>
                </a:lnTo>
                <a:lnTo>
                  <a:pt x="4428" y="1181"/>
                </a:lnTo>
                <a:lnTo>
                  <a:pt x="4428" y="1217"/>
                </a:lnTo>
                <a:lnTo>
                  <a:pt x="4428" y="1269"/>
                </a:lnTo>
                <a:lnTo>
                  <a:pt x="4428" y="1305"/>
                </a:lnTo>
                <a:lnTo>
                  <a:pt x="4428" y="1358"/>
                </a:lnTo>
                <a:lnTo>
                  <a:pt x="4428" y="1393"/>
                </a:lnTo>
                <a:lnTo>
                  <a:pt x="4428" y="1428"/>
                </a:lnTo>
                <a:lnTo>
                  <a:pt x="4428" y="1464"/>
                </a:lnTo>
                <a:lnTo>
                  <a:pt x="4428" y="1499"/>
                </a:lnTo>
                <a:lnTo>
                  <a:pt x="4428" y="1534"/>
                </a:lnTo>
                <a:lnTo>
                  <a:pt x="4428" y="1569"/>
                </a:lnTo>
                <a:lnTo>
                  <a:pt x="4428" y="1605"/>
                </a:lnTo>
                <a:lnTo>
                  <a:pt x="4428" y="1640"/>
                </a:lnTo>
                <a:lnTo>
                  <a:pt x="4428" y="1675"/>
                </a:lnTo>
                <a:lnTo>
                  <a:pt x="4428" y="1710"/>
                </a:lnTo>
                <a:lnTo>
                  <a:pt x="4445" y="1781"/>
                </a:lnTo>
                <a:lnTo>
                  <a:pt x="4445" y="1834"/>
                </a:lnTo>
                <a:lnTo>
                  <a:pt x="4445" y="1887"/>
                </a:lnTo>
                <a:lnTo>
                  <a:pt x="4445" y="1922"/>
                </a:lnTo>
                <a:lnTo>
                  <a:pt x="4445" y="1957"/>
                </a:lnTo>
                <a:lnTo>
                  <a:pt x="4445" y="2010"/>
                </a:lnTo>
                <a:lnTo>
                  <a:pt x="4463" y="2046"/>
                </a:lnTo>
                <a:lnTo>
                  <a:pt x="4463" y="2082"/>
                </a:lnTo>
                <a:lnTo>
                  <a:pt x="4463" y="2117"/>
                </a:lnTo>
                <a:lnTo>
                  <a:pt x="4481" y="2152"/>
                </a:lnTo>
                <a:lnTo>
                  <a:pt x="4498" y="2188"/>
                </a:lnTo>
                <a:lnTo>
                  <a:pt x="4498" y="2223"/>
                </a:lnTo>
                <a:lnTo>
                  <a:pt x="4516" y="2258"/>
                </a:lnTo>
                <a:lnTo>
                  <a:pt x="4516" y="2294"/>
                </a:lnTo>
                <a:lnTo>
                  <a:pt x="4534" y="2329"/>
                </a:lnTo>
                <a:lnTo>
                  <a:pt x="4534" y="2364"/>
                </a:lnTo>
                <a:lnTo>
                  <a:pt x="4551" y="2399"/>
                </a:lnTo>
                <a:lnTo>
                  <a:pt x="4551" y="2435"/>
                </a:lnTo>
                <a:lnTo>
                  <a:pt x="4551" y="2470"/>
                </a:lnTo>
                <a:lnTo>
                  <a:pt x="4551" y="2505"/>
                </a:lnTo>
                <a:lnTo>
                  <a:pt x="4551" y="2540"/>
                </a:lnTo>
                <a:lnTo>
                  <a:pt x="4551" y="2576"/>
                </a:lnTo>
                <a:lnTo>
                  <a:pt x="4551" y="2611"/>
                </a:lnTo>
                <a:lnTo>
                  <a:pt x="4551" y="2664"/>
                </a:lnTo>
                <a:lnTo>
                  <a:pt x="4551" y="2699"/>
                </a:lnTo>
                <a:lnTo>
                  <a:pt x="4551" y="2735"/>
                </a:lnTo>
                <a:lnTo>
                  <a:pt x="4551" y="2770"/>
                </a:lnTo>
                <a:lnTo>
                  <a:pt x="4569" y="2805"/>
                </a:lnTo>
                <a:lnTo>
                  <a:pt x="4569" y="2840"/>
                </a:lnTo>
                <a:lnTo>
                  <a:pt x="4569" y="2876"/>
                </a:lnTo>
                <a:lnTo>
                  <a:pt x="4569" y="2929"/>
                </a:lnTo>
                <a:lnTo>
                  <a:pt x="4569" y="2964"/>
                </a:lnTo>
                <a:lnTo>
                  <a:pt x="4587" y="2999"/>
                </a:lnTo>
                <a:lnTo>
                  <a:pt x="4587" y="3034"/>
                </a:lnTo>
                <a:lnTo>
                  <a:pt x="4587" y="3070"/>
                </a:lnTo>
                <a:lnTo>
                  <a:pt x="4604" y="3123"/>
                </a:lnTo>
                <a:lnTo>
                  <a:pt x="4604" y="3158"/>
                </a:lnTo>
                <a:lnTo>
                  <a:pt x="4622" y="3193"/>
                </a:lnTo>
                <a:lnTo>
                  <a:pt x="4640" y="3228"/>
                </a:lnTo>
                <a:lnTo>
                  <a:pt x="4640" y="3264"/>
                </a:lnTo>
                <a:lnTo>
                  <a:pt x="4640" y="3299"/>
                </a:lnTo>
                <a:lnTo>
                  <a:pt x="4640" y="3334"/>
                </a:lnTo>
                <a:lnTo>
                  <a:pt x="4640" y="3370"/>
                </a:lnTo>
                <a:lnTo>
                  <a:pt x="4657" y="3440"/>
                </a:lnTo>
                <a:lnTo>
                  <a:pt x="4657" y="3475"/>
                </a:lnTo>
                <a:lnTo>
                  <a:pt x="4657" y="3511"/>
                </a:lnTo>
                <a:lnTo>
                  <a:pt x="4657" y="3546"/>
                </a:lnTo>
                <a:lnTo>
                  <a:pt x="4675" y="3599"/>
                </a:lnTo>
                <a:lnTo>
                  <a:pt x="4675" y="3634"/>
                </a:lnTo>
                <a:lnTo>
                  <a:pt x="4675" y="3669"/>
                </a:lnTo>
                <a:lnTo>
                  <a:pt x="4692" y="3705"/>
                </a:lnTo>
                <a:lnTo>
                  <a:pt x="4710" y="3740"/>
                </a:lnTo>
                <a:lnTo>
                  <a:pt x="4710" y="3775"/>
                </a:lnTo>
                <a:lnTo>
                  <a:pt x="4710" y="3810"/>
                </a:lnTo>
                <a:lnTo>
                  <a:pt x="4728" y="3846"/>
                </a:lnTo>
                <a:lnTo>
                  <a:pt x="4728" y="3881"/>
                </a:lnTo>
                <a:lnTo>
                  <a:pt x="4728" y="3916"/>
                </a:lnTo>
                <a:lnTo>
                  <a:pt x="4745" y="3952"/>
                </a:lnTo>
                <a:lnTo>
                  <a:pt x="4763" y="3987"/>
                </a:lnTo>
                <a:lnTo>
                  <a:pt x="4781" y="4022"/>
                </a:lnTo>
                <a:lnTo>
                  <a:pt x="4798" y="4057"/>
                </a:lnTo>
                <a:lnTo>
                  <a:pt x="4816" y="4093"/>
                </a:lnTo>
                <a:lnTo>
                  <a:pt x="4834" y="4128"/>
                </a:lnTo>
                <a:lnTo>
                  <a:pt x="4869" y="4146"/>
                </a:lnTo>
                <a:lnTo>
                  <a:pt x="0" y="4022"/>
                </a:lnTo>
                <a:close/>
              </a:path>
            </a:pathLst>
          </a:custGeom>
          <a:solidFill>
            <a:srgbClr val="fe9b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746600" y="3411360"/>
            <a:ext cx="1591200" cy="1391040"/>
          </a:xfrm>
          <a:custGeom>
            <a:avLst/>
            <a:gdLst/>
            <a:ahLst/>
            <a:rect l="0" t="0" r="r" b="b"/>
            <a:pathLst>
              <a:path w="4420" h="3864">
                <a:moveTo>
                  <a:pt x="4" y="3864"/>
                </a:moveTo>
                <a:lnTo>
                  <a:pt x="0" y="3829"/>
                </a:lnTo>
                <a:lnTo>
                  <a:pt x="0" y="3794"/>
                </a:lnTo>
                <a:lnTo>
                  <a:pt x="17" y="3759"/>
                </a:lnTo>
                <a:lnTo>
                  <a:pt x="17" y="3723"/>
                </a:lnTo>
                <a:lnTo>
                  <a:pt x="13" y="3688"/>
                </a:lnTo>
                <a:lnTo>
                  <a:pt x="13" y="3653"/>
                </a:lnTo>
                <a:lnTo>
                  <a:pt x="13" y="3617"/>
                </a:lnTo>
                <a:lnTo>
                  <a:pt x="8" y="3582"/>
                </a:lnTo>
                <a:lnTo>
                  <a:pt x="8" y="3547"/>
                </a:lnTo>
                <a:lnTo>
                  <a:pt x="44" y="3529"/>
                </a:lnTo>
                <a:lnTo>
                  <a:pt x="79" y="3512"/>
                </a:lnTo>
                <a:lnTo>
                  <a:pt x="97" y="3476"/>
                </a:lnTo>
                <a:lnTo>
                  <a:pt x="92" y="3441"/>
                </a:lnTo>
                <a:lnTo>
                  <a:pt x="110" y="3401"/>
                </a:lnTo>
                <a:lnTo>
                  <a:pt x="127" y="3366"/>
                </a:lnTo>
                <a:lnTo>
                  <a:pt x="123" y="3331"/>
                </a:lnTo>
                <a:lnTo>
                  <a:pt x="141" y="3296"/>
                </a:lnTo>
                <a:lnTo>
                  <a:pt x="141" y="3260"/>
                </a:lnTo>
                <a:lnTo>
                  <a:pt x="141" y="3225"/>
                </a:lnTo>
                <a:lnTo>
                  <a:pt x="171" y="3190"/>
                </a:lnTo>
                <a:lnTo>
                  <a:pt x="171" y="3154"/>
                </a:lnTo>
                <a:lnTo>
                  <a:pt x="202" y="3066"/>
                </a:lnTo>
                <a:lnTo>
                  <a:pt x="238" y="3009"/>
                </a:lnTo>
                <a:lnTo>
                  <a:pt x="255" y="2974"/>
                </a:lnTo>
                <a:lnTo>
                  <a:pt x="251" y="2938"/>
                </a:lnTo>
                <a:lnTo>
                  <a:pt x="268" y="2903"/>
                </a:lnTo>
                <a:lnTo>
                  <a:pt x="304" y="2867"/>
                </a:lnTo>
                <a:lnTo>
                  <a:pt x="317" y="2814"/>
                </a:lnTo>
                <a:lnTo>
                  <a:pt x="352" y="2757"/>
                </a:lnTo>
                <a:lnTo>
                  <a:pt x="388" y="2721"/>
                </a:lnTo>
                <a:lnTo>
                  <a:pt x="383" y="2686"/>
                </a:lnTo>
                <a:lnTo>
                  <a:pt x="401" y="2651"/>
                </a:lnTo>
                <a:lnTo>
                  <a:pt x="418" y="2615"/>
                </a:lnTo>
                <a:lnTo>
                  <a:pt x="436" y="2580"/>
                </a:lnTo>
                <a:lnTo>
                  <a:pt x="485" y="2505"/>
                </a:lnTo>
                <a:lnTo>
                  <a:pt x="515" y="2435"/>
                </a:lnTo>
                <a:lnTo>
                  <a:pt x="533" y="2399"/>
                </a:lnTo>
                <a:lnTo>
                  <a:pt x="551" y="2364"/>
                </a:lnTo>
                <a:lnTo>
                  <a:pt x="568" y="2311"/>
                </a:lnTo>
                <a:lnTo>
                  <a:pt x="582" y="2272"/>
                </a:lnTo>
                <a:lnTo>
                  <a:pt x="599" y="2219"/>
                </a:lnTo>
                <a:lnTo>
                  <a:pt x="612" y="2166"/>
                </a:lnTo>
                <a:lnTo>
                  <a:pt x="612" y="2095"/>
                </a:lnTo>
                <a:lnTo>
                  <a:pt x="643" y="2007"/>
                </a:lnTo>
                <a:lnTo>
                  <a:pt x="643" y="1972"/>
                </a:lnTo>
                <a:lnTo>
                  <a:pt x="661" y="1936"/>
                </a:lnTo>
                <a:lnTo>
                  <a:pt x="674" y="1883"/>
                </a:lnTo>
                <a:lnTo>
                  <a:pt x="692" y="1844"/>
                </a:lnTo>
                <a:lnTo>
                  <a:pt x="687" y="1791"/>
                </a:lnTo>
                <a:lnTo>
                  <a:pt x="705" y="1756"/>
                </a:lnTo>
                <a:lnTo>
                  <a:pt x="705" y="1720"/>
                </a:lnTo>
                <a:lnTo>
                  <a:pt x="723" y="1685"/>
                </a:lnTo>
                <a:lnTo>
                  <a:pt x="736" y="1650"/>
                </a:lnTo>
                <a:lnTo>
                  <a:pt x="736" y="1614"/>
                </a:lnTo>
                <a:lnTo>
                  <a:pt x="754" y="1562"/>
                </a:lnTo>
                <a:lnTo>
                  <a:pt x="767" y="1526"/>
                </a:lnTo>
                <a:lnTo>
                  <a:pt x="802" y="1469"/>
                </a:lnTo>
                <a:lnTo>
                  <a:pt x="802" y="1434"/>
                </a:lnTo>
                <a:lnTo>
                  <a:pt x="815" y="1398"/>
                </a:lnTo>
                <a:lnTo>
                  <a:pt x="833" y="1345"/>
                </a:lnTo>
                <a:lnTo>
                  <a:pt x="851" y="1293"/>
                </a:lnTo>
                <a:lnTo>
                  <a:pt x="864" y="1257"/>
                </a:lnTo>
                <a:lnTo>
                  <a:pt x="881" y="1222"/>
                </a:lnTo>
                <a:lnTo>
                  <a:pt x="881" y="1187"/>
                </a:lnTo>
                <a:lnTo>
                  <a:pt x="877" y="1151"/>
                </a:lnTo>
                <a:lnTo>
                  <a:pt x="895" y="1116"/>
                </a:lnTo>
                <a:lnTo>
                  <a:pt x="895" y="1081"/>
                </a:lnTo>
                <a:lnTo>
                  <a:pt x="890" y="1028"/>
                </a:lnTo>
                <a:lnTo>
                  <a:pt x="908" y="988"/>
                </a:lnTo>
                <a:lnTo>
                  <a:pt x="908" y="952"/>
                </a:lnTo>
                <a:lnTo>
                  <a:pt x="908" y="917"/>
                </a:lnTo>
                <a:lnTo>
                  <a:pt x="903" y="881"/>
                </a:lnTo>
                <a:lnTo>
                  <a:pt x="903" y="846"/>
                </a:lnTo>
                <a:lnTo>
                  <a:pt x="974" y="811"/>
                </a:lnTo>
                <a:lnTo>
                  <a:pt x="921" y="776"/>
                </a:lnTo>
                <a:lnTo>
                  <a:pt x="952" y="740"/>
                </a:lnTo>
                <a:lnTo>
                  <a:pt x="917" y="705"/>
                </a:lnTo>
                <a:lnTo>
                  <a:pt x="934" y="652"/>
                </a:lnTo>
                <a:lnTo>
                  <a:pt x="948" y="617"/>
                </a:lnTo>
                <a:lnTo>
                  <a:pt x="948" y="582"/>
                </a:lnTo>
                <a:lnTo>
                  <a:pt x="948" y="529"/>
                </a:lnTo>
                <a:lnTo>
                  <a:pt x="943" y="493"/>
                </a:lnTo>
                <a:lnTo>
                  <a:pt x="943" y="458"/>
                </a:lnTo>
                <a:lnTo>
                  <a:pt x="943" y="423"/>
                </a:lnTo>
                <a:lnTo>
                  <a:pt x="939" y="370"/>
                </a:lnTo>
                <a:lnTo>
                  <a:pt x="939" y="335"/>
                </a:lnTo>
                <a:lnTo>
                  <a:pt x="939" y="299"/>
                </a:lnTo>
                <a:lnTo>
                  <a:pt x="934" y="246"/>
                </a:lnTo>
                <a:lnTo>
                  <a:pt x="934" y="211"/>
                </a:lnTo>
                <a:lnTo>
                  <a:pt x="934" y="176"/>
                </a:lnTo>
                <a:lnTo>
                  <a:pt x="930" y="141"/>
                </a:lnTo>
                <a:lnTo>
                  <a:pt x="930" y="105"/>
                </a:lnTo>
                <a:lnTo>
                  <a:pt x="930" y="70"/>
                </a:lnTo>
                <a:lnTo>
                  <a:pt x="930" y="35"/>
                </a:lnTo>
                <a:lnTo>
                  <a:pt x="926" y="0"/>
                </a:lnTo>
                <a:lnTo>
                  <a:pt x="912" y="35"/>
                </a:lnTo>
                <a:lnTo>
                  <a:pt x="912" y="70"/>
                </a:lnTo>
                <a:lnTo>
                  <a:pt x="912" y="105"/>
                </a:lnTo>
                <a:lnTo>
                  <a:pt x="895" y="141"/>
                </a:lnTo>
                <a:lnTo>
                  <a:pt x="899" y="176"/>
                </a:lnTo>
                <a:lnTo>
                  <a:pt x="881" y="211"/>
                </a:lnTo>
                <a:lnTo>
                  <a:pt x="881" y="246"/>
                </a:lnTo>
                <a:lnTo>
                  <a:pt x="886" y="299"/>
                </a:lnTo>
                <a:lnTo>
                  <a:pt x="886" y="335"/>
                </a:lnTo>
                <a:lnTo>
                  <a:pt x="886" y="370"/>
                </a:lnTo>
                <a:lnTo>
                  <a:pt x="890" y="405"/>
                </a:lnTo>
                <a:lnTo>
                  <a:pt x="873" y="445"/>
                </a:lnTo>
                <a:lnTo>
                  <a:pt x="873" y="480"/>
                </a:lnTo>
                <a:lnTo>
                  <a:pt x="873" y="515"/>
                </a:lnTo>
                <a:lnTo>
                  <a:pt x="877" y="551"/>
                </a:lnTo>
                <a:lnTo>
                  <a:pt x="895" y="582"/>
                </a:lnTo>
                <a:lnTo>
                  <a:pt x="895" y="617"/>
                </a:lnTo>
                <a:lnTo>
                  <a:pt x="899" y="652"/>
                </a:lnTo>
                <a:lnTo>
                  <a:pt x="899" y="687"/>
                </a:lnTo>
                <a:lnTo>
                  <a:pt x="899" y="723"/>
                </a:lnTo>
                <a:lnTo>
                  <a:pt x="899" y="758"/>
                </a:lnTo>
                <a:lnTo>
                  <a:pt x="903" y="793"/>
                </a:lnTo>
                <a:lnTo>
                  <a:pt x="903" y="829"/>
                </a:lnTo>
                <a:lnTo>
                  <a:pt x="921" y="864"/>
                </a:lnTo>
                <a:lnTo>
                  <a:pt x="978" y="917"/>
                </a:lnTo>
                <a:lnTo>
                  <a:pt x="961" y="934"/>
                </a:lnTo>
                <a:lnTo>
                  <a:pt x="926" y="971"/>
                </a:lnTo>
                <a:lnTo>
                  <a:pt x="943" y="1006"/>
                </a:lnTo>
                <a:lnTo>
                  <a:pt x="948" y="1041"/>
                </a:lnTo>
                <a:lnTo>
                  <a:pt x="948" y="1076"/>
                </a:lnTo>
                <a:lnTo>
                  <a:pt x="965" y="1112"/>
                </a:lnTo>
                <a:lnTo>
                  <a:pt x="1001" y="1129"/>
                </a:lnTo>
                <a:lnTo>
                  <a:pt x="1018" y="1094"/>
                </a:lnTo>
                <a:lnTo>
                  <a:pt x="1053" y="1054"/>
                </a:lnTo>
                <a:lnTo>
                  <a:pt x="1067" y="1019"/>
                </a:lnTo>
                <a:lnTo>
                  <a:pt x="1102" y="965"/>
                </a:lnTo>
                <a:lnTo>
                  <a:pt x="1102" y="930"/>
                </a:lnTo>
                <a:lnTo>
                  <a:pt x="1098" y="895"/>
                </a:lnTo>
                <a:lnTo>
                  <a:pt x="1098" y="859"/>
                </a:lnTo>
                <a:lnTo>
                  <a:pt x="1098" y="824"/>
                </a:lnTo>
                <a:lnTo>
                  <a:pt x="1116" y="789"/>
                </a:lnTo>
                <a:lnTo>
                  <a:pt x="1129" y="736"/>
                </a:lnTo>
                <a:lnTo>
                  <a:pt x="1165" y="679"/>
                </a:lnTo>
                <a:lnTo>
                  <a:pt x="1178" y="626"/>
                </a:lnTo>
                <a:lnTo>
                  <a:pt x="1178" y="590"/>
                </a:lnTo>
                <a:lnTo>
                  <a:pt x="1196" y="555"/>
                </a:lnTo>
                <a:lnTo>
                  <a:pt x="1196" y="520"/>
                </a:lnTo>
                <a:lnTo>
                  <a:pt x="1191" y="485"/>
                </a:lnTo>
                <a:lnTo>
                  <a:pt x="1173" y="449"/>
                </a:lnTo>
                <a:lnTo>
                  <a:pt x="1173" y="414"/>
                </a:lnTo>
                <a:lnTo>
                  <a:pt x="1169" y="379"/>
                </a:lnTo>
                <a:lnTo>
                  <a:pt x="1169" y="343"/>
                </a:lnTo>
                <a:lnTo>
                  <a:pt x="1169" y="308"/>
                </a:lnTo>
                <a:lnTo>
                  <a:pt x="1187" y="273"/>
                </a:lnTo>
                <a:lnTo>
                  <a:pt x="1187" y="308"/>
                </a:lnTo>
                <a:lnTo>
                  <a:pt x="1187" y="343"/>
                </a:lnTo>
                <a:lnTo>
                  <a:pt x="1187" y="379"/>
                </a:lnTo>
                <a:lnTo>
                  <a:pt x="1191" y="414"/>
                </a:lnTo>
                <a:lnTo>
                  <a:pt x="1209" y="467"/>
                </a:lnTo>
                <a:lnTo>
                  <a:pt x="1209" y="502"/>
                </a:lnTo>
                <a:lnTo>
                  <a:pt x="1213" y="537"/>
                </a:lnTo>
                <a:lnTo>
                  <a:pt x="1213" y="573"/>
                </a:lnTo>
                <a:lnTo>
                  <a:pt x="1231" y="608"/>
                </a:lnTo>
                <a:lnTo>
                  <a:pt x="1235" y="643"/>
                </a:lnTo>
                <a:lnTo>
                  <a:pt x="1235" y="679"/>
                </a:lnTo>
                <a:lnTo>
                  <a:pt x="1253" y="714"/>
                </a:lnTo>
                <a:lnTo>
                  <a:pt x="1253" y="749"/>
                </a:lnTo>
                <a:lnTo>
                  <a:pt x="1275" y="802"/>
                </a:lnTo>
                <a:lnTo>
                  <a:pt x="1275" y="837"/>
                </a:lnTo>
                <a:lnTo>
                  <a:pt x="1275" y="873"/>
                </a:lnTo>
                <a:lnTo>
                  <a:pt x="1279" y="908"/>
                </a:lnTo>
                <a:lnTo>
                  <a:pt x="1279" y="943"/>
                </a:lnTo>
                <a:lnTo>
                  <a:pt x="1297" y="993"/>
                </a:lnTo>
                <a:lnTo>
                  <a:pt x="1332" y="993"/>
                </a:lnTo>
                <a:lnTo>
                  <a:pt x="1350" y="956"/>
                </a:lnTo>
                <a:lnTo>
                  <a:pt x="1368" y="921"/>
                </a:lnTo>
                <a:lnTo>
                  <a:pt x="1350" y="956"/>
                </a:lnTo>
                <a:lnTo>
                  <a:pt x="1332" y="993"/>
                </a:lnTo>
                <a:lnTo>
                  <a:pt x="1337" y="1028"/>
                </a:lnTo>
                <a:lnTo>
                  <a:pt x="1354" y="1063"/>
                </a:lnTo>
                <a:lnTo>
                  <a:pt x="1372" y="1099"/>
                </a:lnTo>
                <a:lnTo>
                  <a:pt x="1372" y="1134"/>
                </a:lnTo>
                <a:lnTo>
                  <a:pt x="1394" y="1169"/>
                </a:lnTo>
                <a:lnTo>
                  <a:pt x="1394" y="1204"/>
                </a:lnTo>
                <a:lnTo>
                  <a:pt x="1412" y="1240"/>
                </a:lnTo>
                <a:lnTo>
                  <a:pt x="1416" y="1275"/>
                </a:lnTo>
                <a:lnTo>
                  <a:pt x="1416" y="1310"/>
                </a:lnTo>
                <a:lnTo>
                  <a:pt x="1434" y="1341"/>
                </a:lnTo>
                <a:lnTo>
                  <a:pt x="1438" y="1394"/>
                </a:lnTo>
                <a:lnTo>
                  <a:pt x="1438" y="1429"/>
                </a:lnTo>
                <a:lnTo>
                  <a:pt x="1456" y="1482"/>
                </a:lnTo>
                <a:lnTo>
                  <a:pt x="1495" y="1606"/>
                </a:lnTo>
                <a:lnTo>
                  <a:pt x="1500" y="1659"/>
                </a:lnTo>
                <a:lnTo>
                  <a:pt x="1535" y="1711"/>
                </a:lnTo>
                <a:lnTo>
                  <a:pt x="1553" y="1747"/>
                </a:lnTo>
                <a:lnTo>
                  <a:pt x="1557" y="1800"/>
                </a:lnTo>
                <a:lnTo>
                  <a:pt x="1592" y="1795"/>
                </a:lnTo>
                <a:lnTo>
                  <a:pt x="1610" y="1848"/>
                </a:lnTo>
                <a:lnTo>
                  <a:pt x="1632" y="1901"/>
                </a:lnTo>
                <a:lnTo>
                  <a:pt x="1632" y="1936"/>
                </a:lnTo>
                <a:lnTo>
                  <a:pt x="1650" y="1972"/>
                </a:lnTo>
                <a:lnTo>
                  <a:pt x="1650" y="2007"/>
                </a:lnTo>
                <a:lnTo>
                  <a:pt x="1654" y="2042"/>
                </a:lnTo>
                <a:lnTo>
                  <a:pt x="1672" y="2077"/>
                </a:lnTo>
                <a:lnTo>
                  <a:pt x="1672" y="2113"/>
                </a:lnTo>
                <a:lnTo>
                  <a:pt x="1694" y="2148"/>
                </a:lnTo>
                <a:lnTo>
                  <a:pt x="1694" y="2183"/>
                </a:lnTo>
                <a:lnTo>
                  <a:pt x="1711" y="2214"/>
                </a:lnTo>
                <a:lnTo>
                  <a:pt x="1711" y="2249"/>
                </a:lnTo>
                <a:lnTo>
                  <a:pt x="1716" y="2285"/>
                </a:lnTo>
                <a:lnTo>
                  <a:pt x="1716" y="2320"/>
                </a:lnTo>
                <a:lnTo>
                  <a:pt x="1716" y="2355"/>
                </a:lnTo>
                <a:lnTo>
                  <a:pt x="1738" y="2408"/>
                </a:lnTo>
                <a:lnTo>
                  <a:pt x="1738" y="2443"/>
                </a:lnTo>
                <a:lnTo>
                  <a:pt x="1756" y="2496"/>
                </a:lnTo>
                <a:lnTo>
                  <a:pt x="1760" y="2532"/>
                </a:lnTo>
                <a:lnTo>
                  <a:pt x="1778" y="2585"/>
                </a:lnTo>
                <a:lnTo>
                  <a:pt x="1795" y="2620"/>
                </a:lnTo>
                <a:lnTo>
                  <a:pt x="1817" y="2673"/>
                </a:lnTo>
                <a:lnTo>
                  <a:pt x="1817" y="2708"/>
                </a:lnTo>
                <a:lnTo>
                  <a:pt x="1817" y="2743"/>
                </a:lnTo>
                <a:lnTo>
                  <a:pt x="1839" y="2779"/>
                </a:lnTo>
                <a:lnTo>
                  <a:pt x="1839" y="2814"/>
                </a:lnTo>
                <a:lnTo>
                  <a:pt x="1839" y="2849"/>
                </a:lnTo>
                <a:lnTo>
                  <a:pt x="1857" y="2884"/>
                </a:lnTo>
                <a:lnTo>
                  <a:pt x="1879" y="2916"/>
                </a:lnTo>
                <a:lnTo>
                  <a:pt x="1879" y="2969"/>
                </a:lnTo>
                <a:lnTo>
                  <a:pt x="1897" y="3005"/>
                </a:lnTo>
                <a:lnTo>
                  <a:pt x="1901" y="3040"/>
                </a:lnTo>
                <a:lnTo>
                  <a:pt x="1901" y="3075"/>
                </a:lnTo>
                <a:lnTo>
                  <a:pt x="1901" y="3110"/>
                </a:lnTo>
                <a:lnTo>
                  <a:pt x="1901" y="3146"/>
                </a:lnTo>
                <a:lnTo>
                  <a:pt x="1906" y="3181"/>
                </a:lnTo>
                <a:lnTo>
                  <a:pt x="1906" y="3216"/>
                </a:lnTo>
                <a:lnTo>
                  <a:pt x="1906" y="3251"/>
                </a:lnTo>
                <a:lnTo>
                  <a:pt x="1941" y="3234"/>
                </a:lnTo>
                <a:lnTo>
                  <a:pt x="1941" y="3269"/>
                </a:lnTo>
                <a:lnTo>
                  <a:pt x="1945" y="3304"/>
                </a:lnTo>
                <a:lnTo>
                  <a:pt x="1963" y="3375"/>
                </a:lnTo>
                <a:lnTo>
                  <a:pt x="1967" y="3445"/>
                </a:lnTo>
                <a:lnTo>
                  <a:pt x="1985" y="3481"/>
                </a:lnTo>
                <a:lnTo>
                  <a:pt x="2007" y="3534"/>
                </a:lnTo>
                <a:lnTo>
                  <a:pt x="2025" y="3582"/>
                </a:lnTo>
                <a:lnTo>
                  <a:pt x="2042" y="3617"/>
                </a:lnTo>
                <a:lnTo>
                  <a:pt x="2060" y="3582"/>
                </a:lnTo>
                <a:lnTo>
                  <a:pt x="2077" y="3547"/>
                </a:lnTo>
                <a:lnTo>
                  <a:pt x="2091" y="3512"/>
                </a:lnTo>
                <a:lnTo>
                  <a:pt x="2108" y="3476"/>
                </a:lnTo>
                <a:lnTo>
                  <a:pt x="2126" y="3441"/>
                </a:lnTo>
                <a:lnTo>
                  <a:pt x="2144" y="3401"/>
                </a:lnTo>
                <a:lnTo>
                  <a:pt x="2139" y="3366"/>
                </a:lnTo>
                <a:lnTo>
                  <a:pt x="2174" y="3348"/>
                </a:lnTo>
                <a:lnTo>
                  <a:pt x="2210" y="3331"/>
                </a:lnTo>
                <a:lnTo>
                  <a:pt x="2245" y="3331"/>
                </a:lnTo>
                <a:lnTo>
                  <a:pt x="2245" y="3384"/>
                </a:lnTo>
                <a:lnTo>
                  <a:pt x="2280" y="3379"/>
                </a:lnTo>
                <a:lnTo>
                  <a:pt x="2302" y="3415"/>
                </a:lnTo>
                <a:lnTo>
                  <a:pt x="2320" y="3450"/>
                </a:lnTo>
                <a:lnTo>
                  <a:pt x="2338" y="3485"/>
                </a:lnTo>
                <a:lnTo>
                  <a:pt x="2360" y="3538"/>
                </a:lnTo>
                <a:lnTo>
                  <a:pt x="2395" y="3587"/>
                </a:lnTo>
                <a:lnTo>
                  <a:pt x="2430" y="3604"/>
                </a:lnTo>
                <a:lnTo>
                  <a:pt x="2435" y="3640"/>
                </a:lnTo>
                <a:lnTo>
                  <a:pt x="2435" y="3675"/>
                </a:lnTo>
                <a:lnTo>
                  <a:pt x="2452" y="3640"/>
                </a:lnTo>
                <a:lnTo>
                  <a:pt x="2488" y="3640"/>
                </a:lnTo>
                <a:lnTo>
                  <a:pt x="2505" y="3675"/>
                </a:lnTo>
                <a:lnTo>
                  <a:pt x="2541" y="3688"/>
                </a:lnTo>
                <a:lnTo>
                  <a:pt x="2541" y="3723"/>
                </a:lnTo>
                <a:lnTo>
                  <a:pt x="2576" y="3706"/>
                </a:lnTo>
                <a:lnTo>
                  <a:pt x="2611" y="3670"/>
                </a:lnTo>
                <a:lnTo>
                  <a:pt x="2629" y="3635"/>
                </a:lnTo>
                <a:lnTo>
                  <a:pt x="2660" y="3595"/>
                </a:lnTo>
                <a:lnTo>
                  <a:pt x="2695" y="3560"/>
                </a:lnTo>
                <a:lnTo>
                  <a:pt x="2695" y="3595"/>
                </a:lnTo>
                <a:lnTo>
                  <a:pt x="2730" y="3595"/>
                </a:lnTo>
                <a:lnTo>
                  <a:pt x="2730" y="3560"/>
                </a:lnTo>
                <a:lnTo>
                  <a:pt x="2748" y="3525"/>
                </a:lnTo>
                <a:lnTo>
                  <a:pt x="2779" y="3485"/>
                </a:lnTo>
                <a:lnTo>
                  <a:pt x="2801" y="3520"/>
                </a:lnTo>
                <a:lnTo>
                  <a:pt x="2836" y="3520"/>
                </a:lnTo>
                <a:lnTo>
                  <a:pt x="2849" y="3485"/>
                </a:lnTo>
                <a:lnTo>
                  <a:pt x="2884" y="3485"/>
                </a:lnTo>
                <a:lnTo>
                  <a:pt x="2920" y="3481"/>
                </a:lnTo>
                <a:lnTo>
                  <a:pt x="2959" y="3498"/>
                </a:lnTo>
                <a:lnTo>
                  <a:pt x="2977" y="3534"/>
                </a:lnTo>
                <a:lnTo>
                  <a:pt x="2995" y="3569"/>
                </a:lnTo>
                <a:lnTo>
                  <a:pt x="3030" y="3582"/>
                </a:lnTo>
                <a:lnTo>
                  <a:pt x="3065" y="3600"/>
                </a:lnTo>
                <a:lnTo>
                  <a:pt x="3105" y="3617"/>
                </a:lnTo>
                <a:lnTo>
                  <a:pt x="3140" y="3617"/>
                </a:lnTo>
                <a:lnTo>
                  <a:pt x="3140" y="3653"/>
                </a:lnTo>
                <a:lnTo>
                  <a:pt x="3140" y="3617"/>
                </a:lnTo>
                <a:lnTo>
                  <a:pt x="3153" y="3578"/>
                </a:lnTo>
                <a:lnTo>
                  <a:pt x="3153" y="3543"/>
                </a:lnTo>
                <a:lnTo>
                  <a:pt x="3171" y="3507"/>
                </a:lnTo>
                <a:lnTo>
                  <a:pt x="3184" y="3472"/>
                </a:lnTo>
                <a:lnTo>
                  <a:pt x="3202" y="3437"/>
                </a:lnTo>
                <a:lnTo>
                  <a:pt x="3220" y="3401"/>
                </a:lnTo>
                <a:lnTo>
                  <a:pt x="3220" y="3366"/>
                </a:lnTo>
                <a:lnTo>
                  <a:pt x="3233" y="3331"/>
                </a:lnTo>
                <a:lnTo>
                  <a:pt x="3233" y="3296"/>
                </a:lnTo>
                <a:lnTo>
                  <a:pt x="3250" y="3243"/>
                </a:lnTo>
                <a:lnTo>
                  <a:pt x="3246" y="3207"/>
                </a:lnTo>
                <a:lnTo>
                  <a:pt x="3246" y="3172"/>
                </a:lnTo>
                <a:lnTo>
                  <a:pt x="3264" y="3132"/>
                </a:lnTo>
                <a:lnTo>
                  <a:pt x="3259" y="3097"/>
                </a:lnTo>
                <a:lnTo>
                  <a:pt x="3277" y="3062"/>
                </a:lnTo>
                <a:lnTo>
                  <a:pt x="3277" y="3009"/>
                </a:lnTo>
                <a:lnTo>
                  <a:pt x="3295" y="2974"/>
                </a:lnTo>
                <a:lnTo>
                  <a:pt x="3290" y="2938"/>
                </a:lnTo>
                <a:lnTo>
                  <a:pt x="3308" y="2903"/>
                </a:lnTo>
                <a:lnTo>
                  <a:pt x="3308" y="2867"/>
                </a:lnTo>
                <a:lnTo>
                  <a:pt x="3322" y="2832"/>
                </a:lnTo>
                <a:lnTo>
                  <a:pt x="3340" y="2796"/>
                </a:lnTo>
                <a:lnTo>
                  <a:pt x="3357" y="2743"/>
                </a:lnTo>
                <a:lnTo>
                  <a:pt x="3371" y="2708"/>
                </a:lnTo>
                <a:lnTo>
                  <a:pt x="3371" y="2673"/>
                </a:lnTo>
                <a:lnTo>
                  <a:pt x="3388" y="2633"/>
                </a:lnTo>
                <a:lnTo>
                  <a:pt x="3406" y="2598"/>
                </a:lnTo>
                <a:lnTo>
                  <a:pt x="3401" y="2563"/>
                </a:lnTo>
                <a:lnTo>
                  <a:pt x="3419" y="2510"/>
                </a:lnTo>
                <a:lnTo>
                  <a:pt x="3419" y="2474"/>
                </a:lnTo>
                <a:lnTo>
                  <a:pt x="3432" y="2439"/>
                </a:lnTo>
                <a:lnTo>
                  <a:pt x="3468" y="2369"/>
                </a:lnTo>
                <a:lnTo>
                  <a:pt x="3463" y="2333"/>
                </a:lnTo>
                <a:lnTo>
                  <a:pt x="3463" y="2298"/>
                </a:lnTo>
                <a:lnTo>
                  <a:pt x="3481" y="2245"/>
                </a:lnTo>
                <a:lnTo>
                  <a:pt x="3498" y="2205"/>
                </a:lnTo>
                <a:lnTo>
                  <a:pt x="3494" y="2170"/>
                </a:lnTo>
                <a:lnTo>
                  <a:pt x="3494" y="2135"/>
                </a:lnTo>
                <a:lnTo>
                  <a:pt x="3512" y="2100"/>
                </a:lnTo>
                <a:lnTo>
                  <a:pt x="3525" y="2064"/>
                </a:lnTo>
                <a:lnTo>
                  <a:pt x="3525" y="2029"/>
                </a:lnTo>
                <a:lnTo>
                  <a:pt x="3543" y="1994"/>
                </a:lnTo>
                <a:lnTo>
                  <a:pt x="3556" y="1941"/>
                </a:lnTo>
                <a:lnTo>
                  <a:pt x="3556" y="1906"/>
                </a:lnTo>
                <a:lnTo>
                  <a:pt x="3573" y="1853"/>
                </a:lnTo>
                <a:lnTo>
                  <a:pt x="3569" y="1817"/>
                </a:lnTo>
                <a:lnTo>
                  <a:pt x="3587" y="1764"/>
                </a:lnTo>
                <a:lnTo>
                  <a:pt x="3582" y="1676"/>
                </a:lnTo>
                <a:lnTo>
                  <a:pt x="3582" y="1641"/>
                </a:lnTo>
                <a:lnTo>
                  <a:pt x="3578" y="1570"/>
                </a:lnTo>
                <a:lnTo>
                  <a:pt x="3595" y="1513"/>
                </a:lnTo>
                <a:lnTo>
                  <a:pt x="3595" y="1478"/>
                </a:lnTo>
                <a:lnTo>
                  <a:pt x="3613" y="1513"/>
                </a:lnTo>
                <a:lnTo>
                  <a:pt x="3613" y="1548"/>
                </a:lnTo>
                <a:lnTo>
                  <a:pt x="3600" y="1584"/>
                </a:lnTo>
                <a:lnTo>
                  <a:pt x="3600" y="1619"/>
                </a:lnTo>
                <a:lnTo>
                  <a:pt x="3600" y="1654"/>
                </a:lnTo>
                <a:lnTo>
                  <a:pt x="3600" y="1689"/>
                </a:lnTo>
                <a:lnTo>
                  <a:pt x="3604" y="1725"/>
                </a:lnTo>
                <a:lnTo>
                  <a:pt x="3604" y="1760"/>
                </a:lnTo>
                <a:lnTo>
                  <a:pt x="3604" y="1795"/>
                </a:lnTo>
                <a:lnTo>
                  <a:pt x="3609" y="1831"/>
                </a:lnTo>
                <a:lnTo>
                  <a:pt x="3609" y="1866"/>
                </a:lnTo>
                <a:lnTo>
                  <a:pt x="3626" y="1901"/>
                </a:lnTo>
                <a:lnTo>
                  <a:pt x="3626" y="1936"/>
                </a:lnTo>
                <a:lnTo>
                  <a:pt x="3631" y="1972"/>
                </a:lnTo>
                <a:lnTo>
                  <a:pt x="3648" y="2007"/>
                </a:lnTo>
                <a:lnTo>
                  <a:pt x="3684" y="2025"/>
                </a:lnTo>
                <a:lnTo>
                  <a:pt x="3719" y="2060"/>
                </a:lnTo>
                <a:lnTo>
                  <a:pt x="3741" y="2091"/>
                </a:lnTo>
                <a:lnTo>
                  <a:pt x="3759" y="2126"/>
                </a:lnTo>
                <a:lnTo>
                  <a:pt x="3776" y="2161"/>
                </a:lnTo>
                <a:lnTo>
                  <a:pt x="3781" y="2197"/>
                </a:lnTo>
                <a:lnTo>
                  <a:pt x="3798" y="2249"/>
                </a:lnTo>
                <a:lnTo>
                  <a:pt x="3798" y="2285"/>
                </a:lnTo>
                <a:lnTo>
                  <a:pt x="3798" y="2320"/>
                </a:lnTo>
                <a:lnTo>
                  <a:pt x="3803" y="2355"/>
                </a:lnTo>
                <a:lnTo>
                  <a:pt x="3820" y="2391"/>
                </a:lnTo>
                <a:lnTo>
                  <a:pt x="3820" y="2426"/>
                </a:lnTo>
                <a:lnTo>
                  <a:pt x="3825" y="2461"/>
                </a:lnTo>
                <a:lnTo>
                  <a:pt x="3842" y="2496"/>
                </a:lnTo>
                <a:lnTo>
                  <a:pt x="3842" y="2549"/>
                </a:lnTo>
                <a:lnTo>
                  <a:pt x="3864" y="2585"/>
                </a:lnTo>
                <a:lnTo>
                  <a:pt x="3882" y="2651"/>
                </a:lnTo>
                <a:lnTo>
                  <a:pt x="3917" y="2686"/>
                </a:lnTo>
                <a:lnTo>
                  <a:pt x="3939" y="2757"/>
                </a:lnTo>
                <a:lnTo>
                  <a:pt x="3939" y="2792"/>
                </a:lnTo>
                <a:lnTo>
                  <a:pt x="3961" y="2845"/>
                </a:lnTo>
                <a:lnTo>
                  <a:pt x="3961" y="2880"/>
                </a:lnTo>
                <a:lnTo>
                  <a:pt x="3961" y="2916"/>
                </a:lnTo>
                <a:lnTo>
                  <a:pt x="3983" y="2969"/>
                </a:lnTo>
                <a:lnTo>
                  <a:pt x="3983" y="3005"/>
                </a:lnTo>
                <a:lnTo>
                  <a:pt x="4001" y="3040"/>
                </a:lnTo>
                <a:lnTo>
                  <a:pt x="4001" y="3075"/>
                </a:lnTo>
                <a:lnTo>
                  <a:pt x="4023" y="3106"/>
                </a:lnTo>
                <a:lnTo>
                  <a:pt x="4023" y="3141"/>
                </a:lnTo>
                <a:lnTo>
                  <a:pt x="4023" y="3177"/>
                </a:lnTo>
                <a:lnTo>
                  <a:pt x="4045" y="3212"/>
                </a:lnTo>
                <a:lnTo>
                  <a:pt x="4045" y="3247"/>
                </a:lnTo>
                <a:lnTo>
                  <a:pt x="4045" y="3282"/>
                </a:lnTo>
                <a:lnTo>
                  <a:pt x="4080" y="3318"/>
                </a:lnTo>
                <a:lnTo>
                  <a:pt x="4085" y="3371"/>
                </a:lnTo>
                <a:lnTo>
                  <a:pt x="4103" y="3423"/>
                </a:lnTo>
                <a:lnTo>
                  <a:pt x="4125" y="3459"/>
                </a:lnTo>
                <a:lnTo>
                  <a:pt x="4142" y="3494"/>
                </a:lnTo>
                <a:lnTo>
                  <a:pt x="4160" y="3529"/>
                </a:lnTo>
                <a:lnTo>
                  <a:pt x="4178" y="3560"/>
                </a:lnTo>
                <a:lnTo>
                  <a:pt x="4182" y="3595"/>
                </a:lnTo>
                <a:lnTo>
                  <a:pt x="4200" y="3631"/>
                </a:lnTo>
                <a:lnTo>
                  <a:pt x="4217" y="3666"/>
                </a:lnTo>
                <a:lnTo>
                  <a:pt x="4239" y="3701"/>
                </a:lnTo>
                <a:lnTo>
                  <a:pt x="4275" y="3719"/>
                </a:lnTo>
                <a:lnTo>
                  <a:pt x="4310" y="3732"/>
                </a:lnTo>
                <a:lnTo>
                  <a:pt x="4345" y="3767"/>
                </a:lnTo>
                <a:lnTo>
                  <a:pt x="4380" y="3785"/>
                </a:lnTo>
                <a:lnTo>
                  <a:pt x="4380" y="3820"/>
                </a:lnTo>
                <a:lnTo>
                  <a:pt x="4420" y="3838"/>
                </a:lnTo>
                <a:lnTo>
                  <a:pt x="4" y="3864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11240" y="1251000"/>
            <a:ext cx="65372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INGLE COLOR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"/>
          <p:cNvGrpSpPr/>
          <p:nvPr/>
        </p:nvGrpSpPr>
        <p:grpSpPr>
          <a:xfrm>
            <a:off x="412920" y="2925720"/>
            <a:ext cx="3139920" cy="2878200"/>
            <a:chOff x="412920" y="2925720"/>
            <a:chExt cx="3139920" cy="2878200"/>
          </a:xfrm>
        </p:grpSpPr>
        <p:grpSp>
          <p:nvGrpSpPr>
            <p:cNvPr id="991" name=""/>
            <p:cNvGrpSpPr/>
            <p:nvPr/>
          </p:nvGrpSpPr>
          <p:grpSpPr>
            <a:xfrm>
              <a:off x="412920" y="2925720"/>
              <a:ext cx="2976480" cy="2739960"/>
              <a:chOff x="412920" y="2925720"/>
              <a:chExt cx="2976480" cy="273996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412920" y="2925720"/>
                <a:ext cx="423720" cy="2739960"/>
                <a:chOff x="412920" y="2925720"/>
                <a:chExt cx="423720" cy="2739960"/>
              </a:xfrm>
            </p:grpSpPr>
            <p:grpSp>
              <p:nvGrpSpPr>
                <p:cNvPr id="993" name=""/>
                <p:cNvGrpSpPr/>
                <p:nvPr/>
              </p:nvGrpSpPr>
              <p:grpSpPr>
                <a:xfrm>
                  <a:off x="412920" y="2925720"/>
                  <a:ext cx="423720" cy="2647800"/>
                  <a:chOff x="412920" y="2925720"/>
                  <a:chExt cx="423720" cy="2647800"/>
                </a:xfrm>
              </p:grpSpPr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412920" y="3433680"/>
                    <a:ext cx="421920" cy="298440"/>
                    <a:chOff x="412920" y="3433680"/>
                    <a:chExt cx="421920" cy="298440"/>
                  </a:xfrm>
                </p:grpSpPr>
                <p:sp>
                  <p:nvSpPr>
                    <p:cNvPr id="995" name=""/>
                    <p:cNvSpPr txBox="1"/>
                    <p:nvPr/>
                  </p:nvSpPr>
                  <p:spPr>
                    <a:xfrm>
                      <a:off x="412920" y="3490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 txBox="1"/>
                    <p:nvPr/>
                  </p:nvSpPr>
                  <p:spPr>
                    <a:xfrm>
                      <a:off x="582480" y="34336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 flipH="1">
                    <a:off x="749160" y="30304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434880" y="2925720"/>
                    <a:ext cx="397080" cy="303120"/>
                    <a:chOff x="434880" y="2925720"/>
                    <a:chExt cx="397080" cy="303120"/>
                  </a:xfrm>
                </p:grpSpPr>
                <p:sp>
                  <p:nvSpPr>
                    <p:cNvPr id="999" name=""/>
                    <p:cNvSpPr txBox="1"/>
                    <p:nvPr/>
                  </p:nvSpPr>
                  <p:spPr>
                    <a:xfrm>
                      <a:off x="434880" y="29876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 txBox="1"/>
                    <p:nvPr/>
                  </p:nvSpPr>
                  <p:spPr>
                    <a:xfrm>
                      <a:off x="587520" y="292572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444600" y="4637160"/>
                    <a:ext cx="388800" cy="326880"/>
                    <a:chOff x="444600" y="4637160"/>
                    <a:chExt cx="388800" cy="326880"/>
                  </a:xfrm>
                </p:grpSpPr>
                <p:sp>
                  <p:nvSpPr>
                    <p:cNvPr id="1002" name=""/>
                    <p:cNvSpPr txBox="1"/>
                    <p:nvPr/>
                  </p:nvSpPr>
                  <p:spPr>
                    <a:xfrm>
                      <a:off x="444600" y="4722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"/>
                    <p:cNvSpPr txBox="1"/>
                    <p:nvPr/>
                  </p:nvSpPr>
                  <p:spPr>
                    <a:xfrm>
                      <a:off x="581040" y="46371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47840" y="4003560"/>
                    <a:ext cx="388800" cy="331920"/>
                    <a:chOff x="447840" y="4003560"/>
                    <a:chExt cx="388800" cy="331920"/>
                  </a:xfrm>
                </p:grpSpPr>
                <p:sp>
                  <p:nvSpPr>
                    <p:cNvPr id="1005" name=""/>
                    <p:cNvSpPr txBox="1"/>
                    <p:nvPr/>
                  </p:nvSpPr>
                  <p:spPr>
                    <a:xfrm>
                      <a:off x="447840" y="4094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 txBox="1"/>
                    <p:nvPr/>
                  </p:nvSpPr>
                  <p:spPr>
                    <a:xfrm>
                      <a:off x="584280" y="40035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7" name=""/>
                  <p:cNvSpPr txBox="1"/>
                  <p:nvPr/>
                </p:nvSpPr>
                <p:spPr>
                  <a:xfrm>
                    <a:off x="561960" y="534816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744480" y="544500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755640" y="4129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>
                    <a:off x="749160" y="47512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>
                    <a:off x="749160" y="3544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"/>
                <p:cNvSpPr txBox="1"/>
                <p:nvPr/>
              </p:nvSpPr>
              <p:spPr>
                <a:xfrm>
                  <a:off x="433440" y="542448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"/>
              <p:cNvSpPr/>
              <p:nvPr/>
            </p:nvSpPr>
            <p:spPr>
              <a:xfrm>
                <a:off x="831960" y="30243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 txBox="1"/>
            <p:nvPr/>
          </p:nvSpPr>
          <p:spPr>
            <a:xfrm>
              <a:off x="247320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 txBox="1"/>
            <p:nvPr/>
          </p:nvSpPr>
          <p:spPr>
            <a:xfrm>
              <a:off x="2635200" y="5454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 txBox="1"/>
            <p:nvPr/>
          </p:nvSpPr>
          <p:spPr>
            <a:xfrm>
              <a:off x="3164040" y="55576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 txBox="1"/>
            <p:nvPr/>
          </p:nvSpPr>
          <p:spPr>
            <a:xfrm>
              <a:off x="3308400" y="546084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115740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128592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 txBox="1"/>
            <p:nvPr/>
          </p:nvSpPr>
          <p:spPr>
            <a:xfrm>
              <a:off x="181440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1981080" y="5459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 txBox="1"/>
            <p:nvPr/>
          </p:nvSpPr>
          <p:spPr>
            <a:xfrm>
              <a:off x="585720" y="5562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73836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3808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9068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6388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1764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9084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686040" y="2941560"/>
            <a:ext cx="3140280" cy="2878200"/>
            <a:chOff x="3686040" y="2941560"/>
            <a:chExt cx="3140280" cy="2878200"/>
          </a:xfrm>
        </p:grpSpPr>
        <p:grpSp>
          <p:nvGrpSpPr>
            <p:cNvPr id="1030" name=""/>
            <p:cNvGrpSpPr/>
            <p:nvPr/>
          </p:nvGrpSpPr>
          <p:grpSpPr>
            <a:xfrm>
              <a:off x="3686040" y="2941560"/>
              <a:ext cx="2976840" cy="2739960"/>
              <a:chOff x="3686040" y="2941560"/>
              <a:chExt cx="2976840" cy="273996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3686040" y="2941560"/>
                <a:ext cx="424080" cy="2739960"/>
                <a:chOff x="3686040" y="2941560"/>
                <a:chExt cx="424080" cy="273996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3686040" y="2941560"/>
                  <a:ext cx="424080" cy="2647800"/>
                  <a:chOff x="3686040" y="2941560"/>
                  <a:chExt cx="424080" cy="264780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686040" y="3449520"/>
                    <a:ext cx="422280" cy="298440"/>
                    <a:chOff x="3686040" y="3449520"/>
                    <a:chExt cx="422280" cy="298440"/>
                  </a:xfrm>
                </p:grpSpPr>
                <p:sp>
                  <p:nvSpPr>
                    <p:cNvPr id="1034" name=""/>
                    <p:cNvSpPr txBox="1"/>
                    <p:nvPr/>
                  </p:nvSpPr>
                  <p:spPr>
                    <a:xfrm>
                      <a:off x="3686040" y="35067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 txBox="1"/>
                    <p:nvPr/>
                  </p:nvSpPr>
                  <p:spPr>
                    <a:xfrm>
                      <a:off x="3855960" y="34495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 flipH="1">
                    <a:off x="4022640" y="30463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3708360" y="2941560"/>
                    <a:ext cx="396720" cy="303120"/>
                    <a:chOff x="3708360" y="2941560"/>
                    <a:chExt cx="396720" cy="303120"/>
                  </a:xfrm>
                </p:grpSpPr>
                <p:sp>
                  <p:nvSpPr>
                    <p:cNvPr id="1038" name=""/>
                    <p:cNvSpPr txBox="1"/>
                    <p:nvPr/>
                  </p:nvSpPr>
                  <p:spPr>
                    <a:xfrm>
                      <a:off x="3708360" y="30034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 txBox="1"/>
                    <p:nvPr/>
                  </p:nvSpPr>
                  <p:spPr>
                    <a:xfrm>
                      <a:off x="3860640" y="294156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3718080" y="4653000"/>
                    <a:ext cx="388800" cy="326880"/>
                    <a:chOff x="3718080" y="4653000"/>
                    <a:chExt cx="388800" cy="326880"/>
                  </a:xfrm>
                </p:grpSpPr>
                <p:sp>
                  <p:nvSpPr>
                    <p:cNvPr id="1041" name=""/>
                    <p:cNvSpPr txBox="1"/>
                    <p:nvPr/>
                  </p:nvSpPr>
                  <p:spPr>
                    <a:xfrm>
                      <a:off x="3718080" y="47386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 txBox="1"/>
                    <p:nvPr/>
                  </p:nvSpPr>
                  <p:spPr>
                    <a:xfrm>
                      <a:off x="3854520" y="46530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3720960" y="4019400"/>
                    <a:ext cx="389160" cy="331920"/>
                    <a:chOff x="3720960" y="4019400"/>
                    <a:chExt cx="389160" cy="331920"/>
                  </a:xfrm>
                </p:grpSpPr>
                <p:sp>
                  <p:nvSpPr>
                    <p:cNvPr id="1044" name=""/>
                    <p:cNvSpPr txBox="1"/>
                    <p:nvPr/>
                  </p:nvSpPr>
                  <p:spPr>
                    <a:xfrm>
                      <a:off x="3720960" y="41101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 txBox="1"/>
                    <p:nvPr/>
                  </p:nvSpPr>
                  <p:spPr>
                    <a:xfrm>
                      <a:off x="3857760" y="40194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6" name=""/>
                  <p:cNvSpPr txBox="1"/>
                  <p:nvPr/>
                </p:nvSpPr>
                <p:spPr>
                  <a:xfrm>
                    <a:off x="3835440" y="53640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>
                    <a:off x="4017960" y="546084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>
                    <a:off x="4029120" y="41450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H="1">
                    <a:off x="4022640" y="47671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>
                    <a:off x="4022640" y="35607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"/>
                <p:cNvSpPr txBox="1"/>
                <p:nvPr/>
              </p:nvSpPr>
              <p:spPr>
                <a:xfrm>
                  <a:off x="3706920" y="544032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>
                <a:off x="4105440" y="304020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 txBox="1"/>
            <p:nvPr/>
          </p:nvSpPr>
          <p:spPr>
            <a:xfrm>
              <a:off x="5746680" y="55753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5908680" y="54705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6437160" y="55738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6581880" y="547704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4430880" y="55753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4559400" y="54673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5087880" y="55753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5254560" y="54752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3859200" y="55785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4011480" y="54673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560" y="54705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64160" y="54705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37000" y="54770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91120" y="54770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4320" y="54705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"/>
          <p:cNvSpPr txBox="1"/>
          <p:nvPr/>
        </p:nvSpPr>
        <p:spPr>
          <a:xfrm>
            <a:off x="1662120" y="1494000"/>
            <a:ext cx="3808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WO COLOR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1616040" y="571032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884840" y="574200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308400" y="392760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7920" y="387828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940120" y="3049560"/>
            <a:ext cx="39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224760" y="3049560"/>
            <a:ext cx="39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90600" y="326880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410000" y="3879720"/>
            <a:ext cx="373320" cy="406800"/>
          </a:xfrm>
          <a:custGeom>
            <a:avLst/>
            <a:gdLst/>
            <a:ahLst/>
            <a:rect l="0" t="0" r="r" b="b"/>
            <a:pathLst>
              <a:path w="1037" h="1130">
                <a:moveTo>
                  <a:pt x="92" y="989"/>
                </a:moveTo>
                <a:lnTo>
                  <a:pt x="92" y="892"/>
                </a:lnTo>
                <a:lnTo>
                  <a:pt x="92" y="799"/>
                </a:lnTo>
                <a:lnTo>
                  <a:pt x="48" y="706"/>
                </a:lnTo>
                <a:lnTo>
                  <a:pt x="0" y="609"/>
                </a:lnTo>
                <a:lnTo>
                  <a:pt x="0" y="516"/>
                </a:lnTo>
                <a:lnTo>
                  <a:pt x="92" y="468"/>
                </a:lnTo>
                <a:lnTo>
                  <a:pt x="92" y="375"/>
                </a:lnTo>
                <a:lnTo>
                  <a:pt x="189" y="327"/>
                </a:lnTo>
                <a:lnTo>
                  <a:pt x="233" y="233"/>
                </a:lnTo>
                <a:lnTo>
                  <a:pt x="282" y="141"/>
                </a:lnTo>
                <a:lnTo>
                  <a:pt x="374" y="92"/>
                </a:lnTo>
                <a:lnTo>
                  <a:pt x="423" y="185"/>
                </a:lnTo>
                <a:lnTo>
                  <a:pt x="515" y="185"/>
                </a:lnTo>
                <a:lnTo>
                  <a:pt x="613" y="141"/>
                </a:lnTo>
                <a:lnTo>
                  <a:pt x="706" y="92"/>
                </a:lnTo>
                <a:lnTo>
                  <a:pt x="799" y="0"/>
                </a:lnTo>
                <a:lnTo>
                  <a:pt x="847" y="92"/>
                </a:lnTo>
                <a:lnTo>
                  <a:pt x="940" y="141"/>
                </a:lnTo>
                <a:lnTo>
                  <a:pt x="988" y="233"/>
                </a:lnTo>
                <a:lnTo>
                  <a:pt x="988" y="327"/>
                </a:lnTo>
                <a:lnTo>
                  <a:pt x="1037" y="424"/>
                </a:lnTo>
                <a:lnTo>
                  <a:pt x="1037" y="516"/>
                </a:lnTo>
                <a:lnTo>
                  <a:pt x="988" y="609"/>
                </a:lnTo>
                <a:lnTo>
                  <a:pt x="940" y="706"/>
                </a:lnTo>
                <a:lnTo>
                  <a:pt x="988" y="799"/>
                </a:lnTo>
                <a:lnTo>
                  <a:pt x="988" y="892"/>
                </a:lnTo>
                <a:lnTo>
                  <a:pt x="896" y="941"/>
                </a:lnTo>
                <a:lnTo>
                  <a:pt x="799" y="941"/>
                </a:lnTo>
                <a:lnTo>
                  <a:pt x="755" y="1033"/>
                </a:lnTo>
                <a:lnTo>
                  <a:pt x="658" y="1033"/>
                </a:lnTo>
                <a:lnTo>
                  <a:pt x="565" y="1082"/>
                </a:lnTo>
                <a:lnTo>
                  <a:pt x="471" y="1082"/>
                </a:lnTo>
                <a:lnTo>
                  <a:pt x="330" y="1130"/>
                </a:lnTo>
                <a:lnTo>
                  <a:pt x="282" y="1033"/>
                </a:lnTo>
                <a:lnTo>
                  <a:pt x="189" y="1033"/>
                </a:lnTo>
                <a:lnTo>
                  <a:pt x="423" y="892"/>
                </a:lnTo>
                <a:lnTo>
                  <a:pt x="92" y="989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478480" y="3573360"/>
            <a:ext cx="457560" cy="508320"/>
          </a:xfrm>
          <a:custGeom>
            <a:avLst/>
            <a:gdLst/>
            <a:ahLst/>
            <a:rect l="0" t="0" r="r" b="b"/>
            <a:pathLst>
              <a:path w="1271" h="1412">
                <a:moveTo>
                  <a:pt x="44" y="755"/>
                </a:moveTo>
                <a:lnTo>
                  <a:pt x="44" y="657"/>
                </a:lnTo>
                <a:lnTo>
                  <a:pt x="92" y="564"/>
                </a:lnTo>
                <a:lnTo>
                  <a:pt x="185" y="515"/>
                </a:lnTo>
                <a:lnTo>
                  <a:pt x="282" y="471"/>
                </a:lnTo>
                <a:lnTo>
                  <a:pt x="282" y="374"/>
                </a:lnTo>
                <a:lnTo>
                  <a:pt x="282" y="282"/>
                </a:lnTo>
                <a:lnTo>
                  <a:pt x="374" y="233"/>
                </a:lnTo>
                <a:lnTo>
                  <a:pt x="326" y="141"/>
                </a:lnTo>
                <a:lnTo>
                  <a:pt x="282" y="48"/>
                </a:lnTo>
                <a:lnTo>
                  <a:pt x="374" y="48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48"/>
                </a:lnTo>
                <a:lnTo>
                  <a:pt x="940" y="92"/>
                </a:lnTo>
                <a:lnTo>
                  <a:pt x="1032" y="141"/>
                </a:lnTo>
                <a:lnTo>
                  <a:pt x="1081" y="233"/>
                </a:lnTo>
                <a:lnTo>
                  <a:pt x="1129" y="330"/>
                </a:lnTo>
                <a:lnTo>
                  <a:pt x="1129" y="423"/>
                </a:lnTo>
                <a:lnTo>
                  <a:pt x="1173" y="515"/>
                </a:lnTo>
                <a:lnTo>
                  <a:pt x="1271" y="612"/>
                </a:lnTo>
                <a:lnTo>
                  <a:pt x="1271" y="705"/>
                </a:lnTo>
                <a:lnTo>
                  <a:pt x="1271" y="799"/>
                </a:lnTo>
                <a:lnTo>
                  <a:pt x="1222" y="896"/>
                </a:lnTo>
                <a:lnTo>
                  <a:pt x="1222" y="988"/>
                </a:lnTo>
                <a:lnTo>
                  <a:pt x="1222" y="1081"/>
                </a:lnTo>
                <a:lnTo>
                  <a:pt x="1173" y="1222"/>
                </a:lnTo>
                <a:lnTo>
                  <a:pt x="1129" y="1319"/>
                </a:lnTo>
                <a:lnTo>
                  <a:pt x="1032" y="1363"/>
                </a:lnTo>
                <a:lnTo>
                  <a:pt x="940" y="1412"/>
                </a:lnTo>
                <a:lnTo>
                  <a:pt x="847" y="1412"/>
                </a:lnTo>
                <a:lnTo>
                  <a:pt x="750" y="1412"/>
                </a:lnTo>
                <a:lnTo>
                  <a:pt x="658" y="1412"/>
                </a:lnTo>
                <a:lnTo>
                  <a:pt x="564" y="1363"/>
                </a:lnTo>
                <a:lnTo>
                  <a:pt x="467" y="1319"/>
                </a:lnTo>
                <a:lnTo>
                  <a:pt x="374" y="1363"/>
                </a:lnTo>
                <a:lnTo>
                  <a:pt x="282" y="1363"/>
                </a:lnTo>
                <a:lnTo>
                  <a:pt x="185" y="1319"/>
                </a:lnTo>
                <a:lnTo>
                  <a:pt x="141" y="1222"/>
                </a:lnTo>
                <a:lnTo>
                  <a:pt x="141" y="1129"/>
                </a:lnTo>
                <a:lnTo>
                  <a:pt x="92" y="1037"/>
                </a:lnTo>
                <a:lnTo>
                  <a:pt x="0" y="940"/>
                </a:lnTo>
                <a:lnTo>
                  <a:pt x="44" y="847"/>
                </a:lnTo>
                <a:lnTo>
                  <a:pt x="44" y="755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459400" y="4722840"/>
            <a:ext cx="406800" cy="660600"/>
          </a:xfrm>
          <a:custGeom>
            <a:avLst/>
            <a:gdLst/>
            <a:ahLst/>
            <a:rect l="0" t="0" r="r" b="b"/>
            <a:pathLst>
              <a:path w="1130" h="1835">
                <a:moveTo>
                  <a:pt x="516" y="1601"/>
                </a:moveTo>
                <a:lnTo>
                  <a:pt x="424" y="1601"/>
                </a:lnTo>
                <a:lnTo>
                  <a:pt x="331" y="1553"/>
                </a:lnTo>
                <a:lnTo>
                  <a:pt x="331" y="1460"/>
                </a:lnTo>
                <a:lnTo>
                  <a:pt x="283" y="1368"/>
                </a:lnTo>
                <a:lnTo>
                  <a:pt x="189" y="1319"/>
                </a:lnTo>
                <a:lnTo>
                  <a:pt x="189" y="1226"/>
                </a:lnTo>
                <a:lnTo>
                  <a:pt x="189" y="1129"/>
                </a:lnTo>
                <a:lnTo>
                  <a:pt x="189" y="1037"/>
                </a:lnTo>
                <a:lnTo>
                  <a:pt x="141" y="944"/>
                </a:lnTo>
                <a:lnTo>
                  <a:pt x="48" y="895"/>
                </a:lnTo>
                <a:lnTo>
                  <a:pt x="48" y="802"/>
                </a:lnTo>
                <a:lnTo>
                  <a:pt x="48" y="705"/>
                </a:lnTo>
                <a:lnTo>
                  <a:pt x="48" y="612"/>
                </a:lnTo>
                <a:lnTo>
                  <a:pt x="0" y="520"/>
                </a:lnTo>
                <a:lnTo>
                  <a:pt x="0" y="423"/>
                </a:lnTo>
                <a:lnTo>
                  <a:pt x="92" y="330"/>
                </a:lnTo>
                <a:lnTo>
                  <a:pt x="189" y="189"/>
                </a:lnTo>
                <a:lnTo>
                  <a:pt x="283" y="141"/>
                </a:lnTo>
                <a:lnTo>
                  <a:pt x="375" y="97"/>
                </a:lnTo>
                <a:lnTo>
                  <a:pt x="516" y="48"/>
                </a:lnTo>
                <a:lnTo>
                  <a:pt x="613" y="48"/>
                </a:lnTo>
                <a:lnTo>
                  <a:pt x="706" y="0"/>
                </a:lnTo>
                <a:lnTo>
                  <a:pt x="799" y="48"/>
                </a:lnTo>
                <a:lnTo>
                  <a:pt x="941" y="48"/>
                </a:lnTo>
                <a:lnTo>
                  <a:pt x="1038" y="48"/>
                </a:lnTo>
                <a:lnTo>
                  <a:pt x="1082" y="141"/>
                </a:lnTo>
                <a:lnTo>
                  <a:pt x="1038" y="238"/>
                </a:lnTo>
                <a:lnTo>
                  <a:pt x="941" y="379"/>
                </a:lnTo>
                <a:lnTo>
                  <a:pt x="989" y="471"/>
                </a:lnTo>
                <a:lnTo>
                  <a:pt x="1082" y="520"/>
                </a:lnTo>
                <a:lnTo>
                  <a:pt x="1082" y="612"/>
                </a:lnTo>
                <a:lnTo>
                  <a:pt x="1082" y="705"/>
                </a:lnTo>
                <a:lnTo>
                  <a:pt x="1038" y="802"/>
                </a:lnTo>
                <a:lnTo>
                  <a:pt x="1082" y="895"/>
                </a:lnTo>
                <a:lnTo>
                  <a:pt x="1130" y="988"/>
                </a:lnTo>
                <a:lnTo>
                  <a:pt x="1082" y="1085"/>
                </a:lnTo>
                <a:lnTo>
                  <a:pt x="1082" y="1178"/>
                </a:lnTo>
                <a:lnTo>
                  <a:pt x="1082" y="1271"/>
                </a:lnTo>
                <a:lnTo>
                  <a:pt x="1082" y="1368"/>
                </a:lnTo>
                <a:lnTo>
                  <a:pt x="1038" y="1460"/>
                </a:lnTo>
                <a:lnTo>
                  <a:pt x="989" y="1553"/>
                </a:lnTo>
                <a:lnTo>
                  <a:pt x="989" y="1650"/>
                </a:lnTo>
                <a:lnTo>
                  <a:pt x="941" y="1742"/>
                </a:lnTo>
                <a:lnTo>
                  <a:pt x="848" y="1791"/>
                </a:lnTo>
                <a:lnTo>
                  <a:pt x="755" y="1791"/>
                </a:lnTo>
                <a:lnTo>
                  <a:pt x="658" y="1835"/>
                </a:lnTo>
                <a:lnTo>
                  <a:pt x="565" y="1742"/>
                </a:lnTo>
                <a:lnTo>
                  <a:pt x="472" y="1742"/>
                </a:lnTo>
                <a:lnTo>
                  <a:pt x="472" y="1650"/>
                </a:lnTo>
                <a:lnTo>
                  <a:pt x="516" y="1601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092240" y="4689360"/>
            <a:ext cx="609840" cy="609840"/>
          </a:xfrm>
          <a:custGeom>
            <a:avLst/>
            <a:gdLst/>
            <a:ahLst/>
            <a:rect l="0" t="0" r="r" b="b"/>
            <a:pathLst>
              <a:path w="1694" h="1694">
                <a:moveTo>
                  <a:pt x="145" y="1306"/>
                </a:moveTo>
                <a:lnTo>
                  <a:pt x="242" y="1178"/>
                </a:lnTo>
                <a:lnTo>
                  <a:pt x="335" y="1046"/>
                </a:lnTo>
                <a:lnTo>
                  <a:pt x="92" y="891"/>
                </a:lnTo>
                <a:lnTo>
                  <a:pt x="282" y="802"/>
                </a:lnTo>
                <a:lnTo>
                  <a:pt x="233" y="612"/>
                </a:lnTo>
                <a:lnTo>
                  <a:pt x="515" y="471"/>
                </a:lnTo>
                <a:lnTo>
                  <a:pt x="1037" y="238"/>
                </a:lnTo>
                <a:lnTo>
                  <a:pt x="852" y="238"/>
                </a:lnTo>
                <a:lnTo>
                  <a:pt x="705" y="326"/>
                </a:lnTo>
                <a:lnTo>
                  <a:pt x="918" y="335"/>
                </a:lnTo>
                <a:lnTo>
                  <a:pt x="1081" y="0"/>
                </a:lnTo>
                <a:lnTo>
                  <a:pt x="1222" y="286"/>
                </a:lnTo>
                <a:lnTo>
                  <a:pt x="1209" y="141"/>
                </a:lnTo>
                <a:lnTo>
                  <a:pt x="1306" y="141"/>
                </a:lnTo>
                <a:lnTo>
                  <a:pt x="1403" y="141"/>
                </a:lnTo>
                <a:lnTo>
                  <a:pt x="1500" y="268"/>
                </a:lnTo>
                <a:lnTo>
                  <a:pt x="1597" y="268"/>
                </a:lnTo>
                <a:lnTo>
                  <a:pt x="1694" y="335"/>
                </a:lnTo>
                <a:lnTo>
                  <a:pt x="1694" y="463"/>
                </a:lnTo>
                <a:lnTo>
                  <a:pt x="1694" y="709"/>
                </a:lnTo>
                <a:lnTo>
                  <a:pt x="1601" y="891"/>
                </a:lnTo>
                <a:lnTo>
                  <a:pt x="1553" y="891"/>
                </a:lnTo>
                <a:lnTo>
                  <a:pt x="1354" y="918"/>
                </a:lnTo>
                <a:lnTo>
                  <a:pt x="1363" y="1226"/>
                </a:lnTo>
                <a:lnTo>
                  <a:pt x="1271" y="1456"/>
                </a:lnTo>
                <a:lnTo>
                  <a:pt x="1222" y="1368"/>
                </a:lnTo>
                <a:lnTo>
                  <a:pt x="1081" y="1504"/>
                </a:lnTo>
                <a:lnTo>
                  <a:pt x="852" y="1456"/>
                </a:lnTo>
                <a:lnTo>
                  <a:pt x="705" y="1504"/>
                </a:lnTo>
                <a:lnTo>
                  <a:pt x="657" y="1504"/>
                </a:lnTo>
                <a:lnTo>
                  <a:pt x="582" y="1434"/>
                </a:lnTo>
                <a:lnTo>
                  <a:pt x="480" y="1566"/>
                </a:lnTo>
                <a:lnTo>
                  <a:pt x="388" y="1628"/>
                </a:lnTo>
                <a:lnTo>
                  <a:pt x="291" y="1628"/>
                </a:lnTo>
                <a:lnTo>
                  <a:pt x="189" y="1628"/>
                </a:lnTo>
                <a:lnTo>
                  <a:pt x="97" y="1628"/>
                </a:lnTo>
                <a:lnTo>
                  <a:pt x="0" y="1694"/>
                </a:lnTo>
                <a:lnTo>
                  <a:pt x="44" y="1566"/>
                </a:lnTo>
                <a:lnTo>
                  <a:pt x="97" y="1434"/>
                </a:lnTo>
                <a:lnTo>
                  <a:pt x="145" y="1306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428840" y="3705120"/>
            <a:ext cx="441720" cy="559080"/>
          </a:xfrm>
          <a:custGeom>
            <a:avLst/>
            <a:gdLst/>
            <a:ahLst/>
            <a:rect l="0" t="0" r="r" b="b"/>
            <a:pathLst>
              <a:path w="1227" h="1553">
                <a:moveTo>
                  <a:pt x="105" y="1165"/>
                </a:moveTo>
                <a:lnTo>
                  <a:pt x="176" y="1037"/>
                </a:lnTo>
                <a:lnTo>
                  <a:pt x="242" y="904"/>
                </a:lnTo>
                <a:lnTo>
                  <a:pt x="318" y="843"/>
                </a:lnTo>
                <a:lnTo>
                  <a:pt x="318" y="709"/>
                </a:lnTo>
                <a:lnTo>
                  <a:pt x="384" y="648"/>
                </a:lnTo>
                <a:lnTo>
                  <a:pt x="455" y="582"/>
                </a:lnTo>
                <a:lnTo>
                  <a:pt x="525" y="515"/>
                </a:lnTo>
                <a:lnTo>
                  <a:pt x="561" y="388"/>
                </a:lnTo>
                <a:lnTo>
                  <a:pt x="631" y="321"/>
                </a:lnTo>
                <a:lnTo>
                  <a:pt x="666" y="194"/>
                </a:lnTo>
                <a:lnTo>
                  <a:pt x="737" y="127"/>
                </a:lnTo>
                <a:lnTo>
                  <a:pt x="807" y="66"/>
                </a:lnTo>
                <a:lnTo>
                  <a:pt x="874" y="0"/>
                </a:lnTo>
                <a:lnTo>
                  <a:pt x="950" y="0"/>
                </a:lnTo>
                <a:lnTo>
                  <a:pt x="1016" y="0"/>
                </a:lnTo>
                <a:lnTo>
                  <a:pt x="1086" y="127"/>
                </a:lnTo>
                <a:lnTo>
                  <a:pt x="1157" y="127"/>
                </a:lnTo>
                <a:lnTo>
                  <a:pt x="1227" y="194"/>
                </a:lnTo>
                <a:lnTo>
                  <a:pt x="1227" y="321"/>
                </a:lnTo>
                <a:lnTo>
                  <a:pt x="1192" y="454"/>
                </a:lnTo>
                <a:lnTo>
                  <a:pt x="1122" y="582"/>
                </a:lnTo>
                <a:lnTo>
                  <a:pt x="1051" y="648"/>
                </a:lnTo>
                <a:lnTo>
                  <a:pt x="980" y="777"/>
                </a:lnTo>
                <a:lnTo>
                  <a:pt x="909" y="904"/>
                </a:lnTo>
                <a:lnTo>
                  <a:pt x="843" y="971"/>
                </a:lnTo>
                <a:lnTo>
                  <a:pt x="768" y="1037"/>
                </a:lnTo>
                <a:lnTo>
                  <a:pt x="702" y="1099"/>
                </a:lnTo>
                <a:lnTo>
                  <a:pt x="631" y="1099"/>
                </a:lnTo>
                <a:lnTo>
                  <a:pt x="561" y="1165"/>
                </a:lnTo>
                <a:lnTo>
                  <a:pt x="490" y="1231"/>
                </a:lnTo>
                <a:lnTo>
                  <a:pt x="419" y="1293"/>
                </a:lnTo>
                <a:lnTo>
                  <a:pt x="349" y="1425"/>
                </a:lnTo>
                <a:lnTo>
                  <a:pt x="277" y="1487"/>
                </a:lnTo>
                <a:lnTo>
                  <a:pt x="211" y="1487"/>
                </a:lnTo>
                <a:lnTo>
                  <a:pt x="136" y="1487"/>
                </a:lnTo>
                <a:lnTo>
                  <a:pt x="70" y="1487"/>
                </a:lnTo>
                <a:lnTo>
                  <a:pt x="0" y="1553"/>
                </a:lnTo>
                <a:lnTo>
                  <a:pt x="30" y="1425"/>
                </a:lnTo>
                <a:lnTo>
                  <a:pt x="70" y="1293"/>
                </a:lnTo>
                <a:lnTo>
                  <a:pt x="105" y="1165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50960" y="3844800"/>
            <a:ext cx="457560" cy="508320"/>
          </a:xfrm>
          <a:custGeom>
            <a:avLst/>
            <a:gdLst/>
            <a:ahLst/>
            <a:rect l="0" t="0" r="r" b="b"/>
            <a:pathLst>
              <a:path w="1271" h="1412">
                <a:moveTo>
                  <a:pt x="44" y="755"/>
                </a:moveTo>
                <a:lnTo>
                  <a:pt x="44" y="657"/>
                </a:lnTo>
                <a:lnTo>
                  <a:pt x="92" y="564"/>
                </a:lnTo>
                <a:lnTo>
                  <a:pt x="185" y="515"/>
                </a:lnTo>
                <a:lnTo>
                  <a:pt x="282" y="471"/>
                </a:lnTo>
                <a:lnTo>
                  <a:pt x="282" y="374"/>
                </a:lnTo>
                <a:lnTo>
                  <a:pt x="282" y="282"/>
                </a:lnTo>
                <a:lnTo>
                  <a:pt x="375" y="233"/>
                </a:lnTo>
                <a:lnTo>
                  <a:pt x="327" y="141"/>
                </a:lnTo>
                <a:lnTo>
                  <a:pt x="282" y="48"/>
                </a:lnTo>
                <a:lnTo>
                  <a:pt x="375" y="48"/>
                </a:lnTo>
                <a:lnTo>
                  <a:pt x="468" y="0"/>
                </a:lnTo>
                <a:lnTo>
                  <a:pt x="565" y="0"/>
                </a:lnTo>
                <a:lnTo>
                  <a:pt x="658" y="0"/>
                </a:lnTo>
                <a:lnTo>
                  <a:pt x="750" y="0"/>
                </a:lnTo>
                <a:lnTo>
                  <a:pt x="847" y="48"/>
                </a:lnTo>
                <a:lnTo>
                  <a:pt x="940" y="92"/>
                </a:lnTo>
                <a:lnTo>
                  <a:pt x="1033" y="141"/>
                </a:lnTo>
                <a:lnTo>
                  <a:pt x="1082" y="233"/>
                </a:lnTo>
                <a:lnTo>
                  <a:pt x="1130" y="330"/>
                </a:lnTo>
                <a:lnTo>
                  <a:pt x="1130" y="423"/>
                </a:lnTo>
                <a:lnTo>
                  <a:pt x="1174" y="515"/>
                </a:lnTo>
                <a:lnTo>
                  <a:pt x="1271" y="612"/>
                </a:lnTo>
                <a:lnTo>
                  <a:pt x="1271" y="705"/>
                </a:lnTo>
                <a:lnTo>
                  <a:pt x="1271" y="799"/>
                </a:lnTo>
                <a:lnTo>
                  <a:pt x="1223" y="896"/>
                </a:lnTo>
                <a:lnTo>
                  <a:pt x="1223" y="988"/>
                </a:lnTo>
                <a:lnTo>
                  <a:pt x="1223" y="1081"/>
                </a:lnTo>
                <a:lnTo>
                  <a:pt x="1174" y="1222"/>
                </a:lnTo>
                <a:lnTo>
                  <a:pt x="1130" y="1319"/>
                </a:lnTo>
                <a:lnTo>
                  <a:pt x="1033" y="1363"/>
                </a:lnTo>
                <a:lnTo>
                  <a:pt x="940" y="1412"/>
                </a:lnTo>
                <a:lnTo>
                  <a:pt x="847" y="1412"/>
                </a:lnTo>
                <a:lnTo>
                  <a:pt x="750" y="1412"/>
                </a:lnTo>
                <a:lnTo>
                  <a:pt x="658" y="1412"/>
                </a:lnTo>
                <a:lnTo>
                  <a:pt x="565" y="1363"/>
                </a:lnTo>
                <a:lnTo>
                  <a:pt x="468" y="1319"/>
                </a:lnTo>
                <a:lnTo>
                  <a:pt x="375" y="1363"/>
                </a:lnTo>
                <a:lnTo>
                  <a:pt x="282" y="1363"/>
                </a:lnTo>
                <a:lnTo>
                  <a:pt x="185" y="1319"/>
                </a:lnTo>
                <a:lnTo>
                  <a:pt x="141" y="1222"/>
                </a:lnTo>
                <a:lnTo>
                  <a:pt x="141" y="1129"/>
                </a:lnTo>
                <a:lnTo>
                  <a:pt x="92" y="1037"/>
                </a:lnTo>
                <a:lnTo>
                  <a:pt x="0" y="940"/>
                </a:lnTo>
                <a:lnTo>
                  <a:pt x="44" y="847"/>
                </a:lnTo>
                <a:lnTo>
                  <a:pt x="44" y="755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60840" y="4556160"/>
            <a:ext cx="406800" cy="660600"/>
          </a:xfrm>
          <a:custGeom>
            <a:avLst/>
            <a:gdLst/>
            <a:ahLst/>
            <a:rect l="0" t="0" r="r" b="b"/>
            <a:pathLst>
              <a:path w="1130" h="1835">
                <a:moveTo>
                  <a:pt x="516" y="1601"/>
                </a:moveTo>
                <a:lnTo>
                  <a:pt x="424" y="1601"/>
                </a:lnTo>
                <a:lnTo>
                  <a:pt x="331" y="1553"/>
                </a:lnTo>
                <a:lnTo>
                  <a:pt x="331" y="1460"/>
                </a:lnTo>
                <a:lnTo>
                  <a:pt x="283" y="1368"/>
                </a:lnTo>
                <a:lnTo>
                  <a:pt x="189" y="1319"/>
                </a:lnTo>
                <a:lnTo>
                  <a:pt x="189" y="1226"/>
                </a:lnTo>
                <a:lnTo>
                  <a:pt x="189" y="1129"/>
                </a:lnTo>
                <a:lnTo>
                  <a:pt x="189" y="1037"/>
                </a:lnTo>
                <a:lnTo>
                  <a:pt x="141" y="944"/>
                </a:lnTo>
                <a:lnTo>
                  <a:pt x="48" y="895"/>
                </a:lnTo>
                <a:lnTo>
                  <a:pt x="48" y="802"/>
                </a:lnTo>
                <a:lnTo>
                  <a:pt x="48" y="705"/>
                </a:lnTo>
                <a:lnTo>
                  <a:pt x="48" y="612"/>
                </a:lnTo>
                <a:lnTo>
                  <a:pt x="0" y="520"/>
                </a:lnTo>
                <a:lnTo>
                  <a:pt x="0" y="423"/>
                </a:lnTo>
                <a:lnTo>
                  <a:pt x="92" y="330"/>
                </a:lnTo>
                <a:lnTo>
                  <a:pt x="189" y="189"/>
                </a:lnTo>
                <a:lnTo>
                  <a:pt x="283" y="141"/>
                </a:lnTo>
                <a:lnTo>
                  <a:pt x="375" y="97"/>
                </a:lnTo>
                <a:lnTo>
                  <a:pt x="516" y="48"/>
                </a:lnTo>
                <a:lnTo>
                  <a:pt x="613" y="48"/>
                </a:lnTo>
                <a:lnTo>
                  <a:pt x="706" y="0"/>
                </a:lnTo>
                <a:lnTo>
                  <a:pt x="799" y="48"/>
                </a:lnTo>
                <a:lnTo>
                  <a:pt x="941" y="48"/>
                </a:lnTo>
                <a:lnTo>
                  <a:pt x="1038" y="48"/>
                </a:lnTo>
                <a:lnTo>
                  <a:pt x="1082" y="141"/>
                </a:lnTo>
                <a:lnTo>
                  <a:pt x="1038" y="238"/>
                </a:lnTo>
                <a:lnTo>
                  <a:pt x="941" y="379"/>
                </a:lnTo>
                <a:lnTo>
                  <a:pt x="989" y="471"/>
                </a:lnTo>
                <a:lnTo>
                  <a:pt x="1082" y="520"/>
                </a:lnTo>
                <a:lnTo>
                  <a:pt x="1082" y="612"/>
                </a:lnTo>
                <a:lnTo>
                  <a:pt x="1082" y="705"/>
                </a:lnTo>
                <a:lnTo>
                  <a:pt x="1038" y="802"/>
                </a:lnTo>
                <a:lnTo>
                  <a:pt x="1082" y="895"/>
                </a:lnTo>
                <a:lnTo>
                  <a:pt x="1130" y="988"/>
                </a:lnTo>
                <a:lnTo>
                  <a:pt x="1082" y="1085"/>
                </a:lnTo>
                <a:lnTo>
                  <a:pt x="1082" y="1178"/>
                </a:lnTo>
                <a:lnTo>
                  <a:pt x="1082" y="1271"/>
                </a:lnTo>
                <a:lnTo>
                  <a:pt x="1082" y="1368"/>
                </a:lnTo>
                <a:lnTo>
                  <a:pt x="1038" y="1460"/>
                </a:lnTo>
                <a:lnTo>
                  <a:pt x="989" y="1553"/>
                </a:lnTo>
                <a:lnTo>
                  <a:pt x="989" y="1650"/>
                </a:lnTo>
                <a:lnTo>
                  <a:pt x="941" y="1742"/>
                </a:lnTo>
                <a:lnTo>
                  <a:pt x="848" y="1791"/>
                </a:lnTo>
                <a:lnTo>
                  <a:pt x="755" y="1791"/>
                </a:lnTo>
                <a:lnTo>
                  <a:pt x="658" y="1835"/>
                </a:lnTo>
                <a:lnTo>
                  <a:pt x="565" y="1742"/>
                </a:lnTo>
                <a:lnTo>
                  <a:pt x="472" y="1742"/>
                </a:lnTo>
                <a:lnTo>
                  <a:pt x="472" y="1650"/>
                </a:lnTo>
                <a:lnTo>
                  <a:pt x="516" y="1601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192400" y="4622760"/>
            <a:ext cx="457560" cy="729000"/>
          </a:xfrm>
          <a:custGeom>
            <a:avLst/>
            <a:gdLst/>
            <a:ahLst/>
            <a:rect l="0" t="0" r="r" b="b"/>
            <a:pathLst>
              <a:path w="1271" h="2025">
                <a:moveTo>
                  <a:pt x="44" y="1081"/>
                </a:moveTo>
                <a:lnTo>
                  <a:pt x="44" y="943"/>
                </a:lnTo>
                <a:lnTo>
                  <a:pt x="92" y="811"/>
                </a:lnTo>
                <a:lnTo>
                  <a:pt x="185" y="740"/>
                </a:lnTo>
                <a:lnTo>
                  <a:pt x="282" y="674"/>
                </a:lnTo>
                <a:lnTo>
                  <a:pt x="282" y="537"/>
                </a:lnTo>
                <a:lnTo>
                  <a:pt x="282" y="405"/>
                </a:lnTo>
                <a:lnTo>
                  <a:pt x="374" y="335"/>
                </a:lnTo>
                <a:lnTo>
                  <a:pt x="326" y="202"/>
                </a:lnTo>
                <a:lnTo>
                  <a:pt x="282" y="70"/>
                </a:lnTo>
                <a:lnTo>
                  <a:pt x="374" y="70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70"/>
                </a:lnTo>
                <a:lnTo>
                  <a:pt x="940" y="132"/>
                </a:lnTo>
                <a:lnTo>
                  <a:pt x="1032" y="202"/>
                </a:lnTo>
                <a:lnTo>
                  <a:pt x="1081" y="335"/>
                </a:lnTo>
                <a:lnTo>
                  <a:pt x="1129" y="476"/>
                </a:lnTo>
                <a:lnTo>
                  <a:pt x="1129" y="608"/>
                </a:lnTo>
                <a:lnTo>
                  <a:pt x="1173" y="740"/>
                </a:lnTo>
                <a:lnTo>
                  <a:pt x="1271" y="877"/>
                </a:lnTo>
                <a:lnTo>
                  <a:pt x="1271" y="1015"/>
                </a:lnTo>
                <a:lnTo>
                  <a:pt x="1271" y="1147"/>
                </a:lnTo>
                <a:lnTo>
                  <a:pt x="1222" y="1284"/>
                </a:lnTo>
                <a:lnTo>
                  <a:pt x="1222" y="1416"/>
                </a:lnTo>
                <a:lnTo>
                  <a:pt x="1222" y="1548"/>
                </a:lnTo>
                <a:lnTo>
                  <a:pt x="1173" y="1751"/>
                </a:lnTo>
                <a:lnTo>
                  <a:pt x="1129" y="1892"/>
                </a:lnTo>
                <a:lnTo>
                  <a:pt x="1032" y="1954"/>
                </a:lnTo>
                <a:lnTo>
                  <a:pt x="940" y="2025"/>
                </a:lnTo>
                <a:lnTo>
                  <a:pt x="847" y="2025"/>
                </a:lnTo>
                <a:lnTo>
                  <a:pt x="750" y="2025"/>
                </a:lnTo>
                <a:lnTo>
                  <a:pt x="658" y="2025"/>
                </a:lnTo>
                <a:lnTo>
                  <a:pt x="564" y="1954"/>
                </a:lnTo>
                <a:lnTo>
                  <a:pt x="467" y="1892"/>
                </a:lnTo>
                <a:lnTo>
                  <a:pt x="374" y="1954"/>
                </a:lnTo>
                <a:lnTo>
                  <a:pt x="282" y="1954"/>
                </a:lnTo>
                <a:lnTo>
                  <a:pt x="185" y="1892"/>
                </a:lnTo>
                <a:lnTo>
                  <a:pt x="141" y="1751"/>
                </a:lnTo>
                <a:lnTo>
                  <a:pt x="141" y="1619"/>
                </a:lnTo>
                <a:lnTo>
                  <a:pt x="92" y="1487"/>
                </a:lnTo>
                <a:lnTo>
                  <a:pt x="0" y="1350"/>
                </a:lnTo>
                <a:lnTo>
                  <a:pt x="44" y="1213"/>
                </a:lnTo>
                <a:lnTo>
                  <a:pt x="44" y="1081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156200" y="4775040"/>
            <a:ext cx="609840" cy="609840"/>
          </a:xfrm>
          <a:custGeom>
            <a:avLst/>
            <a:gdLst/>
            <a:ahLst/>
            <a:rect l="0" t="0" r="r" b="b"/>
            <a:pathLst>
              <a:path w="1694" h="1694">
                <a:moveTo>
                  <a:pt x="145" y="1306"/>
                </a:moveTo>
                <a:lnTo>
                  <a:pt x="242" y="1178"/>
                </a:lnTo>
                <a:lnTo>
                  <a:pt x="335" y="1046"/>
                </a:lnTo>
                <a:lnTo>
                  <a:pt x="92" y="891"/>
                </a:lnTo>
                <a:lnTo>
                  <a:pt x="282" y="802"/>
                </a:lnTo>
                <a:lnTo>
                  <a:pt x="233" y="612"/>
                </a:lnTo>
                <a:lnTo>
                  <a:pt x="515" y="471"/>
                </a:lnTo>
                <a:lnTo>
                  <a:pt x="1037" y="238"/>
                </a:lnTo>
                <a:lnTo>
                  <a:pt x="852" y="238"/>
                </a:lnTo>
                <a:lnTo>
                  <a:pt x="705" y="326"/>
                </a:lnTo>
                <a:lnTo>
                  <a:pt x="918" y="335"/>
                </a:lnTo>
                <a:lnTo>
                  <a:pt x="1081" y="0"/>
                </a:lnTo>
                <a:lnTo>
                  <a:pt x="1222" y="286"/>
                </a:lnTo>
                <a:lnTo>
                  <a:pt x="1209" y="141"/>
                </a:lnTo>
                <a:lnTo>
                  <a:pt x="1306" y="141"/>
                </a:lnTo>
                <a:lnTo>
                  <a:pt x="1403" y="141"/>
                </a:lnTo>
                <a:lnTo>
                  <a:pt x="1500" y="268"/>
                </a:lnTo>
                <a:lnTo>
                  <a:pt x="1597" y="268"/>
                </a:lnTo>
                <a:lnTo>
                  <a:pt x="1694" y="335"/>
                </a:lnTo>
                <a:lnTo>
                  <a:pt x="1694" y="463"/>
                </a:lnTo>
                <a:lnTo>
                  <a:pt x="1694" y="709"/>
                </a:lnTo>
                <a:lnTo>
                  <a:pt x="1601" y="891"/>
                </a:lnTo>
                <a:lnTo>
                  <a:pt x="1553" y="891"/>
                </a:lnTo>
                <a:lnTo>
                  <a:pt x="1354" y="918"/>
                </a:lnTo>
                <a:lnTo>
                  <a:pt x="1363" y="1226"/>
                </a:lnTo>
                <a:lnTo>
                  <a:pt x="1271" y="1456"/>
                </a:lnTo>
                <a:lnTo>
                  <a:pt x="1222" y="1368"/>
                </a:lnTo>
                <a:lnTo>
                  <a:pt x="1081" y="1504"/>
                </a:lnTo>
                <a:lnTo>
                  <a:pt x="852" y="1456"/>
                </a:lnTo>
                <a:lnTo>
                  <a:pt x="705" y="1504"/>
                </a:lnTo>
                <a:lnTo>
                  <a:pt x="657" y="1504"/>
                </a:lnTo>
                <a:lnTo>
                  <a:pt x="582" y="1434"/>
                </a:lnTo>
                <a:lnTo>
                  <a:pt x="480" y="1566"/>
                </a:lnTo>
                <a:lnTo>
                  <a:pt x="388" y="1628"/>
                </a:lnTo>
                <a:lnTo>
                  <a:pt x="291" y="1628"/>
                </a:lnTo>
                <a:lnTo>
                  <a:pt x="189" y="1628"/>
                </a:lnTo>
                <a:lnTo>
                  <a:pt x="97" y="1628"/>
                </a:lnTo>
                <a:lnTo>
                  <a:pt x="0" y="1694"/>
                </a:lnTo>
                <a:lnTo>
                  <a:pt x="44" y="1566"/>
                </a:lnTo>
                <a:lnTo>
                  <a:pt x="97" y="1434"/>
                </a:lnTo>
                <a:lnTo>
                  <a:pt x="145" y="1306"/>
                </a:lnTo>
                <a:close/>
              </a:path>
            </a:pathLst>
          </a:cu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392720" y="4589640"/>
            <a:ext cx="609840" cy="609840"/>
          </a:xfrm>
          <a:custGeom>
            <a:avLst/>
            <a:gdLst/>
            <a:ahLst/>
            <a:rect l="0" t="0" r="r" b="b"/>
            <a:pathLst>
              <a:path w="1694" h="1694">
                <a:moveTo>
                  <a:pt x="145" y="1306"/>
                </a:moveTo>
                <a:lnTo>
                  <a:pt x="242" y="1178"/>
                </a:lnTo>
                <a:lnTo>
                  <a:pt x="335" y="1046"/>
                </a:lnTo>
                <a:lnTo>
                  <a:pt x="92" y="891"/>
                </a:lnTo>
                <a:lnTo>
                  <a:pt x="282" y="802"/>
                </a:lnTo>
                <a:lnTo>
                  <a:pt x="233" y="612"/>
                </a:lnTo>
                <a:lnTo>
                  <a:pt x="515" y="471"/>
                </a:lnTo>
                <a:lnTo>
                  <a:pt x="1037" y="238"/>
                </a:lnTo>
                <a:lnTo>
                  <a:pt x="852" y="238"/>
                </a:lnTo>
                <a:lnTo>
                  <a:pt x="705" y="326"/>
                </a:lnTo>
                <a:lnTo>
                  <a:pt x="918" y="335"/>
                </a:lnTo>
                <a:lnTo>
                  <a:pt x="1081" y="0"/>
                </a:lnTo>
                <a:lnTo>
                  <a:pt x="1222" y="286"/>
                </a:lnTo>
                <a:lnTo>
                  <a:pt x="1209" y="141"/>
                </a:lnTo>
                <a:lnTo>
                  <a:pt x="1306" y="141"/>
                </a:lnTo>
                <a:lnTo>
                  <a:pt x="1403" y="141"/>
                </a:lnTo>
                <a:lnTo>
                  <a:pt x="1500" y="268"/>
                </a:lnTo>
                <a:lnTo>
                  <a:pt x="1597" y="268"/>
                </a:lnTo>
                <a:lnTo>
                  <a:pt x="1694" y="335"/>
                </a:lnTo>
                <a:lnTo>
                  <a:pt x="1694" y="463"/>
                </a:lnTo>
                <a:lnTo>
                  <a:pt x="1694" y="709"/>
                </a:lnTo>
                <a:lnTo>
                  <a:pt x="1601" y="891"/>
                </a:lnTo>
                <a:lnTo>
                  <a:pt x="1553" y="891"/>
                </a:lnTo>
                <a:lnTo>
                  <a:pt x="1354" y="918"/>
                </a:lnTo>
                <a:lnTo>
                  <a:pt x="1363" y="1226"/>
                </a:lnTo>
                <a:lnTo>
                  <a:pt x="1271" y="1456"/>
                </a:lnTo>
                <a:lnTo>
                  <a:pt x="1222" y="1368"/>
                </a:lnTo>
                <a:lnTo>
                  <a:pt x="1081" y="1504"/>
                </a:lnTo>
                <a:lnTo>
                  <a:pt x="852" y="1456"/>
                </a:lnTo>
                <a:lnTo>
                  <a:pt x="705" y="1504"/>
                </a:lnTo>
                <a:lnTo>
                  <a:pt x="657" y="1504"/>
                </a:lnTo>
                <a:lnTo>
                  <a:pt x="582" y="1434"/>
                </a:lnTo>
                <a:lnTo>
                  <a:pt x="480" y="1566"/>
                </a:lnTo>
                <a:lnTo>
                  <a:pt x="388" y="1628"/>
                </a:lnTo>
                <a:lnTo>
                  <a:pt x="291" y="1628"/>
                </a:lnTo>
                <a:lnTo>
                  <a:pt x="189" y="1628"/>
                </a:lnTo>
                <a:lnTo>
                  <a:pt x="97" y="1628"/>
                </a:lnTo>
                <a:lnTo>
                  <a:pt x="0" y="1694"/>
                </a:lnTo>
                <a:lnTo>
                  <a:pt x="44" y="1566"/>
                </a:lnTo>
                <a:lnTo>
                  <a:pt x="97" y="1434"/>
                </a:lnTo>
                <a:lnTo>
                  <a:pt x="145" y="1306"/>
                </a:lnTo>
                <a:close/>
              </a:path>
            </a:pathLst>
          </a:cu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695160" y="2008080"/>
            <a:ext cx="2557440" cy="2421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01640" y="4438800"/>
            <a:ext cx="0" cy="4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54240" y="4438800"/>
            <a:ext cx="0" cy="4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27080" y="44449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581200" y="44449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254400" y="4438800"/>
            <a:ext cx="0" cy="4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549600" y="1925640"/>
            <a:ext cx="3139920" cy="2878200"/>
            <a:chOff x="3549600" y="1925640"/>
            <a:chExt cx="3139920" cy="2878200"/>
          </a:xfrm>
        </p:grpSpPr>
        <p:grpSp>
          <p:nvGrpSpPr>
            <p:cNvPr id="1093" name=""/>
            <p:cNvGrpSpPr/>
            <p:nvPr/>
          </p:nvGrpSpPr>
          <p:grpSpPr>
            <a:xfrm>
              <a:off x="3549600" y="1925640"/>
              <a:ext cx="2976480" cy="2739960"/>
              <a:chOff x="3549600" y="1925640"/>
              <a:chExt cx="2976480" cy="273996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3549600" y="1925640"/>
                <a:ext cx="423720" cy="2739960"/>
                <a:chOff x="3549600" y="1925640"/>
                <a:chExt cx="423720" cy="273996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3549600" y="1925640"/>
                  <a:ext cx="423720" cy="2647800"/>
                  <a:chOff x="3549600" y="1925640"/>
                  <a:chExt cx="423720" cy="2647800"/>
                </a:xfrm>
              </p:grpSpPr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3549600" y="2433600"/>
                    <a:ext cx="422280" cy="298440"/>
                    <a:chOff x="3549600" y="2433600"/>
                    <a:chExt cx="422280" cy="298440"/>
                  </a:xfrm>
                </p:grpSpPr>
                <p:sp>
                  <p:nvSpPr>
                    <p:cNvPr id="1097" name=""/>
                    <p:cNvSpPr txBox="1"/>
                    <p:nvPr/>
                  </p:nvSpPr>
                  <p:spPr>
                    <a:xfrm>
                      <a:off x="3549600" y="2490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 txBox="1"/>
                    <p:nvPr/>
                  </p:nvSpPr>
                  <p:spPr>
                    <a:xfrm>
                      <a:off x="3719520" y="24336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 flipH="1">
                    <a:off x="3886200" y="20304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3571920" y="1925640"/>
                    <a:ext cx="396720" cy="303120"/>
                    <a:chOff x="3571920" y="1925640"/>
                    <a:chExt cx="396720" cy="303120"/>
                  </a:xfrm>
                </p:grpSpPr>
                <p:sp>
                  <p:nvSpPr>
                    <p:cNvPr id="1101" name=""/>
                    <p:cNvSpPr txBox="1"/>
                    <p:nvPr/>
                  </p:nvSpPr>
                  <p:spPr>
                    <a:xfrm>
                      <a:off x="3571920" y="19875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 txBox="1"/>
                    <p:nvPr/>
                  </p:nvSpPr>
                  <p:spPr>
                    <a:xfrm>
                      <a:off x="3724200" y="192564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3581280" y="3637080"/>
                    <a:ext cx="389160" cy="326880"/>
                    <a:chOff x="3581280" y="3637080"/>
                    <a:chExt cx="389160" cy="326880"/>
                  </a:xfrm>
                </p:grpSpPr>
                <p:sp>
                  <p:nvSpPr>
                    <p:cNvPr id="1104" name=""/>
                    <p:cNvSpPr txBox="1"/>
                    <p:nvPr/>
                  </p:nvSpPr>
                  <p:spPr>
                    <a:xfrm>
                      <a:off x="3581280" y="37227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 txBox="1"/>
                    <p:nvPr/>
                  </p:nvSpPr>
                  <p:spPr>
                    <a:xfrm>
                      <a:off x="3718080" y="36370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3584520" y="3003480"/>
                    <a:ext cx="388800" cy="331920"/>
                    <a:chOff x="3584520" y="3003480"/>
                    <a:chExt cx="388800" cy="331920"/>
                  </a:xfrm>
                </p:grpSpPr>
                <p:sp>
                  <p:nvSpPr>
                    <p:cNvPr id="1107" name=""/>
                    <p:cNvSpPr txBox="1"/>
                    <p:nvPr/>
                  </p:nvSpPr>
                  <p:spPr>
                    <a:xfrm>
                      <a:off x="3584520" y="30942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"/>
                    <p:cNvSpPr txBox="1"/>
                    <p:nvPr/>
                  </p:nvSpPr>
                  <p:spPr>
                    <a:xfrm>
                      <a:off x="3720960" y="30034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9" name=""/>
                  <p:cNvSpPr txBox="1"/>
                  <p:nvPr/>
                </p:nvSpPr>
                <p:spPr>
                  <a:xfrm>
                    <a:off x="3699000" y="434808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3881520" y="444492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3892680" y="31291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H="1">
                    <a:off x="3886200" y="3751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H="1">
                    <a:off x="3886200" y="25448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4" name=""/>
                <p:cNvSpPr txBox="1"/>
                <p:nvPr/>
              </p:nvSpPr>
              <p:spPr>
                <a:xfrm>
                  <a:off x="3570120" y="442440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3968640" y="202392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 txBox="1"/>
            <p:nvPr/>
          </p:nvSpPr>
          <p:spPr>
            <a:xfrm>
              <a:off x="5610240" y="455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5772240" y="44546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6300720" y="45576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445080" y="446076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4294080" y="455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 txBox="1"/>
            <p:nvPr/>
          </p:nvSpPr>
          <p:spPr>
            <a:xfrm>
              <a:off x="4422600" y="4451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4951440" y="455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>
              <a:off x="5118120" y="44593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 txBox="1"/>
            <p:nvPr/>
          </p:nvSpPr>
          <p:spPr>
            <a:xfrm>
              <a:off x="3722760" y="45626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3875040" y="4451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975120" y="445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27720" y="445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200560" y="44607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54680" y="44607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27880" y="445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"/>
          <p:cNvSpPr txBox="1"/>
          <p:nvPr/>
        </p:nvSpPr>
        <p:spPr>
          <a:xfrm>
            <a:off x="1413000" y="1001880"/>
            <a:ext cx="42037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REE COLOR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1479600" y="469440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4748040" y="472608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171960" y="291132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127080" y="286380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803680" y="2033640"/>
            <a:ext cx="39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6087960" y="2033640"/>
            <a:ext cx="39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072040" y="2424240"/>
            <a:ext cx="508320" cy="405000"/>
          </a:xfrm>
          <a:custGeom>
            <a:avLst/>
            <a:gdLst/>
            <a:ahLst/>
            <a:rect l="0" t="0" r="r" b="b"/>
            <a:pathLst>
              <a:path w="1412" h="1125">
                <a:moveTo>
                  <a:pt x="127" y="984"/>
                </a:moveTo>
                <a:lnTo>
                  <a:pt x="127" y="887"/>
                </a:lnTo>
                <a:lnTo>
                  <a:pt x="127" y="794"/>
                </a:lnTo>
                <a:lnTo>
                  <a:pt x="66" y="702"/>
                </a:lnTo>
                <a:lnTo>
                  <a:pt x="0" y="605"/>
                </a:lnTo>
                <a:lnTo>
                  <a:pt x="0" y="515"/>
                </a:lnTo>
                <a:lnTo>
                  <a:pt x="127" y="467"/>
                </a:lnTo>
                <a:lnTo>
                  <a:pt x="127" y="374"/>
                </a:lnTo>
                <a:lnTo>
                  <a:pt x="260" y="326"/>
                </a:lnTo>
                <a:lnTo>
                  <a:pt x="317" y="233"/>
                </a:lnTo>
                <a:lnTo>
                  <a:pt x="383" y="141"/>
                </a:lnTo>
                <a:lnTo>
                  <a:pt x="511" y="92"/>
                </a:lnTo>
                <a:lnTo>
                  <a:pt x="577" y="185"/>
                </a:lnTo>
                <a:lnTo>
                  <a:pt x="701" y="185"/>
                </a:lnTo>
                <a:lnTo>
                  <a:pt x="834" y="141"/>
                </a:lnTo>
                <a:lnTo>
                  <a:pt x="962" y="92"/>
                </a:lnTo>
                <a:lnTo>
                  <a:pt x="1085" y="0"/>
                </a:lnTo>
                <a:lnTo>
                  <a:pt x="1151" y="92"/>
                </a:lnTo>
                <a:lnTo>
                  <a:pt x="1279" y="141"/>
                </a:lnTo>
                <a:lnTo>
                  <a:pt x="1345" y="233"/>
                </a:lnTo>
                <a:lnTo>
                  <a:pt x="1345" y="326"/>
                </a:lnTo>
                <a:lnTo>
                  <a:pt x="1412" y="423"/>
                </a:lnTo>
                <a:lnTo>
                  <a:pt x="1412" y="515"/>
                </a:lnTo>
                <a:lnTo>
                  <a:pt x="1345" y="605"/>
                </a:lnTo>
                <a:lnTo>
                  <a:pt x="1279" y="702"/>
                </a:lnTo>
                <a:lnTo>
                  <a:pt x="1345" y="794"/>
                </a:lnTo>
                <a:lnTo>
                  <a:pt x="1345" y="887"/>
                </a:lnTo>
                <a:lnTo>
                  <a:pt x="1218" y="935"/>
                </a:lnTo>
                <a:lnTo>
                  <a:pt x="1085" y="935"/>
                </a:lnTo>
                <a:lnTo>
                  <a:pt x="1028" y="1028"/>
                </a:lnTo>
                <a:lnTo>
                  <a:pt x="896" y="1028"/>
                </a:lnTo>
                <a:lnTo>
                  <a:pt x="768" y="1076"/>
                </a:lnTo>
                <a:lnTo>
                  <a:pt x="643" y="1076"/>
                </a:lnTo>
                <a:lnTo>
                  <a:pt x="449" y="1125"/>
                </a:lnTo>
                <a:lnTo>
                  <a:pt x="383" y="1028"/>
                </a:lnTo>
                <a:lnTo>
                  <a:pt x="260" y="1028"/>
                </a:lnTo>
                <a:lnTo>
                  <a:pt x="577" y="887"/>
                </a:lnTo>
                <a:lnTo>
                  <a:pt x="127" y="984"/>
                </a:lnTo>
                <a:close/>
              </a:path>
            </a:pathLst>
          </a:cu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494240" y="2828880"/>
            <a:ext cx="457560" cy="609840"/>
          </a:xfrm>
          <a:custGeom>
            <a:avLst/>
            <a:gdLst/>
            <a:ahLst/>
            <a:rect l="0" t="0" r="r" b="b"/>
            <a:pathLst>
              <a:path w="1271" h="1694">
                <a:moveTo>
                  <a:pt x="44" y="904"/>
                </a:moveTo>
                <a:lnTo>
                  <a:pt x="44" y="789"/>
                </a:lnTo>
                <a:lnTo>
                  <a:pt x="92" y="679"/>
                </a:lnTo>
                <a:lnTo>
                  <a:pt x="185" y="617"/>
                </a:lnTo>
                <a:lnTo>
                  <a:pt x="282" y="564"/>
                </a:lnTo>
                <a:lnTo>
                  <a:pt x="282" y="449"/>
                </a:lnTo>
                <a:lnTo>
                  <a:pt x="282" y="339"/>
                </a:lnTo>
                <a:lnTo>
                  <a:pt x="374" y="282"/>
                </a:lnTo>
                <a:lnTo>
                  <a:pt x="326" y="167"/>
                </a:lnTo>
                <a:lnTo>
                  <a:pt x="282" y="57"/>
                </a:lnTo>
                <a:lnTo>
                  <a:pt x="374" y="57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57"/>
                </a:lnTo>
                <a:lnTo>
                  <a:pt x="940" y="110"/>
                </a:lnTo>
                <a:lnTo>
                  <a:pt x="1032" y="167"/>
                </a:lnTo>
                <a:lnTo>
                  <a:pt x="1081" y="282"/>
                </a:lnTo>
                <a:lnTo>
                  <a:pt x="1129" y="396"/>
                </a:lnTo>
                <a:lnTo>
                  <a:pt x="1129" y="507"/>
                </a:lnTo>
                <a:lnTo>
                  <a:pt x="1173" y="617"/>
                </a:lnTo>
                <a:lnTo>
                  <a:pt x="1271" y="736"/>
                </a:lnTo>
                <a:lnTo>
                  <a:pt x="1271" y="846"/>
                </a:lnTo>
                <a:lnTo>
                  <a:pt x="1271" y="957"/>
                </a:lnTo>
                <a:lnTo>
                  <a:pt x="1222" y="1076"/>
                </a:lnTo>
                <a:lnTo>
                  <a:pt x="1222" y="1187"/>
                </a:lnTo>
                <a:lnTo>
                  <a:pt x="1222" y="1297"/>
                </a:lnTo>
                <a:lnTo>
                  <a:pt x="1173" y="1465"/>
                </a:lnTo>
                <a:lnTo>
                  <a:pt x="1129" y="1584"/>
                </a:lnTo>
                <a:lnTo>
                  <a:pt x="1032" y="1637"/>
                </a:lnTo>
                <a:lnTo>
                  <a:pt x="940" y="1694"/>
                </a:lnTo>
                <a:lnTo>
                  <a:pt x="847" y="1694"/>
                </a:lnTo>
                <a:lnTo>
                  <a:pt x="750" y="1694"/>
                </a:lnTo>
                <a:lnTo>
                  <a:pt x="658" y="1694"/>
                </a:lnTo>
                <a:lnTo>
                  <a:pt x="564" y="1637"/>
                </a:lnTo>
                <a:lnTo>
                  <a:pt x="467" y="1584"/>
                </a:lnTo>
                <a:lnTo>
                  <a:pt x="374" y="1637"/>
                </a:lnTo>
                <a:lnTo>
                  <a:pt x="282" y="1637"/>
                </a:lnTo>
                <a:lnTo>
                  <a:pt x="185" y="1584"/>
                </a:lnTo>
                <a:lnTo>
                  <a:pt x="141" y="1465"/>
                </a:lnTo>
                <a:lnTo>
                  <a:pt x="141" y="1354"/>
                </a:lnTo>
                <a:lnTo>
                  <a:pt x="92" y="1244"/>
                </a:lnTo>
                <a:lnTo>
                  <a:pt x="0" y="1129"/>
                </a:lnTo>
                <a:lnTo>
                  <a:pt x="44" y="1015"/>
                </a:lnTo>
                <a:lnTo>
                  <a:pt x="44" y="904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22960" y="3706920"/>
            <a:ext cx="406800" cy="660600"/>
          </a:xfrm>
          <a:custGeom>
            <a:avLst/>
            <a:gdLst/>
            <a:ahLst/>
            <a:rect l="0" t="0" r="r" b="b"/>
            <a:pathLst>
              <a:path w="1130" h="1835">
                <a:moveTo>
                  <a:pt x="516" y="1601"/>
                </a:moveTo>
                <a:lnTo>
                  <a:pt x="424" y="1601"/>
                </a:lnTo>
                <a:lnTo>
                  <a:pt x="331" y="1553"/>
                </a:lnTo>
                <a:lnTo>
                  <a:pt x="331" y="1460"/>
                </a:lnTo>
                <a:lnTo>
                  <a:pt x="283" y="1368"/>
                </a:lnTo>
                <a:lnTo>
                  <a:pt x="189" y="1319"/>
                </a:lnTo>
                <a:lnTo>
                  <a:pt x="189" y="1226"/>
                </a:lnTo>
                <a:lnTo>
                  <a:pt x="189" y="1129"/>
                </a:lnTo>
                <a:lnTo>
                  <a:pt x="189" y="1037"/>
                </a:lnTo>
                <a:lnTo>
                  <a:pt x="141" y="944"/>
                </a:lnTo>
                <a:lnTo>
                  <a:pt x="48" y="895"/>
                </a:lnTo>
                <a:lnTo>
                  <a:pt x="48" y="802"/>
                </a:lnTo>
                <a:lnTo>
                  <a:pt x="48" y="705"/>
                </a:lnTo>
                <a:lnTo>
                  <a:pt x="48" y="612"/>
                </a:lnTo>
                <a:lnTo>
                  <a:pt x="0" y="520"/>
                </a:lnTo>
                <a:lnTo>
                  <a:pt x="0" y="423"/>
                </a:lnTo>
                <a:lnTo>
                  <a:pt x="92" y="330"/>
                </a:lnTo>
                <a:lnTo>
                  <a:pt x="189" y="189"/>
                </a:lnTo>
                <a:lnTo>
                  <a:pt x="283" y="141"/>
                </a:lnTo>
                <a:lnTo>
                  <a:pt x="375" y="97"/>
                </a:lnTo>
                <a:lnTo>
                  <a:pt x="516" y="48"/>
                </a:lnTo>
                <a:lnTo>
                  <a:pt x="613" y="48"/>
                </a:lnTo>
                <a:lnTo>
                  <a:pt x="706" y="0"/>
                </a:lnTo>
                <a:lnTo>
                  <a:pt x="799" y="48"/>
                </a:lnTo>
                <a:lnTo>
                  <a:pt x="941" y="48"/>
                </a:lnTo>
                <a:lnTo>
                  <a:pt x="1038" y="48"/>
                </a:lnTo>
                <a:lnTo>
                  <a:pt x="1082" y="141"/>
                </a:lnTo>
                <a:lnTo>
                  <a:pt x="1038" y="238"/>
                </a:lnTo>
                <a:lnTo>
                  <a:pt x="941" y="379"/>
                </a:lnTo>
                <a:lnTo>
                  <a:pt x="989" y="471"/>
                </a:lnTo>
                <a:lnTo>
                  <a:pt x="1082" y="520"/>
                </a:lnTo>
                <a:lnTo>
                  <a:pt x="1082" y="612"/>
                </a:lnTo>
                <a:lnTo>
                  <a:pt x="1082" y="705"/>
                </a:lnTo>
                <a:lnTo>
                  <a:pt x="1038" y="802"/>
                </a:lnTo>
                <a:lnTo>
                  <a:pt x="1082" y="895"/>
                </a:lnTo>
                <a:lnTo>
                  <a:pt x="1130" y="988"/>
                </a:lnTo>
                <a:lnTo>
                  <a:pt x="1082" y="1085"/>
                </a:lnTo>
                <a:lnTo>
                  <a:pt x="1082" y="1178"/>
                </a:lnTo>
                <a:lnTo>
                  <a:pt x="1082" y="1271"/>
                </a:lnTo>
                <a:lnTo>
                  <a:pt x="1082" y="1368"/>
                </a:lnTo>
                <a:lnTo>
                  <a:pt x="1038" y="1460"/>
                </a:lnTo>
                <a:lnTo>
                  <a:pt x="989" y="1553"/>
                </a:lnTo>
                <a:lnTo>
                  <a:pt x="989" y="1650"/>
                </a:lnTo>
                <a:lnTo>
                  <a:pt x="941" y="1742"/>
                </a:lnTo>
                <a:lnTo>
                  <a:pt x="848" y="1791"/>
                </a:lnTo>
                <a:lnTo>
                  <a:pt x="755" y="1791"/>
                </a:lnTo>
                <a:lnTo>
                  <a:pt x="658" y="1835"/>
                </a:lnTo>
                <a:lnTo>
                  <a:pt x="565" y="1742"/>
                </a:lnTo>
                <a:lnTo>
                  <a:pt x="472" y="1742"/>
                </a:lnTo>
                <a:lnTo>
                  <a:pt x="472" y="1650"/>
                </a:lnTo>
                <a:lnTo>
                  <a:pt x="516" y="1601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63760" y="3673440"/>
            <a:ext cx="406800" cy="457560"/>
          </a:xfrm>
          <a:custGeom>
            <a:avLst/>
            <a:gdLst/>
            <a:ahLst/>
            <a:rect l="0" t="0" r="r" b="b"/>
            <a:pathLst>
              <a:path w="1130" h="1271">
                <a:moveTo>
                  <a:pt x="97" y="979"/>
                </a:moveTo>
                <a:lnTo>
                  <a:pt x="158" y="882"/>
                </a:lnTo>
                <a:lnTo>
                  <a:pt x="224" y="785"/>
                </a:lnTo>
                <a:lnTo>
                  <a:pt x="61" y="671"/>
                </a:lnTo>
                <a:lnTo>
                  <a:pt x="189" y="599"/>
                </a:lnTo>
                <a:lnTo>
                  <a:pt x="154" y="458"/>
                </a:lnTo>
                <a:lnTo>
                  <a:pt x="344" y="357"/>
                </a:lnTo>
                <a:lnTo>
                  <a:pt x="688" y="176"/>
                </a:lnTo>
                <a:lnTo>
                  <a:pt x="565" y="176"/>
                </a:lnTo>
                <a:lnTo>
                  <a:pt x="468" y="246"/>
                </a:lnTo>
                <a:lnTo>
                  <a:pt x="613" y="251"/>
                </a:lnTo>
                <a:lnTo>
                  <a:pt x="719" y="0"/>
                </a:lnTo>
                <a:lnTo>
                  <a:pt x="816" y="216"/>
                </a:lnTo>
                <a:lnTo>
                  <a:pt x="807" y="105"/>
                </a:lnTo>
                <a:lnTo>
                  <a:pt x="875" y="105"/>
                </a:lnTo>
                <a:lnTo>
                  <a:pt x="936" y="105"/>
                </a:lnTo>
                <a:lnTo>
                  <a:pt x="998" y="198"/>
                </a:lnTo>
                <a:lnTo>
                  <a:pt x="1069" y="198"/>
                </a:lnTo>
                <a:lnTo>
                  <a:pt x="1130" y="251"/>
                </a:lnTo>
                <a:lnTo>
                  <a:pt x="1130" y="343"/>
                </a:lnTo>
                <a:lnTo>
                  <a:pt x="1130" y="533"/>
                </a:lnTo>
                <a:lnTo>
                  <a:pt x="1069" y="671"/>
                </a:lnTo>
                <a:lnTo>
                  <a:pt x="1038" y="671"/>
                </a:lnTo>
                <a:lnTo>
                  <a:pt x="905" y="688"/>
                </a:lnTo>
                <a:lnTo>
                  <a:pt x="910" y="922"/>
                </a:lnTo>
                <a:lnTo>
                  <a:pt x="848" y="1094"/>
                </a:lnTo>
                <a:lnTo>
                  <a:pt x="816" y="1024"/>
                </a:lnTo>
                <a:lnTo>
                  <a:pt x="719" y="1129"/>
                </a:lnTo>
                <a:lnTo>
                  <a:pt x="565" y="1094"/>
                </a:lnTo>
                <a:lnTo>
                  <a:pt x="468" y="1129"/>
                </a:lnTo>
                <a:lnTo>
                  <a:pt x="441" y="1129"/>
                </a:lnTo>
                <a:lnTo>
                  <a:pt x="389" y="1076"/>
                </a:lnTo>
                <a:lnTo>
                  <a:pt x="322" y="1173"/>
                </a:lnTo>
                <a:lnTo>
                  <a:pt x="255" y="1222"/>
                </a:lnTo>
                <a:lnTo>
                  <a:pt x="194" y="1222"/>
                </a:lnTo>
                <a:lnTo>
                  <a:pt x="127" y="1222"/>
                </a:lnTo>
                <a:lnTo>
                  <a:pt x="61" y="1222"/>
                </a:lnTo>
                <a:lnTo>
                  <a:pt x="0" y="1271"/>
                </a:lnTo>
                <a:lnTo>
                  <a:pt x="30" y="1173"/>
                </a:lnTo>
                <a:lnTo>
                  <a:pt x="61" y="1076"/>
                </a:lnTo>
                <a:lnTo>
                  <a:pt x="97" y="979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189400" y="3639960"/>
            <a:ext cx="397080" cy="659160"/>
          </a:xfrm>
          <a:custGeom>
            <a:avLst/>
            <a:gdLst/>
            <a:ahLst/>
            <a:rect l="0" t="0" r="r" b="b"/>
            <a:pathLst>
              <a:path w="1103" h="1831">
                <a:moveTo>
                  <a:pt x="644" y="242"/>
                </a:moveTo>
                <a:lnTo>
                  <a:pt x="737" y="246"/>
                </a:lnTo>
                <a:lnTo>
                  <a:pt x="830" y="299"/>
                </a:lnTo>
                <a:lnTo>
                  <a:pt x="821" y="392"/>
                </a:lnTo>
                <a:lnTo>
                  <a:pt x="865" y="485"/>
                </a:lnTo>
                <a:lnTo>
                  <a:pt x="957" y="537"/>
                </a:lnTo>
                <a:lnTo>
                  <a:pt x="953" y="630"/>
                </a:lnTo>
                <a:lnTo>
                  <a:pt x="949" y="727"/>
                </a:lnTo>
                <a:lnTo>
                  <a:pt x="940" y="820"/>
                </a:lnTo>
                <a:lnTo>
                  <a:pt x="984" y="918"/>
                </a:lnTo>
                <a:lnTo>
                  <a:pt x="1076" y="971"/>
                </a:lnTo>
                <a:lnTo>
                  <a:pt x="1072" y="1063"/>
                </a:lnTo>
                <a:lnTo>
                  <a:pt x="1063" y="1160"/>
                </a:lnTo>
                <a:lnTo>
                  <a:pt x="1059" y="1253"/>
                </a:lnTo>
                <a:lnTo>
                  <a:pt x="1103" y="1350"/>
                </a:lnTo>
                <a:lnTo>
                  <a:pt x="1099" y="1447"/>
                </a:lnTo>
                <a:lnTo>
                  <a:pt x="1002" y="1535"/>
                </a:lnTo>
                <a:lnTo>
                  <a:pt x="896" y="1667"/>
                </a:lnTo>
                <a:lnTo>
                  <a:pt x="803" y="1711"/>
                </a:lnTo>
                <a:lnTo>
                  <a:pt x="706" y="1751"/>
                </a:lnTo>
                <a:lnTo>
                  <a:pt x="565" y="1795"/>
                </a:lnTo>
                <a:lnTo>
                  <a:pt x="467" y="1786"/>
                </a:lnTo>
                <a:lnTo>
                  <a:pt x="370" y="1831"/>
                </a:lnTo>
                <a:lnTo>
                  <a:pt x="282" y="1778"/>
                </a:lnTo>
                <a:lnTo>
                  <a:pt x="141" y="1773"/>
                </a:lnTo>
                <a:lnTo>
                  <a:pt x="44" y="1764"/>
                </a:lnTo>
                <a:lnTo>
                  <a:pt x="4" y="1672"/>
                </a:lnTo>
                <a:lnTo>
                  <a:pt x="52" y="1575"/>
                </a:lnTo>
                <a:lnTo>
                  <a:pt x="158" y="1442"/>
                </a:lnTo>
                <a:lnTo>
                  <a:pt x="114" y="1345"/>
                </a:lnTo>
                <a:lnTo>
                  <a:pt x="22" y="1293"/>
                </a:lnTo>
                <a:lnTo>
                  <a:pt x="26" y="1200"/>
                </a:lnTo>
                <a:lnTo>
                  <a:pt x="30" y="1107"/>
                </a:lnTo>
                <a:lnTo>
                  <a:pt x="83" y="1010"/>
                </a:lnTo>
                <a:lnTo>
                  <a:pt x="44" y="918"/>
                </a:lnTo>
                <a:lnTo>
                  <a:pt x="0" y="820"/>
                </a:lnTo>
                <a:lnTo>
                  <a:pt x="52" y="727"/>
                </a:lnTo>
                <a:lnTo>
                  <a:pt x="57" y="635"/>
                </a:lnTo>
                <a:lnTo>
                  <a:pt x="61" y="542"/>
                </a:lnTo>
                <a:lnTo>
                  <a:pt x="66" y="445"/>
                </a:lnTo>
                <a:lnTo>
                  <a:pt x="114" y="352"/>
                </a:lnTo>
                <a:lnTo>
                  <a:pt x="171" y="264"/>
                </a:lnTo>
                <a:lnTo>
                  <a:pt x="176" y="167"/>
                </a:lnTo>
                <a:lnTo>
                  <a:pt x="229" y="79"/>
                </a:lnTo>
                <a:lnTo>
                  <a:pt x="321" y="35"/>
                </a:lnTo>
                <a:lnTo>
                  <a:pt x="414" y="39"/>
                </a:lnTo>
                <a:lnTo>
                  <a:pt x="515" y="0"/>
                </a:lnTo>
                <a:lnTo>
                  <a:pt x="605" y="97"/>
                </a:lnTo>
                <a:lnTo>
                  <a:pt x="697" y="101"/>
                </a:lnTo>
                <a:lnTo>
                  <a:pt x="693" y="194"/>
                </a:lnTo>
                <a:lnTo>
                  <a:pt x="644" y="242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60480" y="3117960"/>
            <a:ext cx="614880" cy="705240"/>
          </a:xfrm>
          <a:custGeom>
            <a:avLst/>
            <a:gdLst/>
            <a:ahLst/>
            <a:rect l="0" t="0" r="r" b="b"/>
            <a:pathLst>
              <a:path w="1708" h="1959">
                <a:moveTo>
                  <a:pt x="383" y="653"/>
                </a:moveTo>
                <a:lnTo>
                  <a:pt x="468" y="543"/>
                </a:lnTo>
                <a:lnTo>
                  <a:pt x="591" y="467"/>
                </a:lnTo>
                <a:lnTo>
                  <a:pt x="710" y="467"/>
                </a:lnTo>
                <a:lnTo>
                  <a:pt x="825" y="476"/>
                </a:lnTo>
                <a:lnTo>
                  <a:pt x="909" y="370"/>
                </a:lnTo>
                <a:lnTo>
                  <a:pt x="988" y="264"/>
                </a:lnTo>
                <a:lnTo>
                  <a:pt x="1107" y="264"/>
                </a:lnTo>
                <a:lnTo>
                  <a:pt x="1151" y="132"/>
                </a:lnTo>
                <a:lnTo>
                  <a:pt x="1196" y="0"/>
                </a:lnTo>
                <a:lnTo>
                  <a:pt x="1271" y="57"/>
                </a:lnTo>
                <a:lnTo>
                  <a:pt x="1386" y="61"/>
                </a:lnTo>
                <a:lnTo>
                  <a:pt x="1461" y="119"/>
                </a:lnTo>
                <a:lnTo>
                  <a:pt x="1536" y="176"/>
                </a:lnTo>
                <a:lnTo>
                  <a:pt x="1607" y="233"/>
                </a:lnTo>
                <a:lnTo>
                  <a:pt x="1642" y="348"/>
                </a:lnTo>
                <a:lnTo>
                  <a:pt x="1677" y="449"/>
                </a:lnTo>
                <a:lnTo>
                  <a:pt x="1708" y="565"/>
                </a:lnTo>
                <a:lnTo>
                  <a:pt x="1664" y="697"/>
                </a:lnTo>
                <a:lnTo>
                  <a:pt x="1611" y="843"/>
                </a:lnTo>
                <a:lnTo>
                  <a:pt x="1532" y="944"/>
                </a:lnTo>
                <a:lnTo>
                  <a:pt x="1488" y="1076"/>
                </a:lnTo>
                <a:lnTo>
                  <a:pt x="1474" y="1244"/>
                </a:lnTo>
                <a:lnTo>
                  <a:pt x="1391" y="1354"/>
                </a:lnTo>
                <a:lnTo>
                  <a:pt x="1311" y="1456"/>
                </a:lnTo>
                <a:lnTo>
                  <a:pt x="1191" y="1536"/>
                </a:lnTo>
                <a:lnTo>
                  <a:pt x="1107" y="1638"/>
                </a:lnTo>
                <a:lnTo>
                  <a:pt x="1028" y="1743"/>
                </a:lnTo>
                <a:lnTo>
                  <a:pt x="865" y="1871"/>
                </a:lnTo>
                <a:lnTo>
                  <a:pt x="741" y="1959"/>
                </a:lnTo>
                <a:lnTo>
                  <a:pt x="627" y="1946"/>
                </a:lnTo>
                <a:lnTo>
                  <a:pt x="508" y="1942"/>
                </a:lnTo>
                <a:lnTo>
                  <a:pt x="437" y="1889"/>
                </a:lnTo>
                <a:lnTo>
                  <a:pt x="357" y="1827"/>
                </a:lnTo>
                <a:lnTo>
                  <a:pt x="286" y="1770"/>
                </a:lnTo>
                <a:lnTo>
                  <a:pt x="255" y="1660"/>
                </a:lnTo>
                <a:lnTo>
                  <a:pt x="220" y="1554"/>
                </a:lnTo>
                <a:lnTo>
                  <a:pt x="110" y="1545"/>
                </a:lnTo>
                <a:lnTo>
                  <a:pt x="35" y="1488"/>
                </a:lnTo>
                <a:lnTo>
                  <a:pt x="0" y="1376"/>
                </a:lnTo>
                <a:lnTo>
                  <a:pt x="52" y="1235"/>
                </a:lnTo>
                <a:lnTo>
                  <a:pt x="132" y="1134"/>
                </a:lnTo>
                <a:lnTo>
                  <a:pt x="176" y="997"/>
                </a:lnTo>
                <a:lnTo>
                  <a:pt x="189" y="834"/>
                </a:lnTo>
                <a:lnTo>
                  <a:pt x="304" y="755"/>
                </a:lnTo>
                <a:lnTo>
                  <a:pt x="383" y="653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224240" y="3759120"/>
            <a:ext cx="405000" cy="508320"/>
          </a:xfrm>
          <a:custGeom>
            <a:avLst/>
            <a:gdLst/>
            <a:ahLst/>
            <a:rect l="0" t="0" r="r" b="b"/>
            <a:pathLst>
              <a:path w="1125" h="1412">
                <a:moveTo>
                  <a:pt x="97" y="1090"/>
                </a:moveTo>
                <a:lnTo>
                  <a:pt x="158" y="984"/>
                </a:lnTo>
                <a:lnTo>
                  <a:pt x="224" y="869"/>
                </a:lnTo>
                <a:lnTo>
                  <a:pt x="61" y="746"/>
                </a:lnTo>
                <a:lnTo>
                  <a:pt x="185" y="665"/>
                </a:lnTo>
                <a:lnTo>
                  <a:pt x="154" y="511"/>
                </a:lnTo>
                <a:lnTo>
                  <a:pt x="343" y="392"/>
                </a:lnTo>
                <a:lnTo>
                  <a:pt x="688" y="198"/>
                </a:lnTo>
                <a:lnTo>
                  <a:pt x="565" y="198"/>
                </a:lnTo>
                <a:lnTo>
                  <a:pt x="467" y="273"/>
                </a:lnTo>
                <a:lnTo>
                  <a:pt x="609" y="277"/>
                </a:lnTo>
                <a:lnTo>
                  <a:pt x="719" y="0"/>
                </a:lnTo>
                <a:lnTo>
                  <a:pt x="812" y="238"/>
                </a:lnTo>
                <a:lnTo>
                  <a:pt x="803" y="114"/>
                </a:lnTo>
                <a:lnTo>
                  <a:pt x="869" y="114"/>
                </a:lnTo>
                <a:lnTo>
                  <a:pt x="931" y="114"/>
                </a:lnTo>
                <a:lnTo>
                  <a:pt x="997" y="220"/>
                </a:lnTo>
                <a:lnTo>
                  <a:pt x="1063" y="220"/>
                </a:lnTo>
                <a:lnTo>
                  <a:pt x="1125" y="277"/>
                </a:lnTo>
                <a:lnTo>
                  <a:pt x="1125" y="383"/>
                </a:lnTo>
                <a:lnTo>
                  <a:pt x="1125" y="590"/>
                </a:lnTo>
                <a:lnTo>
                  <a:pt x="1063" y="746"/>
                </a:lnTo>
                <a:lnTo>
                  <a:pt x="1032" y="746"/>
                </a:lnTo>
                <a:lnTo>
                  <a:pt x="900" y="763"/>
                </a:lnTo>
                <a:lnTo>
                  <a:pt x="904" y="1024"/>
                </a:lnTo>
                <a:lnTo>
                  <a:pt x="843" y="1213"/>
                </a:lnTo>
                <a:lnTo>
                  <a:pt x="812" y="1138"/>
                </a:lnTo>
                <a:lnTo>
                  <a:pt x="719" y="1253"/>
                </a:lnTo>
                <a:lnTo>
                  <a:pt x="565" y="1213"/>
                </a:lnTo>
                <a:lnTo>
                  <a:pt x="467" y="1253"/>
                </a:lnTo>
                <a:lnTo>
                  <a:pt x="436" y="1253"/>
                </a:lnTo>
                <a:lnTo>
                  <a:pt x="388" y="1196"/>
                </a:lnTo>
                <a:lnTo>
                  <a:pt x="317" y="1306"/>
                </a:lnTo>
                <a:lnTo>
                  <a:pt x="255" y="1354"/>
                </a:lnTo>
                <a:lnTo>
                  <a:pt x="194" y="1354"/>
                </a:lnTo>
                <a:lnTo>
                  <a:pt x="127" y="1354"/>
                </a:lnTo>
                <a:lnTo>
                  <a:pt x="61" y="1354"/>
                </a:lnTo>
                <a:lnTo>
                  <a:pt x="0" y="1412"/>
                </a:lnTo>
                <a:lnTo>
                  <a:pt x="30" y="1306"/>
                </a:lnTo>
                <a:lnTo>
                  <a:pt x="61" y="1196"/>
                </a:lnTo>
                <a:lnTo>
                  <a:pt x="97" y="109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95200" y="5419800"/>
            <a:ext cx="3140280" cy="2877840"/>
            <a:chOff x="295200" y="5419800"/>
            <a:chExt cx="3140280" cy="2877840"/>
          </a:xfrm>
        </p:grpSpPr>
        <p:grpSp>
          <p:nvGrpSpPr>
            <p:cNvPr id="1146" name=""/>
            <p:cNvGrpSpPr/>
            <p:nvPr/>
          </p:nvGrpSpPr>
          <p:grpSpPr>
            <a:xfrm>
              <a:off x="295200" y="5419800"/>
              <a:ext cx="2976480" cy="2739960"/>
              <a:chOff x="295200" y="5419800"/>
              <a:chExt cx="2976480" cy="273996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295200" y="5419800"/>
                <a:ext cx="423720" cy="2739960"/>
                <a:chOff x="295200" y="5419800"/>
                <a:chExt cx="423720" cy="273996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295200" y="5419800"/>
                  <a:ext cx="423720" cy="2647800"/>
                  <a:chOff x="295200" y="5419800"/>
                  <a:chExt cx="423720" cy="2647800"/>
                </a:xfrm>
              </p:grpSpPr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295200" y="5927760"/>
                    <a:ext cx="422280" cy="298440"/>
                    <a:chOff x="295200" y="5927760"/>
                    <a:chExt cx="422280" cy="298440"/>
                  </a:xfrm>
                </p:grpSpPr>
                <p:sp>
                  <p:nvSpPr>
                    <p:cNvPr id="1150" name=""/>
                    <p:cNvSpPr txBox="1"/>
                    <p:nvPr/>
                  </p:nvSpPr>
                  <p:spPr>
                    <a:xfrm>
                      <a:off x="295200" y="59850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 txBox="1"/>
                    <p:nvPr/>
                  </p:nvSpPr>
                  <p:spPr>
                    <a:xfrm>
                      <a:off x="465120" y="59277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"/>
                  <p:cNvSpPr/>
                  <p:nvPr/>
                </p:nvSpPr>
                <p:spPr>
                  <a:xfrm flipH="1">
                    <a:off x="631800" y="55245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317520" y="5419800"/>
                    <a:ext cx="396720" cy="303120"/>
                    <a:chOff x="317520" y="5419800"/>
                    <a:chExt cx="396720" cy="303120"/>
                  </a:xfrm>
                </p:grpSpPr>
                <p:sp>
                  <p:nvSpPr>
                    <p:cNvPr id="1154" name=""/>
                    <p:cNvSpPr txBox="1"/>
                    <p:nvPr/>
                  </p:nvSpPr>
                  <p:spPr>
                    <a:xfrm>
                      <a:off x="317520" y="54817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 txBox="1"/>
                    <p:nvPr/>
                  </p:nvSpPr>
                  <p:spPr>
                    <a:xfrm>
                      <a:off x="469800" y="541980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326880" y="7130880"/>
                    <a:ext cx="389160" cy="327240"/>
                    <a:chOff x="326880" y="7130880"/>
                    <a:chExt cx="389160" cy="327240"/>
                  </a:xfrm>
                </p:grpSpPr>
                <p:sp>
                  <p:nvSpPr>
                    <p:cNvPr id="1157" name=""/>
                    <p:cNvSpPr txBox="1"/>
                    <p:nvPr/>
                  </p:nvSpPr>
                  <p:spPr>
                    <a:xfrm>
                      <a:off x="326880" y="7216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 txBox="1"/>
                    <p:nvPr/>
                  </p:nvSpPr>
                  <p:spPr>
                    <a:xfrm>
                      <a:off x="463680" y="71308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330120" y="6497640"/>
                    <a:ext cx="388800" cy="331560"/>
                    <a:chOff x="330120" y="6497640"/>
                    <a:chExt cx="388800" cy="331560"/>
                  </a:xfrm>
                </p:grpSpPr>
                <p:sp>
                  <p:nvSpPr>
                    <p:cNvPr id="1160" name=""/>
                    <p:cNvSpPr txBox="1"/>
                    <p:nvPr/>
                  </p:nvSpPr>
                  <p:spPr>
                    <a:xfrm>
                      <a:off x="330120" y="65880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 txBox="1"/>
                    <p:nvPr/>
                  </p:nvSpPr>
                  <p:spPr>
                    <a:xfrm>
                      <a:off x="466560" y="64976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2" name=""/>
                  <p:cNvSpPr txBox="1"/>
                  <p:nvPr/>
                </p:nvSpPr>
                <p:spPr>
                  <a:xfrm>
                    <a:off x="444600" y="784224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627120" y="793908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>
                    <a:off x="638280" y="6622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631800" y="72453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631800" y="60390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7" name=""/>
                <p:cNvSpPr txBox="1"/>
                <p:nvPr/>
              </p:nvSpPr>
              <p:spPr>
                <a:xfrm>
                  <a:off x="316080" y="791856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8" name=""/>
              <p:cNvSpPr/>
              <p:nvPr/>
            </p:nvSpPr>
            <p:spPr>
              <a:xfrm>
                <a:off x="714240" y="551808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"/>
            <p:cNvSpPr txBox="1"/>
            <p:nvPr/>
          </p:nvSpPr>
          <p:spPr>
            <a:xfrm>
              <a:off x="2355840" y="80535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 txBox="1"/>
            <p:nvPr/>
          </p:nvSpPr>
          <p:spPr>
            <a:xfrm>
              <a:off x="2517840" y="79484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3046320" y="805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3191040" y="795492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1039680" y="80535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1168560" y="79455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1697040" y="80535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1863720" y="7953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468360" y="805644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 txBox="1"/>
            <p:nvPr/>
          </p:nvSpPr>
          <p:spPr>
            <a:xfrm>
              <a:off x="620640" y="79455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20720" y="79484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73320" y="79484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46160" y="79549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00280" y="79549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273480" y="79484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568680" y="5435640"/>
            <a:ext cx="3139920" cy="2877840"/>
            <a:chOff x="3568680" y="5435640"/>
            <a:chExt cx="3139920" cy="2877840"/>
          </a:xfrm>
        </p:grpSpPr>
        <p:grpSp>
          <p:nvGrpSpPr>
            <p:cNvPr id="1185" name=""/>
            <p:cNvGrpSpPr/>
            <p:nvPr/>
          </p:nvGrpSpPr>
          <p:grpSpPr>
            <a:xfrm>
              <a:off x="3568680" y="5435640"/>
              <a:ext cx="2976480" cy="2739960"/>
              <a:chOff x="3568680" y="5435640"/>
              <a:chExt cx="2976480" cy="2739960"/>
            </a:xfrm>
          </p:grpSpPr>
          <p:grpSp>
            <p:nvGrpSpPr>
              <p:cNvPr id="1186" name=""/>
              <p:cNvGrpSpPr/>
              <p:nvPr/>
            </p:nvGrpSpPr>
            <p:grpSpPr>
              <a:xfrm>
                <a:off x="3568680" y="5435640"/>
                <a:ext cx="423720" cy="2739960"/>
                <a:chOff x="3568680" y="5435640"/>
                <a:chExt cx="423720" cy="2739960"/>
              </a:xfrm>
            </p:grpSpPr>
            <p:grpSp>
              <p:nvGrpSpPr>
                <p:cNvPr id="1187" name=""/>
                <p:cNvGrpSpPr/>
                <p:nvPr/>
              </p:nvGrpSpPr>
              <p:grpSpPr>
                <a:xfrm>
                  <a:off x="3568680" y="5435640"/>
                  <a:ext cx="423720" cy="2647800"/>
                  <a:chOff x="3568680" y="5435640"/>
                  <a:chExt cx="423720" cy="2647800"/>
                </a:xfrm>
              </p:grpSpPr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3568680" y="5943600"/>
                    <a:ext cx="422280" cy="298440"/>
                    <a:chOff x="3568680" y="5943600"/>
                    <a:chExt cx="422280" cy="298440"/>
                  </a:xfrm>
                </p:grpSpPr>
                <p:sp>
                  <p:nvSpPr>
                    <p:cNvPr id="1189" name=""/>
                    <p:cNvSpPr txBox="1"/>
                    <p:nvPr/>
                  </p:nvSpPr>
                  <p:spPr>
                    <a:xfrm>
                      <a:off x="3568680" y="6000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"/>
                    <p:cNvSpPr txBox="1"/>
                    <p:nvPr/>
                  </p:nvSpPr>
                  <p:spPr>
                    <a:xfrm>
                      <a:off x="3738600" y="59436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"/>
                  <p:cNvSpPr/>
                  <p:nvPr/>
                </p:nvSpPr>
                <p:spPr>
                  <a:xfrm flipH="1">
                    <a:off x="3905280" y="55404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2" name=""/>
                  <p:cNvGrpSpPr/>
                  <p:nvPr/>
                </p:nvGrpSpPr>
                <p:grpSpPr>
                  <a:xfrm>
                    <a:off x="3591000" y="5435640"/>
                    <a:ext cx="396720" cy="303120"/>
                    <a:chOff x="3591000" y="5435640"/>
                    <a:chExt cx="396720" cy="303120"/>
                  </a:xfrm>
                </p:grpSpPr>
                <p:sp>
                  <p:nvSpPr>
                    <p:cNvPr id="1193" name=""/>
                    <p:cNvSpPr txBox="1"/>
                    <p:nvPr/>
                  </p:nvSpPr>
                  <p:spPr>
                    <a:xfrm>
                      <a:off x="3591000" y="54975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 txBox="1"/>
                    <p:nvPr/>
                  </p:nvSpPr>
                  <p:spPr>
                    <a:xfrm>
                      <a:off x="3743280" y="543564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3600360" y="7147080"/>
                    <a:ext cx="388800" cy="326880"/>
                    <a:chOff x="3600360" y="7147080"/>
                    <a:chExt cx="388800" cy="326880"/>
                  </a:xfrm>
                </p:grpSpPr>
                <p:sp>
                  <p:nvSpPr>
                    <p:cNvPr id="1196" name=""/>
                    <p:cNvSpPr txBox="1"/>
                    <p:nvPr/>
                  </p:nvSpPr>
                  <p:spPr>
                    <a:xfrm>
                      <a:off x="3600360" y="72327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 txBox="1"/>
                    <p:nvPr/>
                  </p:nvSpPr>
                  <p:spPr>
                    <a:xfrm>
                      <a:off x="3736800" y="71470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603600" y="6513480"/>
                    <a:ext cx="388800" cy="331560"/>
                    <a:chOff x="3603600" y="6513480"/>
                    <a:chExt cx="388800" cy="331560"/>
                  </a:xfrm>
                </p:grpSpPr>
                <p:sp>
                  <p:nvSpPr>
                    <p:cNvPr id="1199" name=""/>
                    <p:cNvSpPr txBox="1"/>
                    <p:nvPr/>
                  </p:nvSpPr>
                  <p:spPr>
                    <a:xfrm>
                      <a:off x="3603600" y="6603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"/>
                    <p:cNvSpPr txBox="1"/>
                    <p:nvPr/>
                  </p:nvSpPr>
                  <p:spPr>
                    <a:xfrm>
                      <a:off x="3740040" y="65134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1" name=""/>
                  <p:cNvSpPr txBox="1"/>
                  <p:nvPr/>
                </p:nvSpPr>
                <p:spPr>
                  <a:xfrm>
                    <a:off x="3718080" y="785808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3900600" y="795492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flipH="1">
                    <a:off x="3911760" y="66387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3905280" y="7261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H="1">
                    <a:off x="3905280" y="60548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6" name=""/>
                <p:cNvSpPr txBox="1"/>
                <p:nvPr/>
              </p:nvSpPr>
              <p:spPr>
                <a:xfrm>
                  <a:off x="3589200" y="793440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7" name=""/>
              <p:cNvSpPr/>
              <p:nvPr/>
            </p:nvSpPr>
            <p:spPr>
              <a:xfrm>
                <a:off x="3987720" y="553392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 txBox="1"/>
            <p:nvPr/>
          </p:nvSpPr>
          <p:spPr>
            <a:xfrm>
              <a:off x="5629320" y="806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5791320" y="79646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 txBox="1"/>
            <p:nvPr/>
          </p:nvSpPr>
          <p:spPr>
            <a:xfrm>
              <a:off x="6319800" y="80676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 txBox="1"/>
            <p:nvPr/>
          </p:nvSpPr>
          <p:spPr>
            <a:xfrm>
              <a:off x="6464160" y="797076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 txBox="1"/>
            <p:nvPr/>
          </p:nvSpPr>
          <p:spPr>
            <a:xfrm>
              <a:off x="4313160" y="806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 txBox="1"/>
            <p:nvPr/>
          </p:nvSpPr>
          <p:spPr>
            <a:xfrm>
              <a:off x="4441680" y="7961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4970520" y="80694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 txBox="1"/>
            <p:nvPr/>
          </p:nvSpPr>
          <p:spPr>
            <a:xfrm>
              <a:off x="5137200" y="79693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 txBox="1"/>
            <p:nvPr/>
          </p:nvSpPr>
          <p:spPr>
            <a:xfrm>
              <a:off x="3741840" y="80722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 txBox="1"/>
            <p:nvPr/>
          </p:nvSpPr>
          <p:spPr>
            <a:xfrm>
              <a:off x="3894120" y="7961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994200" y="796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46440" y="796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19640" y="79707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73760" y="79707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46960" y="796464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"/>
          <p:cNvSpPr txBox="1"/>
          <p:nvPr/>
        </p:nvSpPr>
        <p:spPr>
          <a:xfrm>
            <a:off x="1498680" y="820404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767120" y="823608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3191040" y="642132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108000" y="6373800"/>
            <a:ext cx="846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2819520" y="5543640"/>
            <a:ext cx="406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6097680" y="5543640"/>
            <a:ext cx="419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089240" y="6018120"/>
            <a:ext cx="592560" cy="451080"/>
          </a:xfrm>
          <a:custGeom>
            <a:avLst/>
            <a:gdLst/>
            <a:ahLst/>
            <a:rect l="0" t="0" r="r" b="b"/>
            <a:pathLst>
              <a:path w="1646" h="1253">
                <a:moveTo>
                  <a:pt x="145" y="1099"/>
                </a:moveTo>
                <a:lnTo>
                  <a:pt x="145" y="988"/>
                </a:lnTo>
                <a:lnTo>
                  <a:pt x="145" y="887"/>
                </a:lnTo>
                <a:lnTo>
                  <a:pt x="74" y="785"/>
                </a:lnTo>
                <a:lnTo>
                  <a:pt x="0" y="675"/>
                </a:lnTo>
                <a:lnTo>
                  <a:pt x="0" y="573"/>
                </a:lnTo>
                <a:lnTo>
                  <a:pt x="145" y="520"/>
                </a:lnTo>
                <a:lnTo>
                  <a:pt x="145" y="414"/>
                </a:lnTo>
                <a:lnTo>
                  <a:pt x="299" y="361"/>
                </a:lnTo>
                <a:lnTo>
                  <a:pt x="370" y="260"/>
                </a:lnTo>
                <a:lnTo>
                  <a:pt x="450" y="158"/>
                </a:lnTo>
                <a:lnTo>
                  <a:pt x="596" y="101"/>
                </a:lnTo>
                <a:lnTo>
                  <a:pt x="671" y="207"/>
                </a:lnTo>
                <a:lnTo>
                  <a:pt x="821" y="207"/>
                </a:lnTo>
                <a:lnTo>
                  <a:pt x="975" y="158"/>
                </a:lnTo>
                <a:lnTo>
                  <a:pt x="1121" y="101"/>
                </a:lnTo>
                <a:lnTo>
                  <a:pt x="1267" y="0"/>
                </a:lnTo>
                <a:lnTo>
                  <a:pt x="1346" y="101"/>
                </a:lnTo>
                <a:lnTo>
                  <a:pt x="1492" y="158"/>
                </a:lnTo>
                <a:lnTo>
                  <a:pt x="1571" y="260"/>
                </a:lnTo>
                <a:lnTo>
                  <a:pt x="1571" y="361"/>
                </a:lnTo>
                <a:lnTo>
                  <a:pt x="1646" y="471"/>
                </a:lnTo>
                <a:lnTo>
                  <a:pt x="1646" y="573"/>
                </a:lnTo>
                <a:lnTo>
                  <a:pt x="1571" y="675"/>
                </a:lnTo>
                <a:lnTo>
                  <a:pt x="1492" y="785"/>
                </a:lnTo>
                <a:lnTo>
                  <a:pt x="1571" y="887"/>
                </a:lnTo>
                <a:lnTo>
                  <a:pt x="1571" y="988"/>
                </a:lnTo>
                <a:lnTo>
                  <a:pt x="1421" y="1041"/>
                </a:lnTo>
                <a:lnTo>
                  <a:pt x="1267" y="1041"/>
                </a:lnTo>
                <a:lnTo>
                  <a:pt x="1196" y="1147"/>
                </a:lnTo>
                <a:lnTo>
                  <a:pt x="1041" y="1147"/>
                </a:lnTo>
                <a:lnTo>
                  <a:pt x="896" y="1200"/>
                </a:lnTo>
                <a:lnTo>
                  <a:pt x="750" y="1200"/>
                </a:lnTo>
                <a:lnTo>
                  <a:pt x="525" y="1253"/>
                </a:lnTo>
                <a:lnTo>
                  <a:pt x="450" y="1147"/>
                </a:lnTo>
                <a:lnTo>
                  <a:pt x="299" y="1147"/>
                </a:lnTo>
                <a:lnTo>
                  <a:pt x="671" y="988"/>
                </a:lnTo>
                <a:lnTo>
                  <a:pt x="145" y="1099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15000" y="7078680"/>
            <a:ext cx="303480" cy="762480"/>
          </a:xfrm>
          <a:custGeom>
            <a:avLst/>
            <a:gdLst/>
            <a:ahLst/>
            <a:rect l="0" t="0" r="r" b="b"/>
            <a:pathLst>
              <a:path w="843" h="2118">
                <a:moveTo>
                  <a:pt x="383" y="1849"/>
                </a:moveTo>
                <a:lnTo>
                  <a:pt x="317" y="1849"/>
                </a:lnTo>
                <a:lnTo>
                  <a:pt x="246" y="1792"/>
                </a:lnTo>
                <a:lnTo>
                  <a:pt x="246" y="1686"/>
                </a:lnTo>
                <a:lnTo>
                  <a:pt x="211" y="1579"/>
                </a:lnTo>
                <a:lnTo>
                  <a:pt x="141" y="1522"/>
                </a:lnTo>
                <a:lnTo>
                  <a:pt x="141" y="1416"/>
                </a:lnTo>
                <a:lnTo>
                  <a:pt x="141" y="1301"/>
                </a:lnTo>
                <a:lnTo>
                  <a:pt x="141" y="1196"/>
                </a:lnTo>
                <a:lnTo>
                  <a:pt x="105" y="1090"/>
                </a:lnTo>
                <a:lnTo>
                  <a:pt x="35" y="1032"/>
                </a:lnTo>
                <a:lnTo>
                  <a:pt x="35" y="927"/>
                </a:lnTo>
                <a:lnTo>
                  <a:pt x="35" y="816"/>
                </a:lnTo>
                <a:lnTo>
                  <a:pt x="35" y="706"/>
                </a:lnTo>
                <a:lnTo>
                  <a:pt x="0" y="600"/>
                </a:lnTo>
                <a:lnTo>
                  <a:pt x="0" y="489"/>
                </a:lnTo>
                <a:lnTo>
                  <a:pt x="70" y="383"/>
                </a:lnTo>
                <a:lnTo>
                  <a:pt x="141" y="220"/>
                </a:lnTo>
                <a:lnTo>
                  <a:pt x="211" y="163"/>
                </a:lnTo>
                <a:lnTo>
                  <a:pt x="277" y="110"/>
                </a:lnTo>
                <a:lnTo>
                  <a:pt x="383" y="57"/>
                </a:lnTo>
                <a:lnTo>
                  <a:pt x="459" y="57"/>
                </a:lnTo>
                <a:lnTo>
                  <a:pt x="525" y="0"/>
                </a:lnTo>
                <a:lnTo>
                  <a:pt x="596" y="57"/>
                </a:lnTo>
                <a:lnTo>
                  <a:pt x="702" y="57"/>
                </a:lnTo>
                <a:lnTo>
                  <a:pt x="772" y="57"/>
                </a:lnTo>
                <a:lnTo>
                  <a:pt x="807" y="163"/>
                </a:lnTo>
                <a:lnTo>
                  <a:pt x="772" y="273"/>
                </a:lnTo>
                <a:lnTo>
                  <a:pt x="702" y="436"/>
                </a:lnTo>
                <a:lnTo>
                  <a:pt x="737" y="543"/>
                </a:lnTo>
                <a:lnTo>
                  <a:pt x="807" y="600"/>
                </a:lnTo>
                <a:lnTo>
                  <a:pt x="807" y="706"/>
                </a:lnTo>
                <a:lnTo>
                  <a:pt x="807" y="816"/>
                </a:lnTo>
                <a:lnTo>
                  <a:pt x="772" y="927"/>
                </a:lnTo>
                <a:lnTo>
                  <a:pt x="807" y="1032"/>
                </a:lnTo>
                <a:lnTo>
                  <a:pt x="843" y="1138"/>
                </a:lnTo>
                <a:lnTo>
                  <a:pt x="807" y="1253"/>
                </a:lnTo>
                <a:lnTo>
                  <a:pt x="807" y="1359"/>
                </a:lnTo>
                <a:lnTo>
                  <a:pt x="807" y="1465"/>
                </a:lnTo>
                <a:lnTo>
                  <a:pt x="807" y="1579"/>
                </a:lnTo>
                <a:lnTo>
                  <a:pt x="772" y="1686"/>
                </a:lnTo>
                <a:lnTo>
                  <a:pt x="737" y="1792"/>
                </a:lnTo>
                <a:lnTo>
                  <a:pt x="737" y="1907"/>
                </a:lnTo>
                <a:lnTo>
                  <a:pt x="702" y="2012"/>
                </a:lnTo>
                <a:lnTo>
                  <a:pt x="631" y="2065"/>
                </a:lnTo>
                <a:lnTo>
                  <a:pt x="565" y="2065"/>
                </a:lnTo>
                <a:lnTo>
                  <a:pt x="490" y="2118"/>
                </a:lnTo>
                <a:lnTo>
                  <a:pt x="424" y="2012"/>
                </a:lnTo>
                <a:lnTo>
                  <a:pt x="352" y="2012"/>
                </a:lnTo>
                <a:lnTo>
                  <a:pt x="352" y="1907"/>
                </a:lnTo>
                <a:lnTo>
                  <a:pt x="383" y="1849"/>
                </a:lnTo>
                <a:close/>
              </a:path>
            </a:pathLst>
          </a:cu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924200" y="7066080"/>
            <a:ext cx="457560" cy="508320"/>
          </a:xfrm>
          <a:custGeom>
            <a:avLst/>
            <a:gdLst/>
            <a:ahLst/>
            <a:rect l="0" t="0" r="r" b="b"/>
            <a:pathLst>
              <a:path w="1271" h="1412">
                <a:moveTo>
                  <a:pt x="44" y="755"/>
                </a:moveTo>
                <a:lnTo>
                  <a:pt x="44" y="657"/>
                </a:lnTo>
                <a:lnTo>
                  <a:pt x="92" y="564"/>
                </a:lnTo>
                <a:lnTo>
                  <a:pt x="185" y="515"/>
                </a:lnTo>
                <a:lnTo>
                  <a:pt x="282" y="471"/>
                </a:lnTo>
                <a:lnTo>
                  <a:pt x="282" y="374"/>
                </a:lnTo>
                <a:lnTo>
                  <a:pt x="282" y="282"/>
                </a:lnTo>
                <a:lnTo>
                  <a:pt x="374" y="233"/>
                </a:lnTo>
                <a:lnTo>
                  <a:pt x="326" y="141"/>
                </a:lnTo>
                <a:lnTo>
                  <a:pt x="282" y="48"/>
                </a:lnTo>
                <a:lnTo>
                  <a:pt x="374" y="48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48"/>
                </a:lnTo>
                <a:lnTo>
                  <a:pt x="940" y="92"/>
                </a:lnTo>
                <a:lnTo>
                  <a:pt x="1032" y="141"/>
                </a:lnTo>
                <a:lnTo>
                  <a:pt x="1081" y="233"/>
                </a:lnTo>
                <a:lnTo>
                  <a:pt x="1129" y="330"/>
                </a:lnTo>
                <a:lnTo>
                  <a:pt x="1129" y="423"/>
                </a:lnTo>
                <a:lnTo>
                  <a:pt x="1173" y="515"/>
                </a:lnTo>
                <a:lnTo>
                  <a:pt x="1271" y="612"/>
                </a:lnTo>
                <a:lnTo>
                  <a:pt x="1271" y="705"/>
                </a:lnTo>
                <a:lnTo>
                  <a:pt x="1271" y="799"/>
                </a:lnTo>
                <a:lnTo>
                  <a:pt x="1222" y="896"/>
                </a:lnTo>
                <a:lnTo>
                  <a:pt x="1222" y="988"/>
                </a:lnTo>
                <a:lnTo>
                  <a:pt x="1222" y="1081"/>
                </a:lnTo>
                <a:lnTo>
                  <a:pt x="1173" y="1222"/>
                </a:lnTo>
                <a:lnTo>
                  <a:pt x="1129" y="1319"/>
                </a:lnTo>
                <a:lnTo>
                  <a:pt x="1032" y="1363"/>
                </a:lnTo>
                <a:lnTo>
                  <a:pt x="940" y="1412"/>
                </a:lnTo>
                <a:lnTo>
                  <a:pt x="847" y="1412"/>
                </a:lnTo>
                <a:lnTo>
                  <a:pt x="750" y="1412"/>
                </a:lnTo>
                <a:lnTo>
                  <a:pt x="658" y="1412"/>
                </a:lnTo>
                <a:lnTo>
                  <a:pt x="564" y="1363"/>
                </a:lnTo>
                <a:lnTo>
                  <a:pt x="467" y="1319"/>
                </a:lnTo>
                <a:lnTo>
                  <a:pt x="374" y="1363"/>
                </a:lnTo>
                <a:lnTo>
                  <a:pt x="282" y="1363"/>
                </a:lnTo>
                <a:lnTo>
                  <a:pt x="185" y="1319"/>
                </a:lnTo>
                <a:lnTo>
                  <a:pt x="141" y="1222"/>
                </a:lnTo>
                <a:lnTo>
                  <a:pt x="141" y="1129"/>
                </a:lnTo>
                <a:lnTo>
                  <a:pt x="92" y="1037"/>
                </a:lnTo>
                <a:lnTo>
                  <a:pt x="0" y="940"/>
                </a:lnTo>
                <a:lnTo>
                  <a:pt x="44" y="847"/>
                </a:lnTo>
                <a:lnTo>
                  <a:pt x="44" y="755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583000" y="7066080"/>
            <a:ext cx="457560" cy="729000"/>
          </a:xfrm>
          <a:custGeom>
            <a:avLst/>
            <a:gdLst/>
            <a:ahLst/>
            <a:rect l="0" t="0" r="r" b="b"/>
            <a:pathLst>
              <a:path w="1271" h="2025">
                <a:moveTo>
                  <a:pt x="44" y="1081"/>
                </a:moveTo>
                <a:lnTo>
                  <a:pt x="44" y="943"/>
                </a:lnTo>
                <a:lnTo>
                  <a:pt x="92" y="811"/>
                </a:lnTo>
                <a:lnTo>
                  <a:pt x="185" y="740"/>
                </a:lnTo>
                <a:lnTo>
                  <a:pt x="282" y="674"/>
                </a:lnTo>
                <a:lnTo>
                  <a:pt x="282" y="537"/>
                </a:lnTo>
                <a:lnTo>
                  <a:pt x="282" y="405"/>
                </a:lnTo>
                <a:lnTo>
                  <a:pt x="374" y="335"/>
                </a:lnTo>
                <a:lnTo>
                  <a:pt x="326" y="202"/>
                </a:lnTo>
                <a:lnTo>
                  <a:pt x="282" y="70"/>
                </a:lnTo>
                <a:lnTo>
                  <a:pt x="374" y="70"/>
                </a:lnTo>
                <a:lnTo>
                  <a:pt x="467" y="0"/>
                </a:lnTo>
                <a:lnTo>
                  <a:pt x="564" y="0"/>
                </a:lnTo>
                <a:lnTo>
                  <a:pt x="658" y="0"/>
                </a:lnTo>
                <a:lnTo>
                  <a:pt x="750" y="0"/>
                </a:lnTo>
                <a:lnTo>
                  <a:pt x="847" y="70"/>
                </a:lnTo>
                <a:lnTo>
                  <a:pt x="940" y="132"/>
                </a:lnTo>
                <a:lnTo>
                  <a:pt x="1032" y="202"/>
                </a:lnTo>
                <a:lnTo>
                  <a:pt x="1081" y="335"/>
                </a:lnTo>
                <a:lnTo>
                  <a:pt x="1129" y="476"/>
                </a:lnTo>
                <a:lnTo>
                  <a:pt x="1129" y="608"/>
                </a:lnTo>
                <a:lnTo>
                  <a:pt x="1173" y="740"/>
                </a:lnTo>
                <a:lnTo>
                  <a:pt x="1271" y="877"/>
                </a:lnTo>
                <a:lnTo>
                  <a:pt x="1271" y="1015"/>
                </a:lnTo>
                <a:lnTo>
                  <a:pt x="1271" y="1147"/>
                </a:lnTo>
                <a:lnTo>
                  <a:pt x="1222" y="1284"/>
                </a:lnTo>
                <a:lnTo>
                  <a:pt x="1222" y="1416"/>
                </a:lnTo>
                <a:lnTo>
                  <a:pt x="1222" y="1548"/>
                </a:lnTo>
                <a:lnTo>
                  <a:pt x="1173" y="1751"/>
                </a:lnTo>
                <a:lnTo>
                  <a:pt x="1129" y="1892"/>
                </a:lnTo>
                <a:lnTo>
                  <a:pt x="1032" y="1954"/>
                </a:lnTo>
                <a:lnTo>
                  <a:pt x="940" y="2025"/>
                </a:lnTo>
                <a:lnTo>
                  <a:pt x="847" y="2025"/>
                </a:lnTo>
                <a:lnTo>
                  <a:pt x="750" y="2025"/>
                </a:lnTo>
                <a:lnTo>
                  <a:pt x="658" y="2025"/>
                </a:lnTo>
                <a:lnTo>
                  <a:pt x="564" y="1954"/>
                </a:lnTo>
                <a:lnTo>
                  <a:pt x="467" y="1892"/>
                </a:lnTo>
                <a:lnTo>
                  <a:pt x="374" y="1954"/>
                </a:lnTo>
                <a:lnTo>
                  <a:pt x="282" y="1954"/>
                </a:lnTo>
                <a:lnTo>
                  <a:pt x="185" y="1892"/>
                </a:lnTo>
                <a:lnTo>
                  <a:pt x="141" y="1751"/>
                </a:lnTo>
                <a:lnTo>
                  <a:pt x="141" y="1619"/>
                </a:lnTo>
                <a:lnTo>
                  <a:pt x="92" y="1487"/>
                </a:lnTo>
                <a:lnTo>
                  <a:pt x="0" y="1350"/>
                </a:lnTo>
                <a:lnTo>
                  <a:pt x="44" y="1213"/>
                </a:lnTo>
                <a:lnTo>
                  <a:pt x="44" y="1081"/>
                </a:lnTo>
                <a:close/>
              </a:path>
            </a:pathLst>
          </a:cu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021200" y="7145280"/>
            <a:ext cx="627480" cy="695520"/>
          </a:xfrm>
          <a:custGeom>
            <a:avLst/>
            <a:gdLst/>
            <a:ahLst/>
            <a:rect l="0" t="0" r="r" b="b"/>
            <a:pathLst>
              <a:path w="1743" h="1932">
                <a:moveTo>
                  <a:pt x="149" y="1491"/>
                </a:moveTo>
                <a:lnTo>
                  <a:pt x="246" y="1345"/>
                </a:lnTo>
                <a:lnTo>
                  <a:pt x="343" y="1191"/>
                </a:lnTo>
                <a:lnTo>
                  <a:pt x="92" y="1019"/>
                </a:lnTo>
                <a:lnTo>
                  <a:pt x="291" y="912"/>
                </a:lnTo>
                <a:lnTo>
                  <a:pt x="238" y="701"/>
                </a:lnTo>
                <a:lnTo>
                  <a:pt x="534" y="537"/>
                </a:lnTo>
                <a:lnTo>
                  <a:pt x="1063" y="268"/>
                </a:lnTo>
                <a:lnTo>
                  <a:pt x="874" y="268"/>
                </a:lnTo>
                <a:lnTo>
                  <a:pt x="724" y="374"/>
                </a:lnTo>
                <a:lnTo>
                  <a:pt x="944" y="379"/>
                </a:lnTo>
                <a:lnTo>
                  <a:pt x="1112" y="0"/>
                </a:lnTo>
                <a:lnTo>
                  <a:pt x="1257" y="326"/>
                </a:lnTo>
                <a:lnTo>
                  <a:pt x="1244" y="158"/>
                </a:lnTo>
                <a:lnTo>
                  <a:pt x="1346" y="158"/>
                </a:lnTo>
                <a:lnTo>
                  <a:pt x="1443" y="158"/>
                </a:lnTo>
                <a:lnTo>
                  <a:pt x="1540" y="304"/>
                </a:lnTo>
                <a:lnTo>
                  <a:pt x="1646" y="304"/>
                </a:lnTo>
                <a:lnTo>
                  <a:pt x="1743" y="379"/>
                </a:lnTo>
                <a:lnTo>
                  <a:pt x="1743" y="524"/>
                </a:lnTo>
                <a:lnTo>
                  <a:pt x="1743" y="811"/>
                </a:lnTo>
                <a:lnTo>
                  <a:pt x="1651" y="1019"/>
                </a:lnTo>
                <a:lnTo>
                  <a:pt x="1598" y="1019"/>
                </a:lnTo>
                <a:lnTo>
                  <a:pt x="1395" y="1046"/>
                </a:lnTo>
                <a:lnTo>
                  <a:pt x="1404" y="1398"/>
                </a:lnTo>
                <a:lnTo>
                  <a:pt x="1311" y="1663"/>
                </a:lnTo>
                <a:lnTo>
                  <a:pt x="1257" y="1557"/>
                </a:lnTo>
                <a:lnTo>
                  <a:pt x="1112" y="1716"/>
                </a:lnTo>
                <a:lnTo>
                  <a:pt x="874" y="1663"/>
                </a:lnTo>
                <a:lnTo>
                  <a:pt x="724" y="1716"/>
                </a:lnTo>
                <a:lnTo>
                  <a:pt x="680" y="1716"/>
                </a:lnTo>
                <a:lnTo>
                  <a:pt x="600" y="1632"/>
                </a:lnTo>
                <a:lnTo>
                  <a:pt x="494" y="1786"/>
                </a:lnTo>
                <a:lnTo>
                  <a:pt x="396" y="1857"/>
                </a:lnTo>
                <a:lnTo>
                  <a:pt x="299" y="1857"/>
                </a:lnTo>
                <a:lnTo>
                  <a:pt x="194" y="1857"/>
                </a:lnTo>
                <a:lnTo>
                  <a:pt x="97" y="1857"/>
                </a:lnTo>
                <a:lnTo>
                  <a:pt x="0" y="1932"/>
                </a:lnTo>
                <a:lnTo>
                  <a:pt x="48" y="1786"/>
                </a:lnTo>
                <a:lnTo>
                  <a:pt x="97" y="1632"/>
                </a:lnTo>
                <a:lnTo>
                  <a:pt x="149" y="1491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397160" y="1628640"/>
            <a:ext cx="14940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462560" y="1628640"/>
            <a:ext cx="14940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228680" y="5133960"/>
            <a:ext cx="14940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L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408560" y="5167440"/>
            <a:ext cx="1671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3+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800" y="7178760"/>
            <a:ext cx="627480" cy="695520"/>
          </a:xfrm>
          <a:custGeom>
            <a:avLst/>
            <a:gdLst/>
            <a:ahLst/>
            <a:rect l="0" t="0" r="r" b="b"/>
            <a:pathLst>
              <a:path w="1743" h="1932">
                <a:moveTo>
                  <a:pt x="149" y="1491"/>
                </a:moveTo>
                <a:lnTo>
                  <a:pt x="246" y="1345"/>
                </a:lnTo>
                <a:lnTo>
                  <a:pt x="343" y="1191"/>
                </a:lnTo>
                <a:lnTo>
                  <a:pt x="92" y="1019"/>
                </a:lnTo>
                <a:lnTo>
                  <a:pt x="291" y="912"/>
                </a:lnTo>
                <a:lnTo>
                  <a:pt x="238" y="701"/>
                </a:lnTo>
                <a:lnTo>
                  <a:pt x="534" y="537"/>
                </a:lnTo>
                <a:lnTo>
                  <a:pt x="1063" y="268"/>
                </a:lnTo>
                <a:lnTo>
                  <a:pt x="874" y="268"/>
                </a:lnTo>
                <a:lnTo>
                  <a:pt x="724" y="374"/>
                </a:lnTo>
                <a:lnTo>
                  <a:pt x="944" y="379"/>
                </a:lnTo>
                <a:lnTo>
                  <a:pt x="1112" y="0"/>
                </a:lnTo>
                <a:lnTo>
                  <a:pt x="1257" y="326"/>
                </a:lnTo>
                <a:lnTo>
                  <a:pt x="1244" y="158"/>
                </a:lnTo>
                <a:lnTo>
                  <a:pt x="1346" y="158"/>
                </a:lnTo>
                <a:lnTo>
                  <a:pt x="1443" y="158"/>
                </a:lnTo>
                <a:lnTo>
                  <a:pt x="1540" y="304"/>
                </a:lnTo>
                <a:lnTo>
                  <a:pt x="1646" y="304"/>
                </a:lnTo>
                <a:lnTo>
                  <a:pt x="1743" y="379"/>
                </a:lnTo>
                <a:lnTo>
                  <a:pt x="1743" y="524"/>
                </a:lnTo>
                <a:lnTo>
                  <a:pt x="1743" y="811"/>
                </a:lnTo>
                <a:lnTo>
                  <a:pt x="1651" y="1019"/>
                </a:lnTo>
                <a:lnTo>
                  <a:pt x="1598" y="1019"/>
                </a:lnTo>
                <a:lnTo>
                  <a:pt x="1395" y="1046"/>
                </a:lnTo>
                <a:lnTo>
                  <a:pt x="1404" y="1398"/>
                </a:lnTo>
                <a:lnTo>
                  <a:pt x="1311" y="1663"/>
                </a:lnTo>
                <a:lnTo>
                  <a:pt x="1257" y="1557"/>
                </a:lnTo>
                <a:lnTo>
                  <a:pt x="1112" y="1716"/>
                </a:lnTo>
                <a:lnTo>
                  <a:pt x="874" y="1663"/>
                </a:lnTo>
                <a:lnTo>
                  <a:pt x="724" y="1716"/>
                </a:lnTo>
                <a:lnTo>
                  <a:pt x="680" y="1716"/>
                </a:lnTo>
                <a:lnTo>
                  <a:pt x="600" y="1632"/>
                </a:lnTo>
                <a:lnTo>
                  <a:pt x="494" y="1786"/>
                </a:lnTo>
                <a:lnTo>
                  <a:pt x="396" y="1857"/>
                </a:lnTo>
                <a:lnTo>
                  <a:pt x="299" y="1857"/>
                </a:lnTo>
                <a:lnTo>
                  <a:pt x="194" y="1857"/>
                </a:lnTo>
                <a:lnTo>
                  <a:pt x="97" y="1857"/>
                </a:lnTo>
                <a:lnTo>
                  <a:pt x="0" y="1932"/>
                </a:lnTo>
                <a:lnTo>
                  <a:pt x="48" y="1786"/>
                </a:lnTo>
                <a:lnTo>
                  <a:pt x="97" y="1632"/>
                </a:lnTo>
                <a:lnTo>
                  <a:pt x="149" y="1491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905040" y="6027840"/>
            <a:ext cx="644760" cy="508320"/>
          </a:xfrm>
          <a:custGeom>
            <a:avLst/>
            <a:gdLst/>
            <a:ahLst/>
            <a:rect l="0" t="0" r="r" b="b"/>
            <a:pathLst>
              <a:path w="1791" h="1412">
                <a:moveTo>
                  <a:pt x="158" y="1235"/>
                </a:moveTo>
                <a:lnTo>
                  <a:pt x="158" y="1116"/>
                </a:lnTo>
                <a:lnTo>
                  <a:pt x="158" y="997"/>
                </a:lnTo>
                <a:lnTo>
                  <a:pt x="83" y="882"/>
                </a:lnTo>
                <a:lnTo>
                  <a:pt x="0" y="763"/>
                </a:lnTo>
                <a:lnTo>
                  <a:pt x="0" y="643"/>
                </a:lnTo>
                <a:lnTo>
                  <a:pt x="158" y="586"/>
                </a:lnTo>
                <a:lnTo>
                  <a:pt x="158" y="467"/>
                </a:lnTo>
                <a:lnTo>
                  <a:pt x="326" y="410"/>
                </a:lnTo>
                <a:lnTo>
                  <a:pt x="405" y="291"/>
                </a:lnTo>
                <a:lnTo>
                  <a:pt x="489" y="176"/>
                </a:lnTo>
                <a:lnTo>
                  <a:pt x="648" y="114"/>
                </a:lnTo>
                <a:lnTo>
                  <a:pt x="732" y="233"/>
                </a:lnTo>
                <a:lnTo>
                  <a:pt x="890" y="233"/>
                </a:lnTo>
                <a:lnTo>
                  <a:pt x="1059" y="176"/>
                </a:lnTo>
                <a:lnTo>
                  <a:pt x="1218" y="114"/>
                </a:lnTo>
                <a:lnTo>
                  <a:pt x="1381" y="0"/>
                </a:lnTo>
                <a:lnTo>
                  <a:pt x="1465" y="114"/>
                </a:lnTo>
                <a:lnTo>
                  <a:pt x="1623" y="176"/>
                </a:lnTo>
                <a:lnTo>
                  <a:pt x="1707" y="291"/>
                </a:lnTo>
                <a:lnTo>
                  <a:pt x="1707" y="410"/>
                </a:lnTo>
                <a:lnTo>
                  <a:pt x="1791" y="529"/>
                </a:lnTo>
                <a:lnTo>
                  <a:pt x="1791" y="643"/>
                </a:lnTo>
                <a:lnTo>
                  <a:pt x="1707" y="763"/>
                </a:lnTo>
                <a:lnTo>
                  <a:pt x="1623" y="882"/>
                </a:lnTo>
                <a:lnTo>
                  <a:pt x="1707" y="997"/>
                </a:lnTo>
                <a:lnTo>
                  <a:pt x="1707" y="1116"/>
                </a:lnTo>
                <a:lnTo>
                  <a:pt x="1548" y="1173"/>
                </a:lnTo>
                <a:lnTo>
                  <a:pt x="1381" y="1173"/>
                </a:lnTo>
                <a:lnTo>
                  <a:pt x="1301" y="1293"/>
                </a:lnTo>
                <a:lnTo>
                  <a:pt x="1134" y="1293"/>
                </a:lnTo>
                <a:lnTo>
                  <a:pt x="975" y="1350"/>
                </a:lnTo>
                <a:lnTo>
                  <a:pt x="815" y="1350"/>
                </a:lnTo>
                <a:lnTo>
                  <a:pt x="573" y="1412"/>
                </a:lnTo>
                <a:lnTo>
                  <a:pt x="489" y="1293"/>
                </a:lnTo>
                <a:lnTo>
                  <a:pt x="326" y="1293"/>
                </a:lnTo>
                <a:lnTo>
                  <a:pt x="732" y="1116"/>
                </a:lnTo>
                <a:lnTo>
                  <a:pt x="158" y="1235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1266840" y="915840"/>
            <a:ext cx="4454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TIONS RE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Y THREE ANTI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81120" y="2066760"/>
            <a:ext cx="5942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up to 8 populations can be re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1362240" y="2590920"/>
            <a:ext cx="4137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for each additional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663560" y="3216240"/>
            <a:ext cx="1095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FL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890800" y="3216240"/>
            <a:ext cx="1114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E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086360" y="3216240"/>
            <a:ext cx="1131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TC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981080" y="352116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135240" y="352116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299120" y="352116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81080" y="392760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135240" y="392760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299120" y="392760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981080" y="433404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135240" y="433404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299120" y="433404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1981080" y="474012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135240" y="474012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299120" y="474012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1706400" y="5248440"/>
            <a:ext cx="1095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FL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2827440" y="5248440"/>
            <a:ext cx="1114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PE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4086360" y="5248440"/>
            <a:ext cx="11318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dfa14"/>
                </a:solidFill>
                <a:latin typeface="Bookman Old Style"/>
                <a:ea typeface="Bookman Old Style"/>
              </a:rPr>
              <a:t>TC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981080" y="555300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135240" y="555300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299120" y="555300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1981080" y="595944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135240" y="595944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4299120" y="595944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1981080" y="636588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3135240" y="636588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299120" y="6365880"/>
            <a:ext cx="363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81080" y="677232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135240" y="677232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299120" y="6772320"/>
            <a:ext cx="29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 txBox="1"/>
          <p:nvPr/>
        </p:nvSpPr>
        <p:spPr>
          <a:xfrm>
            <a:off x="88920" y="1125360"/>
            <a:ext cx="670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REE COLOR IMMUNO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440" y="2292480"/>
            <a:ext cx="2658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1. Ig Block + MAB</a:t>
            </a:r>
            <a:r>
              <a:rPr b="1" lang="en-US" sz="36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265480" y="3159000"/>
            <a:ext cx="258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933640" y="3159000"/>
            <a:ext cx="336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560680" y="2498760"/>
            <a:ext cx="3157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B- second antibody F(a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5537160" y="2676600"/>
            <a:ext cx="487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49280" y="2808360"/>
            <a:ext cx="5884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 </a:t>
            </a: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Ig Block + FL- MAB + PE-MAB + TC- 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132600" y="3540240"/>
            <a:ext cx="258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1440" y="3476520"/>
            <a:ext cx="53611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2. Ig Block + FL-MAB + PE-MAB + B-MAB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5742000" y="4226040"/>
            <a:ext cx="336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d0806"/>
                </a:solidFill>
                <a:latin typeface="Bookman Old Style"/>
                <a:ea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5199120" y="3476520"/>
            <a:ext cx="1647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TC-Avidin </a:t>
            </a:r>
            <a:r>
              <a:rPr b="1" lang="en-US" sz="36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1444680" y="4530600"/>
            <a:ext cx="258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440" y="4135320"/>
            <a:ext cx="55022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3.  Ig Block + FL-MAB + PE-MAB + TC-MAB </a:t>
            </a:r>
            <a:r>
              <a:rPr b="1" lang="en-US" sz="32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46160" y="5173560"/>
            <a:ext cx="64357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C(third color) = PE/TR or PE/CY5 tandem or Pe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165240" y="3201840"/>
            <a:ext cx="6129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STRATEGY FOR SELECTING FLUOROCHR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96720" y="4118040"/>
            <a:ext cx="264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EPITOPE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9440" y="4118040"/>
            <a:ext cx="25272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UOROCH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96720" y="4371840"/>
            <a:ext cx="704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889440" y="4371840"/>
            <a:ext cx="2071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e9b03"/>
                </a:solidFill>
                <a:latin typeface="Bookman Old Style"/>
                <a:ea typeface="Bookman Old Style"/>
              </a:rPr>
              <a:t>phycoeryth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396720" y="4627440"/>
            <a:ext cx="243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low-inter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889440" y="4627440"/>
            <a:ext cx="1181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Bookman Old Style"/>
                <a:ea typeface="Bookman Old Style"/>
              </a:rPr>
              <a:t>tan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96720" y="4883040"/>
            <a:ext cx="7650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68560" y="4924440"/>
            <a:ext cx="16444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man Old Style"/>
                <a:ea typeface="Bookman Old Style"/>
              </a:rPr>
              <a:t>fluoresc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240" y="2465280"/>
            <a:ext cx="6770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SINGLE COLOR IMMUNO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7680" y="3368520"/>
            <a:ext cx="1533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1.  Ig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09640" y="3368520"/>
            <a:ext cx="725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08200" y="3278160"/>
            <a:ext cx="368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14640" y="3368520"/>
            <a:ext cx="3216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FL-second antibody F(a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39000" y="3589200"/>
            <a:ext cx="3319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13600" y="3278160"/>
            <a:ext cx="368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7680" y="4087800"/>
            <a:ext cx="1533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2.  Ig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09640" y="4087800"/>
            <a:ext cx="9716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B-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60840" y="3997440"/>
            <a:ext cx="368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05080" y="4087800"/>
            <a:ext cx="1333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FL-Avi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41760" y="3997440"/>
            <a:ext cx="368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47680" y="4808520"/>
            <a:ext cx="1533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3.  Ig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09640" y="4808520"/>
            <a:ext cx="1109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FL-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60840" y="4718160"/>
            <a:ext cx="368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89120" y="5361120"/>
            <a:ext cx="3682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82800" y="5369040"/>
            <a:ext cx="701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62320" y="5483160"/>
            <a:ext cx="9018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w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58680" y="1136520"/>
            <a:ext cx="67039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1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OMPENSATE INSTRUMENT USING STAINED CE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1440" y="2446200"/>
            <a:ext cx="679608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.  Adjust PMT voltages using 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nstained ce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95400" y="3503520"/>
            <a:ext cx="66848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.  Adjust compensation 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or each fluorochro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4157640" y="4910040"/>
            <a:ext cx="897120" cy="528840"/>
          </a:xfrm>
          <a:custGeom>
            <a:avLst/>
            <a:gdLst/>
            <a:ahLst/>
            <a:rect l="0" t="0" r="r" b="b"/>
            <a:pathLst>
              <a:path w="2492" h="1469">
                <a:moveTo>
                  <a:pt x="154" y="838"/>
                </a:moveTo>
                <a:lnTo>
                  <a:pt x="0" y="665"/>
                </a:lnTo>
                <a:lnTo>
                  <a:pt x="97" y="573"/>
                </a:lnTo>
                <a:lnTo>
                  <a:pt x="304" y="330"/>
                </a:lnTo>
                <a:lnTo>
                  <a:pt x="502" y="255"/>
                </a:lnTo>
                <a:lnTo>
                  <a:pt x="537" y="167"/>
                </a:lnTo>
                <a:lnTo>
                  <a:pt x="485" y="286"/>
                </a:lnTo>
                <a:lnTo>
                  <a:pt x="652" y="167"/>
                </a:lnTo>
                <a:lnTo>
                  <a:pt x="573" y="141"/>
                </a:lnTo>
                <a:lnTo>
                  <a:pt x="485" y="48"/>
                </a:lnTo>
                <a:lnTo>
                  <a:pt x="670" y="48"/>
                </a:lnTo>
                <a:lnTo>
                  <a:pt x="859" y="0"/>
                </a:lnTo>
                <a:lnTo>
                  <a:pt x="1058" y="0"/>
                </a:lnTo>
                <a:lnTo>
                  <a:pt x="1248" y="0"/>
                </a:lnTo>
                <a:lnTo>
                  <a:pt x="1434" y="0"/>
                </a:lnTo>
                <a:lnTo>
                  <a:pt x="1632" y="48"/>
                </a:lnTo>
                <a:lnTo>
                  <a:pt x="1822" y="92"/>
                </a:lnTo>
                <a:lnTo>
                  <a:pt x="2007" y="141"/>
                </a:lnTo>
                <a:lnTo>
                  <a:pt x="2108" y="238"/>
                </a:lnTo>
                <a:lnTo>
                  <a:pt x="2205" y="335"/>
                </a:lnTo>
                <a:lnTo>
                  <a:pt x="2205" y="427"/>
                </a:lnTo>
                <a:lnTo>
                  <a:pt x="2294" y="524"/>
                </a:lnTo>
                <a:lnTo>
                  <a:pt x="2492" y="621"/>
                </a:lnTo>
                <a:lnTo>
                  <a:pt x="2492" y="714"/>
                </a:lnTo>
                <a:lnTo>
                  <a:pt x="2492" y="812"/>
                </a:lnTo>
                <a:lnTo>
                  <a:pt x="2395" y="909"/>
                </a:lnTo>
                <a:lnTo>
                  <a:pt x="2395" y="1002"/>
                </a:lnTo>
                <a:lnTo>
                  <a:pt x="2395" y="1099"/>
                </a:lnTo>
                <a:lnTo>
                  <a:pt x="2294" y="1240"/>
                </a:lnTo>
                <a:lnTo>
                  <a:pt x="2205" y="1341"/>
                </a:lnTo>
                <a:lnTo>
                  <a:pt x="2007" y="1385"/>
                </a:lnTo>
                <a:lnTo>
                  <a:pt x="1822" y="1434"/>
                </a:lnTo>
                <a:lnTo>
                  <a:pt x="1632" y="1434"/>
                </a:lnTo>
                <a:lnTo>
                  <a:pt x="1434" y="1434"/>
                </a:lnTo>
                <a:lnTo>
                  <a:pt x="1248" y="1434"/>
                </a:lnTo>
                <a:lnTo>
                  <a:pt x="1058" y="1385"/>
                </a:lnTo>
                <a:lnTo>
                  <a:pt x="930" y="1469"/>
                </a:lnTo>
                <a:lnTo>
                  <a:pt x="670" y="1385"/>
                </a:lnTo>
                <a:lnTo>
                  <a:pt x="485" y="1385"/>
                </a:lnTo>
                <a:lnTo>
                  <a:pt x="286" y="1341"/>
                </a:lnTo>
                <a:lnTo>
                  <a:pt x="198" y="1240"/>
                </a:lnTo>
                <a:lnTo>
                  <a:pt x="198" y="1147"/>
                </a:lnTo>
                <a:lnTo>
                  <a:pt x="97" y="1054"/>
                </a:lnTo>
                <a:lnTo>
                  <a:pt x="154" y="1006"/>
                </a:lnTo>
                <a:lnTo>
                  <a:pt x="0" y="860"/>
                </a:lnTo>
                <a:lnTo>
                  <a:pt x="154" y="838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52400" y="4605480"/>
            <a:ext cx="338400" cy="830520"/>
          </a:xfrm>
          <a:custGeom>
            <a:avLst/>
            <a:gdLst/>
            <a:ahLst/>
            <a:rect l="0" t="0" r="r" b="b"/>
            <a:pathLst>
              <a:path w="940" h="2307">
                <a:moveTo>
                  <a:pt x="30" y="1231"/>
                </a:moveTo>
                <a:lnTo>
                  <a:pt x="30" y="1075"/>
                </a:lnTo>
                <a:lnTo>
                  <a:pt x="70" y="921"/>
                </a:lnTo>
                <a:lnTo>
                  <a:pt x="136" y="842"/>
                </a:lnTo>
                <a:lnTo>
                  <a:pt x="207" y="771"/>
                </a:lnTo>
                <a:lnTo>
                  <a:pt x="207" y="612"/>
                </a:lnTo>
                <a:lnTo>
                  <a:pt x="207" y="463"/>
                </a:lnTo>
                <a:lnTo>
                  <a:pt x="277" y="383"/>
                </a:lnTo>
                <a:lnTo>
                  <a:pt x="242" y="229"/>
                </a:lnTo>
                <a:lnTo>
                  <a:pt x="207" y="79"/>
                </a:lnTo>
                <a:lnTo>
                  <a:pt x="277" y="79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79"/>
                </a:lnTo>
                <a:lnTo>
                  <a:pt x="697" y="149"/>
                </a:lnTo>
                <a:lnTo>
                  <a:pt x="763" y="229"/>
                </a:lnTo>
                <a:lnTo>
                  <a:pt x="799" y="383"/>
                </a:lnTo>
                <a:lnTo>
                  <a:pt x="834" y="542"/>
                </a:lnTo>
                <a:lnTo>
                  <a:pt x="834" y="692"/>
                </a:lnTo>
                <a:lnTo>
                  <a:pt x="869" y="842"/>
                </a:lnTo>
                <a:lnTo>
                  <a:pt x="940" y="1001"/>
                </a:lnTo>
                <a:lnTo>
                  <a:pt x="940" y="1156"/>
                </a:lnTo>
                <a:lnTo>
                  <a:pt x="940" y="1306"/>
                </a:lnTo>
                <a:lnTo>
                  <a:pt x="904" y="1465"/>
                </a:lnTo>
                <a:lnTo>
                  <a:pt x="904" y="1614"/>
                </a:lnTo>
                <a:lnTo>
                  <a:pt x="904" y="1764"/>
                </a:lnTo>
                <a:lnTo>
                  <a:pt x="869" y="1998"/>
                </a:lnTo>
                <a:lnTo>
                  <a:pt x="834" y="2157"/>
                </a:lnTo>
                <a:lnTo>
                  <a:pt x="763" y="2227"/>
                </a:lnTo>
                <a:lnTo>
                  <a:pt x="697" y="2307"/>
                </a:lnTo>
                <a:lnTo>
                  <a:pt x="627" y="2307"/>
                </a:lnTo>
                <a:lnTo>
                  <a:pt x="556" y="2307"/>
                </a:lnTo>
                <a:lnTo>
                  <a:pt x="486" y="2307"/>
                </a:lnTo>
                <a:lnTo>
                  <a:pt x="418" y="2227"/>
                </a:lnTo>
                <a:lnTo>
                  <a:pt x="343" y="2157"/>
                </a:lnTo>
                <a:lnTo>
                  <a:pt x="277" y="2227"/>
                </a:lnTo>
                <a:lnTo>
                  <a:pt x="207" y="2227"/>
                </a:lnTo>
                <a:lnTo>
                  <a:pt x="136" y="2157"/>
                </a:lnTo>
                <a:lnTo>
                  <a:pt x="105" y="1998"/>
                </a:lnTo>
                <a:lnTo>
                  <a:pt x="105" y="1844"/>
                </a:lnTo>
                <a:lnTo>
                  <a:pt x="70" y="1694"/>
                </a:lnTo>
                <a:lnTo>
                  <a:pt x="0" y="1535"/>
                </a:lnTo>
                <a:lnTo>
                  <a:pt x="30" y="1385"/>
                </a:lnTo>
                <a:lnTo>
                  <a:pt x="30" y="1231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38080" y="3402000"/>
            <a:ext cx="338400" cy="306720"/>
          </a:xfrm>
          <a:custGeom>
            <a:avLst/>
            <a:gdLst/>
            <a:ahLst/>
            <a:rect l="0" t="0" r="r" b="b"/>
            <a:pathLst>
              <a:path w="940" h="852">
                <a:moveTo>
                  <a:pt x="30" y="455"/>
                </a:moveTo>
                <a:lnTo>
                  <a:pt x="30" y="396"/>
                </a:lnTo>
                <a:lnTo>
                  <a:pt x="70" y="339"/>
                </a:lnTo>
                <a:lnTo>
                  <a:pt x="136" y="313"/>
                </a:lnTo>
                <a:lnTo>
                  <a:pt x="207" y="286"/>
                </a:lnTo>
                <a:lnTo>
                  <a:pt x="207" y="224"/>
                </a:lnTo>
                <a:lnTo>
                  <a:pt x="207" y="171"/>
                </a:lnTo>
                <a:lnTo>
                  <a:pt x="277" y="141"/>
                </a:lnTo>
                <a:lnTo>
                  <a:pt x="242" y="83"/>
                </a:lnTo>
                <a:lnTo>
                  <a:pt x="207" y="30"/>
                </a:lnTo>
                <a:lnTo>
                  <a:pt x="277" y="30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30"/>
                </a:lnTo>
                <a:lnTo>
                  <a:pt x="697" y="57"/>
                </a:lnTo>
                <a:lnTo>
                  <a:pt x="763" y="83"/>
                </a:lnTo>
                <a:lnTo>
                  <a:pt x="799" y="141"/>
                </a:lnTo>
                <a:lnTo>
                  <a:pt x="834" y="198"/>
                </a:lnTo>
                <a:lnTo>
                  <a:pt x="834" y="255"/>
                </a:lnTo>
                <a:lnTo>
                  <a:pt x="869" y="313"/>
                </a:lnTo>
                <a:lnTo>
                  <a:pt x="940" y="370"/>
                </a:lnTo>
                <a:lnTo>
                  <a:pt x="940" y="428"/>
                </a:lnTo>
                <a:lnTo>
                  <a:pt x="940" y="481"/>
                </a:lnTo>
                <a:lnTo>
                  <a:pt x="904" y="538"/>
                </a:lnTo>
                <a:lnTo>
                  <a:pt x="904" y="596"/>
                </a:lnTo>
                <a:lnTo>
                  <a:pt x="904" y="653"/>
                </a:lnTo>
                <a:lnTo>
                  <a:pt x="869" y="737"/>
                </a:lnTo>
                <a:lnTo>
                  <a:pt x="834" y="794"/>
                </a:lnTo>
                <a:lnTo>
                  <a:pt x="763" y="821"/>
                </a:lnTo>
                <a:lnTo>
                  <a:pt x="697" y="852"/>
                </a:lnTo>
                <a:lnTo>
                  <a:pt x="627" y="852"/>
                </a:lnTo>
                <a:lnTo>
                  <a:pt x="556" y="852"/>
                </a:lnTo>
                <a:lnTo>
                  <a:pt x="486" y="852"/>
                </a:lnTo>
                <a:lnTo>
                  <a:pt x="418" y="821"/>
                </a:lnTo>
                <a:lnTo>
                  <a:pt x="343" y="794"/>
                </a:lnTo>
                <a:lnTo>
                  <a:pt x="277" y="821"/>
                </a:lnTo>
                <a:lnTo>
                  <a:pt x="207" y="821"/>
                </a:lnTo>
                <a:lnTo>
                  <a:pt x="136" y="794"/>
                </a:lnTo>
                <a:lnTo>
                  <a:pt x="105" y="737"/>
                </a:lnTo>
                <a:lnTo>
                  <a:pt x="105" y="680"/>
                </a:lnTo>
                <a:lnTo>
                  <a:pt x="70" y="627"/>
                </a:lnTo>
                <a:lnTo>
                  <a:pt x="0" y="565"/>
                </a:lnTo>
                <a:lnTo>
                  <a:pt x="30" y="512"/>
                </a:lnTo>
                <a:lnTo>
                  <a:pt x="30" y="455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609480" y="831960"/>
            <a:ext cx="5300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REE COLO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11040" y="2925720"/>
            <a:ext cx="3140280" cy="2878200"/>
            <a:chOff x="311040" y="2925720"/>
            <a:chExt cx="3140280" cy="2878200"/>
          </a:xfrm>
        </p:grpSpPr>
        <p:grpSp>
          <p:nvGrpSpPr>
            <p:cNvPr id="1304" name=""/>
            <p:cNvGrpSpPr/>
            <p:nvPr/>
          </p:nvGrpSpPr>
          <p:grpSpPr>
            <a:xfrm>
              <a:off x="311040" y="2925720"/>
              <a:ext cx="2976480" cy="2739960"/>
              <a:chOff x="311040" y="2925720"/>
              <a:chExt cx="2976480" cy="27399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311040" y="2925720"/>
                <a:ext cx="424080" cy="2739960"/>
                <a:chOff x="311040" y="2925720"/>
                <a:chExt cx="424080" cy="2739960"/>
              </a:xfrm>
            </p:grpSpPr>
            <p:grpSp>
              <p:nvGrpSpPr>
                <p:cNvPr id="1306" name=""/>
                <p:cNvGrpSpPr/>
                <p:nvPr/>
              </p:nvGrpSpPr>
              <p:grpSpPr>
                <a:xfrm>
                  <a:off x="311040" y="2925720"/>
                  <a:ext cx="424080" cy="2647800"/>
                  <a:chOff x="311040" y="2925720"/>
                  <a:chExt cx="424080" cy="2647800"/>
                </a:xfrm>
              </p:grpSpPr>
              <p:grpSp>
                <p:nvGrpSpPr>
                  <p:cNvPr id="1307" name=""/>
                  <p:cNvGrpSpPr/>
                  <p:nvPr/>
                </p:nvGrpSpPr>
                <p:grpSpPr>
                  <a:xfrm>
                    <a:off x="311040" y="3433680"/>
                    <a:ext cx="422280" cy="298440"/>
                    <a:chOff x="311040" y="3433680"/>
                    <a:chExt cx="422280" cy="298440"/>
                  </a:xfrm>
                </p:grpSpPr>
                <p:sp>
                  <p:nvSpPr>
                    <p:cNvPr id="1308" name=""/>
                    <p:cNvSpPr txBox="1"/>
                    <p:nvPr/>
                  </p:nvSpPr>
                  <p:spPr>
                    <a:xfrm>
                      <a:off x="311040" y="3490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9" name=""/>
                    <p:cNvSpPr txBox="1"/>
                    <p:nvPr/>
                  </p:nvSpPr>
                  <p:spPr>
                    <a:xfrm>
                      <a:off x="480960" y="34336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0" name=""/>
                  <p:cNvSpPr/>
                  <p:nvPr/>
                </p:nvSpPr>
                <p:spPr>
                  <a:xfrm flipH="1">
                    <a:off x="647640" y="30304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1" name=""/>
                  <p:cNvGrpSpPr/>
                  <p:nvPr/>
                </p:nvGrpSpPr>
                <p:grpSpPr>
                  <a:xfrm>
                    <a:off x="333360" y="2925720"/>
                    <a:ext cx="396720" cy="303120"/>
                    <a:chOff x="333360" y="2925720"/>
                    <a:chExt cx="396720" cy="303120"/>
                  </a:xfrm>
                </p:grpSpPr>
                <p:sp>
                  <p:nvSpPr>
                    <p:cNvPr id="1312" name=""/>
                    <p:cNvSpPr txBox="1"/>
                    <p:nvPr/>
                  </p:nvSpPr>
                  <p:spPr>
                    <a:xfrm>
                      <a:off x="333360" y="29876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3" name=""/>
                    <p:cNvSpPr txBox="1"/>
                    <p:nvPr/>
                  </p:nvSpPr>
                  <p:spPr>
                    <a:xfrm>
                      <a:off x="485640" y="292572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343080" y="4637160"/>
                    <a:ext cx="388800" cy="326880"/>
                    <a:chOff x="343080" y="4637160"/>
                    <a:chExt cx="388800" cy="326880"/>
                  </a:xfrm>
                </p:grpSpPr>
                <p:sp>
                  <p:nvSpPr>
                    <p:cNvPr id="1315" name=""/>
                    <p:cNvSpPr txBox="1"/>
                    <p:nvPr/>
                  </p:nvSpPr>
                  <p:spPr>
                    <a:xfrm>
                      <a:off x="343080" y="4722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"/>
                    <p:cNvSpPr txBox="1"/>
                    <p:nvPr/>
                  </p:nvSpPr>
                  <p:spPr>
                    <a:xfrm>
                      <a:off x="479520" y="46371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345960" y="4003560"/>
                    <a:ext cx="389160" cy="331920"/>
                    <a:chOff x="345960" y="4003560"/>
                    <a:chExt cx="389160" cy="331920"/>
                  </a:xfrm>
                </p:grpSpPr>
                <p:sp>
                  <p:nvSpPr>
                    <p:cNvPr id="1318" name=""/>
                    <p:cNvSpPr txBox="1"/>
                    <p:nvPr/>
                  </p:nvSpPr>
                  <p:spPr>
                    <a:xfrm>
                      <a:off x="345960" y="4094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"/>
                    <p:cNvSpPr txBox="1"/>
                    <p:nvPr/>
                  </p:nvSpPr>
                  <p:spPr>
                    <a:xfrm>
                      <a:off x="482760" y="40035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"/>
                  <p:cNvSpPr txBox="1"/>
                  <p:nvPr/>
                </p:nvSpPr>
                <p:spPr>
                  <a:xfrm>
                    <a:off x="460440" y="534816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flipH="1">
                    <a:off x="642960" y="544500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>
                    <a:off x="654120" y="4129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>
                    <a:off x="647640" y="47512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>
                    <a:off x="647640" y="3544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5" name=""/>
                <p:cNvSpPr txBox="1"/>
                <p:nvPr/>
              </p:nvSpPr>
              <p:spPr>
                <a:xfrm>
                  <a:off x="331920" y="542448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"/>
              <p:cNvSpPr/>
              <p:nvPr/>
            </p:nvSpPr>
            <p:spPr>
              <a:xfrm>
                <a:off x="730080" y="30243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 txBox="1"/>
            <p:nvPr/>
          </p:nvSpPr>
          <p:spPr>
            <a:xfrm>
              <a:off x="237168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 txBox="1"/>
            <p:nvPr/>
          </p:nvSpPr>
          <p:spPr>
            <a:xfrm>
              <a:off x="2533680" y="5454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3062160" y="55576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3206880" y="546084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 txBox="1"/>
            <p:nvPr/>
          </p:nvSpPr>
          <p:spPr>
            <a:xfrm>
              <a:off x="105552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>
              <a:off x="118440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 txBox="1"/>
            <p:nvPr/>
          </p:nvSpPr>
          <p:spPr>
            <a:xfrm>
              <a:off x="171288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 txBox="1"/>
            <p:nvPr/>
          </p:nvSpPr>
          <p:spPr>
            <a:xfrm>
              <a:off x="1879560" y="5459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484200" y="5562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63648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656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8916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6200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1612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8932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703680" y="2925720"/>
            <a:ext cx="3139920" cy="2878200"/>
            <a:chOff x="3703680" y="2925720"/>
            <a:chExt cx="3139920" cy="2878200"/>
          </a:xfrm>
        </p:grpSpPr>
        <p:grpSp>
          <p:nvGrpSpPr>
            <p:cNvPr id="1343" name=""/>
            <p:cNvGrpSpPr/>
            <p:nvPr/>
          </p:nvGrpSpPr>
          <p:grpSpPr>
            <a:xfrm>
              <a:off x="3703680" y="2925720"/>
              <a:ext cx="2976480" cy="2739960"/>
              <a:chOff x="3703680" y="2925720"/>
              <a:chExt cx="2976480" cy="273996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703680" y="2925720"/>
                <a:ext cx="423720" cy="2739960"/>
                <a:chOff x="3703680" y="2925720"/>
                <a:chExt cx="423720" cy="273996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703680" y="2925720"/>
                  <a:ext cx="423720" cy="2647800"/>
                  <a:chOff x="3703680" y="2925720"/>
                  <a:chExt cx="423720" cy="2647800"/>
                </a:xfrm>
              </p:grpSpPr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3703680" y="3433680"/>
                    <a:ext cx="422280" cy="298440"/>
                    <a:chOff x="3703680" y="3433680"/>
                    <a:chExt cx="422280" cy="298440"/>
                  </a:xfrm>
                </p:grpSpPr>
                <p:sp>
                  <p:nvSpPr>
                    <p:cNvPr id="1347" name=""/>
                    <p:cNvSpPr txBox="1"/>
                    <p:nvPr/>
                  </p:nvSpPr>
                  <p:spPr>
                    <a:xfrm>
                      <a:off x="3703680" y="3490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 txBox="1"/>
                    <p:nvPr/>
                  </p:nvSpPr>
                  <p:spPr>
                    <a:xfrm>
                      <a:off x="3873600" y="343368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9" name=""/>
                  <p:cNvSpPr/>
                  <p:nvPr/>
                </p:nvSpPr>
                <p:spPr>
                  <a:xfrm flipH="1">
                    <a:off x="4040280" y="30304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50" name=""/>
                  <p:cNvGrpSpPr/>
                  <p:nvPr/>
                </p:nvGrpSpPr>
                <p:grpSpPr>
                  <a:xfrm>
                    <a:off x="3726000" y="2925720"/>
                    <a:ext cx="396720" cy="303120"/>
                    <a:chOff x="3726000" y="2925720"/>
                    <a:chExt cx="396720" cy="303120"/>
                  </a:xfrm>
                </p:grpSpPr>
                <p:sp>
                  <p:nvSpPr>
                    <p:cNvPr id="1351" name=""/>
                    <p:cNvSpPr txBox="1"/>
                    <p:nvPr/>
                  </p:nvSpPr>
                  <p:spPr>
                    <a:xfrm>
                      <a:off x="3726000" y="29876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"/>
                    <p:cNvSpPr txBox="1"/>
                    <p:nvPr/>
                  </p:nvSpPr>
                  <p:spPr>
                    <a:xfrm>
                      <a:off x="3878280" y="292572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3" name=""/>
                  <p:cNvGrpSpPr/>
                  <p:nvPr/>
                </p:nvGrpSpPr>
                <p:grpSpPr>
                  <a:xfrm>
                    <a:off x="3735360" y="4637160"/>
                    <a:ext cx="388800" cy="326880"/>
                    <a:chOff x="3735360" y="4637160"/>
                    <a:chExt cx="388800" cy="326880"/>
                  </a:xfrm>
                </p:grpSpPr>
                <p:sp>
                  <p:nvSpPr>
                    <p:cNvPr id="1354" name=""/>
                    <p:cNvSpPr txBox="1"/>
                    <p:nvPr/>
                  </p:nvSpPr>
                  <p:spPr>
                    <a:xfrm>
                      <a:off x="3735360" y="472284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"/>
                    <p:cNvSpPr txBox="1"/>
                    <p:nvPr/>
                  </p:nvSpPr>
                  <p:spPr>
                    <a:xfrm>
                      <a:off x="3871800" y="46371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3738600" y="4003560"/>
                    <a:ext cx="388800" cy="331920"/>
                    <a:chOff x="3738600" y="4003560"/>
                    <a:chExt cx="388800" cy="331920"/>
                  </a:xfrm>
                </p:grpSpPr>
                <p:sp>
                  <p:nvSpPr>
                    <p:cNvPr id="1357" name=""/>
                    <p:cNvSpPr txBox="1"/>
                    <p:nvPr/>
                  </p:nvSpPr>
                  <p:spPr>
                    <a:xfrm>
                      <a:off x="3738600" y="40942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"/>
                    <p:cNvSpPr txBox="1"/>
                    <p:nvPr/>
                  </p:nvSpPr>
                  <p:spPr>
                    <a:xfrm>
                      <a:off x="3875040" y="400356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9" name=""/>
                  <p:cNvSpPr txBox="1"/>
                  <p:nvPr/>
                </p:nvSpPr>
                <p:spPr>
                  <a:xfrm>
                    <a:off x="3852720" y="534816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>
                    <a:off x="4035600" y="544500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>
                    <a:off x="4046400" y="4129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>
                    <a:off x="4040280" y="47512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H="1">
                    <a:off x="4040280" y="3544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"/>
                <p:cNvSpPr txBox="1"/>
                <p:nvPr/>
              </p:nvSpPr>
              <p:spPr>
                <a:xfrm>
                  <a:off x="3724200" y="542448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4122720" y="302436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6" name=""/>
            <p:cNvSpPr txBox="1"/>
            <p:nvPr/>
          </p:nvSpPr>
          <p:spPr>
            <a:xfrm>
              <a:off x="576432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5925960" y="5454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 txBox="1"/>
            <p:nvPr/>
          </p:nvSpPr>
          <p:spPr>
            <a:xfrm>
              <a:off x="6454800" y="55576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 txBox="1"/>
            <p:nvPr/>
          </p:nvSpPr>
          <p:spPr>
            <a:xfrm>
              <a:off x="6599160" y="546084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 txBox="1"/>
            <p:nvPr/>
          </p:nvSpPr>
          <p:spPr>
            <a:xfrm>
              <a:off x="444816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 txBox="1"/>
            <p:nvPr/>
          </p:nvSpPr>
          <p:spPr>
            <a:xfrm>
              <a:off x="457668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5105520" y="555948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 txBox="1"/>
            <p:nvPr/>
          </p:nvSpPr>
          <p:spPr>
            <a:xfrm>
              <a:off x="5272200" y="54594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 txBox="1"/>
            <p:nvPr/>
          </p:nvSpPr>
          <p:spPr>
            <a:xfrm>
              <a:off x="3876840" y="5562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 txBox="1"/>
            <p:nvPr/>
          </p:nvSpPr>
          <p:spPr>
            <a:xfrm>
              <a:off x="4029120" y="54514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12920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8144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35464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8760" y="546084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81960" y="54547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 txBox="1"/>
          <p:nvPr/>
        </p:nvSpPr>
        <p:spPr>
          <a:xfrm>
            <a:off x="3009960" y="3979800"/>
            <a:ext cx="1376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88800" y="3979800"/>
            <a:ext cx="1376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4746600" y="5761080"/>
            <a:ext cx="1393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C-CD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1225440" y="5757840"/>
            <a:ext cx="1558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-CD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27200" y="377676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990720" y="305604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30640" y="3776760"/>
            <a:ext cx="254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4438800" y="3056040"/>
            <a:ext cx="12600" cy="238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344680" y="4724280"/>
            <a:ext cx="254520" cy="713160"/>
          </a:xfrm>
          <a:custGeom>
            <a:avLst/>
            <a:gdLst/>
            <a:ahLst/>
            <a:rect l="0" t="0" r="r" b="b"/>
            <a:pathLst>
              <a:path w="707" h="1981">
                <a:moveTo>
                  <a:pt x="26" y="1059"/>
                </a:moveTo>
                <a:lnTo>
                  <a:pt x="26" y="922"/>
                </a:lnTo>
                <a:lnTo>
                  <a:pt x="52" y="794"/>
                </a:lnTo>
                <a:lnTo>
                  <a:pt x="101" y="724"/>
                </a:lnTo>
                <a:lnTo>
                  <a:pt x="158" y="662"/>
                </a:lnTo>
                <a:lnTo>
                  <a:pt x="158" y="525"/>
                </a:lnTo>
                <a:lnTo>
                  <a:pt x="158" y="396"/>
                </a:lnTo>
                <a:lnTo>
                  <a:pt x="208" y="326"/>
                </a:lnTo>
                <a:lnTo>
                  <a:pt x="181" y="198"/>
                </a:lnTo>
                <a:lnTo>
                  <a:pt x="158" y="66"/>
                </a:lnTo>
                <a:lnTo>
                  <a:pt x="208" y="66"/>
                </a:lnTo>
                <a:lnTo>
                  <a:pt x="261" y="0"/>
                </a:lnTo>
                <a:lnTo>
                  <a:pt x="314" y="0"/>
                </a:lnTo>
                <a:lnTo>
                  <a:pt x="367" y="0"/>
                </a:lnTo>
                <a:lnTo>
                  <a:pt x="415" y="0"/>
                </a:lnTo>
                <a:lnTo>
                  <a:pt x="472" y="66"/>
                </a:lnTo>
                <a:lnTo>
                  <a:pt x="521" y="127"/>
                </a:lnTo>
                <a:lnTo>
                  <a:pt x="575" y="198"/>
                </a:lnTo>
                <a:lnTo>
                  <a:pt x="601" y="326"/>
                </a:lnTo>
                <a:lnTo>
                  <a:pt x="628" y="463"/>
                </a:lnTo>
                <a:lnTo>
                  <a:pt x="628" y="596"/>
                </a:lnTo>
                <a:lnTo>
                  <a:pt x="654" y="724"/>
                </a:lnTo>
                <a:lnTo>
                  <a:pt x="707" y="860"/>
                </a:lnTo>
                <a:lnTo>
                  <a:pt x="707" y="993"/>
                </a:lnTo>
                <a:lnTo>
                  <a:pt x="707" y="1121"/>
                </a:lnTo>
                <a:lnTo>
                  <a:pt x="681" y="1257"/>
                </a:lnTo>
                <a:lnTo>
                  <a:pt x="681" y="1385"/>
                </a:lnTo>
                <a:lnTo>
                  <a:pt x="681" y="1518"/>
                </a:lnTo>
                <a:lnTo>
                  <a:pt x="654" y="1717"/>
                </a:lnTo>
                <a:lnTo>
                  <a:pt x="628" y="1854"/>
                </a:lnTo>
                <a:lnTo>
                  <a:pt x="575" y="1915"/>
                </a:lnTo>
                <a:lnTo>
                  <a:pt x="521" y="1981"/>
                </a:lnTo>
                <a:lnTo>
                  <a:pt x="472" y="1981"/>
                </a:lnTo>
                <a:lnTo>
                  <a:pt x="415" y="1981"/>
                </a:lnTo>
                <a:lnTo>
                  <a:pt x="367" y="1981"/>
                </a:lnTo>
                <a:lnTo>
                  <a:pt x="314" y="1915"/>
                </a:lnTo>
                <a:lnTo>
                  <a:pt x="261" y="1854"/>
                </a:lnTo>
                <a:lnTo>
                  <a:pt x="208" y="1915"/>
                </a:lnTo>
                <a:lnTo>
                  <a:pt x="158" y="1915"/>
                </a:lnTo>
                <a:lnTo>
                  <a:pt x="101" y="1854"/>
                </a:lnTo>
                <a:lnTo>
                  <a:pt x="79" y="1717"/>
                </a:lnTo>
                <a:lnTo>
                  <a:pt x="79" y="1585"/>
                </a:lnTo>
                <a:lnTo>
                  <a:pt x="52" y="1456"/>
                </a:lnTo>
                <a:lnTo>
                  <a:pt x="0" y="1319"/>
                </a:lnTo>
                <a:lnTo>
                  <a:pt x="26" y="1187"/>
                </a:lnTo>
                <a:lnTo>
                  <a:pt x="26" y="1059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110120" y="3421080"/>
            <a:ext cx="1081440" cy="236880"/>
          </a:xfrm>
          <a:custGeom>
            <a:avLst/>
            <a:gdLst/>
            <a:ahLst/>
            <a:rect l="0" t="0" r="r" b="b"/>
            <a:pathLst>
              <a:path w="3004" h="658">
                <a:moveTo>
                  <a:pt x="185" y="384"/>
                </a:moveTo>
                <a:lnTo>
                  <a:pt x="0" y="304"/>
                </a:lnTo>
                <a:lnTo>
                  <a:pt x="119" y="264"/>
                </a:lnTo>
                <a:lnTo>
                  <a:pt x="366" y="149"/>
                </a:lnTo>
                <a:lnTo>
                  <a:pt x="604" y="119"/>
                </a:lnTo>
                <a:lnTo>
                  <a:pt x="648" y="74"/>
                </a:lnTo>
                <a:lnTo>
                  <a:pt x="582" y="132"/>
                </a:lnTo>
                <a:lnTo>
                  <a:pt x="789" y="74"/>
                </a:lnTo>
                <a:lnTo>
                  <a:pt x="692" y="66"/>
                </a:lnTo>
                <a:lnTo>
                  <a:pt x="582" y="22"/>
                </a:lnTo>
                <a:lnTo>
                  <a:pt x="811" y="22"/>
                </a:lnTo>
                <a:lnTo>
                  <a:pt x="1036" y="0"/>
                </a:lnTo>
                <a:lnTo>
                  <a:pt x="1274" y="0"/>
                </a:lnTo>
                <a:lnTo>
                  <a:pt x="1504" y="0"/>
                </a:lnTo>
                <a:lnTo>
                  <a:pt x="1729" y="0"/>
                </a:lnTo>
                <a:lnTo>
                  <a:pt x="1967" y="22"/>
                </a:lnTo>
                <a:lnTo>
                  <a:pt x="2192" y="44"/>
                </a:lnTo>
                <a:lnTo>
                  <a:pt x="2421" y="66"/>
                </a:lnTo>
                <a:lnTo>
                  <a:pt x="2541" y="110"/>
                </a:lnTo>
                <a:lnTo>
                  <a:pt x="2660" y="154"/>
                </a:lnTo>
                <a:lnTo>
                  <a:pt x="2660" y="198"/>
                </a:lnTo>
                <a:lnTo>
                  <a:pt x="2765" y="238"/>
                </a:lnTo>
                <a:lnTo>
                  <a:pt x="3004" y="286"/>
                </a:lnTo>
                <a:lnTo>
                  <a:pt x="3004" y="331"/>
                </a:lnTo>
                <a:lnTo>
                  <a:pt x="3004" y="371"/>
                </a:lnTo>
                <a:lnTo>
                  <a:pt x="2884" y="419"/>
                </a:lnTo>
                <a:lnTo>
                  <a:pt x="2884" y="459"/>
                </a:lnTo>
                <a:lnTo>
                  <a:pt x="2884" y="503"/>
                </a:lnTo>
                <a:lnTo>
                  <a:pt x="2765" y="569"/>
                </a:lnTo>
                <a:lnTo>
                  <a:pt x="2660" y="613"/>
                </a:lnTo>
                <a:lnTo>
                  <a:pt x="2421" y="636"/>
                </a:lnTo>
                <a:lnTo>
                  <a:pt x="2192" y="658"/>
                </a:lnTo>
                <a:lnTo>
                  <a:pt x="1967" y="658"/>
                </a:lnTo>
                <a:lnTo>
                  <a:pt x="1729" y="658"/>
                </a:lnTo>
                <a:lnTo>
                  <a:pt x="1504" y="658"/>
                </a:lnTo>
                <a:lnTo>
                  <a:pt x="1274" y="636"/>
                </a:lnTo>
                <a:lnTo>
                  <a:pt x="1036" y="613"/>
                </a:lnTo>
                <a:lnTo>
                  <a:pt x="811" y="636"/>
                </a:lnTo>
                <a:lnTo>
                  <a:pt x="582" y="636"/>
                </a:lnTo>
                <a:lnTo>
                  <a:pt x="343" y="613"/>
                </a:lnTo>
                <a:lnTo>
                  <a:pt x="238" y="569"/>
                </a:lnTo>
                <a:lnTo>
                  <a:pt x="238" y="525"/>
                </a:lnTo>
                <a:lnTo>
                  <a:pt x="119" y="481"/>
                </a:lnTo>
                <a:lnTo>
                  <a:pt x="185" y="464"/>
                </a:lnTo>
                <a:lnTo>
                  <a:pt x="0" y="393"/>
                </a:lnTo>
                <a:lnTo>
                  <a:pt x="185" y="384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95760" y="4691160"/>
            <a:ext cx="541800" cy="763920"/>
          </a:xfrm>
          <a:custGeom>
            <a:avLst/>
            <a:gdLst/>
            <a:ahLst/>
            <a:rect l="0" t="0" r="r" b="b"/>
            <a:pathLst>
              <a:path w="1505" h="2122">
                <a:moveTo>
                  <a:pt x="92" y="1209"/>
                </a:moveTo>
                <a:lnTo>
                  <a:pt x="0" y="965"/>
                </a:lnTo>
                <a:lnTo>
                  <a:pt x="57" y="829"/>
                </a:lnTo>
                <a:lnTo>
                  <a:pt x="185" y="480"/>
                </a:lnTo>
                <a:lnTo>
                  <a:pt x="304" y="370"/>
                </a:lnTo>
                <a:lnTo>
                  <a:pt x="326" y="238"/>
                </a:lnTo>
                <a:lnTo>
                  <a:pt x="291" y="414"/>
                </a:lnTo>
                <a:lnTo>
                  <a:pt x="397" y="238"/>
                </a:lnTo>
                <a:lnTo>
                  <a:pt x="348" y="207"/>
                </a:lnTo>
                <a:lnTo>
                  <a:pt x="291" y="70"/>
                </a:lnTo>
                <a:lnTo>
                  <a:pt x="406" y="70"/>
                </a:lnTo>
                <a:lnTo>
                  <a:pt x="521" y="0"/>
                </a:lnTo>
                <a:lnTo>
                  <a:pt x="640" y="0"/>
                </a:lnTo>
                <a:lnTo>
                  <a:pt x="755" y="0"/>
                </a:lnTo>
                <a:lnTo>
                  <a:pt x="865" y="0"/>
                </a:lnTo>
                <a:lnTo>
                  <a:pt x="984" y="70"/>
                </a:lnTo>
                <a:lnTo>
                  <a:pt x="1099" y="136"/>
                </a:lnTo>
                <a:lnTo>
                  <a:pt x="1214" y="207"/>
                </a:lnTo>
                <a:lnTo>
                  <a:pt x="1272" y="343"/>
                </a:lnTo>
                <a:lnTo>
                  <a:pt x="1333" y="485"/>
                </a:lnTo>
                <a:lnTo>
                  <a:pt x="1333" y="621"/>
                </a:lnTo>
                <a:lnTo>
                  <a:pt x="1386" y="758"/>
                </a:lnTo>
                <a:lnTo>
                  <a:pt x="1505" y="899"/>
                </a:lnTo>
                <a:lnTo>
                  <a:pt x="1505" y="1036"/>
                </a:lnTo>
                <a:lnTo>
                  <a:pt x="1505" y="1169"/>
                </a:lnTo>
                <a:lnTo>
                  <a:pt x="1448" y="1315"/>
                </a:lnTo>
                <a:lnTo>
                  <a:pt x="1448" y="1447"/>
                </a:lnTo>
                <a:lnTo>
                  <a:pt x="1448" y="1584"/>
                </a:lnTo>
                <a:lnTo>
                  <a:pt x="1386" y="1791"/>
                </a:lnTo>
                <a:lnTo>
                  <a:pt x="1333" y="1932"/>
                </a:lnTo>
                <a:lnTo>
                  <a:pt x="1214" y="1998"/>
                </a:lnTo>
                <a:lnTo>
                  <a:pt x="1099" y="2069"/>
                </a:lnTo>
                <a:lnTo>
                  <a:pt x="984" y="2069"/>
                </a:lnTo>
                <a:lnTo>
                  <a:pt x="865" y="2069"/>
                </a:lnTo>
                <a:lnTo>
                  <a:pt x="755" y="2069"/>
                </a:lnTo>
                <a:lnTo>
                  <a:pt x="640" y="1998"/>
                </a:lnTo>
                <a:lnTo>
                  <a:pt x="565" y="2122"/>
                </a:lnTo>
                <a:lnTo>
                  <a:pt x="406" y="1998"/>
                </a:lnTo>
                <a:lnTo>
                  <a:pt x="291" y="1998"/>
                </a:lnTo>
                <a:lnTo>
                  <a:pt x="171" y="1932"/>
                </a:lnTo>
                <a:lnTo>
                  <a:pt x="119" y="1791"/>
                </a:lnTo>
                <a:lnTo>
                  <a:pt x="119" y="1654"/>
                </a:lnTo>
                <a:lnTo>
                  <a:pt x="57" y="1522"/>
                </a:lnTo>
                <a:lnTo>
                  <a:pt x="92" y="1456"/>
                </a:lnTo>
                <a:lnTo>
                  <a:pt x="0" y="1244"/>
                </a:lnTo>
                <a:lnTo>
                  <a:pt x="92" y="1209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2567160" y="3022560"/>
            <a:ext cx="67320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6022800" y="3040200"/>
            <a:ext cx="67320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140360" y="7061040"/>
            <a:ext cx="592560" cy="613080"/>
          </a:xfrm>
          <a:custGeom>
            <a:avLst/>
            <a:gdLst/>
            <a:ahLst/>
            <a:rect l="0" t="0" r="r" b="b"/>
            <a:pathLst>
              <a:path w="1646" h="1703">
                <a:moveTo>
                  <a:pt x="101" y="971"/>
                </a:moveTo>
                <a:lnTo>
                  <a:pt x="0" y="771"/>
                </a:lnTo>
                <a:lnTo>
                  <a:pt x="66" y="665"/>
                </a:lnTo>
                <a:lnTo>
                  <a:pt x="202" y="383"/>
                </a:lnTo>
                <a:lnTo>
                  <a:pt x="330" y="295"/>
                </a:lnTo>
                <a:lnTo>
                  <a:pt x="357" y="194"/>
                </a:lnTo>
                <a:lnTo>
                  <a:pt x="317" y="330"/>
                </a:lnTo>
                <a:lnTo>
                  <a:pt x="433" y="194"/>
                </a:lnTo>
                <a:lnTo>
                  <a:pt x="379" y="167"/>
                </a:lnTo>
                <a:lnTo>
                  <a:pt x="317" y="57"/>
                </a:lnTo>
                <a:lnTo>
                  <a:pt x="446" y="57"/>
                </a:lnTo>
                <a:lnTo>
                  <a:pt x="569" y="0"/>
                </a:lnTo>
                <a:lnTo>
                  <a:pt x="697" y="0"/>
                </a:lnTo>
                <a:lnTo>
                  <a:pt x="825" y="0"/>
                </a:lnTo>
                <a:lnTo>
                  <a:pt x="949" y="0"/>
                </a:lnTo>
                <a:lnTo>
                  <a:pt x="1076" y="57"/>
                </a:lnTo>
                <a:lnTo>
                  <a:pt x="1200" y="110"/>
                </a:lnTo>
                <a:lnTo>
                  <a:pt x="1329" y="167"/>
                </a:lnTo>
                <a:lnTo>
                  <a:pt x="1391" y="273"/>
                </a:lnTo>
                <a:lnTo>
                  <a:pt x="1457" y="388"/>
                </a:lnTo>
                <a:lnTo>
                  <a:pt x="1457" y="498"/>
                </a:lnTo>
                <a:lnTo>
                  <a:pt x="1514" y="608"/>
                </a:lnTo>
                <a:lnTo>
                  <a:pt x="1646" y="723"/>
                </a:lnTo>
                <a:lnTo>
                  <a:pt x="1646" y="829"/>
                </a:lnTo>
                <a:lnTo>
                  <a:pt x="1646" y="940"/>
                </a:lnTo>
                <a:lnTo>
                  <a:pt x="1580" y="1054"/>
                </a:lnTo>
                <a:lnTo>
                  <a:pt x="1580" y="1165"/>
                </a:lnTo>
                <a:lnTo>
                  <a:pt x="1580" y="1270"/>
                </a:lnTo>
                <a:lnTo>
                  <a:pt x="1514" y="1438"/>
                </a:lnTo>
                <a:lnTo>
                  <a:pt x="1457" y="1553"/>
                </a:lnTo>
                <a:lnTo>
                  <a:pt x="1329" y="1606"/>
                </a:lnTo>
                <a:lnTo>
                  <a:pt x="1200" y="1663"/>
                </a:lnTo>
                <a:lnTo>
                  <a:pt x="1076" y="1663"/>
                </a:lnTo>
                <a:lnTo>
                  <a:pt x="949" y="1663"/>
                </a:lnTo>
                <a:lnTo>
                  <a:pt x="825" y="1663"/>
                </a:lnTo>
                <a:lnTo>
                  <a:pt x="697" y="1606"/>
                </a:lnTo>
                <a:lnTo>
                  <a:pt x="618" y="1703"/>
                </a:lnTo>
                <a:lnTo>
                  <a:pt x="446" y="1606"/>
                </a:lnTo>
                <a:lnTo>
                  <a:pt x="317" y="1606"/>
                </a:lnTo>
                <a:lnTo>
                  <a:pt x="189" y="1553"/>
                </a:lnTo>
                <a:lnTo>
                  <a:pt x="132" y="1438"/>
                </a:lnTo>
                <a:lnTo>
                  <a:pt x="132" y="1328"/>
                </a:lnTo>
                <a:lnTo>
                  <a:pt x="66" y="1222"/>
                </a:lnTo>
                <a:lnTo>
                  <a:pt x="101" y="1169"/>
                </a:lnTo>
                <a:lnTo>
                  <a:pt x="0" y="997"/>
                </a:lnTo>
                <a:lnTo>
                  <a:pt x="101" y="971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52400" y="7027920"/>
            <a:ext cx="338400" cy="643320"/>
          </a:xfrm>
          <a:custGeom>
            <a:avLst/>
            <a:gdLst/>
            <a:ahLst/>
            <a:rect l="0" t="0" r="r" b="b"/>
            <a:pathLst>
              <a:path w="940" h="1787">
                <a:moveTo>
                  <a:pt x="30" y="953"/>
                </a:moveTo>
                <a:lnTo>
                  <a:pt x="30" y="834"/>
                </a:lnTo>
                <a:lnTo>
                  <a:pt x="70" y="715"/>
                </a:lnTo>
                <a:lnTo>
                  <a:pt x="136" y="653"/>
                </a:lnTo>
                <a:lnTo>
                  <a:pt x="207" y="596"/>
                </a:lnTo>
                <a:lnTo>
                  <a:pt x="207" y="477"/>
                </a:lnTo>
                <a:lnTo>
                  <a:pt x="207" y="357"/>
                </a:lnTo>
                <a:lnTo>
                  <a:pt x="277" y="295"/>
                </a:lnTo>
                <a:lnTo>
                  <a:pt x="242" y="180"/>
                </a:lnTo>
                <a:lnTo>
                  <a:pt x="207" y="61"/>
                </a:lnTo>
                <a:lnTo>
                  <a:pt x="277" y="61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61"/>
                </a:lnTo>
                <a:lnTo>
                  <a:pt x="697" y="119"/>
                </a:lnTo>
                <a:lnTo>
                  <a:pt x="763" y="180"/>
                </a:lnTo>
                <a:lnTo>
                  <a:pt x="799" y="295"/>
                </a:lnTo>
                <a:lnTo>
                  <a:pt x="834" y="418"/>
                </a:lnTo>
                <a:lnTo>
                  <a:pt x="834" y="538"/>
                </a:lnTo>
                <a:lnTo>
                  <a:pt x="869" y="653"/>
                </a:lnTo>
                <a:lnTo>
                  <a:pt x="940" y="777"/>
                </a:lnTo>
                <a:lnTo>
                  <a:pt x="940" y="896"/>
                </a:lnTo>
                <a:lnTo>
                  <a:pt x="940" y="1010"/>
                </a:lnTo>
                <a:lnTo>
                  <a:pt x="904" y="1134"/>
                </a:lnTo>
                <a:lnTo>
                  <a:pt x="904" y="1253"/>
                </a:lnTo>
                <a:lnTo>
                  <a:pt x="904" y="1369"/>
                </a:lnTo>
                <a:lnTo>
                  <a:pt x="869" y="1549"/>
                </a:lnTo>
                <a:lnTo>
                  <a:pt x="834" y="1668"/>
                </a:lnTo>
                <a:lnTo>
                  <a:pt x="763" y="1726"/>
                </a:lnTo>
                <a:lnTo>
                  <a:pt x="697" y="1787"/>
                </a:lnTo>
                <a:lnTo>
                  <a:pt x="627" y="1787"/>
                </a:lnTo>
                <a:lnTo>
                  <a:pt x="556" y="1787"/>
                </a:lnTo>
                <a:lnTo>
                  <a:pt x="486" y="1787"/>
                </a:lnTo>
                <a:lnTo>
                  <a:pt x="418" y="1726"/>
                </a:lnTo>
                <a:lnTo>
                  <a:pt x="343" y="1668"/>
                </a:lnTo>
                <a:lnTo>
                  <a:pt x="277" y="1726"/>
                </a:lnTo>
                <a:lnTo>
                  <a:pt x="207" y="1726"/>
                </a:lnTo>
                <a:lnTo>
                  <a:pt x="136" y="1668"/>
                </a:lnTo>
                <a:lnTo>
                  <a:pt x="105" y="1549"/>
                </a:lnTo>
                <a:lnTo>
                  <a:pt x="105" y="1430"/>
                </a:lnTo>
                <a:lnTo>
                  <a:pt x="70" y="1310"/>
                </a:lnTo>
                <a:lnTo>
                  <a:pt x="0" y="1191"/>
                </a:lnTo>
                <a:lnTo>
                  <a:pt x="30" y="1072"/>
                </a:lnTo>
                <a:lnTo>
                  <a:pt x="30" y="953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38080" y="5637240"/>
            <a:ext cx="338400" cy="306720"/>
          </a:xfrm>
          <a:custGeom>
            <a:avLst/>
            <a:gdLst/>
            <a:ahLst/>
            <a:rect l="0" t="0" r="r" b="b"/>
            <a:pathLst>
              <a:path w="940" h="852">
                <a:moveTo>
                  <a:pt x="30" y="455"/>
                </a:moveTo>
                <a:lnTo>
                  <a:pt x="30" y="396"/>
                </a:lnTo>
                <a:lnTo>
                  <a:pt x="70" y="339"/>
                </a:lnTo>
                <a:lnTo>
                  <a:pt x="136" y="313"/>
                </a:lnTo>
                <a:lnTo>
                  <a:pt x="207" y="286"/>
                </a:lnTo>
                <a:lnTo>
                  <a:pt x="207" y="224"/>
                </a:lnTo>
                <a:lnTo>
                  <a:pt x="207" y="171"/>
                </a:lnTo>
                <a:lnTo>
                  <a:pt x="277" y="141"/>
                </a:lnTo>
                <a:lnTo>
                  <a:pt x="242" y="83"/>
                </a:lnTo>
                <a:lnTo>
                  <a:pt x="207" y="30"/>
                </a:lnTo>
                <a:lnTo>
                  <a:pt x="277" y="30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30"/>
                </a:lnTo>
                <a:lnTo>
                  <a:pt x="697" y="57"/>
                </a:lnTo>
                <a:lnTo>
                  <a:pt x="763" y="83"/>
                </a:lnTo>
                <a:lnTo>
                  <a:pt x="799" y="141"/>
                </a:lnTo>
                <a:lnTo>
                  <a:pt x="834" y="198"/>
                </a:lnTo>
                <a:lnTo>
                  <a:pt x="834" y="255"/>
                </a:lnTo>
                <a:lnTo>
                  <a:pt x="869" y="313"/>
                </a:lnTo>
                <a:lnTo>
                  <a:pt x="940" y="370"/>
                </a:lnTo>
                <a:lnTo>
                  <a:pt x="940" y="428"/>
                </a:lnTo>
                <a:lnTo>
                  <a:pt x="940" y="481"/>
                </a:lnTo>
                <a:lnTo>
                  <a:pt x="904" y="538"/>
                </a:lnTo>
                <a:lnTo>
                  <a:pt x="904" y="596"/>
                </a:lnTo>
                <a:lnTo>
                  <a:pt x="904" y="653"/>
                </a:lnTo>
                <a:lnTo>
                  <a:pt x="869" y="737"/>
                </a:lnTo>
                <a:lnTo>
                  <a:pt x="834" y="794"/>
                </a:lnTo>
                <a:lnTo>
                  <a:pt x="763" y="821"/>
                </a:lnTo>
                <a:lnTo>
                  <a:pt x="697" y="852"/>
                </a:lnTo>
                <a:lnTo>
                  <a:pt x="627" y="852"/>
                </a:lnTo>
                <a:lnTo>
                  <a:pt x="556" y="852"/>
                </a:lnTo>
                <a:lnTo>
                  <a:pt x="486" y="852"/>
                </a:lnTo>
                <a:lnTo>
                  <a:pt x="418" y="821"/>
                </a:lnTo>
                <a:lnTo>
                  <a:pt x="343" y="794"/>
                </a:lnTo>
                <a:lnTo>
                  <a:pt x="277" y="821"/>
                </a:lnTo>
                <a:lnTo>
                  <a:pt x="207" y="821"/>
                </a:lnTo>
                <a:lnTo>
                  <a:pt x="136" y="794"/>
                </a:lnTo>
                <a:lnTo>
                  <a:pt x="105" y="737"/>
                </a:lnTo>
                <a:lnTo>
                  <a:pt x="105" y="680"/>
                </a:lnTo>
                <a:lnTo>
                  <a:pt x="70" y="627"/>
                </a:lnTo>
                <a:lnTo>
                  <a:pt x="0" y="565"/>
                </a:lnTo>
                <a:lnTo>
                  <a:pt x="30" y="512"/>
                </a:lnTo>
                <a:lnTo>
                  <a:pt x="30" y="455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20680" y="831960"/>
            <a:ext cx="651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ELLULAR COMPENSATION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311040" y="5160960"/>
            <a:ext cx="3140280" cy="2878200"/>
            <a:chOff x="311040" y="5160960"/>
            <a:chExt cx="3140280" cy="2878200"/>
          </a:xfrm>
        </p:grpSpPr>
        <p:grpSp>
          <p:nvGrpSpPr>
            <p:cNvPr id="1399" name=""/>
            <p:cNvGrpSpPr/>
            <p:nvPr/>
          </p:nvGrpSpPr>
          <p:grpSpPr>
            <a:xfrm>
              <a:off x="311040" y="5160960"/>
              <a:ext cx="2976480" cy="2739960"/>
              <a:chOff x="311040" y="5160960"/>
              <a:chExt cx="2976480" cy="27399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311040" y="5160960"/>
                <a:ext cx="424080" cy="2739960"/>
                <a:chOff x="311040" y="5160960"/>
                <a:chExt cx="424080" cy="273996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311040" y="5160960"/>
                  <a:ext cx="424080" cy="2647800"/>
                  <a:chOff x="311040" y="5160960"/>
                  <a:chExt cx="424080" cy="2647800"/>
                </a:xfrm>
              </p:grpSpPr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311040" y="5668920"/>
                    <a:ext cx="422280" cy="298440"/>
                    <a:chOff x="311040" y="5668920"/>
                    <a:chExt cx="422280" cy="298440"/>
                  </a:xfrm>
                </p:grpSpPr>
                <p:sp>
                  <p:nvSpPr>
                    <p:cNvPr id="1403" name=""/>
                    <p:cNvSpPr txBox="1"/>
                    <p:nvPr/>
                  </p:nvSpPr>
                  <p:spPr>
                    <a:xfrm>
                      <a:off x="311040" y="57261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 txBox="1"/>
                    <p:nvPr/>
                  </p:nvSpPr>
                  <p:spPr>
                    <a:xfrm>
                      <a:off x="480960" y="56689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"/>
                  <p:cNvSpPr/>
                  <p:nvPr/>
                </p:nvSpPr>
                <p:spPr>
                  <a:xfrm flipH="1">
                    <a:off x="647640" y="52657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333360" y="5160960"/>
                    <a:ext cx="396720" cy="303120"/>
                    <a:chOff x="333360" y="5160960"/>
                    <a:chExt cx="396720" cy="303120"/>
                  </a:xfrm>
                </p:grpSpPr>
                <p:sp>
                  <p:nvSpPr>
                    <p:cNvPr id="1407" name=""/>
                    <p:cNvSpPr txBox="1"/>
                    <p:nvPr/>
                  </p:nvSpPr>
                  <p:spPr>
                    <a:xfrm>
                      <a:off x="333360" y="52228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"/>
                    <p:cNvSpPr txBox="1"/>
                    <p:nvPr/>
                  </p:nvSpPr>
                  <p:spPr>
                    <a:xfrm>
                      <a:off x="485640" y="516096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9" name=""/>
                  <p:cNvGrpSpPr/>
                  <p:nvPr/>
                </p:nvGrpSpPr>
                <p:grpSpPr>
                  <a:xfrm>
                    <a:off x="343080" y="6872400"/>
                    <a:ext cx="388800" cy="326880"/>
                    <a:chOff x="343080" y="6872400"/>
                    <a:chExt cx="388800" cy="326880"/>
                  </a:xfrm>
                </p:grpSpPr>
                <p:sp>
                  <p:nvSpPr>
                    <p:cNvPr id="1410" name=""/>
                    <p:cNvSpPr txBox="1"/>
                    <p:nvPr/>
                  </p:nvSpPr>
                  <p:spPr>
                    <a:xfrm>
                      <a:off x="343080" y="69580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"/>
                    <p:cNvSpPr txBox="1"/>
                    <p:nvPr/>
                  </p:nvSpPr>
                  <p:spPr>
                    <a:xfrm>
                      <a:off x="479520" y="68724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345960" y="6238800"/>
                    <a:ext cx="389160" cy="331920"/>
                    <a:chOff x="345960" y="6238800"/>
                    <a:chExt cx="389160" cy="331920"/>
                  </a:xfrm>
                </p:grpSpPr>
                <p:sp>
                  <p:nvSpPr>
                    <p:cNvPr id="1413" name=""/>
                    <p:cNvSpPr txBox="1"/>
                    <p:nvPr/>
                  </p:nvSpPr>
                  <p:spPr>
                    <a:xfrm>
                      <a:off x="345960" y="63295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"/>
                    <p:cNvSpPr txBox="1"/>
                    <p:nvPr/>
                  </p:nvSpPr>
                  <p:spPr>
                    <a:xfrm>
                      <a:off x="482760" y="62388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5" name=""/>
                  <p:cNvSpPr txBox="1"/>
                  <p:nvPr/>
                </p:nvSpPr>
                <p:spPr>
                  <a:xfrm>
                    <a:off x="460440" y="75834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 flipH="1">
                    <a:off x="642960" y="768024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flipH="1">
                    <a:off x="654120" y="63644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>
                    <a:off x="647640" y="69865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>
                    <a:off x="647640" y="57801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0" name=""/>
                <p:cNvSpPr txBox="1"/>
                <p:nvPr/>
              </p:nvSpPr>
              <p:spPr>
                <a:xfrm>
                  <a:off x="331920" y="765972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1" name=""/>
              <p:cNvSpPr/>
              <p:nvPr/>
            </p:nvSpPr>
            <p:spPr>
              <a:xfrm>
                <a:off x="730080" y="525924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2" name=""/>
            <p:cNvSpPr txBox="1"/>
            <p:nvPr/>
          </p:nvSpPr>
          <p:spPr>
            <a:xfrm>
              <a:off x="237168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 txBox="1"/>
            <p:nvPr/>
          </p:nvSpPr>
          <p:spPr>
            <a:xfrm>
              <a:off x="2533680" y="76899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 txBox="1"/>
            <p:nvPr/>
          </p:nvSpPr>
          <p:spPr>
            <a:xfrm>
              <a:off x="3062160" y="77929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 txBox="1"/>
            <p:nvPr/>
          </p:nvSpPr>
          <p:spPr>
            <a:xfrm>
              <a:off x="3206880" y="769608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 txBox="1"/>
            <p:nvPr/>
          </p:nvSpPr>
          <p:spPr>
            <a:xfrm>
              <a:off x="105552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184400" y="7686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171288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1879560" y="76946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484200" y="77979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 txBox="1"/>
            <p:nvPr/>
          </p:nvSpPr>
          <p:spPr>
            <a:xfrm>
              <a:off x="636480" y="7686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3656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8916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962000" y="7696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16120" y="7696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28932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703680" y="5160960"/>
            <a:ext cx="3139920" cy="2878200"/>
            <a:chOff x="3703680" y="5160960"/>
            <a:chExt cx="3139920" cy="2878200"/>
          </a:xfrm>
        </p:grpSpPr>
        <p:grpSp>
          <p:nvGrpSpPr>
            <p:cNvPr id="1438" name=""/>
            <p:cNvGrpSpPr/>
            <p:nvPr/>
          </p:nvGrpSpPr>
          <p:grpSpPr>
            <a:xfrm>
              <a:off x="3703680" y="5160960"/>
              <a:ext cx="2976480" cy="2739960"/>
              <a:chOff x="3703680" y="5160960"/>
              <a:chExt cx="2976480" cy="273996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3703680" y="5160960"/>
                <a:ext cx="423720" cy="2739960"/>
                <a:chOff x="3703680" y="5160960"/>
                <a:chExt cx="423720" cy="273996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3703680" y="5160960"/>
                  <a:ext cx="423720" cy="2647800"/>
                  <a:chOff x="3703680" y="5160960"/>
                  <a:chExt cx="423720" cy="2647800"/>
                </a:xfrm>
              </p:grpSpPr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3703680" y="5668920"/>
                    <a:ext cx="422280" cy="298440"/>
                    <a:chOff x="3703680" y="5668920"/>
                    <a:chExt cx="422280" cy="298440"/>
                  </a:xfrm>
                </p:grpSpPr>
                <p:sp>
                  <p:nvSpPr>
                    <p:cNvPr id="1442" name=""/>
                    <p:cNvSpPr txBox="1"/>
                    <p:nvPr/>
                  </p:nvSpPr>
                  <p:spPr>
                    <a:xfrm>
                      <a:off x="3703680" y="57261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 txBox="1"/>
                    <p:nvPr/>
                  </p:nvSpPr>
                  <p:spPr>
                    <a:xfrm>
                      <a:off x="3873600" y="56689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4" name=""/>
                  <p:cNvSpPr/>
                  <p:nvPr/>
                </p:nvSpPr>
                <p:spPr>
                  <a:xfrm flipH="1">
                    <a:off x="4040280" y="52657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5" name=""/>
                  <p:cNvGrpSpPr/>
                  <p:nvPr/>
                </p:nvGrpSpPr>
                <p:grpSpPr>
                  <a:xfrm>
                    <a:off x="3726000" y="5160960"/>
                    <a:ext cx="396720" cy="303120"/>
                    <a:chOff x="3726000" y="5160960"/>
                    <a:chExt cx="396720" cy="303120"/>
                  </a:xfrm>
                </p:grpSpPr>
                <p:sp>
                  <p:nvSpPr>
                    <p:cNvPr id="1446" name=""/>
                    <p:cNvSpPr txBox="1"/>
                    <p:nvPr/>
                  </p:nvSpPr>
                  <p:spPr>
                    <a:xfrm>
                      <a:off x="3726000" y="52228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7" name=""/>
                    <p:cNvSpPr txBox="1"/>
                    <p:nvPr/>
                  </p:nvSpPr>
                  <p:spPr>
                    <a:xfrm>
                      <a:off x="3878280" y="516096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8" name=""/>
                  <p:cNvGrpSpPr/>
                  <p:nvPr/>
                </p:nvGrpSpPr>
                <p:grpSpPr>
                  <a:xfrm>
                    <a:off x="3735360" y="6872400"/>
                    <a:ext cx="388800" cy="326880"/>
                    <a:chOff x="3735360" y="6872400"/>
                    <a:chExt cx="388800" cy="326880"/>
                  </a:xfrm>
                </p:grpSpPr>
                <p:sp>
                  <p:nvSpPr>
                    <p:cNvPr id="1449" name=""/>
                    <p:cNvSpPr txBox="1"/>
                    <p:nvPr/>
                  </p:nvSpPr>
                  <p:spPr>
                    <a:xfrm>
                      <a:off x="3735360" y="695808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"/>
                    <p:cNvSpPr txBox="1"/>
                    <p:nvPr/>
                  </p:nvSpPr>
                  <p:spPr>
                    <a:xfrm>
                      <a:off x="3871800" y="68724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3738600" y="6238800"/>
                    <a:ext cx="388800" cy="331920"/>
                    <a:chOff x="3738600" y="6238800"/>
                    <a:chExt cx="388800" cy="331920"/>
                  </a:xfrm>
                </p:grpSpPr>
                <p:sp>
                  <p:nvSpPr>
                    <p:cNvPr id="1452" name=""/>
                    <p:cNvSpPr txBox="1"/>
                    <p:nvPr/>
                  </p:nvSpPr>
                  <p:spPr>
                    <a:xfrm>
                      <a:off x="3738600" y="63295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"/>
                    <p:cNvSpPr txBox="1"/>
                    <p:nvPr/>
                  </p:nvSpPr>
                  <p:spPr>
                    <a:xfrm>
                      <a:off x="3875040" y="62388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4" name=""/>
                  <p:cNvSpPr txBox="1"/>
                  <p:nvPr/>
                </p:nvSpPr>
                <p:spPr>
                  <a:xfrm>
                    <a:off x="3852720" y="75834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>
                    <a:off x="4035600" y="768024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>
                    <a:off x="4046400" y="636444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H="1">
                    <a:off x="4040280" y="69865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H="1">
                    <a:off x="4040280" y="578016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9" name=""/>
                <p:cNvSpPr txBox="1"/>
                <p:nvPr/>
              </p:nvSpPr>
              <p:spPr>
                <a:xfrm>
                  <a:off x="3724200" y="765972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4122720" y="525924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 txBox="1"/>
            <p:nvPr/>
          </p:nvSpPr>
          <p:spPr>
            <a:xfrm>
              <a:off x="576432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 txBox="1"/>
            <p:nvPr/>
          </p:nvSpPr>
          <p:spPr>
            <a:xfrm>
              <a:off x="5925960" y="76899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6454800" y="77929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6599160" y="769608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 txBox="1"/>
            <p:nvPr/>
          </p:nvSpPr>
          <p:spPr>
            <a:xfrm>
              <a:off x="444816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 txBox="1"/>
            <p:nvPr/>
          </p:nvSpPr>
          <p:spPr>
            <a:xfrm>
              <a:off x="4576680" y="7686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5105520" y="77947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 txBox="1"/>
            <p:nvPr/>
          </p:nvSpPr>
          <p:spPr>
            <a:xfrm>
              <a:off x="5272200" y="769464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 txBox="1"/>
            <p:nvPr/>
          </p:nvSpPr>
          <p:spPr>
            <a:xfrm>
              <a:off x="3876840" y="77979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4029120" y="768672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2920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8144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354640" y="7696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08760" y="76960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681960" y="768996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"/>
          <p:cNvSpPr txBox="1"/>
          <p:nvPr/>
        </p:nvSpPr>
        <p:spPr>
          <a:xfrm>
            <a:off x="-423720" y="4233960"/>
            <a:ext cx="1376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E-C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746600" y="7996320"/>
            <a:ext cx="1393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C-CD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1225440" y="7993080"/>
            <a:ext cx="1558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L-CD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43040" y="6986520"/>
            <a:ext cx="250992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363680" y="527364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148280" y="6994440"/>
            <a:ext cx="254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4743360" y="5291280"/>
            <a:ext cx="12960" cy="238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362320" y="6993000"/>
            <a:ext cx="236880" cy="679680"/>
          </a:xfrm>
          <a:custGeom>
            <a:avLst/>
            <a:gdLst/>
            <a:ahLst/>
            <a:rect l="0" t="0" r="r" b="b"/>
            <a:pathLst>
              <a:path w="658" h="1888">
                <a:moveTo>
                  <a:pt x="22" y="1010"/>
                </a:moveTo>
                <a:lnTo>
                  <a:pt x="22" y="877"/>
                </a:lnTo>
                <a:lnTo>
                  <a:pt x="48" y="754"/>
                </a:lnTo>
                <a:lnTo>
                  <a:pt x="97" y="687"/>
                </a:lnTo>
                <a:lnTo>
                  <a:pt x="145" y="630"/>
                </a:lnTo>
                <a:lnTo>
                  <a:pt x="145" y="502"/>
                </a:lnTo>
                <a:lnTo>
                  <a:pt x="145" y="379"/>
                </a:lnTo>
                <a:lnTo>
                  <a:pt x="194" y="313"/>
                </a:lnTo>
                <a:lnTo>
                  <a:pt x="167" y="189"/>
                </a:lnTo>
                <a:lnTo>
                  <a:pt x="145" y="66"/>
                </a:lnTo>
                <a:lnTo>
                  <a:pt x="194" y="66"/>
                </a:lnTo>
                <a:lnTo>
                  <a:pt x="242" y="0"/>
                </a:lnTo>
                <a:lnTo>
                  <a:pt x="291" y="0"/>
                </a:lnTo>
                <a:lnTo>
                  <a:pt x="340" y="0"/>
                </a:lnTo>
                <a:lnTo>
                  <a:pt x="389" y="0"/>
                </a:lnTo>
                <a:lnTo>
                  <a:pt x="437" y="66"/>
                </a:lnTo>
                <a:lnTo>
                  <a:pt x="486" y="123"/>
                </a:lnTo>
                <a:lnTo>
                  <a:pt x="534" y="189"/>
                </a:lnTo>
                <a:lnTo>
                  <a:pt x="561" y="313"/>
                </a:lnTo>
                <a:lnTo>
                  <a:pt x="583" y="440"/>
                </a:lnTo>
                <a:lnTo>
                  <a:pt x="583" y="564"/>
                </a:lnTo>
                <a:lnTo>
                  <a:pt x="609" y="687"/>
                </a:lnTo>
                <a:lnTo>
                  <a:pt x="658" y="820"/>
                </a:lnTo>
                <a:lnTo>
                  <a:pt x="658" y="943"/>
                </a:lnTo>
                <a:lnTo>
                  <a:pt x="658" y="1068"/>
                </a:lnTo>
                <a:lnTo>
                  <a:pt x="631" y="1200"/>
                </a:lnTo>
                <a:lnTo>
                  <a:pt x="631" y="1323"/>
                </a:lnTo>
                <a:lnTo>
                  <a:pt x="631" y="1447"/>
                </a:lnTo>
                <a:lnTo>
                  <a:pt x="609" y="1632"/>
                </a:lnTo>
                <a:lnTo>
                  <a:pt x="583" y="1764"/>
                </a:lnTo>
                <a:lnTo>
                  <a:pt x="534" y="1822"/>
                </a:lnTo>
                <a:lnTo>
                  <a:pt x="486" y="1888"/>
                </a:lnTo>
                <a:lnTo>
                  <a:pt x="437" y="1888"/>
                </a:lnTo>
                <a:lnTo>
                  <a:pt x="389" y="1888"/>
                </a:lnTo>
                <a:lnTo>
                  <a:pt x="340" y="1888"/>
                </a:lnTo>
                <a:lnTo>
                  <a:pt x="291" y="1822"/>
                </a:lnTo>
                <a:lnTo>
                  <a:pt x="242" y="1764"/>
                </a:lnTo>
                <a:lnTo>
                  <a:pt x="194" y="1822"/>
                </a:lnTo>
                <a:lnTo>
                  <a:pt x="145" y="1822"/>
                </a:lnTo>
                <a:lnTo>
                  <a:pt x="97" y="1764"/>
                </a:lnTo>
                <a:lnTo>
                  <a:pt x="74" y="1632"/>
                </a:lnTo>
                <a:lnTo>
                  <a:pt x="74" y="1509"/>
                </a:lnTo>
                <a:lnTo>
                  <a:pt x="48" y="1385"/>
                </a:lnTo>
                <a:lnTo>
                  <a:pt x="0" y="1257"/>
                </a:lnTo>
                <a:lnTo>
                  <a:pt x="22" y="1134"/>
                </a:lnTo>
                <a:lnTo>
                  <a:pt x="22" y="1010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10120" y="5656320"/>
            <a:ext cx="622800" cy="236880"/>
          </a:xfrm>
          <a:custGeom>
            <a:avLst/>
            <a:gdLst/>
            <a:ahLst/>
            <a:rect l="0" t="0" r="r" b="b"/>
            <a:pathLst>
              <a:path w="1730" h="658">
                <a:moveTo>
                  <a:pt x="105" y="384"/>
                </a:moveTo>
                <a:lnTo>
                  <a:pt x="0" y="304"/>
                </a:lnTo>
                <a:lnTo>
                  <a:pt x="70" y="264"/>
                </a:lnTo>
                <a:lnTo>
                  <a:pt x="211" y="149"/>
                </a:lnTo>
                <a:lnTo>
                  <a:pt x="348" y="119"/>
                </a:lnTo>
                <a:lnTo>
                  <a:pt x="374" y="74"/>
                </a:lnTo>
                <a:lnTo>
                  <a:pt x="335" y="132"/>
                </a:lnTo>
                <a:lnTo>
                  <a:pt x="455" y="74"/>
                </a:lnTo>
                <a:lnTo>
                  <a:pt x="396" y="66"/>
                </a:lnTo>
                <a:lnTo>
                  <a:pt x="335" y="22"/>
                </a:lnTo>
                <a:lnTo>
                  <a:pt x="468" y="22"/>
                </a:lnTo>
                <a:lnTo>
                  <a:pt x="596" y="0"/>
                </a:lnTo>
                <a:lnTo>
                  <a:pt x="733" y="0"/>
                </a:lnTo>
                <a:lnTo>
                  <a:pt x="865" y="0"/>
                </a:lnTo>
                <a:lnTo>
                  <a:pt x="997" y="0"/>
                </a:lnTo>
                <a:lnTo>
                  <a:pt x="1134" y="22"/>
                </a:lnTo>
                <a:lnTo>
                  <a:pt x="1262" y="44"/>
                </a:lnTo>
                <a:lnTo>
                  <a:pt x="1395" y="66"/>
                </a:lnTo>
                <a:lnTo>
                  <a:pt x="1461" y="110"/>
                </a:lnTo>
                <a:lnTo>
                  <a:pt x="1532" y="154"/>
                </a:lnTo>
                <a:lnTo>
                  <a:pt x="1532" y="198"/>
                </a:lnTo>
                <a:lnTo>
                  <a:pt x="1593" y="238"/>
                </a:lnTo>
                <a:lnTo>
                  <a:pt x="1730" y="286"/>
                </a:lnTo>
                <a:lnTo>
                  <a:pt x="1730" y="331"/>
                </a:lnTo>
                <a:lnTo>
                  <a:pt x="1730" y="371"/>
                </a:lnTo>
                <a:lnTo>
                  <a:pt x="1660" y="419"/>
                </a:lnTo>
                <a:lnTo>
                  <a:pt x="1660" y="459"/>
                </a:lnTo>
                <a:lnTo>
                  <a:pt x="1660" y="503"/>
                </a:lnTo>
                <a:lnTo>
                  <a:pt x="1593" y="569"/>
                </a:lnTo>
                <a:lnTo>
                  <a:pt x="1532" y="613"/>
                </a:lnTo>
                <a:lnTo>
                  <a:pt x="1395" y="636"/>
                </a:lnTo>
                <a:lnTo>
                  <a:pt x="1262" y="658"/>
                </a:lnTo>
                <a:lnTo>
                  <a:pt x="1134" y="658"/>
                </a:lnTo>
                <a:lnTo>
                  <a:pt x="997" y="658"/>
                </a:lnTo>
                <a:lnTo>
                  <a:pt x="865" y="658"/>
                </a:lnTo>
                <a:lnTo>
                  <a:pt x="733" y="636"/>
                </a:lnTo>
                <a:lnTo>
                  <a:pt x="596" y="613"/>
                </a:lnTo>
                <a:lnTo>
                  <a:pt x="468" y="636"/>
                </a:lnTo>
                <a:lnTo>
                  <a:pt x="335" y="636"/>
                </a:lnTo>
                <a:lnTo>
                  <a:pt x="198" y="613"/>
                </a:lnTo>
                <a:lnTo>
                  <a:pt x="136" y="569"/>
                </a:lnTo>
                <a:lnTo>
                  <a:pt x="136" y="525"/>
                </a:lnTo>
                <a:lnTo>
                  <a:pt x="70" y="481"/>
                </a:lnTo>
                <a:lnTo>
                  <a:pt x="105" y="464"/>
                </a:lnTo>
                <a:lnTo>
                  <a:pt x="0" y="393"/>
                </a:lnTo>
                <a:lnTo>
                  <a:pt x="105" y="384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495760" y="7010280"/>
            <a:ext cx="541800" cy="679680"/>
          </a:xfrm>
          <a:custGeom>
            <a:avLst/>
            <a:gdLst/>
            <a:ahLst/>
            <a:rect l="0" t="0" r="r" b="b"/>
            <a:pathLst>
              <a:path w="1505" h="1888">
                <a:moveTo>
                  <a:pt x="92" y="1076"/>
                </a:moveTo>
                <a:lnTo>
                  <a:pt x="0" y="855"/>
                </a:lnTo>
                <a:lnTo>
                  <a:pt x="57" y="736"/>
                </a:lnTo>
                <a:lnTo>
                  <a:pt x="185" y="427"/>
                </a:lnTo>
                <a:lnTo>
                  <a:pt x="304" y="326"/>
                </a:lnTo>
                <a:lnTo>
                  <a:pt x="326" y="211"/>
                </a:lnTo>
                <a:lnTo>
                  <a:pt x="291" y="370"/>
                </a:lnTo>
                <a:lnTo>
                  <a:pt x="397" y="211"/>
                </a:lnTo>
                <a:lnTo>
                  <a:pt x="348" y="185"/>
                </a:lnTo>
                <a:lnTo>
                  <a:pt x="291" y="61"/>
                </a:lnTo>
                <a:lnTo>
                  <a:pt x="406" y="61"/>
                </a:lnTo>
                <a:lnTo>
                  <a:pt x="521" y="0"/>
                </a:lnTo>
                <a:lnTo>
                  <a:pt x="640" y="0"/>
                </a:lnTo>
                <a:lnTo>
                  <a:pt x="755" y="0"/>
                </a:lnTo>
                <a:lnTo>
                  <a:pt x="865" y="0"/>
                </a:lnTo>
                <a:lnTo>
                  <a:pt x="984" y="61"/>
                </a:lnTo>
                <a:lnTo>
                  <a:pt x="1099" y="119"/>
                </a:lnTo>
                <a:lnTo>
                  <a:pt x="1214" y="185"/>
                </a:lnTo>
                <a:lnTo>
                  <a:pt x="1272" y="304"/>
                </a:lnTo>
                <a:lnTo>
                  <a:pt x="1333" y="432"/>
                </a:lnTo>
                <a:lnTo>
                  <a:pt x="1333" y="551"/>
                </a:lnTo>
                <a:lnTo>
                  <a:pt x="1386" y="674"/>
                </a:lnTo>
                <a:lnTo>
                  <a:pt x="1505" y="798"/>
                </a:lnTo>
                <a:lnTo>
                  <a:pt x="1505" y="921"/>
                </a:lnTo>
                <a:lnTo>
                  <a:pt x="1505" y="1041"/>
                </a:lnTo>
                <a:lnTo>
                  <a:pt x="1448" y="1169"/>
                </a:lnTo>
                <a:lnTo>
                  <a:pt x="1448" y="1288"/>
                </a:lnTo>
                <a:lnTo>
                  <a:pt x="1448" y="1412"/>
                </a:lnTo>
                <a:lnTo>
                  <a:pt x="1386" y="1592"/>
                </a:lnTo>
                <a:lnTo>
                  <a:pt x="1333" y="1720"/>
                </a:lnTo>
                <a:lnTo>
                  <a:pt x="1214" y="1778"/>
                </a:lnTo>
                <a:lnTo>
                  <a:pt x="1099" y="1844"/>
                </a:lnTo>
                <a:lnTo>
                  <a:pt x="984" y="1844"/>
                </a:lnTo>
                <a:lnTo>
                  <a:pt x="865" y="1844"/>
                </a:lnTo>
                <a:lnTo>
                  <a:pt x="755" y="1844"/>
                </a:lnTo>
                <a:lnTo>
                  <a:pt x="640" y="1778"/>
                </a:lnTo>
                <a:lnTo>
                  <a:pt x="565" y="1888"/>
                </a:lnTo>
                <a:lnTo>
                  <a:pt x="406" y="1778"/>
                </a:lnTo>
                <a:lnTo>
                  <a:pt x="291" y="1778"/>
                </a:lnTo>
                <a:lnTo>
                  <a:pt x="171" y="1720"/>
                </a:lnTo>
                <a:lnTo>
                  <a:pt x="119" y="1592"/>
                </a:lnTo>
                <a:lnTo>
                  <a:pt x="119" y="1473"/>
                </a:lnTo>
                <a:lnTo>
                  <a:pt x="57" y="1354"/>
                </a:lnTo>
                <a:lnTo>
                  <a:pt x="92" y="1297"/>
                </a:lnTo>
                <a:lnTo>
                  <a:pt x="0" y="1107"/>
                </a:lnTo>
                <a:lnTo>
                  <a:pt x="92" y="1076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157640" y="3809880"/>
            <a:ext cx="625680" cy="611640"/>
          </a:xfrm>
          <a:custGeom>
            <a:avLst/>
            <a:gdLst/>
            <a:ahLst/>
            <a:rect l="0" t="0" r="r" b="b"/>
            <a:pathLst>
              <a:path w="1738" h="1699">
                <a:moveTo>
                  <a:pt x="105" y="966"/>
                </a:moveTo>
                <a:lnTo>
                  <a:pt x="0" y="772"/>
                </a:lnTo>
                <a:lnTo>
                  <a:pt x="70" y="662"/>
                </a:lnTo>
                <a:lnTo>
                  <a:pt x="211" y="383"/>
                </a:lnTo>
                <a:lnTo>
                  <a:pt x="348" y="295"/>
                </a:lnTo>
                <a:lnTo>
                  <a:pt x="374" y="189"/>
                </a:lnTo>
                <a:lnTo>
                  <a:pt x="339" y="330"/>
                </a:lnTo>
                <a:lnTo>
                  <a:pt x="454" y="189"/>
                </a:lnTo>
                <a:lnTo>
                  <a:pt x="401" y="167"/>
                </a:lnTo>
                <a:lnTo>
                  <a:pt x="339" y="57"/>
                </a:lnTo>
                <a:lnTo>
                  <a:pt x="467" y="57"/>
                </a:lnTo>
                <a:lnTo>
                  <a:pt x="599" y="0"/>
                </a:lnTo>
                <a:lnTo>
                  <a:pt x="736" y="0"/>
                </a:lnTo>
                <a:lnTo>
                  <a:pt x="868" y="0"/>
                </a:lnTo>
                <a:lnTo>
                  <a:pt x="1002" y="0"/>
                </a:lnTo>
                <a:lnTo>
                  <a:pt x="1138" y="57"/>
                </a:lnTo>
                <a:lnTo>
                  <a:pt x="1271" y="110"/>
                </a:lnTo>
                <a:lnTo>
                  <a:pt x="1398" y="167"/>
                </a:lnTo>
                <a:lnTo>
                  <a:pt x="1469" y="273"/>
                </a:lnTo>
                <a:lnTo>
                  <a:pt x="1539" y="388"/>
                </a:lnTo>
                <a:lnTo>
                  <a:pt x="1539" y="499"/>
                </a:lnTo>
                <a:lnTo>
                  <a:pt x="1601" y="605"/>
                </a:lnTo>
                <a:lnTo>
                  <a:pt x="1738" y="719"/>
                </a:lnTo>
                <a:lnTo>
                  <a:pt x="1738" y="830"/>
                </a:lnTo>
                <a:lnTo>
                  <a:pt x="1738" y="935"/>
                </a:lnTo>
                <a:lnTo>
                  <a:pt x="1667" y="1050"/>
                </a:lnTo>
                <a:lnTo>
                  <a:pt x="1667" y="1160"/>
                </a:lnTo>
                <a:lnTo>
                  <a:pt x="1667" y="1271"/>
                </a:lnTo>
                <a:lnTo>
                  <a:pt x="1601" y="1435"/>
                </a:lnTo>
                <a:lnTo>
                  <a:pt x="1539" y="1549"/>
                </a:lnTo>
                <a:lnTo>
                  <a:pt x="1398" y="1602"/>
                </a:lnTo>
                <a:lnTo>
                  <a:pt x="1271" y="1660"/>
                </a:lnTo>
                <a:lnTo>
                  <a:pt x="1138" y="1660"/>
                </a:lnTo>
                <a:lnTo>
                  <a:pt x="1002" y="1660"/>
                </a:lnTo>
                <a:lnTo>
                  <a:pt x="868" y="1660"/>
                </a:lnTo>
                <a:lnTo>
                  <a:pt x="736" y="1602"/>
                </a:lnTo>
                <a:lnTo>
                  <a:pt x="648" y="1699"/>
                </a:lnTo>
                <a:lnTo>
                  <a:pt x="467" y="1602"/>
                </a:lnTo>
                <a:lnTo>
                  <a:pt x="339" y="1602"/>
                </a:lnTo>
                <a:lnTo>
                  <a:pt x="198" y="1549"/>
                </a:lnTo>
                <a:lnTo>
                  <a:pt x="136" y="1435"/>
                </a:lnTo>
                <a:lnTo>
                  <a:pt x="136" y="1324"/>
                </a:lnTo>
                <a:lnTo>
                  <a:pt x="70" y="1218"/>
                </a:lnTo>
                <a:lnTo>
                  <a:pt x="105" y="1165"/>
                </a:lnTo>
                <a:lnTo>
                  <a:pt x="0" y="993"/>
                </a:lnTo>
                <a:lnTo>
                  <a:pt x="105" y="966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52400" y="3741840"/>
            <a:ext cx="338400" cy="676800"/>
          </a:xfrm>
          <a:custGeom>
            <a:avLst/>
            <a:gdLst/>
            <a:ahLst/>
            <a:rect l="0" t="0" r="r" b="b"/>
            <a:pathLst>
              <a:path w="940" h="1880">
                <a:moveTo>
                  <a:pt x="30" y="1006"/>
                </a:moveTo>
                <a:lnTo>
                  <a:pt x="30" y="874"/>
                </a:lnTo>
                <a:lnTo>
                  <a:pt x="70" y="750"/>
                </a:lnTo>
                <a:lnTo>
                  <a:pt x="136" y="688"/>
                </a:lnTo>
                <a:lnTo>
                  <a:pt x="207" y="627"/>
                </a:lnTo>
                <a:lnTo>
                  <a:pt x="207" y="499"/>
                </a:lnTo>
                <a:lnTo>
                  <a:pt x="207" y="374"/>
                </a:lnTo>
                <a:lnTo>
                  <a:pt x="277" y="313"/>
                </a:lnTo>
                <a:lnTo>
                  <a:pt x="242" y="189"/>
                </a:lnTo>
                <a:lnTo>
                  <a:pt x="207" y="66"/>
                </a:lnTo>
                <a:lnTo>
                  <a:pt x="277" y="66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66"/>
                </a:lnTo>
                <a:lnTo>
                  <a:pt x="697" y="123"/>
                </a:lnTo>
                <a:lnTo>
                  <a:pt x="763" y="189"/>
                </a:lnTo>
                <a:lnTo>
                  <a:pt x="799" y="313"/>
                </a:lnTo>
                <a:lnTo>
                  <a:pt x="834" y="440"/>
                </a:lnTo>
                <a:lnTo>
                  <a:pt x="834" y="565"/>
                </a:lnTo>
                <a:lnTo>
                  <a:pt x="869" y="688"/>
                </a:lnTo>
                <a:lnTo>
                  <a:pt x="940" y="816"/>
                </a:lnTo>
                <a:lnTo>
                  <a:pt x="940" y="940"/>
                </a:lnTo>
                <a:lnTo>
                  <a:pt x="940" y="1063"/>
                </a:lnTo>
                <a:lnTo>
                  <a:pt x="904" y="1191"/>
                </a:lnTo>
                <a:lnTo>
                  <a:pt x="904" y="1315"/>
                </a:lnTo>
                <a:lnTo>
                  <a:pt x="904" y="1439"/>
                </a:lnTo>
                <a:lnTo>
                  <a:pt x="869" y="1629"/>
                </a:lnTo>
                <a:lnTo>
                  <a:pt x="834" y="1757"/>
                </a:lnTo>
                <a:lnTo>
                  <a:pt x="763" y="1814"/>
                </a:lnTo>
                <a:lnTo>
                  <a:pt x="697" y="1880"/>
                </a:lnTo>
                <a:lnTo>
                  <a:pt x="627" y="1880"/>
                </a:lnTo>
                <a:lnTo>
                  <a:pt x="556" y="1880"/>
                </a:lnTo>
                <a:lnTo>
                  <a:pt x="486" y="1880"/>
                </a:lnTo>
                <a:lnTo>
                  <a:pt x="418" y="1814"/>
                </a:lnTo>
                <a:lnTo>
                  <a:pt x="343" y="1757"/>
                </a:lnTo>
                <a:lnTo>
                  <a:pt x="277" y="1814"/>
                </a:lnTo>
                <a:lnTo>
                  <a:pt x="207" y="1814"/>
                </a:lnTo>
                <a:lnTo>
                  <a:pt x="136" y="1757"/>
                </a:lnTo>
                <a:lnTo>
                  <a:pt x="105" y="1629"/>
                </a:lnTo>
                <a:lnTo>
                  <a:pt x="105" y="1505"/>
                </a:lnTo>
                <a:lnTo>
                  <a:pt x="70" y="1381"/>
                </a:lnTo>
                <a:lnTo>
                  <a:pt x="0" y="1253"/>
                </a:lnTo>
                <a:lnTo>
                  <a:pt x="30" y="1129"/>
                </a:lnTo>
                <a:lnTo>
                  <a:pt x="30" y="1006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838080" y="2384280"/>
            <a:ext cx="338400" cy="306720"/>
          </a:xfrm>
          <a:custGeom>
            <a:avLst/>
            <a:gdLst/>
            <a:ahLst/>
            <a:rect l="0" t="0" r="r" b="b"/>
            <a:pathLst>
              <a:path w="940" h="852">
                <a:moveTo>
                  <a:pt x="30" y="455"/>
                </a:moveTo>
                <a:lnTo>
                  <a:pt x="30" y="396"/>
                </a:lnTo>
                <a:lnTo>
                  <a:pt x="70" y="339"/>
                </a:lnTo>
                <a:lnTo>
                  <a:pt x="136" y="313"/>
                </a:lnTo>
                <a:lnTo>
                  <a:pt x="207" y="286"/>
                </a:lnTo>
                <a:lnTo>
                  <a:pt x="207" y="224"/>
                </a:lnTo>
                <a:lnTo>
                  <a:pt x="207" y="171"/>
                </a:lnTo>
                <a:lnTo>
                  <a:pt x="277" y="141"/>
                </a:lnTo>
                <a:lnTo>
                  <a:pt x="242" y="83"/>
                </a:lnTo>
                <a:lnTo>
                  <a:pt x="207" y="30"/>
                </a:lnTo>
                <a:lnTo>
                  <a:pt x="277" y="30"/>
                </a:lnTo>
                <a:lnTo>
                  <a:pt x="343" y="0"/>
                </a:lnTo>
                <a:lnTo>
                  <a:pt x="418" y="0"/>
                </a:lnTo>
                <a:lnTo>
                  <a:pt x="486" y="0"/>
                </a:lnTo>
                <a:lnTo>
                  <a:pt x="556" y="0"/>
                </a:lnTo>
                <a:lnTo>
                  <a:pt x="627" y="30"/>
                </a:lnTo>
                <a:lnTo>
                  <a:pt x="697" y="57"/>
                </a:lnTo>
                <a:lnTo>
                  <a:pt x="763" y="83"/>
                </a:lnTo>
                <a:lnTo>
                  <a:pt x="799" y="141"/>
                </a:lnTo>
                <a:lnTo>
                  <a:pt x="834" y="198"/>
                </a:lnTo>
                <a:lnTo>
                  <a:pt x="834" y="255"/>
                </a:lnTo>
                <a:lnTo>
                  <a:pt x="869" y="313"/>
                </a:lnTo>
                <a:lnTo>
                  <a:pt x="940" y="370"/>
                </a:lnTo>
                <a:lnTo>
                  <a:pt x="940" y="428"/>
                </a:lnTo>
                <a:lnTo>
                  <a:pt x="940" y="481"/>
                </a:lnTo>
                <a:lnTo>
                  <a:pt x="904" y="538"/>
                </a:lnTo>
                <a:lnTo>
                  <a:pt x="904" y="596"/>
                </a:lnTo>
                <a:lnTo>
                  <a:pt x="904" y="653"/>
                </a:lnTo>
                <a:lnTo>
                  <a:pt x="869" y="737"/>
                </a:lnTo>
                <a:lnTo>
                  <a:pt x="834" y="794"/>
                </a:lnTo>
                <a:lnTo>
                  <a:pt x="763" y="821"/>
                </a:lnTo>
                <a:lnTo>
                  <a:pt x="697" y="852"/>
                </a:lnTo>
                <a:lnTo>
                  <a:pt x="627" y="852"/>
                </a:lnTo>
                <a:lnTo>
                  <a:pt x="556" y="852"/>
                </a:lnTo>
                <a:lnTo>
                  <a:pt x="486" y="852"/>
                </a:lnTo>
                <a:lnTo>
                  <a:pt x="418" y="821"/>
                </a:lnTo>
                <a:lnTo>
                  <a:pt x="343" y="794"/>
                </a:lnTo>
                <a:lnTo>
                  <a:pt x="277" y="821"/>
                </a:lnTo>
                <a:lnTo>
                  <a:pt x="207" y="821"/>
                </a:lnTo>
                <a:lnTo>
                  <a:pt x="136" y="794"/>
                </a:lnTo>
                <a:lnTo>
                  <a:pt x="105" y="737"/>
                </a:lnTo>
                <a:lnTo>
                  <a:pt x="105" y="680"/>
                </a:lnTo>
                <a:lnTo>
                  <a:pt x="70" y="627"/>
                </a:lnTo>
                <a:lnTo>
                  <a:pt x="0" y="565"/>
                </a:lnTo>
                <a:lnTo>
                  <a:pt x="30" y="512"/>
                </a:lnTo>
                <a:lnTo>
                  <a:pt x="30" y="455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11040" y="1908000"/>
            <a:ext cx="3140280" cy="2878200"/>
            <a:chOff x="311040" y="1908000"/>
            <a:chExt cx="3140280" cy="2878200"/>
          </a:xfrm>
        </p:grpSpPr>
        <p:grpSp>
          <p:nvGrpSpPr>
            <p:cNvPr id="1490" name=""/>
            <p:cNvGrpSpPr/>
            <p:nvPr/>
          </p:nvGrpSpPr>
          <p:grpSpPr>
            <a:xfrm>
              <a:off x="311040" y="1908000"/>
              <a:ext cx="2976480" cy="2739960"/>
              <a:chOff x="311040" y="1908000"/>
              <a:chExt cx="2976480" cy="2739960"/>
            </a:xfrm>
          </p:grpSpPr>
          <p:grpSp>
            <p:nvGrpSpPr>
              <p:cNvPr id="1491" name=""/>
              <p:cNvGrpSpPr/>
              <p:nvPr/>
            </p:nvGrpSpPr>
            <p:grpSpPr>
              <a:xfrm>
                <a:off x="311040" y="1908000"/>
                <a:ext cx="424080" cy="2739960"/>
                <a:chOff x="311040" y="1908000"/>
                <a:chExt cx="424080" cy="2739960"/>
              </a:xfrm>
            </p:grpSpPr>
            <p:grpSp>
              <p:nvGrpSpPr>
                <p:cNvPr id="1492" name=""/>
                <p:cNvGrpSpPr/>
                <p:nvPr/>
              </p:nvGrpSpPr>
              <p:grpSpPr>
                <a:xfrm>
                  <a:off x="311040" y="1908000"/>
                  <a:ext cx="424080" cy="2648160"/>
                  <a:chOff x="311040" y="1908000"/>
                  <a:chExt cx="424080" cy="2648160"/>
                </a:xfrm>
              </p:grpSpPr>
              <p:grpSp>
                <p:nvGrpSpPr>
                  <p:cNvPr id="1493" name=""/>
                  <p:cNvGrpSpPr/>
                  <p:nvPr/>
                </p:nvGrpSpPr>
                <p:grpSpPr>
                  <a:xfrm>
                    <a:off x="311040" y="2416320"/>
                    <a:ext cx="422280" cy="298080"/>
                    <a:chOff x="311040" y="2416320"/>
                    <a:chExt cx="422280" cy="298080"/>
                  </a:xfrm>
                </p:grpSpPr>
                <p:sp>
                  <p:nvSpPr>
                    <p:cNvPr id="1494" name=""/>
                    <p:cNvSpPr txBox="1"/>
                    <p:nvPr/>
                  </p:nvSpPr>
                  <p:spPr>
                    <a:xfrm>
                      <a:off x="311040" y="24732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5" name=""/>
                    <p:cNvSpPr txBox="1"/>
                    <p:nvPr/>
                  </p:nvSpPr>
                  <p:spPr>
                    <a:xfrm>
                      <a:off x="480960" y="24163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6" name=""/>
                  <p:cNvSpPr/>
                  <p:nvPr/>
                </p:nvSpPr>
                <p:spPr>
                  <a:xfrm flipH="1">
                    <a:off x="647640" y="20131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7" name=""/>
                  <p:cNvGrpSpPr/>
                  <p:nvPr/>
                </p:nvGrpSpPr>
                <p:grpSpPr>
                  <a:xfrm>
                    <a:off x="333360" y="1908000"/>
                    <a:ext cx="396720" cy="303120"/>
                    <a:chOff x="333360" y="1908000"/>
                    <a:chExt cx="396720" cy="303120"/>
                  </a:xfrm>
                </p:grpSpPr>
                <p:sp>
                  <p:nvSpPr>
                    <p:cNvPr id="1498" name=""/>
                    <p:cNvSpPr txBox="1"/>
                    <p:nvPr/>
                  </p:nvSpPr>
                  <p:spPr>
                    <a:xfrm>
                      <a:off x="333360" y="1969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9" name=""/>
                    <p:cNvSpPr txBox="1"/>
                    <p:nvPr/>
                  </p:nvSpPr>
                  <p:spPr>
                    <a:xfrm>
                      <a:off x="485640" y="190800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343080" y="3619440"/>
                    <a:ext cx="388800" cy="326880"/>
                    <a:chOff x="343080" y="3619440"/>
                    <a:chExt cx="388800" cy="326880"/>
                  </a:xfrm>
                </p:grpSpPr>
                <p:sp>
                  <p:nvSpPr>
                    <p:cNvPr id="1501" name=""/>
                    <p:cNvSpPr txBox="1"/>
                    <p:nvPr/>
                  </p:nvSpPr>
                  <p:spPr>
                    <a:xfrm>
                      <a:off x="343080" y="37051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"/>
                    <p:cNvSpPr txBox="1"/>
                    <p:nvPr/>
                  </p:nvSpPr>
                  <p:spPr>
                    <a:xfrm>
                      <a:off x="479520" y="36194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345960" y="2986200"/>
                    <a:ext cx="389160" cy="331560"/>
                    <a:chOff x="345960" y="2986200"/>
                    <a:chExt cx="389160" cy="331560"/>
                  </a:xfrm>
                </p:grpSpPr>
                <p:sp>
                  <p:nvSpPr>
                    <p:cNvPr id="1504" name=""/>
                    <p:cNvSpPr txBox="1"/>
                    <p:nvPr/>
                  </p:nvSpPr>
                  <p:spPr>
                    <a:xfrm>
                      <a:off x="345960" y="30765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"/>
                    <p:cNvSpPr txBox="1"/>
                    <p:nvPr/>
                  </p:nvSpPr>
                  <p:spPr>
                    <a:xfrm>
                      <a:off x="482760" y="29862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6" name=""/>
                  <p:cNvSpPr txBox="1"/>
                  <p:nvPr/>
                </p:nvSpPr>
                <p:spPr>
                  <a:xfrm>
                    <a:off x="460440" y="43308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H="1">
                    <a:off x="642960" y="442764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>
                    <a:off x="654120" y="31114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>
                    <a:off x="647640" y="3733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>
                    <a:off x="647640" y="2527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1" name=""/>
                <p:cNvSpPr txBox="1"/>
                <p:nvPr/>
              </p:nvSpPr>
              <p:spPr>
                <a:xfrm>
                  <a:off x="331920" y="440676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2" name=""/>
              <p:cNvSpPr/>
              <p:nvPr/>
            </p:nvSpPr>
            <p:spPr>
              <a:xfrm>
                <a:off x="730080" y="200664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3" name=""/>
            <p:cNvSpPr txBox="1"/>
            <p:nvPr/>
          </p:nvSpPr>
          <p:spPr>
            <a:xfrm>
              <a:off x="237168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2533680" y="44370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3062160" y="45403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 txBox="1"/>
            <p:nvPr/>
          </p:nvSpPr>
          <p:spPr>
            <a:xfrm>
              <a:off x="3206880" y="444348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 txBox="1"/>
            <p:nvPr/>
          </p:nvSpPr>
          <p:spPr>
            <a:xfrm>
              <a:off x="105552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 txBox="1"/>
            <p:nvPr/>
          </p:nvSpPr>
          <p:spPr>
            <a:xfrm>
              <a:off x="1184400" y="44337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 txBox="1"/>
            <p:nvPr/>
          </p:nvSpPr>
          <p:spPr>
            <a:xfrm>
              <a:off x="171288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>
              <a:off x="1879560" y="44416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>
              <a:off x="484200" y="45450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636480" y="44337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3656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28916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962000" y="4443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616120" y="4443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28932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3703680" y="1908000"/>
            <a:ext cx="3139920" cy="2878200"/>
            <a:chOff x="3703680" y="1908000"/>
            <a:chExt cx="3139920" cy="2878200"/>
          </a:xfrm>
        </p:grpSpPr>
        <p:grpSp>
          <p:nvGrpSpPr>
            <p:cNvPr id="1529" name=""/>
            <p:cNvGrpSpPr/>
            <p:nvPr/>
          </p:nvGrpSpPr>
          <p:grpSpPr>
            <a:xfrm>
              <a:off x="3703680" y="1908000"/>
              <a:ext cx="2976480" cy="2739960"/>
              <a:chOff x="3703680" y="1908000"/>
              <a:chExt cx="2976480" cy="273996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3703680" y="1908000"/>
                <a:ext cx="423720" cy="2739960"/>
                <a:chOff x="3703680" y="1908000"/>
                <a:chExt cx="423720" cy="2739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3703680" y="1908000"/>
                  <a:ext cx="423720" cy="2648160"/>
                  <a:chOff x="3703680" y="1908000"/>
                  <a:chExt cx="423720" cy="264816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3703680" y="2416320"/>
                    <a:ext cx="422280" cy="298080"/>
                    <a:chOff x="3703680" y="2416320"/>
                    <a:chExt cx="422280" cy="298080"/>
                  </a:xfrm>
                </p:grpSpPr>
                <p:sp>
                  <p:nvSpPr>
                    <p:cNvPr id="1533" name=""/>
                    <p:cNvSpPr txBox="1"/>
                    <p:nvPr/>
                  </p:nvSpPr>
                  <p:spPr>
                    <a:xfrm>
                      <a:off x="3703680" y="247320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4" name=""/>
                    <p:cNvSpPr txBox="1"/>
                    <p:nvPr/>
                  </p:nvSpPr>
                  <p:spPr>
                    <a:xfrm>
                      <a:off x="3873600" y="241632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5" name=""/>
                  <p:cNvSpPr/>
                  <p:nvPr/>
                </p:nvSpPr>
                <p:spPr>
                  <a:xfrm flipH="1">
                    <a:off x="4040280" y="20131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3726000" y="1908000"/>
                    <a:ext cx="396720" cy="303120"/>
                    <a:chOff x="3726000" y="1908000"/>
                    <a:chExt cx="396720" cy="303120"/>
                  </a:xfrm>
                </p:grpSpPr>
                <p:sp>
                  <p:nvSpPr>
                    <p:cNvPr id="1537" name=""/>
                    <p:cNvSpPr txBox="1"/>
                    <p:nvPr/>
                  </p:nvSpPr>
                  <p:spPr>
                    <a:xfrm>
                      <a:off x="3726000" y="19699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"/>
                    <p:cNvSpPr txBox="1"/>
                    <p:nvPr/>
                  </p:nvSpPr>
                  <p:spPr>
                    <a:xfrm>
                      <a:off x="3878280" y="1908000"/>
                      <a:ext cx="244440" cy="21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9" name=""/>
                  <p:cNvGrpSpPr/>
                  <p:nvPr/>
                </p:nvGrpSpPr>
                <p:grpSpPr>
                  <a:xfrm>
                    <a:off x="3735360" y="3619440"/>
                    <a:ext cx="388800" cy="326880"/>
                    <a:chOff x="3735360" y="3619440"/>
                    <a:chExt cx="388800" cy="326880"/>
                  </a:xfrm>
                </p:grpSpPr>
                <p:sp>
                  <p:nvSpPr>
                    <p:cNvPr id="1540" name=""/>
                    <p:cNvSpPr txBox="1"/>
                    <p:nvPr/>
                  </p:nvSpPr>
                  <p:spPr>
                    <a:xfrm>
                      <a:off x="3735360" y="370512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"/>
                    <p:cNvSpPr txBox="1"/>
                    <p:nvPr/>
                  </p:nvSpPr>
                  <p:spPr>
                    <a:xfrm>
                      <a:off x="3871800" y="361944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2" name=""/>
                  <p:cNvGrpSpPr/>
                  <p:nvPr/>
                </p:nvGrpSpPr>
                <p:grpSpPr>
                  <a:xfrm>
                    <a:off x="3738600" y="2986200"/>
                    <a:ext cx="388800" cy="331560"/>
                    <a:chOff x="3738600" y="2986200"/>
                    <a:chExt cx="388800" cy="331560"/>
                  </a:xfrm>
                </p:grpSpPr>
                <p:sp>
                  <p:nvSpPr>
                    <p:cNvPr id="1543" name=""/>
                    <p:cNvSpPr txBox="1"/>
                    <p:nvPr/>
                  </p:nvSpPr>
                  <p:spPr>
                    <a:xfrm>
                      <a:off x="3738600" y="3076560"/>
                      <a:ext cx="338040" cy="24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 txBox="1"/>
                    <p:nvPr/>
                  </p:nvSpPr>
                  <p:spPr>
                    <a:xfrm>
                      <a:off x="3875040" y="2986200"/>
                      <a:ext cx="252360" cy="225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Bookman Old Style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5" name=""/>
                  <p:cNvSpPr txBox="1"/>
                  <p:nvPr/>
                </p:nvSpPr>
                <p:spPr>
                  <a:xfrm>
                    <a:off x="3852720" y="4330800"/>
                    <a:ext cx="252360" cy="22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Bookman Old Style"/>
                        <a:ea typeface="Bookman Old Style"/>
                      </a:rPr>
                      <a:t>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H="1">
                    <a:off x="4035600" y="4427640"/>
                    <a:ext cx="82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4046400" y="311148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H="1">
                    <a:off x="4040280" y="373392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4040280" y="2527200"/>
                    <a:ext cx="77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0" name=""/>
                <p:cNvSpPr txBox="1"/>
                <p:nvPr/>
              </p:nvSpPr>
              <p:spPr>
                <a:xfrm>
                  <a:off x="3724200" y="4406760"/>
                  <a:ext cx="3380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Bookman Old Style"/>
                      <a:ea typeface="Bookman Old Style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4122720" y="2006640"/>
                <a:ext cx="2557440" cy="242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 txBox="1"/>
            <p:nvPr/>
          </p:nvSpPr>
          <p:spPr>
            <a:xfrm>
              <a:off x="576432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 txBox="1"/>
            <p:nvPr/>
          </p:nvSpPr>
          <p:spPr>
            <a:xfrm>
              <a:off x="5925960" y="443700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6454800" y="454032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 txBox="1"/>
            <p:nvPr/>
          </p:nvSpPr>
          <p:spPr>
            <a:xfrm>
              <a:off x="6599160" y="4443480"/>
              <a:ext cx="2444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 txBox="1"/>
            <p:nvPr/>
          </p:nvSpPr>
          <p:spPr>
            <a:xfrm>
              <a:off x="444816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4576680" y="44337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 txBox="1"/>
            <p:nvPr/>
          </p:nvSpPr>
          <p:spPr>
            <a:xfrm>
              <a:off x="5105520" y="454176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>
              <a:off x="5272200" y="444168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3876840" y="4545000"/>
              <a:ext cx="338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 txBox="1"/>
            <p:nvPr/>
          </p:nvSpPr>
          <p:spPr>
            <a:xfrm>
              <a:off x="4029120" y="4433760"/>
              <a:ext cx="252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Bookman Old Style"/>
                  <a:ea typeface="Bookman Old Style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2920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8144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54640" y="4443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08760" y="4443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681960" y="44370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 flipV="1">
            <a:off x="795240" y="3718080"/>
            <a:ext cx="250992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363680" y="202104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113360" y="3741840"/>
            <a:ext cx="254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4743360" y="2038320"/>
            <a:ext cx="12960" cy="238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344680" y="3706920"/>
            <a:ext cx="254520" cy="713160"/>
          </a:xfrm>
          <a:custGeom>
            <a:avLst/>
            <a:gdLst/>
            <a:ahLst/>
            <a:rect l="0" t="0" r="r" b="b"/>
            <a:pathLst>
              <a:path w="707" h="1981">
                <a:moveTo>
                  <a:pt x="26" y="1059"/>
                </a:moveTo>
                <a:lnTo>
                  <a:pt x="26" y="922"/>
                </a:lnTo>
                <a:lnTo>
                  <a:pt x="52" y="794"/>
                </a:lnTo>
                <a:lnTo>
                  <a:pt x="101" y="724"/>
                </a:lnTo>
                <a:lnTo>
                  <a:pt x="158" y="662"/>
                </a:lnTo>
                <a:lnTo>
                  <a:pt x="158" y="525"/>
                </a:lnTo>
                <a:lnTo>
                  <a:pt x="158" y="396"/>
                </a:lnTo>
                <a:lnTo>
                  <a:pt x="208" y="326"/>
                </a:lnTo>
                <a:lnTo>
                  <a:pt x="181" y="198"/>
                </a:lnTo>
                <a:lnTo>
                  <a:pt x="158" y="66"/>
                </a:lnTo>
                <a:lnTo>
                  <a:pt x="208" y="66"/>
                </a:lnTo>
                <a:lnTo>
                  <a:pt x="261" y="0"/>
                </a:lnTo>
                <a:lnTo>
                  <a:pt x="314" y="0"/>
                </a:lnTo>
                <a:lnTo>
                  <a:pt x="367" y="0"/>
                </a:lnTo>
                <a:lnTo>
                  <a:pt x="415" y="0"/>
                </a:lnTo>
                <a:lnTo>
                  <a:pt x="472" y="66"/>
                </a:lnTo>
                <a:lnTo>
                  <a:pt x="521" y="127"/>
                </a:lnTo>
                <a:lnTo>
                  <a:pt x="575" y="198"/>
                </a:lnTo>
                <a:lnTo>
                  <a:pt x="601" y="326"/>
                </a:lnTo>
                <a:lnTo>
                  <a:pt x="628" y="463"/>
                </a:lnTo>
                <a:lnTo>
                  <a:pt x="628" y="596"/>
                </a:lnTo>
                <a:lnTo>
                  <a:pt x="654" y="724"/>
                </a:lnTo>
                <a:lnTo>
                  <a:pt x="707" y="860"/>
                </a:lnTo>
                <a:lnTo>
                  <a:pt x="707" y="993"/>
                </a:lnTo>
                <a:lnTo>
                  <a:pt x="707" y="1121"/>
                </a:lnTo>
                <a:lnTo>
                  <a:pt x="681" y="1257"/>
                </a:lnTo>
                <a:lnTo>
                  <a:pt x="681" y="1385"/>
                </a:lnTo>
                <a:lnTo>
                  <a:pt x="681" y="1518"/>
                </a:lnTo>
                <a:lnTo>
                  <a:pt x="654" y="1717"/>
                </a:lnTo>
                <a:lnTo>
                  <a:pt x="628" y="1854"/>
                </a:lnTo>
                <a:lnTo>
                  <a:pt x="575" y="1915"/>
                </a:lnTo>
                <a:lnTo>
                  <a:pt x="521" y="1981"/>
                </a:lnTo>
                <a:lnTo>
                  <a:pt x="472" y="1981"/>
                </a:lnTo>
                <a:lnTo>
                  <a:pt x="415" y="1981"/>
                </a:lnTo>
                <a:lnTo>
                  <a:pt x="367" y="1981"/>
                </a:lnTo>
                <a:lnTo>
                  <a:pt x="314" y="1915"/>
                </a:lnTo>
                <a:lnTo>
                  <a:pt x="261" y="1854"/>
                </a:lnTo>
                <a:lnTo>
                  <a:pt x="208" y="1915"/>
                </a:lnTo>
                <a:lnTo>
                  <a:pt x="158" y="1915"/>
                </a:lnTo>
                <a:lnTo>
                  <a:pt x="101" y="1854"/>
                </a:lnTo>
                <a:lnTo>
                  <a:pt x="79" y="1717"/>
                </a:lnTo>
                <a:lnTo>
                  <a:pt x="79" y="1585"/>
                </a:lnTo>
                <a:lnTo>
                  <a:pt x="52" y="1456"/>
                </a:lnTo>
                <a:lnTo>
                  <a:pt x="0" y="1319"/>
                </a:lnTo>
                <a:lnTo>
                  <a:pt x="26" y="1187"/>
                </a:lnTo>
                <a:lnTo>
                  <a:pt x="26" y="1059"/>
                </a:lnTo>
                <a:close/>
              </a:path>
            </a:pathLst>
          </a:custGeom>
          <a:blipFill rotWithShape="0">
            <a:blip r:embed="rId10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10120" y="2403360"/>
            <a:ext cx="640080" cy="221040"/>
          </a:xfrm>
          <a:custGeom>
            <a:avLst/>
            <a:gdLst/>
            <a:ahLst/>
            <a:rect l="0" t="0" r="r" b="b"/>
            <a:pathLst>
              <a:path w="1778" h="614">
                <a:moveTo>
                  <a:pt x="110" y="358"/>
                </a:moveTo>
                <a:lnTo>
                  <a:pt x="0" y="287"/>
                </a:lnTo>
                <a:lnTo>
                  <a:pt x="70" y="247"/>
                </a:lnTo>
                <a:lnTo>
                  <a:pt x="216" y="141"/>
                </a:lnTo>
                <a:lnTo>
                  <a:pt x="357" y="110"/>
                </a:lnTo>
                <a:lnTo>
                  <a:pt x="383" y="70"/>
                </a:lnTo>
                <a:lnTo>
                  <a:pt x="343" y="123"/>
                </a:lnTo>
                <a:lnTo>
                  <a:pt x="467" y="70"/>
                </a:lnTo>
                <a:lnTo>
                  <a:pt x="410" y="61"/>
                </a:lnTo>
                <a:lnTo>
                  <a:pt x="343" y="22"/>
                </a:lnTo>
                <a:lnTo>
                  <a:pt x="480" y="22"/>
                </a:lnTo>
                <a:lnTo>
                  <a:pt x="612" y="0"/>
                </a:lnTo>
                <a:lnTo>
                  <a:pt x="754" y="0"/>
                </a:lnTo>
                <a:lnTo>
                  <a:pt x="891" y="0"/>
                </a:lnTo>
                <a:lnTo>
                  <a:pt x="1024" y="0"/>
                </a:lnTo>
                <a:lnTo>
                  <a:pt x="1165" y="22"/>
                </a:lnTo>
                <a:lnTo>
                  <a:pt x="1297" y="39"/>
                </a:lnTo>
                <a:lnTo>
                  <a:pt x="1434" y="61"/>
                </a:lnTo>
                <a:lnTo>
                  <a:pt x="1504" y="101"/>
                </a:lnTo>
                <a:lnTo>
                  <a:pt x="1575" y="145"/>
                </a:lnTo>
                <a:lnTo>
                  <a:pt x="1575" y="186"/>
                </a:lnTo>
                <a:lnTo>
                  <a:pt x="1637" y="225"/>
                </a:lnTo>
                <a:lnTo>
                  <a:pt x="1778" y="265"/>
                </a:lnTo>
                <a:lnTo>
                  <a:pt x="1778" y="309"/>
                </a:lnTo>
                <a:lnTo>
                  <a:pt x="1778" y="349"/>
                </a:lnTo>
                <a:lnTo>
                  <a:pt x="1707" y="389"/>
                </a:lnTo>
                <a:lnTo>
                  <a:pt x="1707" y="428"/>
                </a:lnTo>
                <a:lnTo>
                  <a:pt x="1707" y="469"/>
                </a:lnTo>
                <a:lnTo>
                  <a:pt x="1637" y="531"/>
                </a:lnTo>
                <a:lnTo>
                  <a:pt x="1575" y="575"/>
                </a:lnTo>
                <a:lnTo>
                  <a:pt x="1434" y="592"/>
                </a:lnTo>
                <a:lnTo>
                  <a:pt x="1297" y="614"/>
                </a:lnTo>
                <a:lnTo>
                  <a:pt x="1165" y="614"/>
                </a:lnTo>
                <a:lnTo>
                  <a:pt x="1024" y="614"/>
                </a:lnTo>
                <a:lnTo>
                  <a:pt x="891" y="614"/>
                </a:lnTo>
                <a:lnTo>
                  <a:pt x="754" y="592"/>
                </a:lnTo>
                <a:lnTo>
                  <a:pt x="612" y="575"/>
                </a:lnTo>
                <a:lnTo>
                  <a:pt x="480" y="592"/>
                </a:lnTo>
                <a:lnTo>
                  <a:pt x="343" y="592"/>
                </a:lnTo>
                <a:lnTo>
                  <a:pt x="202" y="575"/>
                </a:lnTo>
                <a:lnTo>
                  <a:pt x="141" y="531"/>
                </a:lnTo>
                <a:lnTo>
                  <a:pt x="141" y="491"/>
                </a:lnTo>
                <a:lnTo>
                  <a:pt x="70" y="450"/>
                </a:lnTo>
                <a:lnTo>
                  <a:pt x="110" y="433"/>
                </a:lnTo>
                <a:lnTo>
                  <a:pt x="0" y="367"/>
                </a:lnTo>
                <a:lnTo>
                  <a:pt x="110" y="358"/>
                </a:lnTo>
                <a:close/>
              </a:path>
            </a:pathLst>
          </a:custGeom>
          <a:blipFill rotWithShape="0">
            <a:blip r:embed="rId1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495760" y="3759120"/>
            <a:ext cx="541800" cy="678240"/>
          </a:xfrm>
          <a:custGeom>
            <a:avLst/>
            <a:gdLst/>
            <a:ahLst/>
            <a:rect l="0" t="0" r="r" b="b"/>
            <a:pathLst>
              <a:path w="1505" h="1884">
                <a:moveTo>
                  <a:pt x="92" y="1072"/>
                </a:moveTo>
                <a:lnTo>
                  <a:pt x="0" y="856"/>
                </a:lnTo>
                <a:lnTo>
                  <a:pt x="57" y="737"/>
                </a:lnTo>
                <a:lnTo>
                  <a:pt x="185" y="423"/>
                </a:lnTo>
                <a:lnTo>
                  <a:pt x="304" y="326"/>
                </a:lnTo>
                <a:lnTo>
                  <a:pt x="326" y="211"/>
                </a:lnTo>
                <a:lnTo>
                  <a:pt x="291" y="366"/>
                </a:lnTo>
                <a:lnTo>
                  <a:pt x="397" y="211"/>
                </a:lnTo>
                <a:lnTo>
                  <a:pt x="348" y="185"/>
                </a:lnTo>
                <a:lnTo>
                  <a:pt x="291" y="61"/>
                </a:lnTo>
                <a:lnTo>
                  <a:pt x="406" y="61"/>
                </a:lnTo>
                <a:lnTo>
                  <a:pt x="521" y="0"/>
                </a:lnTo>
                <a:lnTo>
                  <a:pt x="640" y="0"/>
                </a:lnTo>
                <a:lnTo>
                  <a:pt x="755" y="0"/>
                </a:lnTo>
                <a:lnTo>
                  <a:pt x="865" y="0"/>
                </a:lnTo>
                <a:lnTo>
                  <a:pt x="984" y="61"/>
                </a:lnTo>
                <a:lnTo>
                  <a:pt x="1099" y="119"/>
                </a:lnTo>
                <a:lnTo>
                  <a:pt x="1214" y="185"/>
                </a:lnTo>
                <a:lnTo>
                  <a:pt x="1272" y="304"/>
                </a:lnTo>
                <a:lnTo>
                  <a:pt x="1333" y="432"/>
                </a:lnTo>
                <a:lnTo>
                  <a:pt x="1333" y="552"/>
                </a:lnTo>
                <a:lnTo>
                  <a:pt x="1386" y="671"/>
                </a:lnTo>
                <a:lnTo>
                  <a:pt x="1505" y="799"/>
                </a:lnTo>
                <a:lnTo>
                  <a:pt x="1505" y="918"/>
                </a:lnTo>
                <a:lnTo>
                  <a:pt x="1505" y="1041"/>
                </a:lnTo>
                <a:lnTo>
                  <a:pt x="1448" y="1165"/>
                </a:lnTo>
                <a:lnTo>
                  <a:pt x="1448" y="1288"/>
                </a:lnTo>
                <a:lnTo>
                  <a:pt x="1448" y="1407"/>
                </a:lnTo>
                <a:lnTo>
                  <a:pt x="1386" y="1593"/>
                </a:lnTo>
                <a:lnTo>
                  <a:pt x="1333" y="1717"/>
                </a:lnTo>
                <a:lnTo>
                  <a:pt x="1214" y="1774"/>
                </a:lnTo>
                <a:lnTo>
                  <a:pt x="1099" y="1840"/>
                </a:lnTo>
                <a:lnTo>
                  <a:pt x="984" y="1840"/>
                </a:lnTo>
                <a:lnTo>
                  <a:pt x="865" y="1840"/>
                </a:lnTo>
                <a:lnTo>
                  <a:pt x="755" y="1840"/>
                </a:lnTo>
                <a:lnTo>
                  <a:pt x="640" y="1774"/>
                </a:lnTo>
                <a:lnTo>
                  <a:pt x="565" y="1884"/>
                </a:lnTo>
                <a:lnTo>
                  <a:pt x="406" y="1774"/>
                </a:lnTo>
                <a:lnTo>
                  <a:pt x="291" y="1774"/>
                </a:lnTo>
                <a:lnTo>
                  <a:pt x="171" y="1717"/>
                </a:lnTo>
                <a:lnTo>
                  <a:pt x="119" y="1593"/>
                </a:lnTo>
                <a:lnTo>
                  <a:pt x="119" y="1470"/>
                </a:lnTo>
                <a:lnTo>
                  <a:pt x="57" y="1350"/>
                </a:lnTo>
                <a:lnTo>
                  <a:pt x="92" y="1293"/>
                </a:lnTo>
                <a:lnTo>
                  <a:pt x="0" y="1103"/>
                </a:lnTo>
                <a:lnTo>
                  <a:pt x="92" y="1072"/>
                </a:lnTo>
                <a:close/>
              </a:path>
            </a:pathLst>
          </a:custGeom>
          <a:blipFill rotWithShape="0">
            <a:blip r:embed="rId1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2851200" y="1492200"/>
            <a:ext cx="1765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2724120" y="4692600"/>
            <a:ext cx="1851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65160" y="4859280"/>
            <a:ext cx="866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L-m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392040" y="5041800"/>
            <a:ext cx="2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54000" y="5224320"/>
            <a:ext cx="878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E-m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92040" y="5407200"/>
            <a:ext cx="2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44280" y="5589720"/>
            <a:ext cx="8888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C-m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581120" y="3637080"/>
            <a:ext cx="206640" cy="211320"/>
          </a:xfrm>
          <a:custGeom>
            <a:avLst/>
            <a:gdLst/>
            <a:ahLst/>
            <a:rect l="0" t="0" r="r" b="b"/>
            <a:pathLst>
              <a:path w="574" h="587">
                <a:moveTo>
                  <a:pt x="286" y="158"/>
                </a:moveTo>
                <a:lnTo>
                  <a:pt x="0" y="0"/>
                </a:lnTo>
                <a:lnTo>
                  <a:pt x="286" y="587"/>
                </a:lnTo>
                <a:lnTo>
                  <a:pt x="574" y="0"/>
                </a:lnTo>
                <a:lnTo>
                  <a:pt x="286" y="15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687680" y="3467160"/>
            <a:ext cx="0" cy="210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2301840" y="3319560"/>
            <a:ext cx="700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50 µ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1952640" y="3503520"/>
            <a:ext cx="1316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ashed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2136600" y="3686040"/>
            <a:ext cx="977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locked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1828800" y="3868560"/>
            <a:ext cx="1531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hole blood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1911240" y="4051440"/>
            <a:ext cx="13795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one mar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916360" y="4973760"/>
            <a:ext cx="225720" cy="192600"/>
          </a:xfrm>
          <a:custGeom>
            <a:avLst/>
            <a:gdLst/>
            <a:ahLst/>
            <a:rect l="0" t="0" r="r" b="b"/>
            <a:pathLst>
              <a:path w="627" h="535">
                <a:moveTo>
                  <a:pt x="167" y="265"/>
                </a:moveTo>
                <a:lnTo>
                  <a:pt x="0" y="535"/>
                </a:lnTo>
                <a:lnTo>
                  <a:pt x="627" y="265"/>
                </a:lnTo>
                <a:lnTo>
                  <a:pt x="0" y="0"/>
                </a:lnTo>
                <a:lnTo>
                  <a:pt x="167" y="26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2197080" y="507204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1787400" y="5234040"/>
            <a:ext cx="1521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15 min. on 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440320" y="5030640"/>
            <a:ext cx="225720" cy="192600"/>
          </a:xfrm>
          <a:custGeom>
            <a:avLst/>
            <a:gdLst/>
            <a:ahLst/>
            <a:rect l="0" t="0" r="r" b="b"/>
            <a:pathLst>
              <a:path w="627" h="535">
                <a:moveTo>
                  <a:pt x="167" y="269"/>
                </a:moveTo>
                <a:lnTo>
                  <a:pt x="0" y="535"/>
                </a:lnTo>
                <a:lnTo>
                  <a:pt x="627" y="269"/>
                </a:lnTo>
                <a:lnTo>
                  <a:pt x="0" y="0"/>
                </a:lnTo>
                <a:lnTo>
                  <a:pt x="167" y="2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792680" y="5130720"/>
            <a:ext cx="717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148280" y="3551400"/>
            <a:ext cx="608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y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840120" y="3733920"/>
            <a:ext cx="11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entrifu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014720" y="3916440"/>
            <a:ext cx="866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eca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148280" y="4098960"/>
            <a:ext cx="600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l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168800" y="4281480"/>
            <a:ext cx="5796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3849840" y="4464000"/>
            <a:ext cx="11192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4086360" y="4648320"/>
            <a:ext cx="703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el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5872320" y="4714920"/>
            <a:ext cx="700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as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6005520" y="4897440"/>
            <a:ext cx="4795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ix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5973840" y="5079960"/>
            <a:ext cx="519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5769000" y="5262480"/>
            <a:ext cx="874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1900080" y="2870280"/>
            <a:ext cx="2535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THREE COLOR S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893880" y="4309920"/>
            <a:ext cx="227520" cy="192600"/>
          </a:xfrm>
          <a:custGeom>
            <a:avLst/>
            <a:gdLst/>
            <a:ahLst/>
            <a:rect l="0" t="0" r="r" b="b"/>
            <a:pathLst>
              <a:path w="632" h="535">
                <a:moveTo>
                  <a:pt x="172" y="265"/>
                </a:moveTo>
                <a:lnTo>
                  <a:pt x="0" y="535"/>
                </a:lnTo>
                <a:lnTo>
                  <a:pt x="632" y="265"/>
                </a:lnTo>
                <a:lnTo>
                  <a:pt x="0" y="0"/>
                </a:lnTo>
                <a:lnTo>
                  <a:pt x="172" y="26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719280" y="4408560"/>
            <a:ext cx="24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3240" y="6167520"/>
            <a:ext cx="5364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*add 10 µl mIg (10 mg/ml) to 1 ml washed whole bloo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698480" y="344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87360" y="34131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28560" y="34131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88800" y="4491000"/>
            <a:ext cx="132120" cy="146520"/>
          </a:xfrm>
          <a:custGeom>
            <a:avLst/>
            <a:gdLst/>
            <a:ahLst/>
            <a:rect l="0" t="0" r="r" b="b"/>
            <a:pathLst>
              <a:path w="367" h="407">
                <a:moveTo>
                  <a:pt x="36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ubicBezTo>
                  <a:pt x="0" y="71"/>
                  <a:pt x="17" y="142"/>
                  <a:pt x="49" y="204"/>
                </a:cubicBezTo>
                <a:cubicBezTo>
                  <a:pt x="81" y="265"/>
                  <a:pt x="128" y="317"/>
                  <a:pt x="183" y="353"/>
                </a:cubicBezTo>
                <a:cubicBezTo>
                  <a:pt x="238" y="387"/>
                  <a:pt x="299" y="406"/>
                  <a:pt x="362" y="407"/>
                </a:cubicBezTo>
                <a:lnTo>
                  <a:pt x="36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07960" y="4492800"/>
            <a:ext cx="120960" cy="146520"/>
          </a:xfrm>
          <a:custGeom>
            <a:avLst/>
            <a:gdLst/>
            <a:ahLst/>
            <a:rect l="0" t="0" r="r" b="b"/>
            <a:pathLst>
              <a:path w="336" h="407">
                <a:moveTo>
                  <a:pt x="0" y="0"/>
                </a:moveTo>
                <a:lnTo>
                  <a:pt x="0" y="407"/>
                </a:lnTo>
                <a:lnTo>
                  <a:pt x="0" y="407"/>
                </a:lnTo>
                <a:cubicBezTo>
                  <a:pt x="59" y="407"/>
                  <a:pt x="117" y="388"/>
                  <a:pt x="168" y="352"/>
                </a:cubicBezTo>
                <a:cubicBezTo>
                  <a:pt x="219" y="317"/>
                  <a:pt x="261" y="265"/>
                  <a:pt x="291" y="203"/>
                </a:cubicBezTo>
                <a:cubicBezTo>
                  <a:pt x="320" y="142"/>
                  <a:pt x="336" y="71"/>
                  <a:pt x="33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547640" y="3981600"/>
            <a:ext cx="0" cy="10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803240" y="3981600"/>
            <a:ext cx="0" cy="10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549440" y="5057640"/>
            <a:ext cx="132120" cy="146520"/>
          </a:xfrm>
          <a:custGeom>
            <a:avLst/>
            <a:gdLst/>
            <a:ahLst/>
            <a:rect l="0" t="0" r="r" b="b"/>
            <a:pathLst>
              <a:path w="367" h="407">
                <a:moveTo>
                  <a:pt x="36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ubicBezTo>
                  <a:pt x="0" y="71"/>
                  <a:pt x="17" y="142"/>
                  <a:pt x="49" y="204"/>
                </a:cubicBezTo>
                <a:cubicBezTo>
                  <a:pt x="81" y="265"/>
                  <a:pt x="128" y="317"/>
                  <a:pt x="183" y="353"/>
                </a:cubicBezTo>
                <a:cubicBezTo>
                  <a:pt x="238" y="387"/>
                  <a:pt x="299" y="406"/>
                  <a:pt x="362" y="407"/>
                </a:cubicBezTo>
                <a:lnTo>
                  <a:pt x="36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668600" y="5057640"/>
            <a:ext cx="120960" cy="146520"/>
          </a:xfrm>
          <a:custGeom>
            <a:avLst/>
            <a:gdLst/>
            <a:ahLst/>
            <a:rect l="0" t="0" r="r" b="b"/>
            <a:pathLst>
              <a:path w="336" h="407">
                <a:moveTo>
                  <a:pt x="0" y="0"/>
                </a:moveTo>
                <a:lnTo>
                  <a:pt x="0" y="407"/>
                </a:lnTo>
                <a:lnTo>
                  <a:pt x="0" y="407"/>
                </a:lnTo>
                <a:cubicBezTo>
                  <a:pt x="59" y="407"/>
                  <a:pt x="117" y="388"/>
                  <a:pt x="168" y="352"/>
                </a:cubicBezTo>
                <a:cubicBezTo>
                  <a:pt x="219" y="317"/>
                  <a:pt x="261" y="265"/>
                  <a:pt x="291" y="203"/>
                </a:cubicBezTo>
                <a:cubicBezTo>
                  <a:pt x="320" y="142"/>
                  <a:pt x="336" y="71"/>
                  <a:pt x="33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568680" y="438480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824280" y="438480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570120" y="5462640"/>
            <a:ext cx="132120" cy="146520"/>
          </a:xfrm>
          <a:custGeom>
            <a:avLst/>
            <a:gdLst/>
            <a:ahLst/>
            <a:rect l="0" t="0" r="r" b="b"/>
            <a:pathLst>
              <a:path w="367" h="407">
                <a:moveTo>
                  <a:pt x="36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ubicBezTo>
                  <a:pt x="0" y="71"/>
                  <a:pt x="17" y="142"/>
                  <a:pt x="49" y="204"/>
                </a:cubicBezTo>
                <a:cubicBezTo>
                  <a:pt x="81" y="265"/>
                  <a:pt x="128" y="317"/>
                  <a:pt x="183" y="353"/>
                </a:cubicBezTo>
                <a:cubicBezTo>
                  <a:pt x="238" y="387"/>
                  <a:pt x="299" y="406"/>
                  <a:pt x="362" y="407"/>
                </a:cubicBezTo>
                <a:lnTo>
                  <a:pt x="36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689280" y="5462640"/>
            <a:ext cx="120960" cy="146520"/>
          </a:xfrm>
          <a:custGeom>
            <a:avLst/>
            <a:gdLst/>
            <a:ahLst/>
            <a:rect l="0" t="0" r="r" b="b"/>
            <a:pathLst>
              <a:path w="336" h="407">
                <a:moveTo>
                  <a:pt x="0" y="0"/>
                </a:moveTo>
                <a:lnTo>
                  <a:pt x="0" y="407"/>
                </a:lnTo>
                <a:lnTo>
                  <a:pt x="0" y="407"/>
                </a:lnTo>
                <a:cubicBezTo>
                  <a:pt x="59" y="407"/>
                  <a:pt x="117" y="388"/>
                  <a:pt x="168" y="352"/>
                </a:cubicBezTo>
                <a:cubicBezTo>
                  <a:pt x="219" y="317"/>
                  <a:pt x="261" y="265"/>
                  <a:pt x="291" y="203"/>
                </a:cubicBezTo>
                <a:cubicBezTo>
                  <a:pt x="320" y="142"/>
                  <a:pt x="336" y="71"/>
                  <a:pt x="336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954000" y="2436840"/>
            <a:ext cx="4832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THIRD COLOR RE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633240" y="2811600"/>
            <a:ext cx="54007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PROPERTIES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1020600" y="3562200"/>
            <a:ext cx="38084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monocyte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2340000" y="3936960"/>
            <a:ext cx="15462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PE-CY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1020600" y="4687920"/>
            <a:ext cx="34099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light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1292400" y="5064120"/>
            <a:ext cx="3567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PE-CY5 and Pe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1020600" y="5813280"/>
            <a:ext cx="3289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• </a:t>
            </a: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batch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1273320" y="6189840"/>
            <a:ext cx="3610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PE-TR and PE-CY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225440" y="1123920"/>
            <a:ext cx="3814920" cy="369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1703520" y="1355760"/>
            <a:ext cx="3062160" cy="296388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/>
          <p:nvPr/>
        </p:nvSpPr>
        <p:spPr>
          <a:xfrm>
            <a:off x="1690560" y="1343160"/>
            <a:ext cx="3075120" cy="297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709640" y="4324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90008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092320" y="432432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8456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47500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475000" y="4324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66688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857680" y="432432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04956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24000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240000" y="4324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43224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622680" y="432432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81492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00536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005360" y="4324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19724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389480" y="432432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57848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770360" y="4324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770360" y="432432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1619280" y="4359240"/>
            <a:ext cx="244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2276640" y="4359240"/>
            <a:ext cx="371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3041640" y="4359240"/>
            <a:ext cx="371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3808440" y="4359240"/>
            <a:ext cx="371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4537080" y="4359240"/>
            <a:ext cx="4348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1614600" y="430992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662120" y="40910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1662120" y="39513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1662120" y="38718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662120" y="37908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662120" y="37321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662120" y="36860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662120" y="36399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1662120" y="36050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614600" y="357012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1662120" y="33512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662120" y="3213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662120" y="3132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1662120" y="30495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1662120" y="29923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662120" y="29462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1662120" y="29005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662120" y="28656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1614600" y="283068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1662120" y="2610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1662120" y="24717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1662120" y="23907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662120" y="23097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1662120" y="22510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662120" y="2205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1662120" y="21589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1662120" y="2124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614600" y="209088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1662120" y="18702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662120" y="17319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662120" y="16509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1662120" y="15685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1662120" y="15127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1662120" y="14652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1662120" y="14191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1662120" y="13860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1614600" y="134928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1500120" y="1262160"/>
            <a:ext cx="108000" cy="313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 txBox="1"/>
          <p:nvPr/>
        </p:nvSpPr>
        <p:spPr>
          <a:xfrm>
            <a:off x="1619280" y="4660920"/>
            <a:ext cx="9572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/6/051330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1619280" y="4510080"/>
            <a:ext cx="635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SC 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8" name="" descr=""/>
          <p:cNvPicPr/>
          <p:nvPr/>
        </p:nvPicPr>
        <p:blipFill>
          <a:blip r:embed="rId3"/>
          <a:stretch/>
        </p:blipFill>
        <p:spPr>
          <a:xfrm>
            <a:off x="1344600" y="3670200"/>
            <a:ext cx="109440" cy="649440"/>
          </a:xfrm>
          <a:prstGeom prst="rect">
            <a:avLst/>
          </a:prstGeom>
          <a:ln w="0">
            <a:noFill/>
          </a:ln>
        </p:spPr>
      </p:pic>
      <p:sp>
        <p:nvSpPr>
          <p:cNvPr id="1699" name=""/>
          <p:cNvSpPr/>
          <p:nvPr/>
        </p:nvSpPr>
        <p:spPr>
          <a:xfrm>
            <a:off x="1795320" y="3057120"/>
            <a:ext cx="991080" cy="480240"/>
          </a:xfrm>
          <a:custGeom>
            <a:avLst/>
            <a:gdLst/>
            <a:ahLst/>
            <a:rect l="0" t="0" r="r" b="b"/>
            <a:pathLst>
              <a:path fill="none" w="2753" h="133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235"/>
                  <a:pt x="64" y="465"/>
                  <a:pt x="184" y="668"/>
                </a:cubicBezTo>
                <a:cubicBezTo>
                  <a:pt x="305" y="870"/>
                  <a:pt x="479" y="1039"/>
                  <a:pt x="688" y="1156"/>
                </a:cubicBezTo>
                <a:cubicBezTo>
                  <a:pt x="898" y="1273"/>
                  <a:pt x="1135" y="1334"/>
                  <a:pt x="1377" y="1334"/>
                </a:cubicBezTo>
                <a:cubicBezTo>
                  <a:pt x="1618" y="1334"/>
                  <a:pt x="1855" y="1273"/>
                  <a:pt x="2065" y="1156"/>
                </a:cubicBezTo>
                <a:cubicBezTo>
                  <a:pt x="2274" y="1039"/>
                  <a:pt x="2448" y="870"/>
                  <a:pt x="2569" y="668"/>
                </a:cubicBezTo>
                <a:cubicBezTo>
                  <a:pt x="2689" y="465"/>
                  <a:pt x="2753" y="236"/>
                  <a:pt x="2753" y="2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1774800" y="2952720"/>
            <a:ext cx="0" cy="114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795320" y="2473200"/>
            <a:ext cx="991080" cy="482040"/>
          </a:xfrm>
          <a:custGeom>
            <a:avLst/>
            <a:gdLst/>
            <a:ahLst/>
            <a:rect l="0" t="0" r="r" b="b"/>
            <a:pathLst>
              <a:path fill="none" w="2753" h="1339">
                <a:moveTo>
                  <a:pt x="2753" y="1339"/>
                </a:moveTo>
                <a:lnTo>
                  <a:pt x="2753" y="1339"/>
                </a:lnTo>
                <a:lnTo>
                  <a:pt x="2753" y="1338"/>
                </a:lnTo>
                <a:cubicBezTo>
                  <a:pt x="2753" y="1104"/>
                  <a:pt x="2689" y="873"/>
                  <a:pt x="2569" y="669"/>
                </a:cubicBezTo>
                <a:cubicBezTo>
                  <a:pt x="2448" y="466"/>
                  <a:pt x="2274" y="297"/>
                  <a:pt x="2065" y="179"/>
                </a:cubicBezTo>
                <a:cubicBezTo>
                  <a:pt x="1855" y="62"/>
                  <a:pt x="1618" y="0"/>
                  <a:pt x="1376" y="0"/>
                </a:cubicBezTo>
                <a:cubicBezTo>
                  <a:pt x="1135" y="0"/>
                  <a:pt x="898" y="62"/>
                  <a:pt x="688" y="179"/>
                </a:cubicBezTo>
                <a:cubicBezTo>
                  <a:pt x="479" y="297"/>
                  <a:pt x="305" y="466"/>
                  <a:pt x="184" y="669"/>
                </a:cubicBezTo>
                <a:cubicBezTo>
                  <a:pt x="64" y="873"/>
                  <a:pt x="0" y="1103"/>
                  <a:pt x="0" y="1338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809800" y="2960640"/>
            <a:ext cx="0" cy="88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739800" y="139680"/>
            <a:ext cx="4991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LEUKEMIA GATE USING CD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1440" y="647640"/>
            <a:ext cx="6473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NORMAL BONE M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225440" y="4987800"/>
            <a:ext cx="3814920" cy="368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4"/>
          <a:stretch/>
        </p:blipFill>
        <p:spPr>
          <a:xfrm>
            <a:off x="1703520" y="5219640"/>
            <a:ext cx="3062160" cy="296244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1690560" y="5207040"/>
            <a:ext cx="3075120" cy="297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709640" y="818820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9368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0797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1636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24784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3083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23544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4033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43828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475000" y="818820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7018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8465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9289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0132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0733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1212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1669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20364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240000" y="818820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4671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6115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6939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7782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83688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93372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97044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005360" y="818820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2321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37688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4607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54356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60224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65120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69908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735440" y="818820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770360" y="818820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547640" y="8223120"/>
            <a:ext cx="30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2313000" y="8223120"/>
            <a:ext cx="30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076560" y="8223120"/>
            <a:ext cx="30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3843360" y="8223120"/>
            <a:ext cx="30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4608360" y="8223120"/>
            <a:ext cx="30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1666800" y="8209080"/>
            <a:ext cx="237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2432160" y="8209080"/>
            <a:ext cx="237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3197160" y="8209080"/>
            <a:ext cx="237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962520" y="8209080"/>
            <a:ext cx="237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4727520" y="8209080"/>
            <a:ext cx="2379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1614600" y="817416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662120" y="79549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662120" y="78152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662120" y="77342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1662120" y="76550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662120" y="75963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1662120" y="75502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1662120" y="75042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1662120" y="74692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1614600" y="743436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1662120" y="721512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1662120" y="70754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1662120" y="69962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1662120" y="69134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1662120" y="68565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662120" y="68104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662120" y="67644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1662120" y="67294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614600" y="669276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1662120" y="64738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1662120" y="63356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1662120" y="62546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1662120" y="61736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662120" y="61149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1662120" y="60688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1662120" y="60228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662120" y="59878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1614600" y="595476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1662120" y="57340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1662120" y="55958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1662120" y="55148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1662120" y="543240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1662120" y="53751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1662120" y="532908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1662120" y="528336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1662120" y="5248440"/>
            <a:ext cx="3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1614600" y="5213520"/>
            <a:ext cx="8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5"/>
          <a:stretch/>
        </p:blipFill>
        <p:spPr>
          <a:xfrm>
            <a:off x="1500120" y="5126040"/>
            <a:ext cx="108000" cy="313704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 txBox="1"/>
          <p:nvPr/>
        </p:nvSpPr>
        <p:spPr>
          <a:xfrm>
            <a:off x="1619280" y="8524800"/>
            <a:ext cx="9572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/6/051330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1619280" y="8373960"/>
            <a:ext cx="76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LADr 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" descr=""/>
          <p:cNvPicPr/>
          <p:nvPr/>
        </p:nvPicPr>
        <p:blipFill>
          <a:blip r:embed="rId6"/>
          <a:stretch/>
        </p:blipFill>
        <p:spPr>
          <a:xfrm>
            <a:off x="1344600" y="7532640"/>
            <a:ext cx="109440" cy="649440"/>
          </a:xfrm>
          <a:prstGeom prst="rect">
            <a:avLst/>
          </a:prstGeom>
          <a:ln w="0">
            <a:noFill/>
          </a:ln>
        </p:spPr>
      </p:pic>
      <p:sp>
        <p:nvSpPr>
          <p:cNvPr id="1796" name=""/>
          <p:cNvSpPr/>
          <p:nvPr/>
        </p:nvSpPr>
        <p:spPr>
          <a:xfrm>
            <a:off x="1600200" y="4699080"/>
            <a:ext cx="105264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684440" y="8567640"/>
            <a:ext cx="105264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1168560" y="1293840"/>
            <a:ext cx="405144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>
            <a:off x="1676520" y="1528920"/>
            <a:ext cx="3251160" cy="300528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1663560" y="1517760"/>
            <a:ext cx="3263760" cy="3016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682640" y="454176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88604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089080" y="454176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29248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49552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495520" y="454176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69892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901960" y="454176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10500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30840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308400" y="454176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51144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714840" y="454176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91788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2128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121280" y="454176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32432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27720" y="454176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73076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933800" y="454176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933800" y="454176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1592280" y="4579920"/>
            <a:ext cx="237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2290680" y="4579920"/>
            <a:ext cx="35244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3103560" y="4579920"/>
            <a:ext cx="35244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916440" y="4579920"/>
            <a:ext cx="35244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4691160" y="4579920"/>
            <a:ext cx="40968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1582560" y="45291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633680" y="4305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1633680" y="4164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33680" y="4083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633680" y="40006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1633680" y="3941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1633680" y="3894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633680" y="3848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1633680" y="38131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82560" y="37767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1633680" y="3554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1633680" y="3413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1633680" y="3330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1633680" y="3249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1633680" y="3191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1633680" y="3143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1633680" y="30970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1633680" y="3060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1582560" y="302580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1633680" y="28036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633680" y="2662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1633680" y="2579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1633680" y="2496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1633680" y="2438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1633680" y="2392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1633680" y="23446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633680" y="2309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1582560" y="22748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1633680" y="20509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1633680" y="191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1633680" y="1828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1633680" y="17463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1633680" y="16876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1633680" y="16416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1633680" y="1593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633680" y="1558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1582560" y="152388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4" name="" descr=""/>
          <p:cNvPicPr/>
          <p:nvPr/>
        </p:nvPicPr>
        <p:blipFill>
          <a:blip r:embed="rId2"/>
          <a:stretch/>
        </p:blipFill>
        <p:spPr>
          <a:xfrm>
            <a:off x="1460520" y="1434960"/>
            <a:ext cx="114480" cy="3181320"/>
          </a:xfrm>
          <a:prstGeom prst="rect">
            <a:avLst/>
          </a:prstGeom>
          <a:ln w="0">
            <a:noFill/>
          </a:ln>
        </p:spPr>
      </p:pic>
      <p:sp>
        <p:nvSpPr>
          <p:cNvPr id="1865" name=""/>
          <p:cNvSpPr txBox="1"/>
          <p:nvPr/>
        </p:nvSpPr>
        <p:spPr>
          <a:xfrm>
            <a:off x="1592280" y="4884840"/>
            <a:ext cx="8874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/7/06064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1592280" y="4732200"/>
            <a:ext cx="593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SC 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3"/>
          <a:stretch/>
        </p:blipFill>
        <p:spPr>
          <a:xfrm>
            <a:off x="1295280" y="3876840"/>
            <a:ext cx="114480" cy="65736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773360" y="3254400"/>
            <a:ext cx="1054440" cy="486360"/>
          </a:xfrm>
          <a:custGeom>
            <a:avLst/>
            <a:gdLst/>
            <a:ahLst/>
            <a:rect l="0" t="0" r="r" b="b"/>
            <a:pathLst>
              <a:path fill="none" w="2929" h="135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238"/>
                  <a:pt x="68" y="471"/>
                  <a:pt x="196" y="676"/>
                </a:cubicBezTo>
                <a:cubicBezTo>
                  <a:pt x="325" y="881"/>
                  <a:pt x="510" y="1052"/>
                  <a:pt x="732" y="1170"/>
                </a:cubicBezTo>
                <a:cubicBezTo>
                  <a:pt x="955" y="1289"/>
                  <a:pt x="1207" y="1351"/>
                  <a:pt x="1465" y="1351"/>
                </a:cubicBezTo>
                <a:cubicBezTo>
                  <a:pt x="1722" y="1351"/>
                  <a:pt x="1974" y="1289"/>
                  <a:pt x="2197" y="1170"/>
                </a:cubicBezTo>
                <a:cubicBezTo>
                  <a:pt x="2419" y="1052"/>
                  <a:pt x="2604" y="881"/>
                  <a:pt x="2733" y="676"/>
                </a:cubicBezTo>
                <a:cubicBezTo>
                  <a:pt x="2861" y="471"/>
                  <a:pt x="2929" y="238"/>
                  <a:pt x="2929" y="1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1752480" y="3151080"/>
            <a:ext cx="0" cy="115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773360" y="2664000"/>
            <a:ext cx="1054440" cy="486360"/>
          </a:xfrm>
          <a:custGeom>
            <a:avLst/>
            <a:gdLst/>
            <a:ahLst/>
            <a:rect l="0" t="0" r="r" b="b"/>
            <a:pathLst>
              <a:path fill="none" w="2929" h="1351">
                <a:moveTo>
                  <a:pt x="2929" y="1351"/>
                </a:moveTo>
                <a:lnTo>
                  <a:pt x="2929" y="1351"/>
                </a:lnTo>
                <a:lnTo>
                  <a:pt x="2929" y="1351"/>
                </a:lnTo>
                <a:cubicBezTo>
                  <a:pt x="2929" y="1114"/>
                  <a:pt x="2861" y="881"/>
                  <a:pt x="2733" y="675"/>
                </a:cubicBezTo>
                <a:cubicBezTo>
                  <a:pt x="2604" y="470"/>
                  <a:pt x="2419" y="300"/>
                  <a:pt x="2197" y="181"/>
                </a:cubicBezTo>
                <a:cubicBezTo>
                  <a:pt x="1974" y="62"/>
                  <a:pt x="1722" y="0"/>
                  <a:pt x="1464" y="0"/>
                </a:cubicBezTo>
                <a:cubicBezTo>
                  <a:pt x="1207" y="0"/>
                  <a:pt x="955" y="62"/>
                  <a:pt x="732" y="181"/>
                </a:cubicBezTo>
                <a:cubicBezTo>
                  <a:pt x="510" y="300"/>
                  <a:pt x="325" y="470"/>
                  <a:pt x="196" y="676"/>
                </a:cubicBezTo>
                <a:cubicBezTo>
                  <a:pt x="68" y="881"/>
                  <a:pt x="0" y="1114"/>
                  <a:pt x="0" y="1351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851200" y="3157560"/>
            <a:ext cx="0" cy="88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168560" y="5308560"/>
            <a:ext cx="405144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4"/>
          <a:stretch/>
        </p:blipFill>
        <p:spPr>
          <a:xfrm>
            <a:off x="1676520" y="5543640"/>
            <a:ext cx="3251160" cy="300528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1663560" y="5532480"/>
            <a:ext cx="3263760" cy="3016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682640" y="855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9242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0764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1654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2543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3176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36844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4192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45736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495520" y="855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367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88936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9782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0672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13056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1813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2320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27024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308400" y="855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5496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7018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7908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8797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4344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9942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04496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0831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121280" y="855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3624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51476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6036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6926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75632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80708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85784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896000" y="85564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933800" y="8556480"/>
            <a:ext cx="0" cy="5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1515960" y="8594640"/>
            <a:ext cx="295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2328840" y="8594640"/>
            <a:ext cx="295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3141720" y="8594640"/>
            <a:ext cx="295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954600" y="8594640"/>
            <a:ext cx="295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4767120" y="8594640"/>
            <a:ext cx="295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 txBox="1"/>
          <p:nvPr/>
        </p:nvSpPr>
        <p:spPr>
          <a:xfrm>
            <a:off x="1643040" y="858348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2455920" y="858348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3268800" y="858348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4081320" y="858348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4894200" y="858348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1582560" y="854388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H="1">
            <a:off x="1633680" y="8319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1633680" y="8180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1633680" y="8097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1633680" y="8015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1633680" y="795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1633680" y="7908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1633680" y="786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1633680" y="7827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1582560" y="779292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1633680" y="75693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1633680" y="7427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633680" y="7346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1633680" y="72644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3680" y="7205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1633680" y="7157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633680" y="7112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1633680" y="70754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1582560" y="704052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633680" y="6818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1633680" y="66769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633680" y="65944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1633680" y="65120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1633680" y="6454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1633680" y="64072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1633680" y="6359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1633680" y="63244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1582560" y="62895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1633680" y="60660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1633680" y="5925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33680" y="58435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1633680" y="57610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1633680" y="5702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1633680" y="56563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1633680" y="5608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1633680" y="557388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1582560" y="55389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9" name="" descr=""/>
          <p:cNvPicPr/>
          <p:nvPr/>
        </p:nvPicPr>
        <p:blipFill>
          <a:blip r:embed="rId5"/>
          <a:stretch/>
        </p:blipFill>
        <p:spPr>
          <a:xfrm>
            <a:off x="1460520" y="5450040"/>
            <a:ext cx="114480" cy="3181320"/>
          </a:xfrm>
          <a:prstGeom prst="rect">
            <a:avLst/>
          </a:prstGeom>
          <a:ln w="0">
            <a:noFill/>
          </a:ln>
        </p:spPr>
      </p:pic>
      <p:sp>
        <p:nvSpPr>
          <p:cNvPr id="1960" name=""/>
          <p:cNvSpPr txBox="1"/>
          <p:nvPr/>
        </p:nvSpPr>
        <p:spPr>
          <a:xfrm>
            <a:off x="1592280" y="8899560"/>
            <a:ext cx="8874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/7/06064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1592280" y="8747280"/>
            <a:ext cx="714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LADr 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6"/>
          <a:stretch/>
        </p:blipFill>
        <p:spPr>
          <a:xfrm>
            <a:off x="1295280" y="7891560"/>
            <a:ext cx="114480" cy="65736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 txBox="1"/>
          <p:nvPr/>
        </p:nvSpPr>
        <p:spPr>
          <a:xfrm>
            <a:off x="785880" y="41400"/>
            <a:ext cx="4991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LEUKEMIA GATE USING CD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1268280" y="398520"/>
            <a:ext cx="4051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LEUKEMIC (TALL)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2500200" y="782640"/>
            <a:ext cx="1692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305"/>
                </a:solidFill>
                <a:latin typeface="Bookman Old Style"/>
                <a:ea typeface="Bookman Old Style"/>
              </a:rPr>
              <a:t>M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549440" y="4897440"/>
            <a:ext cx="111744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638360" y="8912160"/>
            <a:ext cx="111744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8" name="" descr=""/>
          <p:cNvPicPr/>
          <p:nvPr/>
        </p:nvPicPr>
        <p:blipFill>
          <a:blip r:embed="rId1"/>
          <a:stretch/>
        </p:blipFill>
        <p:spPr>
          <a:xfrm>
            <a:off x="279360" y="304920"/>
            <a:ext cx="6362640" cy="86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" descr=""/>
          <p:cNvPicPr/>
          <p:nvPr/>
        </p:nvPicPr>
        <p:blipFill>
          <a:blip r:embed="rId1"/>
          <a:stretch/>
        </p:blipFill>
        <p:spPr>
          <a:xfrm>
            <a:off x="114480" y="1346040"/>
            <a:ext cx="660384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" descr=""/>
          <p:cNvPicPr/>
          <p:nvPr/>
        </p:nvPicPr>
        <p:blipFill>
          <a:blip r:embed="rId1"/>
          <a:stretch/>
        </p:blipFill>
        <p:spPr>
          <a:xfrm>
            <a:off x="279360" y="1486080"/>
            <a:ext cx="6286680" cy="75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40" y="814320"/>
            <a:ext cx="6892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CORRELATED (LIST MOD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41480" y="1528920"/>
            <a:ext cx="4917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DATA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4120" y="2665440"/>
            <a:ext cx="1446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Entry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889280" y="2665440"/>
            <a:ext cx="912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89360" y="2665440"/>
            <a:ext cx="1801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Cel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6080" y="2665440"/>
            <a:ext cx="1542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9120" y="3146400"/>
            <a:ext cx="349200" cy="3616560"/>
            <a:chOff x="789120" y="3146400"/>
            <a:chExt cx="349200" cy="3616560"/>
          </a:xfrm>
        </p:grpSpPr>
        <p:sp>
          <p:nvSpPr>
            <p:cNvPr id="149" name=""/>
            <p:cNvSpPr txBox="1"/>
            <p:nvPr/>
          </p:nvSpPr>
          <p:spPr>
            <a:xfrm>
              <a:off x="789120" y="31464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9120" y="343836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789120" y="373212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789120" y="402732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789120" y="432288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789120" y="460548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789120" y="489888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89120" y="519264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789120" y="5489640"/>
              <a:ext cx="272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89120" y="5781600"/>
              <a:ext cx="272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789120" y="6076800"/>
              <a:ext cx="272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89120" y="636912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08000" y="3149640"/>
            <a:ext cx="684360" cy="3654360"/>
            <a:chOff x="1908000" y="3149640"/>
            <a:chExt cx="684360" cy="3654360"/>
          </a:xfrm>
        </p:grpSpPr>
        <p:sp>
          <p:nvSpPr>
            <p:cNvPr id="162" name=""/>
            <p:cNvSpPr txBox="1"/>
            <p:nvPr/>
          </p:nvSpPr>
          <p:spPr>
            <a:xfrm>
              <a:off x="2060640" y="314964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908000" y="344664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060640" y="374328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060640" y="404028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060640" y="433872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908000" y="462600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908000" y="492588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908000" y="522288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060640" y="552132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060640" y="5818320"/>
              <a:ext cx="515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908000" y="611676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908000" y="6410160"/>
              <a:ext cx="6843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92440" y="3147840"/>
            <a:ext cx="353880" cy="3640320"/>
            <a:chOff x="3592440" y="3147840"/>
            <a:chExt cx="353880" cy="3640320"/>
          </a:xfrm>
        </p:grpSpPr>
        <p:sp>
          <p:nvSpPr>
            <p:cNvPr id="175" name=""/>
            <p:cNvSpPr txBox="1"/>
            <p:nvPr/>
          </p:nvSpPr>
          <p:spPr>
            <a:xfrm>
              <a:off x="3592440" y="314784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3592440" y="34416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3592440" y="37386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592440" y="403560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92440" y="433224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592440" y="461952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592440" y="491328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592440" y="5211720"/>
              <a:ext cx="3492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592440" y="5506920"/>
              <a:ext cx="353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592440" y="5803920"/>
              <a:ext cx="353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592440" y="6100920"/>
              <a:ext cx="353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592440" y="6394320"/>
              <a:ext cx="353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88080" y="3147840"/>
            <a:ext cx="963720" cy="3661200"/>
            <a:chOff x="4888080" y="3147840"/>
            <a:chExt cx="963720" cy="3661200"/>
          </a:xfrm>
        </p:grpSpPr>
        <p:sp>
          <p:nvSpPr>
            <p:cNvPr id="188" name=""/>
            <p:cNvSpPr txBox="1"/>
            <p:nvPr/>
          </p:nvSpPr>
          <p:spPr>
            <a:xfrm>
              <a:off x="4888080" y="3147840"/>
              <a:ext cx="7095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888080" y="3444840"/>
              <a:ext cx="704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4888080" y="3741840"/>
              <a:ext cx="9637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888080" y="40402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888080" y="4338720"/>
              <a:ext cx="7095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4888080" y="4627440"/>
              <a:ext cx="704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4888080" y="4925880"/>
              <a:ext cx="9637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888080" y="522432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4888080" y="5522760"/>
              <a:ext cx="7095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F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4888080" y="5819760"/>
              <a:ext cx="7048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SS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888080" y="6118200"/>
              <a:ext cx="9637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4888080" y="641520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d4"/>
                  </a:solidFill>
                  <a:latin typeface="Bookman Old Style"/>
                  <a:ea typeface="Bookman Old Style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54040" y="2019240"/>
            <a:ext cx="2603880" cy="1752840"/>
          </a:xfrm>
          <a:custGeom>
            <a:avLst/>
            <a:gdLst/>
            <a:ahLst/>
            <a:rect l="0" t="0" r="r" b="b"/>
            <a:pathLst>
              <a:path fill="none" w="7233" h="4869">
                <a:moveTo>
                  <a:pt x="0" y="0"/>
                </a:moveTo>
                <a:lnTo>
                  <a:pt x="7233" y="0"/>
                </a:lnTo>
                <a:lnTo>
                  <a:pt x="7233" y="4869"/>
                </a:lnTo>
                <a:lnTo>
                  <a:pt x="0" y="486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019240"/>
            <a:ext cx="2603880" cy="1752840"/>
          </a:xfrm>
          <a:custGeom>
            <a:avLst/>
            <a:gdLst/>
            <a:ahLst/>
            <a:rect l="0" t="0" r="r" b="b"/>
            <a:pathLst>
              <a:path fill="none" w="7233" h="4869">
                <a:moveTo>
                  <a:pt x="0" y="0"/>
                </a:moveTo>
                <a:lnTo>
                  <a:pt x="7233" y="0"/>
                </a:lnTo>
                <a:lnTo>
                  <a:pt x="7233" y="4869"/>
                </a:lnTo>
                <a:lnTo>
                  <a:pt x="0" y="486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200" y="4457880"/>
            <a:ext cx="2590920" cy="173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3120" y="4476600"/>
            <a:ext cx="2603880" cy="1752840"/>
          </a:xfrm>
          <a:custGeom>
            <a:avLst/>
            <a:gdLst/>
            <a:ahLst/>
            <a:rect l="0" t="0" r="r" b="b"/>
            <a:pathLst>
              <a:path fill="none" w="7233" h="4869">
                <a:moveTo>
                  <a:pt x="0" y="0"/>
                </a:moveTo>
                <a:lnTo>
                  <a:pt x="7233" y="0"/>
                </a:lnTo>
                <a:lnTo>
                  <a:pt x="7233" y="4869"/>
                </a:lnTo>
                <a:lnTo>
                  <a:pt x="0" y="4869"/>
                </a:lnTo>
                <a:lnTo>
                  <a:pt x="0" y="0"/>
                </a:lnTo>
              </a:path>
            </a:pathLst>
          </a:custGeom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8560" y="4457880"/>
            <a:ext cx="2590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68560" y="4457880"/>
            <a:ext cx="2603880" cy="1752840"/>
          </a:xfrm>
          <a:custGeom>
            <a:avLst/>
            <a:gdLst/>
            <a:ahLst/>
            <a:rect l="0" t="0" r="r" b="b"/>
            <a:pathLst>
              <a:path fill="none" w="7233" h="4869">
                <a:moveTo>
                  <a:pt x="0" y="0"/>
                </a:moveTo>
                <a:lnTo>
                  <a:pt x="7233" y="0"/>
                </a:lnTo>
                <a:lnTo>
                  <a:pt x="7233" y="4869"/>
                </a:lnTo>
                <a:lnTo>
                  <a:pt x="0" y="486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4440" y="3751200"/>
            <a:ext cx="2595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forward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73440" y="3751200"/>
            <a:ext cx="2948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 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33720" y="6335640"/>
            <a:ext cx="2948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D4 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66920" y="2139840"/>
            <a:ext cx="1587960" cy="1651320"/>
          </a:xfrm>
          <a:custGeom>
            <a:avLst/>
            <a:gdLst/>
            <a:ahLst/>
            <a:rect l="0" t="0" r="r" b="b"/>
            <a:pathLst>
              <a:path w="4411" h="4587">
                <a:moveTo>
                  <a:pt x="0" y="4446"/>
                </a:moveTo>
                <a:lnTo>
                  <a:pt x="0" y="4410"/>
                </a:lnTo>
                <a:lnTo>
                  <a:pt x="105" y="4587"/>
                </a:lnTo>
                <a:lnTo>
                  <a:pt x="70" y="4340"/>
                </a:lnTo>
                <a:lnTo>
                  <a:pt x="105" y="4238"/>
                </a:lnTo>
                <a:lnTo>
                  <a:pt x="141" y="4203"/>
                </a:lnTo>
                <a:lnTo>
                  <a:pt x="141" y="4168"/>
                </a:lnTo>
                <a:lnTo>
                  <a:pt x="141" y="4132"/>
                </a:lnTo>
                <a:lnTo>
                  <a:pt x="176" y="4132"/>
                </a:lnTo>
                <a:lnTo>
                  <a:pt x="176" y="4062"/>
                </a:lnTo>
                <a:lnTo>
                  <a:pt x="176" y="4027"/>
                </a:lnTo>
                <a:lnTo>
                  <a:pt x="211" y="3991"/>
                </a:lnTo>
                <a:lnTo>
                  <a:pt x="211" y="3956"/>
                </a:lnTo>
                <a:lnTo>
                  <a:pt x="211" y="3921"/>
                </a:lnTo>
                <a:lnTo>
                  <a:pt x="246" y="3921"/>
                </a:lnTo>
                <a:lnTo>
                  <a:pt x="246" y="3850"/>
                </a:lnTo>
                <a:lnTo>
                  <a:pt x="246" y="3815"/>
                </a:lnTo>
                <a:lnTo>
                  <a:pt x="246" y="3780"/>
                </a:lnTo>
                <a:lnTo>
                  <a:pt x="246" y="3744"/>
                </a:lnTo>
                <a:lnTo>
                  <a:pt x="246" y="3678"/>
                </a:lnTo>
                <a:lnTo>
                  <a:pt x="246" y="3643"/>
                </a:lnTo>
                <a:lnTo>
                  <a:pt x="246" y="3608"/>
                </a:lnTo>
                <a:lnTo>
                  <a:pt x="246" y="3572"/>
                </a:lnTo>
                <a:lnTo>
                  <a:pt x="277" y="3572"/>
                </a:lnTo>
                <a:lnTo>
                  <a:pt x="277" y="3537"/>
                </a:lnTo>
                <a:lnTo>
                  <a:pt x="277" y="3502"/>
                </a:lnTo>
                <a:lnTo>
                  <a:pt x="277" y="3467"/>
                </a:lnTo>
                <a:lnTo>
                  <a:pt x="277" y="3431"/>
                </a:lnTo>
                <a:lnTo>
                  <a:pt x="313" y="3431"/>
                </a:lnTo>
                <a:lnTo>
                  <a:pt x="313" y="3361"/>
                </a:lnTo>
                <a:lnTo>
                  <a:pt x="313" y="3325"/>
                </a:lnTo>
                <a:lnTo>
                  <a:pt x="313" y="3255"/>
                </a:lnTo>
                <a:lnTo>
                  <a:pt x="313" y="3220"/>
                </a:lnTo>
                <a:lnTo>
                  <a:pt x="313" y="3184"/>
                </a:lnTo>
                <a:lnTo>
                  <a:pt x="348" y="3118"/>
                </a:lnTo>
                <a:lnTo>
                  <a:pt x="348" y="3083"/>
                </a:lnTo>
                <a:lnTo>
                  <a:pt x="348" y="3012"/>
                </a:lnTo>
                <a:lnTo>
                  <a:pt x="348" y="2977"/>
                </a:lnTo>
                <a:lnTo>
                  <a:pt x="348" y="2942"/>
                </a:lnTo>
                <a:lnTo>
                  <a:pt x="348" y="2907"/>
                </a:lnTo>
                <a:lnTo>
                  <a:pt x="348" y="2871"/>
                </a:lnTo>
                <a:lnTo>
                  <a:pt x="348" y="2836"/>
                </a:lnTo>
                <a:lnTo>
                  <a:pt x="348" y="2801"/>
                </a:lnTo>
                <a:lnTo>
                  <a:pt x="383" y="2765"/>
                </a:lnTo>
                <a:lnTo>
                  <a:pt x="383" y="2695"/>
                </a:lnTo>
                <a:lnTo>
                  <a:pt x="383" y="2589"/>
                </a:lnTo>
                <a:lnTo>
                  <a:pt x="383" y="2523"/>
                </a:lnTo>
                <a:lnTo>
                  <a:pt x="383" y="2452"/>
                </a:lnTo>
                <a:lnTo>
                  <a:pt x="383" y="2382"/>
                </a:lnTo>
                <a:lnTo>
                  <a:pt x="418" y="2382"/>
                </a:lnTo>
                <a:lnTo>
                  <a:pt x="418" y="2311"/>
                </a:lnTo>
                <a:lnTo>
                  <a:pt x="418" y="2275"/>
                </a:lnTo>
                <a:lnTo>
                  <a:pt x="418" y="2204"/>
                </a:lnTo>
                <a:lnTo>
                  <a:pt x="418" y="2134"/>
                </a:lnTo>
                <a:lnTo>
                  <a:pt x="418" y="2063"/>
                </a:lnTo>
                <a:lnTo>
                  <a:pt x="454" y="2028"/>
                </a:lnTo>
                <a:lnTo>
                  <a:pt x="454" y="1997"/>
                </a:lnTo>
                <a:lnTo>
                  <a:pt x="454" y="1927"/>
                </a:lnTo>
                <a:lnTo>
                  <a:pt x="454" y="1821"/>
                </a:lnTo>
                <a:lnTo>
                  <a:pt x="454" y="1750"/>
                </a:lnTo>
                <a:lnTo>
                  <a:pt x="454" y="1680"/>
                </a:lnTo>
                <a:lnTo>
                  <a:pt x="454" y="1644"/>
                </a:lnTo>
                <a:lnTo>
                  <a:pt x="489" y="1574"/>
                </a:lnTo>
                <a:lnTo>
                  <a:pt x="489" y="1503"/>
                </a:lnTo>
                <a:lnTo>
                  <a:pt x="489" y="1433"/>
                </a:lnTo>
                <a:lnTo>
                  <a:pt x="489" y="1367"/>
                </a:lnTo>
                <a:lnTo>
                  <a:pt x="489" y="1261"/>
                </a:lnTo>
                <a:lnTo>
                  <a:pt x="489" y="1190"/>
                </a:lnTo>
                <a:lnTo>
                  <a:pt x="489" y="1084"/>
                </a:lnTo>
                <a:lnTo>
                  <a:pt x="489" y="1049"/>
                </a:lnTo>
                <a:lnTo>
                  <a:pt x="489" y="978"/>
                </a:lnTo>
                <a:lnTo>
                  <a:pt x="489" y="943"/>
                </a:lnTo>
                <a:lnTo>
                  <a:pt x="524" y="842"/>
                </a:lnTo>
                <a:lnTo>
                  <a:pt x="524" y="771"/>
                </a:lnTo>
                <a:lnTo>
                  <a:pt x="524" y="701"/>
                </a:lnTo>
                <a:lnTo>
                  <a:pt x="524" y="630"/>
                </a:lnTo>
                <a:lnTo>
                  <a:pt x="524" y="560"/>
                </a:lnTo>
                <a:lnTo>
                  <a:pt x="524" y="489"/>
                </a:lnTo>
                <a:lnTo>
                  <a:pt x="524" y="454"/>
                </a:lnTo>
                <a:lnTo>
                  <a:pt x="524" y="418"/>
                </a:lnTo>
                <a:lnTo>
                  <a:pt x="524" y="383"/>
                </a:lnTo>
                <a:lnTo>
                  <a:pt x="560" y="348"/>
                </a:lnTo>
                <a:lnTo>
                  <a:pt x="560" y="313"/>
                </a:lnTo>
                <a:lnTo>
                  <a:pt x="560" y="282"/>
                </a:lnTo>
                <a:lnTo>
                  <a:pt x="560" y="246"/>
                </a:lnTo>
                <a:lnTo>
                  <a:pt x="560" y="211"/>
                </a:lnTo>
                <a:lnTo>
                  <a:pt x="560" y="176"/>
                </a:lnTo>
                <a:lnTo>
                  <a:pt x="560" y="141"/>
                </a:lnTo>
                <a:lnTo>
                  <a:pt x="560" y="105"/>
                </a:lnTo>
                <a:lnTo>
                  <a:pt x="560" y="70"/>
                </a:lnTo>
                <a:lnTo>
                  <a:pt x="560" y="35"/>
                </a:lnTo>
                <a:lnTo>
                  <a:pt x="595" y="35"/>
                </a:lnTo>
                <a:lnTo>
                  <a:pt x="595" y="0"/>
                </a:lnTo>
                <a:lnTo>
                  <a:pt x="630" y="0"/>
                </a:lnTo>
                <a:lnTo>
                  <a:pt x="630" y="35"/>
                </a:lnTo>
                <a:lnTo>
                  <a:pt x="630" y="70"/>
                </a:lnTo>
                <a:lnTo>
                  <a:pt x="665" y="70"/>
                </a:lnTo>
                <a:lnTo>
                  <a:pt x="665" y="105"/>
                </a:lnTo>
                <a:lnTo>
                  <a:pt x="701" y="141"/>
                </a:lnTo>
                <a:lnTo>
                  <a:pt x="701" y="176"/>
                </a:lnTo>
                <a:lnTo>
                  <a:pt x="701" y="211"/>
                </a:lnTo>
                <a:lnTo>
                  <a:pt x="701" y="246"/>
                </a:lnTo>
                <a:lnTo>
                  <a:pt x="736" y="246"/>
                </a:lnTo>
                <a:lnTo>
                  <a:pt x="736" y="282"/>
                </a:lnTo>
                <a:lnTo>
                  <a:pt x="736" y="313"/>
                </a:lnTo>
                <a:lnTo>
                  <a:pt x="736" y="348"/>
                </a:lnTo>
                <a:lnTo>
                  <a:pt x="771" y="383"/>
                </a:lnTo>
                <a:lnTo>
                  <a:pt x="771" y="418"/>
                </a:lnTo>
                <a:lnTo>
                  <a:pt x="771" y="454"/>
                </a:lnTo>
                <a:lnTo>
                  <a:pt x="806" y="489"/>
                </a:lnTo>
                <a:lnTo>
                  <a:pt x="806" y="524"/>
                </a:lnTo>
                <a:lnTo>
                  <a:pt x="806" y="595"/>
                </a:lnTo>
                <a:lnTo>
                  <a:pt x="806" y="630"/>
                </a:lnTo>
                <a:lnTo>
                  <a:pt x="806" y="665"/>
                </a:lnTo>
                <a:lnTo>
                  <a:pt x="837" y="771"/>
                </a:lnTo>
                <a:lnTo>
                  <a:pt x="837" y="842"/>
                </a:lnTo>
                <a:lnTo>
                  <a:pt x="837" y="873"/>
                </a:lnTo>
                <a:lnTo>
                  <a:pt x="837" y="943"/>
                </a:lnTo>
                <a:lnTo>
                  <a:pt x="837" y="1014"/>
                </a:lnTo>
                <a:lnTo>
                  <a:pt x="837" y="1155"/>
                </a:lnTo>
                <a:lnTo>
                  <a:pt x="837" y="1190"/>
                </a:lnTo>
                <a:lnTo>
                  <a:pt x="837" y="1225"/>
                </a:lnTo>
                <a:lnTo>
                  <a:pt x="873" y="1261"/>
                </a:lnTo>
                <a:lnTo>
                  <a:pt x="873" y="1296"/>
                </a:lnTo>
                <a:lnTo>
                  <a:pt x="873" y="1331"/>
                </a:lnTo>
                <a:lnTo>
                  <a:pt x="873" y="1367"/>
                </a:lnTo>
                <a:lnTo>
                  <a:pt x="873" y="1402"/>
                </a:lnTo>
                <a:lnTo>
                  <a:pt x="873" y="1433"/>
                </a:lnTo>
                <a:lnTo>
                  <a:pt x="873" y="1468"/>
                </a:lnTo>
                <a:lnTo>
                  <a:pt x="873" y="1503"/>
                </a:lnTo>
                <a:lnTo>
                  <a:pt x="873" y="1538"/>
                </a:lnTo>
                <a:lnTo>
                  <a:pt x="873" y="1574"/>
                </a:lnTo>
                <a:lnTo>
                  <a:pt x="873" y="1609"/>
                </a:lnTo>
                <a:lnTo>
                  <a:pt x="873" y="1644"/>
                </a:lnTo>
                <a:lnTo>
                  <a:pt x="873" y="1680"/>
                </a:lnTo>
                <a:lnTo>
                  <a:pt x="873" y="1715"/>
                </a:lnTo>
                <a:lnTo>
                  <a:pt x="873" y="1750"/>
                </a:lnTo>
                <a:lnTo>
                  <a:pt x="873" y="1785"/>
                </a:lnTo>
                <a:lnTo>
                  <a:pt x="873" y="1821"/>
                </a:lnTo>
                <a:lnTo>
                  <a:pt x="873" y="1856"/>
                </a:lnTo>
                <a:lnTo>
                  <a:pt x="873" y="1891"/>
                </a:lnTo>
                <a:lnTo>
                  <a:pt x="873" y="1927"/>
                </a:lnTo>
                <a:lnTo>
                  <a:pt x="873" y="1962"/>
                </a:lnTo>
                <a:lnTo>
                  <a:pt x="873" y="1997"/>
                </a:lnTo>
                <a:lnTo>
                  <a:pt x="873" y="2028"/>
                </a:lnTo>
                <a:lnTo>
                  <a:pt x="873" y="2063"/>
                </a:lnTo>
                <a:lnTo>
                  <a:pt x="873" y="2099"/>
                </a:lnTo>
                <a:lnTo>
                  <a:pt x="908" y="2134"/>
                </a:lnTo>
                <a:lnTo>
                  <a:pt x="908" y="2169"/>
                </a:lnTo>
                <a:lnTo>
                  <a:pt x="908" y="2240"/>
                </a:lnTo>
                <a:lnTo>
                  <a:pt x="908" y="2275"/>
                </a:lnTo>
                <a:lnTo>
                  <a:pt x="943" y="2275"/>
                </a:lnTo>
                <a:lnTo>
                  <a:pt x="943" y="2311"/>
                </a:lnTo>
                <a:lnTo>
                  <a:pt x="943" y="2346"/>
                </a:lnTo>
                <a:lnTo>
                  <a:pt x="943" y="2382"/>
                </a:lnTo>
                <a:lnTo>
                  <a:pt x="978" y="2382"/>
                </a:lnTo>
                <a:lnTo>
                  <a:pt x="978" y="2417"/>
                </a:lnTo>
                <a:lnTo>
                  <a:pt x="978" y="2452"/>
                </a:lnTo>
                <a:lnTo>
                  <a:pt x="978" y="2589"/>
                </a:lnTo>
                <a:lnTo>
                  <a:pt x="978" y="2801"/>
                </a:lnTo>
                <a:lnTo>
                  <a:pt x="1014" y="2871"/>
                </a:lnTo>
                <a:lnTo>
                  <a:pt x="1014" y="2907"/>
                </a:lnTo>
                <a:lnTo>
                  <a:pt x="1014" y="2942"/>
                </a:lnTo>
                <a:lnTo>
                  <a:pt x="1049" y="2942"/>
                </a:lnTo>
                <a:lnTo>
                  <a:pt x="1049" y="2977"/>
                </a:lnTo>
                <a:lnTo>
                  <a:pt x="1049" y="3012"/>
                </a:lnTo>
                <a:lnTo>
                  <a:pt x="1049" y="3048"/>
                </a:lnTo>
                <a:lnTo>
                  <a:pt x="1084" y="3083"/>
                </a:lnTo>
                <a:lnTo>
                  <a:pt x="1084" y="3118"/>
                </a:lnTo>
                <a:lnTo>
                  <a:pt x="1084" y="3153"/>
                </a:lnTo>
                <a:lnTo>
                  <a:pt x="1121" y="3153"/>
                </a:lnTo>
                <a:lnTo>
                  <a:pt x="1121" y="3184"/>
                </a:lnTo>
                <a:lnTo>
                  <a:pt x="1121" y="3220"/>
                </a:lnTo>
                <a:lnTo>
                  <a:pt x="1121" y="3255"/>
                </a:lnTo>
                <a:lnTo>
                  <a:pt x="1156" y="3255"/>
                </a:lnTo>
                <a:lnTo>
                  <a:pt x="1191" y="3255"/>
                </a:lnTo>
                <a:lnTo>
                  <a:pt x="1226" y="3255"/>
                </a:lnTo>
                <a:lnTo>
                  <a:pt x="1262" y="3255"/>
                </a:lnTo>
                <a:lnTo>
                  <a:pt x="1297" y="3255"/>
                </a:lnTo>
                <a:lnTo>
                  <a:pt x="1297" y="3220"/>
                </a:lnTo>
                <a:lnTo>
                  <a:pt x="1332" y="3220"/>
                </a:lnTo>
                <a:lnTo>
                  <a:pt x="1332" y="3184"/>
                </a:lnTo>
                <a:lnTo>
                  <a:pt x="1368" y="3184"/>
                </a:lnTo>
                <a:lnTo>
                  <a:pt x="1398" y="3184"/>
                </a:lnTo>
                <a:lnTo>
                  <a:pt x="1398" y="3153"/>
                </a:lnTo>
                <a:lnTo>
                  <a:pt x="1434" y="3153"/>
                </a:lnTo>
                <a:lnTo>
                  <a:pt x="1434" y="3118"/>
                </a:lnTo>
                <a:lnTo>
                  <a:pt x="1469" y="3118"/>
                </a:lnTo>
                <a:lnTo>
                  <a:pt x="1469" y="3083"/>
                </a:lnTo>
                <a:lnTo>
                  <a:pt x="1504" y="3083"/>
                </a:lnTo>
                <a:lnTo>
                  <a:pt x="1504" y="3048"/>
                </a:lnTo>
                <a:lnTo>
                  <a:pt x="1539" y="3048"/>
                </a:lnTo>
                <a:lnTo>
                  <a:pt x="1575" y="3012"/>
                </a:lnTo>
                <a:lnTo>
                  <a:pt x="1575" y="2977"/>
                </a:lnTo>
                <a:lnTo>
                  <a:pt x="1610" y="2977"/>
                </a:lnTo>
                <a:lnTo>
                  <a:pt x="1645" y="2942"/>
                </a:lnTo>
                <a:lnTo>
                  <a:pt x="1681" y="2907"/>
                </a:lnTo>
                <a:lnTo>
                  <a:pt x="1681" y="2871"/>
                </a:lnTo>
                <a:lnTo>
                  <a:pt x="1716" y="2871"/>
                </a:lnTo>
                <a:lnTo>
                  <a:pt x="1751" y="2836"/>
                </a:lnTo>
                <a:lnTo>
                  <a:pt x="1751" y="2801"/>
                </a:lnTo>
                <a:lnTo>
                  <a:pt x="1786" y="2801"/>
                </a:lnTo>
                <a:lnTo>
                  <a:pt x="1786" y="2765"/>
                </a:lnTo>
                <a:lnTo>
                  <a:pt x="1822" y="2765"/>
                </a:lnTo>
                <a:lnTo>
                  <a:pt x="1857" y="2765"/>
                </a:lnTo>
                <a:lnTo>
                  <a:pt x="1892" y="2765"/>
                </a:lnTo>
                <a:lnTo>
                  <a:pt x="1928" y="2765"/>
                </a:lnTo>
                <a:lnTo>
                  <a:pt x="1958" y="2765"/>
                </a:lnTo>
                <a:lnTo>
                  <a:pt x="1994" y="2765"/>
                </a:lnTo>
                <a:lnTo>
                  <a:pt x="2029" y="2765"/>
                </a:lnTo>
                <a:lnTo>
                  <a:pt x="2029" y="2801"/>
                </a:lnTo>
                <a:lnTo>
                  <a:pt x="2064" y="2801"/>
                </a:lnTo>
                <a:lnTo>
                  <a:pt x="2100" y="2801"/>
                </a:lnTo>
                <a:lnTo>
                  <a:pt x="2135" y="2801"/>
                </a:lnTo>
                <a:lnTo>
                  <a:pt x="2135" y="2836"/>
                </a:lnTo>
                <a:lnTo>
                  <a:pt x="2170" y="2836"/>
                </a:lnTo>
                <a:lnTo>
                  <a:pt x="2205" y="2836"/>
                </a:lnTo>
                <a:lnTo>
                  <a:pt x="2241" y="2871"/>
                </a:lnTo>
                <a:lnTo>
                  <a:pt x="2241" y="2907"/>
                </a:lnTo>
                <a:lnTo>
                  <a:pt x="2241" y="2942"/>
                </a:lnTo>
                <a:lnTo>
                  <a:pt x="2276" y="2942"/>
                </a:lnTo>
                <a:lnTo>
                  <a:pt x="2311" y="2977"/>
                </a:lnTo>
                <a:lnTo>
                  <a:pt x="2311" y="3012"/>
                </a:lnTo>
                <a:lnTo>
                  <a:pt x="2311" y="3048"/>
                </a:lnTo>
                <a:lnTo>
                  <a:pt x="2346" y="3048"/>
                </a:lnTo>
                <a:lnTo>
                  <a:pt x="2346" y="3083"/>
                </a:lnTo>
                <a:lnTo>
                  <a:pt x="2346" y="3118"/>
                </a:lnTo>
                <a:lnTo>
                  <a:pt x="2382" y="3118"/>
                </a:lnTo>
                <a:lnTo>
                  <a:pt x="2382" y="3153"/>
                </a:lnTo>
                <a:lnTo>
                  <a:pt x="2417" y="3184"/>
                </a:lnTo>
                <a:lnTo>
                  <a:pt x="2417" y="3255"/>
                </a:lnTo>
                <a:lnTo>
                  <a:pt x="2452" y="3290"/>
                </a:lnTo>
                <a:lnTo>
                  <a:pt x="2452" y="3361"/>
                </a:lnTo>
                <a:lnTo>
                  <a:pt x="2483" y="3502"/>
                </a:lnTo>
                <a:lnTo>
                  <a:pt x="2483" y="3537"/>
                </a:lnTo>
                <a:lnTo>
                  <a:pt x="2483" y="3572"/>
                </a:lnTo>
                <a:lnTo>
                  <a:pt x="2518" y="3608"/>
                </a:lnTo>
                <a:lnTo>
                  <a:pt x="2518" y="3678"/>
                </a:lnTo>
                <a:lnTo>
                  <a:pt x="2554" y="3744"/>
                </a:lnTo>
                <a:lnTo>
                  <a:pt x="2589" y="3815"/>
                </a:lnTo>
                <a:lnTo>
                  <a:pt x="2589" y="3850"/>
                </a:lnTo>
                <a:lnTo>
                  <a:pt x="2589" y="3885"/>
                </a:lnTo>
                <a:lnTo>
                  <a:pt x="2624" y="3885"/>
                </a:lnTo>
                <a:lnTo>
                  <a:pt x="2624" y="3956"/>
                </a:lnTo>
                <a:lnTo>
                  <a:pt x="2660" y="3991"/>
                </a:lnTo>
                <a:lnTo>
                  <a:pt x="2695" y="4027"/>
                </a:lnTo>
                <a:lnTo>
                  <a:pt x="2695" y="4062"/>
                </a:lnTo>
                <a:lnTo>
                  <a:pt x="2730" y="4062"/>
                </a:lnTo>
                <a:lnTo>
                  <a:pt x="2730" y="4097"/>
                </a:lnTo>
                <a:lnTo>
                  <a:pt x="2765" y="4097"/>
                </a:lnTo>
                <a:lnTo>
                  <a:pt x="2765" y="4132"/>
                </a:lnTo>
                <a:lnTo>
                  <a:pt x="2765" y="4168"/>
                </a:lnTo>
                <a:lnTo>
                  <a:pt x="2801" y="4168"/>
                </a:lnTo>
                <a:lnTo>
                  <a:pt x="2801" y="4203"/>
                </a:lnTo>
                <a:lnTo>
                  <a:pt x="2836" y="4203"/>
                </a:lnTo>
                <a:lnTo>
                  <a:pt x="2836" y="4238"/>
                </a:lnTo>
                <a:lnTo>
                  <a:pt x="2871" y="4238"/>
                </a:lnTo>
                <a:lnTo>
                  <a:pt x="2907" y="4238"/>
                </a:lnTo>
                <a:lnTo>
                  <a:pt x="2942" y="4238"/>
                </a:lnTo>
                <a:lnTo>
                  <a:pt x="2977" y="4238"/>
                </a:lnTo>
                <a:lnTo>
                  <a:pt x="3012" y="4238"/>
                </a:lnTo>
                <a:lnTo>
                  <a:pt x="3012" y="4203"/>
                </a:lnTo>
                <a:lnTo>
                  <a:pt x="3043" y="4203"/>
                </a:lnTo>
                <a:lnTo>
                  <a:pt x="3043" y="4168"/>
                </a:lnTo>
                <a:lnTo>
                  <a:pt x="3078" y="4168"/>
                </a:lnTo>
                <a:lnTo>
                  <a:pt x="3114" y="4097"/>
                </a:lnTo>
                <a:lnTo>
                  <a:pt x="3114" y="4062"/>
                </a:lnTo>
                <a:lnTo>
                  <a:pt x="3149" y="4062"/>
                </a:lnTo>
                <a:lnTo>
                  <a:pt x="3149" y="4027"/>
                </a:lnTo>
                <a:lnTo>
                  <a:pt x="3184" y="3991"/>
                </a:lnTo>
                <a:lnTo>
                  <a:pt x="3184" y="3956"/>
                </a:lnTo>
                <a:lnTo>
                  <a:pt x="3220" y="3956"/>
                </a:lnTo>
                <a:lnTo>
                  <a:pt x="3255" y="3921"/>
                </a:lnTo>
                <a:lnTo>
                  <a:pt x="3290" y="3921"/>
                </a:lnTo>
                <a:lnTo>
                  <a:pt x="3290" y="3885"/>
                </a:lnTo>
                <a:lnTo>
                  <a:pt x="3326" y="3885"/>
                </a:lnTo>
                <a:lnTo>
                  <a:pt x="3362" y="3885"/>
                </a:lnTo>
                <a:lnTo>
                  <a:pt x="3397" y="3885"/>
                </a:lnTo>
                <a:lnTo>
                  <a:pt x="3432" y="3885"/>
                </a:lnTo>
                <a:lnTo>
                  <a:pt x="3468" y="3885"/>
                </a:lnTo>
                <a:lnTo>
                  <a:pt x="3503" y="3885"/>
                </a:lnTo>
                <a:lnTo>
                  <a:pt x="3573" y="3885"/>
                </a:lnTo>
                <a:lnTo>
                  <a:pt x="3573" y="3921"/>
                </a:lnTo>
                <a:lnTo>
                  <a:pt x="3604" y="3921"/>
                </a:lnTo>
                <a:lnTo>
                  <a:pt x="3640" y="3921"/>
                </a:lnTo>
                <a:lnTo>
                  <a:pt x="3675" y="3921"/>
                </a:lnTo>
                <a:lnTo>
                  <a:pt x="3745" y="3956"/>
                </a:lnTo>
                <a:lnTo>
                  <a:pt x="3816" y="3956"/>
                </a:lnTo>
                <a:lnTo>
                  <a:pt x="3816" y="3991"/>
                </a:lnTo>
                <a:lnTo>
                  <a:pt x="3851" y="3991"/>
                </a:lnTo>
                <a:lnTo>
                  <a:pt x="3886" y="3991"/>
                </a:lnTo>
                <a:lnTo>
                  <a:pt x="3922" y="4027"/>
                </a:lnTo>
                <a:lnTo>
                  <a:pt x="3922" y="4062"/>
                </a:lnTo>
                <a:lnTo>
                  <a:pt x="3957" y="4062"/>
                </a:lnTo>
                <a:lnTo>
                  <a:pt x="3992" y="4097"/>
                </a:lnTo>
                <a:lnTo>
                  <a:pt x="3992" y="4132"/>
                </a:lnTo>
                <a:lnTo>
                  <a:pt x="4028" y="4132"/>
                </a:lnTo>
                <a:lnTo>
                  <a:pt x="4028" y="4168"/>
                </a:lnTo>
                <a:lnTo>
                  <a:pt x="4063" y="4168"/>
                </a:lnTo>
                <a:lnTo>
                  <a:pt x="4063" y="4203"/>
                </a:lnTo>
                <a:lnTo>
                  <a:pt x="4098" y="4238"/>
                </a:lnTo>
                <a:lnTo>
                  <a:pt x="4098" y="4274"/>
                </a:lnTo>
                <a:lnTo>
                  <a:pt x="4133" y="4274"/>
                </a:lnTo>
                <a:lnTo>
                  <a:pt x="4164" y="4304"/>
                </a:lnTo>
                <a:lnTo>
                  <a:pt x="4164" y="4340"/>
                </a:lnTo>
                <a:lnTo>
                  <a:pt x="4200" y="4375"/>
                </a:lnTo>
                <a:lnTo>
                  <a:pt x="4235" y="4375"/>
                </a:lnTo>
                <a:lnTo>
                  <a:pt x="4235" y="4410"/>
                </a:lnTo>
                <a:lnTo>
                  <a:pt x="4270" y="4410"/>
                </a:lnTo>
                <a:lnTo>
                  <a:pt x="4270" y="4446"/>
                </a:lnTo>
                <a:lnTo>
                  <a:pt x="4305" y="4446"/>
                </a:lnTo>
                <a:lnTo>
                  <a:pt x="4341" y="4446"/>
                </a:lnTo>
                <a:lnTo>
                  <a:pt x="4341" y="4481"/>
                </a:lnTo>
                <a:lnTo>
                  <a:pt x="4376" y="4516"/>
                </a:lnTo>
                <a:lnTo>
                  <a:pt x="4411" y="4516"/>
                </a:lnTo>
                <a:lnTo>
                  <a:pt x="4411" y="4481"/>
                </a:lnTo>
                <a:lnTo>
                  <a:pt x="0" y="4446"/>
                </a:lnTo>
                <a:close/>
              </a:path>
            </a:pathLst>
          </a:custGeom>
          <a:solidFill>
            <a:srgbClr val="00801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25600" y="211464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06520" y="2116080"/>
            <a:ext cx="23760" cy="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8560" y="211608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79600" y="1725480"/>
            <a:ext cx="353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3079800"/>
            <a:ext cx="35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889280" y="3081240"/>
            <a:ext cx="23760" cy="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1320" y="308124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62000" y="2690640"/>
            <a:ext cx="353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54120" y="3460680"/>
            <a:ext cx="35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35400" y="3462480"/>
            <a:ext cx="23760" cy="8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27440" y="3462480"/>
            <a:ext cx="0" cy="8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8120" y="3071880"/>
            <a:ext cx="3589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46760" y="2004840"/>
            <a:ext cx="14540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REGION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60880" y="4449600"/>
            <a:ext cx="14590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REGION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58960" y="4456080"/>
            <a:ext cx="14540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REGION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0120" y="2330280"/>
            <a:ext cx="1575000" cy="1422720"/>
          </a:xfrm>
          <a:custGeom>
            <a:avLst/>
            <a:gdLst/>
            <a:ahLst/>
            <a:rect l="0" t="0" r="r" b="b"/>
            <a:pathLst>
              <a:path w="4375" h="3952">
                <a:moveTo>
                  <a:pt x="0" y="3916"/>
                </a:moveTo>
                <a:lnTo>
                  <a:pt x="35" y="3916"/>
                </a:lnTo>
                <a:lnTo>
                  <a:pt x="70" y="3916"/>
                </a:lnTo>
                <a:lnTo>
                  <a:pt x="70" y="3881"/>
                </a:lnTo>
                <a:lnTo>
                  <a:pt x="141" y="3881"/>
                </a:lnTo>
                <a:lnTo>
                  <a:pt x="176" y="3881"/>
                </a:lnTo>
                <a:lnTo>
                  <a:pt x="211" y="3846"/>
                </a:lnTo>
                <a:lnTo>
                  <a:pt x="211" y="3810"/>
                </a:lnTo>
                <a:lnTo>
                  <a:pt x="246" y="3775"/>
                </a:lnTo>
                <a:lnTo>
                  <a:pt x="246" y="3740"/>
                </a:lnTo>
                <a:lnTo>
                  <a:pt x="277" y="3740"/>
                </a:lnTo>
                <a:lnTo>
                  <a:pt x="277" y="3705"/>
                </a:lnTo>
                <a:lnTo>
                  <a:pt x="313" y="3674"/>
                </a:lnTo>
                <a:lnTo>
                  <a:pt x="313" y="3639"/>
                </a:lnTo>
                <a:lnTo>
                  <a:pt x="313" y="3603"/>
                </a:lnTo>
                <a:lnTo>
                  <a:pt x="348" y="3533"/>
                </a:lnTo>
                <a:lnTo>
                  <a:pt x="383" y="3497"/>
                </a:lnTo>
                <a:lnTo>
                  <a:pt x="383" y="3427"/>
                </a:lnTo>
                <a:lnTo>
                  <a:pt x="418" y="3356"/>
                </a:lnTo>
                <a:lnTo>
                  <a:pt x="418" y="3286"/>
                </a:lnTo>
                <a:lnTo>
                  <a:pt x="454" y="3215"/>
                </a:lnTo>
                <a:lnTo>
                  <a:pt x="454" y="3149"/>
                </a:lnTo>
                <a:lnTo>
                  <a:pt x="489" y="3078"/>
                </a:lnTo>
                <a:lnTo>
                  <a:pt x="489" y="3008"/>
                </a:lnTo>
                <a:lnTo>
                  <a:pt x="524" y="2937"/>
                </a:lnTo>
                <a:lnTo>
                  <a:pt x="524" y="2867"/>
                </a:lnTo>
                <a:lnTo>
                  <a:pt x="560" y="2796"/>
                </a:lnTo>
                <a:lnTo>
                  <a:pt x="560" y="2726"/>
                </a:lnTo>
                <a:lnTo>
                  <a:pt x="595" y="2660"/>
                </a:lnTo>
                <a:lnTo>
                  <a:pt x="595" y="2589"/>
                </a:lnTo>
                <a:lnTo>
                  <a:pt x="595" y="2518"/>
                </a:lnTo>
                <a:lnTo>
                  <a:pt x="630" y="2448"/>
                </a:lnTo>
                <a:lnTo>
                  <a:pt x="630" y="2377"/>
                </a:lnTo>
                <a:lnTo>
                  <a:pt x="630" y="2272"/>
                </a:lnTo>
                <a:lnTo>
                  <a:pt x="630" y="2236"/>
                </a:lnTo>
                <a:lnTo>
                  <a:pt x="630" y="2100"/>
                </a:lnTo>
                <a:lnTo>
                  <a:pt x="630" y="2029"/>
                </a:lnTo>
                <a:lnTo>
                  <a:pt x="630" y="1994"/>
                </a:lnTo>
                <a:lnTo>
                  <a:pt x="630" y="1922"/>
                </a:lnTo>
                <a:lnTo>
                  <a:pt x="630" y="1887"/>
                </a:lnTo>
                <a:lnTo>
                  <a:pt x="630" y="1816"/>
                </a:lnTo>
                <a:lnTo>
                  <a:pt x="630" y="1781"/>
                </a:lnTo>
                <a:lnTo>
                  <a:pt x="630" y="1715"/>
                </a:lnTo>
                <a:lnTo>
                  <a:pt x="630" y="1644"/>
                </a:lnTo>
                <a:lnTo>
                  <a:pt x="665" y="1574"/>
                </a:lnTo>
                <a:lnTo>
                  <a:pt x="665" y="1468"/>
                </a:lnTo>
                <a:lnTo>
                  <a:pt x="665" y="1433"/>
                </a:lnTo>
                <a:lnTo>
                  <a:pt x="701" y="1362"/>
                </a:lnTo>
                <a:lnTo>
                  <a:pt x="701" y="1292"/>
                </a:lnTo>
                <a:lnTo>
                  <a:pt x="701" y="1256"/>
                </a:lnTo>
                <a:lnTo>
                  <a:pt x="701" y="1190"/>
                </a:lnTo>
                <a:lnTo>
                  <a:pt x="701" y="1120"/>
                </a:lnTo>
                <a:lnTo>
                  <a:pt x="701" y="1049"/>
                </a:lnTo>
                <a:lnTo>
                  <a:pt x="701" y="943"/>
                </a:lnTo>
                <a:lnTo>
                  <a:pt x="701" y="873"/>
                </a:lnTo>
                <a:lnTo>
                  <a:pt x="701" y="802"/>
                </a:lnTo>
                <a:lnTo>
                  <a:pt x="736" y="701"/>
                </a:lnTo>
                <a:lnTo>
                  <a:pt x="736" y="665"/>
                </a:lnTo>
                <a:lnTo>
                  <a:pt x="736" y="630"/>
                </a:lnTo>
                <a:lnTo>
                  <a:pt x="736" y="595"/>
                </a:lnTo>
                <a:lnTo>
                  <a:pt x="736" y="560"/>
                </a:lnTo>
                <a:lnTo>
                  <a:pt x="736" y="524"/>
                </a:lnTo>
                <a:lnTo>
                  <a:pt x="736" y="489"/>
                </a:lnTo>
                <a:lnTo>
                  <a:pt x="736" y="454"/>
                </a:lnTo>
                <a:lnTo>
                  <a:pt x="736" y="418"/>
                </a:lnTo>
                <a:lnTo>
                  <a:pt x="736" y="348"/>
                </a:lnTo>
                <a:lnTo>
                  <a:pt x="771" y="348"/>
                </a:lnTo>
                <a:lnTo>
                  <a:pt x="771" y="277"/>
                </a:lnTo>
                <a:lnTo>
                  <a:pt x="771" y="246"/>
                </a:lnTo>
                <a:lnTo>
                  <a:pt x="771" y="211"/>
                </a:lnTo>
                <a:lnTo>
                  <a:pt x="806" y="176"/>
                </a:lnTo>
                <a:lnTo>
                  <a:pt x="806" y="141"/>
                </a:lnTo>
                <a:lnTo>
                  <a:pt x="806" y="105"/>
                </a:lnTo>
                <a:lnTo>
                  <a:pt x="806" y="70"/>
                </a:lnTo>
                <a:lnTo>
                  <a:pt x="806" y="35"/>
                </a:lnTo>
                <a:lnTo>
                  <a:pt x="806" y="0"/>
                </a:lnTo>
                <a:lnTo>
                  <a:pt x="837" y="0"/>
                </a:lnTo>
                <a:lnTo>
                  <a:pt x="873" y="0"/>
                </a:lnTo>
                <a:lnTo>
                  <a:pt x="873" y="35"/>
                </a:lnTo>
                <a:lnTo>
                  <a:pt x="873" y="70"/>
                </a:lnTo>
                <a:lnTo>
                  <a:pt x="908" y="70"/>
                </a:lnTo>
                <a:lnTo>
                  <a:pt x="908" y="141"/>
                </a:lnTo>
                <a:lnTo>
                  <a:pt x="943" y="141"/>
                </a:lnTo>
                <a:lnTo>
                  <a:pt x="943" y="176"/>
                </a:lnTo>
                <a:lnTo>
                  <a:pt x="943" y="211"/>
                </a:lnTo>
                <a:lnTo>
                  <a:pt x="943" y="246"/>
                </a:lnTo>
                <a:lnTo>
                  <a:pt x="943" y="277"/>
                </a:lnTo>
                <a:lnTo>
                  <a:pt x="943" y="313"/>
                </a:lnTo>
                <a:lnTo>
                  <a:pt x="943" y="348"/>
                </a:lnTo>
                <a:lnTo>
                  <a:pt x="943" y="383"/>
                </a:lnTo>
                <a:lnTo>
                  <a:pt x="978" y="383"/>
                </a:lnTo>
                <a:lnTo>
                  <a:pt x="978" y="418"/>
                </a:lnTo>
                <a:lnTo>
                  <a:pt x="978" y="489"/>
                </a:lnTo>
                <a:lnTo>
                  <a:pt x="978" y="524"/>
                </a:lnTo>
                <a:lnTo>
                  <a:pt x="978" y="595"/>
                </a:lnTo>
                <a:lnTo>
                  <a:pt x="1014" y="665"/>
                </a:lnTo>
                <a:lnTo>
                  <a:pt x="1014" y="701"/>
                </a:lnTo>
                <a:lnTo>
                  <a:pt x="1014" y="802"/>
                </a:lnTo>
                <a:lnTo>
                  <a:pt x="1014" y="873"/>
                </a:lnTo>
                <a:lnTo>
                  <a:pt x="1014" y="978"/>
                </a:lnTo>
                <a:lnTo>
                  <a:pt x="1049" y="1084"/>
                </a:lnTo>
                <a:lnTo>
                  <a:pt x="1049" y="1190"/>
                </a:lnTo>
                <a:lnTo>
                  <a:pt x="1049" y="1256"/>
                </a:lnTo>
                <a:lnTo>
                  <a:pt x="1049" y="1327"/>
                </a:lnTo>
                <a:lnTo>
                  <a:pt x="1049" y="1397"/>
                </a:lnTo>
                <a:lnTo>
                  <a:pt x="1049" y="1468"/>
                </a:lnTo>
                <a:lnTo>
                  <a:pt x="1049" y="1503"/>
                </a:lnTo>
                <a:lnTo>
                  <a:pt x="1049" y="1538"/>
                </a:lnTo>
                <a:lnTo>
                  <a:pt x="1049" y="1574"/>
                </a:lnTo>
                <a:lnTo>
                  <a:pt x="1049" y="1609"/>
                </a:lnTo>
                <a:lnTo>
                  <a:pt x="1049" y="1644"/>
                </a:lnTo>
                <a:lnTo>
                  <a:pt x="1084" y="1644"/>
                </a:lnTo>
                <a:lnTo>
                  <a:pt x="1084" y="1680"/>
                </a:lnTo>
                <a:lnTo>
                  <a:pt x="1084" y="1715"/>
                </a:lnTo>
                <a:lnTo>
                  <a:pt x="1120" y="1746"/>
                </a:lnTo>
                <a:lnTo>
                  <a:pt x="1120" y="1781"/>
                </a:lnTo>
                <a:lnTo>
                  <a:pt x="1120" y="1852"/>
                </a:lnTo>
                <a:lnTo>
                  <a:pt x="1120" y="1887"/>
                </a:lnTo>
                <a:lnTo>
                  <a:pt x="1120" y="1922"/>
                </a:lnTo>
                <a:lnTo>
                  <a:pt x="1120" y="1994"/>
                </a:lnTo>
                <a:lnTo>
                  <a:pt x="1155" y="2029"/>
                </a:lnTo>
                <a:lnTo>
                  <a:pt x="1155" y="2064"/>
                </a:lnTo>
                <a:lnTo>
                  <a:pt x="1155" y="2135"/>
                </a:lnTo>
                <a:lnTo>
                  <a:pt x="1155" y="2205"/>
                </a:lnTo>
                <a:lnTo>
                  <a:pt x="1190" y="2272"/>
                </a:lnTo>
                <a:lnTo>
                  <a:pt x="1190" y="2342"/>
                </a:lnTo>
                <a:lnTo>
                  <a:pt x="1225" y="2413"/>
                </a:lnTo>
                <a:lnTo>
                  <a:pt x="1225" y="2483"/>
                </a:lnTo>
                <a:lnTo>
                  <a:pt x="1225" y="2554"/>
                </a:lnTo>
                <a:lnTo>
                  <a:pt x="1225" y="2624"/>
                </a:lnTo>
                <a:lnTo>
                  <a:pt x="1225" y="2761"/>
                </a:lnTo>
                <a:lnTo>
                  <a:pt x="1225" y="2832"/>
                </a:lnTo>
                <a:lnTo>
                  <a:pt x="1225" y="2867"/>
                </a:lnTo>
                <a:lnTo>
                  <a:pt x="1261" y="2973"/>
                </a:lnTo>
                <a:lnTo>
                  <a:pt x="1261" y="3008"/>
                </a:lnTo>
                <a:lnTo>
                  <a:pt x="1261" y="3078"/>
                </a:lnTo>
                <a:lnTo>
                  <a:pt x="1261" y="3114"/>
                </a:lnTo>
                <a:lnTo>
                  <a:pt x="1261" y="3149"/>
                </a:lnTo>
                <a:lnTo>
                  <a:pt x="1261" y="3215"/>
                </a:lnTo>
                <a:lnTo>
                  <a:pt x="1261" y="3250"/>
                </a:lnTo>
                <a:lnTo>
                  <a:pt x="1296" y="3286"/>
                </a:lnTo>
                <a:lnTo>
                  <a:pt x="1296" y="3321"/>
                </a:lnTo>
                <a:lnTo>
                  <a:pt x="1296" y="3356"/>
                </a:lnTo>
                <a:lnTo>
                  <a:pt x="1296" y="3392"/>
                </a:lnTo>
                <a:lnTo>
                  <a:pt x="1331" y="3392"/>
                </a:lnTo>
                <a:lnTo>
                  <a:pt x="1331" y="3462"/>
                </a:lnTo>
                <a:lnTo>
                  <a:pt x="1331" y="3497"/>
                </a:lnTo>
                <a:lnTo>
                  <a:pt x="1331" y="3533"/>
                </a:lnTo>
                <a:lnTo>
                  <a:pt x="1367" y="3568"/>
                </a:lnTo>
                <a:lnTo>
                  <a:pt x="1367" y="3603"/>
                </a:lnTo>
                <a:lnTo>
                  <a:pt x="1367" y="3639"/>
                </a:lnTo>
                <a:lnTo>
                  <a:pt x="1397" y="3705"/>
                </a:lnTo>
                <a:lnTo>
                  <a:pt x="1397" y="3740"/>
                </a:lnTo>
                <a:lnTo>
                  <a:pt x="1433" y="3740"/>
                </a:lnTo>
                <a:lnTo>
                  <a:pt x="1433" y="3775"/>
                </a:lnTo>
                <a:lnTo>
                  <a:pt x="1433" y="3810"/>
                </a:lnTo>
                <a:lnTo>
                  <a:pt x="1468" y="3810"/>
                </a:lnTo>
                <a:lnTo>
                  <a:pt x="1468" y="3846"/>
                </a:lnTo>
                <a:lnTo>
                  <a:pt x="1503" y="3846"/>
                </a:lnTo>
                <a:lnTo>
                  <a:pt x="1538" y="3846"/>
                </a:lnTo>
                <a:lnTo>
                  <a:pt x="1574" y="3846"/>
                </a:lnTo>
                <a:lnTo>
                  <a:pt x="1609" y="3846"/>
                </a:lnTo>
                <a:lnTo>
                  <a:pt x="1644" y="3846"/>
                </a:lnTo>
                <a:lnTo>
                  <a:pt x="1680" y="3846"/>
                </a:lnTo>
                <a:lnTo>
                  <a:pt x="1680" y="3881"/>
                </a:lnTo>
                <a:lnTo>
                  <a:pt x="1715" y="3881"/>
                </a:lnTo>
                <a:lnTo>
                  <a:pt x="1750" y="3881"/>
                </a:lnTo>
                <a:lnTo>
                  <a:pt x="1785" y="3881"/>
                </a:lnTo>
                <a:lnTo>
                  <a:pt x="1785" y="3846"/>
                </a:lnTo>
                <a:lnTo>
                  <a:pt x="1821" y="3846"/>
                </a:lnTo>
                <a:lnTo>
                  <a:pt x="1856" y="3846"/>
                </a:lnTo>
                <a:lnTo>
                  <a:pt x="1856" y="3810"/>
                </a:lnTo>
                <a:lnTo>
                  <a:pt x="1891" y="3810"/>
                </a:lnTo>
                <a:lnTo>
                  <a:pt x="1922" y="3810"/>
                </a:lnTo>
                <a:lnTo>
                  <a:pt x="1957" y="3810"/>
                </a:lnTo>
                <a:lnTo>
                  <a:pt x="1993" y="3810"/>
                </a:lnTo>
                <a:lnTo>
                  <a:pt x="2028" y="3810"/>
                </a:lnTo>
                <a:lnTo>
                  <a:pt x="2063" y="3810"/>
                </a:lnTo>
                <a:lnTo>
                  <a:pt x="2099" y="3810"/>
                </a:lnTo>
                <a:lnTo>
                  <a:pt x="2169" y="3810"/>
                </a:lnTo>
                <a:lnTo>
                  <a:pt x="2169" y="3846"/>
                </a:lnTo>
                <a:lnTo>
                  <a:pt x="2205" y="3846"/>
                </a:lnTo>
                <a:lnTo>
                  <a:pt x="2241" y="3846"/>
                </a:lnTo>
                <a:lnTo>
                  <a:pt x="2276" y="3846"/>
                </a:lnTo>
                <a:lnTo>
                  <a:pt x="2311" y="3846"/>
                </a:lnTo>
                <a:lnTo>
                  <a:pt x="2346" y="3846"/>
                </a:lnTo>
                <a:lnTo>
                  <a:pt x="2417" y="3846"/>
                </a:lnTo>
                <a:lnTo>
                  <a:pt x="2452" y="3846"/>
                </a:lnTo>
                <a:lnTo>
                  <a:pt x="2483" y="3846"/>
                </a:lnTo>
                <a:lnTo>
                  <a:pt x="2518" y="3846"/>
                </a:lnTo>
                <a:lnTo>
                  <a:pt x="2554" y="3846"/>
                </a:lnTo>
                <a:lnTo>
                  <a:pt x="2589" y="3846"/>
                </a:lnTo>
                <a:lnTo>
                  <a:pt x="2624" y="3846"/>
                </a:lnTo>
                <a:lnTo>
                  <a:pt x="2660" y="3846"/>
                </a:lnTo>
                <a:lnTo>
                  <a:pt x="2730" y="3846"/>
                </a:lnTo>
                <a:lnTo>
                  <a:pt x="2765" y="3846"/>
                </a:lnTo>
                <a:lnTo>
                  <a:pt x="2801" y="3846"/>
                </a:lnTo>
                <a:lnTo>
                  <a:pt x="2836" y="3846"/>
                </a:lnTo>
                <a:lnTo>
                  <a:pt x="2871" y="3846"/>
                </a:lnTo>
                <a:lnTo>
                  <a:pt x="2907" y="3846"/>
                </a:lnTo>
                <a:lnTo>
                  <a:pt x="2942" y="3846"/>
                </a:lnTo>
                <a:lnTo>
                  <a:pt x="2942" y="3810"/>
                </a:lnTo>
                <a:lnTo>
                  <a:pt x="2977" y="3810"/>
                </a:lnTo>
                <a:lnTo>
                  <a:pt x="2977" y="3775"/>
                </a:lnTo>
                <a:lnTo>
                  <a:pt x="3008" y="3775"/>
                </a:lnTo>
                <a:lnTo>
                  <a:pt x="3008" y="3740"/>
                </a:lnTo>
                <a:lnTo>
                  <a:pt x="3043" y="3705"/>
                </a:lnTo>
                <a:lnTo>
                  <a:pt x="3078" y="3674"/>
                </a:lnTo>
                <a:lnTo>
                  <a:pt x="3078" y="3639"/>
                </a:lnTo>
                <a:lnTo>
                  <a:pt x="3078" y="3603"/>
                </a:lnTo>
                <a:lnTo>
                  <a:pt x="3078" y="3568"/>
                </a:lnTo>
                <a:lnTo>
                  <a:pt x="3114" y="3533"/>
                </a:lnTo>
                <a:lnTo>
                  <a:pt x="3114" y="3462"/>
                </a:lnTo>
                <a:lnTo>
                  <a:pt x="3114" y="3427"/>
                </a:lnTo>
                <a:lnTo>
                  <a:pt x="3114" y="3392"/>
                </a:lnTo>
                <a:lnTo>
                  <a:pt x="3114" y="3356"/>
                </a:lnTo>
                <a:lnTo>
                  <a:pt x="3114" y="3286"/>
                </a:lnTo>
                <a:lnTo>
                  <a:pt x="3149" y="3215"/>
                </a:lnTo>
                <a:lnTo>
                  <a:pt x="3149" y="3149"/>
                </a:lnTo>
                <a:lnTo>
                  <a:pt x="3149" y="3078"/>
                </a:lnTo>
                <a:lnTo>
                  <a:pt x="3184" y="3008"/>
                </a:lnTo>
                <a:lnTo>
                  <a:pt x="3184" y="2937"/>
                </a:lnTo>
                <a:lnTo>
                  <a:pt x="3184" y="2867"/>
                </a:lnTo>
                <a:lnTo>
                  <a:pt x="3220" y="2796"/>
                </a:lnTo>
                <a:lnTo>
                  <a:pt x="3220" y="2761"/>
                </a:lnTo>
                <a:lnTo>
                  <a:pt x="3255" y="2695"/>
                </a:lnTo>
                <a:lnTo>
                  <a:pt x="3255" y="2624"/>
                </a:lnTo>
                <a:lnTo>
                  <a:pt x="3255" y="2589"/>
                </a:lnTo>
                <a:lnTo>
                  <a:pt x="3255" y="2554"/>
                </a:lnTo>
                <a:lnTo>
                  <a:pt x="3255" y="2518"/>
                </a:lnTo>
                <a:lnTo>
                  <a:pt x="3290" y="2483"/>
                </a:lnTo>
                <a:lnTo>
                  <a:pt x="3290" y="2448"/>
                </a:lnTo>
                <a:lnTo>
                  <a:pt x="3290" y="2377"/>
                </a:lnTo>
                <a:lnTo>
                  <a:pt x="3290" y="2307"/>
                </a:lnTo>
                <a:lnTo>
                  <a:pt x="3290" y="2272"/>
                </a:lnTo>
                <a:lnTo>
                  <a:pt x="3290" y="2236"/>
                </a:lnTo>
                <a:lnTo>
                  <a:pt x="3325" y="2170"/>
                </a:lnTo>
                <a:lnTo>
                  <a:pt x="3325" y="2135"/>
                </a:lnTo>
                <a:lnTo>
                  <a:pt x="3325" y="2100"/>
                </a:lnTo>
                <a:lnTo>
                  <a:pt x="3325" y="2064"/>
                </a:lnTo>
                <a:lnTo>
                  <a:pt x="3325" y="2029"/>
                </a:lnTo>
                <a:lnTo>
                  <a:pt x="3325" y="1994"/>
                </a:lnTo>
                <a:lnTo>
                  <a:pt x="3361" y="1994"/>
                </a:lnTo>
                <a:lnTo>
                  <a:pt x="3361" y="1957"/>
                </a:lnTo>
                <a:lnTo>
                  <a:pt x="3361" y="1922"/>
                </a:lnTo>
                <a:lnTo>
                  <a:pt x="3361" y="1887"/>
                </a:lnTo>
                <a:lnTo>
                  <a:pt x="3396" y="1887"/>
                </a:lnTo>
                <a:lnTo>
                  <a:pt x="3396" y="1852"/>
                </a:lnTo>
                <a:lnTo>
                  <a:pt x="3396" y="1816"/>
                </a:lnTo>
                <a:lnTo>
                  <a:pt x="3396" y="1781"/>
                </a:lnTo>
                <a:lnTo>
                  <a:pt x="3396" y="1746"/>
                </a:lnTo>
                <a:lnTo>
                  <a:pt x="3431" y="1746"/>
                </a:lnTo>
                <a:lnTo>
                  <a:pt x="3431" y="1715"/>
                </a:lnTo>
                <a:lnTo>
                  <a:pt x="3467" y="1715"/>
                </a:lnTo>
                <a:lnTo>
                  <a:pt x="3467" y="1680"/>
                </a:lnTo>
                <a:lnTo>
                  <a:pt x="3502" y="1680"/>
                </a:lnTo>
                <a:lnTo>
                  <a:pt x="3537" y="1680"/>
                </a:lnTo>
                <a:lnTo>
                  <a:pt x="3568" y="1680"/>
                </a:lnTo>
                <a:lnTo>
                  <a:pt x="3568" y="1715"/>
                </a:lnTo>
                <a:lnTo>
                  <a:pt x="3603" y="1746"/>
                </a:lnTo>
                <a:lnTo>
                  <a:pt x="3639" y="1746"/>
                </a:lnTo>
                <a:lnTo>
                  <a:pt x="3639" y="1781"/>
                </a:lnTo>
                <a:lnTo>
                  <a:pt x="3674" y="1816"/>
                </a:lnTo>
                <a:lnTo>
                  <a:pt x="3674" y="1852"/>
                </a:lnTo>
                <a:lnTo>
                  <a:pt x="3709" y="1887"/>
                </a:lnTo>
                <a:lnTo>
                  <a:pt x="3709" y="1922"/>
                </a:lnTo>
                <a:lnTo>
                  <a:pt x="3709" y="1957"/>
                </a:lnTo>
                <a:lnTo>
                  <a:pt x="3744" y="1994"/>
                </a:lnTo>
                <a:lnTo>
                  <a:pt x="3744" y="2029"/>
                </a:lnTo>
                <a:lnTo>
                  <a:pt x="3744" y="2064"/>
                </a:lnTo>
                <a:lnTo>
                  <a:pt x="3744" y="2135"/>
                </a:lnTo>
                <a:lnTo>
                  <a:pt x="3780" y="2170"/>
                </a:lnTo>
                <a:lnTo>
                  <a:pt x="3780" y="2205"/>
                </a:lnTo>
                <a:lnTo>
                  <a:pt x="3815" y="2272"/>
                </a:lnTo>
                <a:lnTo>
                  <a:pt x="3815" y="2307"/>
                </a:lnTo>
                <a:lnTo>
                  <a:pt x="3815" y="2342"/>
                </a:lnTo>
                <a:lnTo>
                  <a:pt x="3815" y="2377"/>
                </a:lnTo>
                <a:lnTo>
                  <a:pt x="3850" y="2413"/>
                </a:lnTo>
                <a:lnTo>
                  <a:pt x="3850" y="2483"/>
                </a:lnTo>
                <a:lnTo>
                  <a:pt x="3850" y="2518"/>
                </a:lnTo>
                <a:lnTo>
                  <a:pt x="3850" y="2554"/>
                </a:lnTo>
                <a:lnTo>
                  <a:pt x="3850" y="2589"/>
                </a:lnTo>
                <a:lnTo>
                  <a:pt x="3850" y="2624"/>
                </a:lnTo>
                <a:lnTo>
                  <a:pt x="3885" y="2660"/>
                </a:lnTo>
                <a:lnTo>
                  <a:pt x="3885" y="2695"/>
                </a:lnTo>
                <a:lnTo>
                  <a:pt x="3885" y="2726"/>
                </a:lnTo>
                <a:lnTo>
                  <a:pt x="3921" y="2761"/>
                </a:lnTo>
                <a:lnTo>
                  <a:pt x="3921" y="2796"/>
                </a:lnTo>
                <a:lnTo>
                  <a:pt x="3921" y="2832"/>
                </a:lnTo>
                <a:lnTo>
                  <a:pt x="3921" y="2867"/>
                </a:lnTo>
                <a:lnTo>
                  <a:pt x="3921" y="2902"/>
                </a:lnTo>
                <a:lnTo>
                  <a:pt x="3956" y="2937"/>
                </a:lnTo>
                <a:lnTo>
                  <a:pt x="3956" y="2973"/>
                </a:lnTo>
                <a:lnTo>
                  <a:pt x="3956" y="3008"/>
                </a:lnTo>
                <a:lnTo>
                  <a:pt x="3956" y="3043"/>
                </a:lnTo>
                <a:lnTo>
                  <a:pt x="3991" y="3043"/>
                </a:lnTo>
                <a:lnTo>
                  <a:pt x="3991" y="3078"/>
                </a:lnTo>
                <a:lnTo>
                  <a:pt x="4027" y="3114"/>
                </a:lnTo>
                <a:lnTo>
                  <a:pt x="4027" y="3149"/>
                </a:lnTo>
                <a:lnTo>
                  <a:pt x="4062" y="3149"/>
                </a:lnTo>
                <a:lnTo>
                  <a:pt x="4062" y="3184"/>
                </a:lnTo>
                <a:lnTo>
                  <a:pt x="4097" y="3184"/>
                </a:lnTo>
                <a:lnTo>
                  <a:pt x="4062" y="3184"/>
                </a:lnTo>
                <a:lnTo>
                  <a:pt x="4062" y="3215"/>
                </a:lnTo>
                <a:lnTo>
                  <a:pt x="4062" y="3250"/>
                </a:lnTo>
                <a:lnTo>
                  <a:pt x="4062" y="3286"/>
                </a:lnTo>
                <a:lnTo>
                  <a:pt x="4062" y="3321"/>
                </a:lnTo>
                <a:lnTo>
                  <a:pt x="4062" y="3356"/>
                </a:lnTo>
                <a:lnTo>
                  <a:pt x="4062" y="3392"/>
                </a:lnTo>
                <a:lnTo>
                  <a:pt x="4062" y="3462"/>
                </a:lnTo>
                <a:lnTo>
                  <a:pt x="4062" y="3497"/>
                </a:lnTo>
                <a:lnTo>
                  <a:pt x="4097" y="3533"/>
                </a:lnTo>
                <a:lnTo>
                  <a:pt x="4097" y="3568"/>
                </a:lnTo>
                <a:lnTo>
                  <a:pt x="4097" y="3603"/>
                </a:lnTo>
                <a:lnTo>
                  <a:pt x="4097" y="3639"/>
                </a:lnTo>
                <a:lnTo>
                  <a:pt x="4097" y="3674"/>
                </a:lnTo>
                <a:lnTo>
                  <a:pt x="4097" y="3740"/>
                </a:lnTo>
                <a:lnTo>
                  <a:pt x="4128" y="3810"/>
                </a:lnTo>
                <a:lnTo>
                  <a:pt x="4128" y="3846"/>
                </a:lnTo>
                <a:lnTo>
                  <a:pt x="4128" y="3881"/>
                </a:lnTo>
                <a:lnTo>
                  <a:pt x="4128" y="3916"/>
                </a:lnTo>
                <a:lnTo>
                  <a:pt x="4128" y="3952"/>
                </a:lnTo>
                <a:lnTo>
                  <a:pt x="4163" y="3952"/>
                </a:lnTo>
                <a:lnTo>
                  <a:pt x="4199" y="3952"/>
                </a:lnTo>
                <a:lnTo>
                  <a:pt x="4234" y="3952"/>
                </a:lnTo>
                <a:lnTo>
                  <a:pt x="4269" y="3952"/>
                </a:lnTo>
                <a:lnTo>
                  <a:pt x="4304" y="3952"/>
                </a:lnTo>
                <a:lnTo>
                  <a:pt x="4340" y="3952"/>
                </a:lnTo>
                <a:lnTo>
                  <a:pt x="4375" y="3952"/>
                </a:lnTo>
                <a:lnTo>
                  <a:pt x="0" y="3916"/>
                </a:lnTo>
                <a:close/>
              </a:path>
            </a:pathLst>
          </a:custGeom>
          <a:solidFill>
            <a:srgbClr val="f208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0920" y="2838600"/>
            <a:ext cx="119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5840" y="2763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29120" y="27766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0760" y="4680000"/>
            <a:ext cx="762480" cy="1499040"/>
          </a:xfrm>
          <a:custGeom>
            <a:avLst/>
            <a:gdLst/>
            <a:ahLst/>
            <a:rect l="0" t="0" r="r" b="b"/>
            <a:pathLst>
              <a:path w="2118" h="4164">
                <a:moveTo>
                  <a:pt x="0" y="4164"/>
                </a:moveTo>
                <a:lnTo>
                  <a:pt x="35" y="4164"/>
                </a:lnTo>
                <a:lnTo>
                  <a:pt x="70" y="4129"/>
                </a:lnTo>
                <a:lnTo>
                  <a:pt x="70" y="4094"/>
                </a:lnTo>
                <a:lnTo>
                  <a:pt x="105" y="4094"/>
                </a:lnTo>
                <a:lnTo>
                  <a:pt x="136" y="4094"/>
                </a:lnTo>
                <a:lnTo>
                  <a:pt x="136" y="4058"/>
                </a:lnTo>
                <a:lnTo>
                  <a:pt x="171" y="4023"/>
                </a:lnTo>
                <a:lnTo>
                  <a:pt x="171" y="3988"/>
                </a:lnTo>
                <a:lnTo>
                  <a:pt x="207" y="3953"/>
                </a:lnTo>
                <a:lnTo>
                  <a:pt x="242" y="3917"/>
                </a:lnTo>
                <a:lnTo>
                  <a:pt x="242" y="3886"/>
                </a:lnTo>
                <a:lnTo>
                  <a:pt x="242" y="3851"/>
                </a:lnTo>
                <a:lnTo>
                  <a:pt x="242" y="3816"/>
                </a:lnTo>
                <a:lnTo>
                  <a:pt x="277" y="3816"/>
                </a:lnTo>
                <a:lnTo>
                  <a:pt x="277" y="3745"/>
                </a:lnTo>
                <a:lnTo>
                  <a:pt x="277" y="3710"/>
                </a:lnTo>
                <a:lnTo>
                  <a:pt x="313" y="3675"/>
                </a:lnTo>
                <a:lnTo>
                  <a:pt x="348" y="3640"/>
                </a:lnTo>
                <a:lnTo>
                  <a:pt x="348" y="3569"/>
                </a:lnTo>
                <a:lnTo>
                  <a:pt x="348" y="3534"/>
                </a:lnTo>
                <a:lnTo>
                  <a:pt x="383" y="3463"/>
                </a:lnTo>
                <a:lnTo>
                  <a:pt x="414" y="3428"/>
                </a:lnTo>
                <a:lnTo>
                  <a:pt x="414" y="3393"/>
                </a:lnTo>
                <a:lnTo>
                  <a:pt x="449" y="3326"/>
                </a:lnTo>
                <a:lnTo>
                  <a:pt x="449" y="3256"/>
                </a:lnTo>
                <a:lnTo>
                  <a:pt x="449" y="3221"/>
                </a:lnTo>
                <a:lnTo>
                  <a:pt x="485" y="3150"/>
                </a:lnTo>
                <a:lnTo>
                  <a:pt x="520" y="3043"/>
                </a:lnTo>
                <a:lnTo>
                  <a:pt x="520" y="2973"/>
                </a:lnTo>
                <a:lnTo>
                  <a:pt x="556" y="2902"/>
                </a:lnTo>
                <a:lnTo>
                  <a:pt x="591" y="2867"/>
                </a:lnTo>
                <a:lnTo>
                  <a:pt x="591" y="2836"/>
                </a:lnTo>
                <a:lnTo>
                  <a:pt x="591" y="2801"/>
                </a:lnTo>
                <a:lnTo>
                  <a:pt x="627" y="2765"/>
                </a:lnTo>
                <a:lnTo>
                  <a:pt x="662" y="2660"/>
                </a:lnTo>
                <a:lnTo>
                  <a:pt x="662" y="2554"/>
                </a:lnTo>
                <a:lnTo>
                  <a:pt x="662" y="2518"/>
                </a:lnTo>
                <a:lnTo>
                  <a:pt x="693" y="2448"/>
                </a:lnTo>
                <a:lnTo>
                  <a:pt x="693" y="2342"/>
                </a:lnTo>
                <a:lnTo>
                  <a:pt x="728" y="2276"/>
                </a:lnTo>
                <a:lnTo>
                  <a:pt x="728" y="2205"/>
                </a:lnTo>
                <a:lnTo>
                  <a:pt x="728" y="2135"/>
                </a:lnTo>
                <a:lnTo>
                  <a:pt x="763" y="2029"/>
                </a:lnTo>
                <a:lnTo>
                  <a:pt x="763" y="1994"/>
                </a:lnTo>
                <a:lnTo>
                  <a:pt x="763" y="1958"/>
                </a:lnTo>
                <a:lnTo>
                  <a:pt x="763" y="1888"/>
                </a:lnTo>
                <a:lnTo>
                  <a:pt x="799" y="1822"/>
                </a:lnTo>
                <a:lnTo>
                  <a:pt x="799" y="1786"/>
                </a:lnTo>
                <a:lnTo>
                  <a:pt x="799" y="1751"/>
                </a:lnTo>
                <a:lnTo>
                  <a:pt x="799" y="1716"/>
                </a:lnTo>
                <a:lnTo>
                  <a:pt x="834" y="1645"/>
                </a:lnTo>
                <a:lnTo>
                  <a:pt x="834" y="1610"/>
                </a:lnTo>
                <a:lnTo>
                  <a:pt x="834" y="1575"/>
                </a:lnTo>
                <a:lnTo>
                  <a:pt x="869" y="1539"/>
                </a:lnTo>
                <a:lnTo>
                  <a:pt x="869" y="1504"/>
                </a:lnTo>
                <a:lnTo>
                  <a:pt x="869" y="1469"/>
                </a:lnTo>
                <a:lnTo>
                  <a:pt x="869" y="1398"/>
                </a:lnTo>
                <a:lnTo>
                  <a:pt x="869" y="1328"/>
                </a:lnTo>
                <a:lnTo>
                  <a:pt x="904" y="1262"/>
                </a:lnTo>
                <a:lnTo>
                  <a:pt x="904" y="1191"/>
                </a:lnTo>
                <a:lnTo>
                  <a:pt x="904" y="1121"/>
                </a:lnTo>
                <a:lnTo>
                  <a:pt x="904" y="1050"/>
                </a:lnTo>
                <a:lnTo>
                  <a:pt x="904" y="1014"/>
                </a:lnTo>
                <a:lnTo>
                  <a:pt x="935" y="978"/>
                </a:lnTo>
                <a:lnTo>
                  <a:pt x="935" y="908"/>
                </a:lnTo>
                <a:lnTo>
                  <a:pt x="935" y="873"/>
                </a:lnTo>
                <a:lnTo>
                  <a:pt x="971" y="802"/>
                </a:lnTo>
                <a:lnTo>
                  <a:pt x="971" y="736"/>
                </a:lnTo>
                <a:lnTo>
                  <a:pt x="971" y="701"/>
                </a:lnTo>
                <a:lnTo>
                  <a:pt x="971" y="665"/>
                </a:lnTo>
                <a:lnTo>
                  <a:pt x="1006" y="630"/>
                </a:lnTo>
                <a:lnTo>
                  <a:pt x="1006" y="595"/>
                </a:lnTo>
                <a:lnTo>
                  <a:pt x="1006" y="560"/>
                </a:lnTo>
                <a:lnTo>
                  <a:pt x="1006" y="524"/>
                </a:lnTo>
                <a:lnTo>
                  <a:pt x="1006" y="489"/>
                </a:lnTo>
                <a:lnTo>
                  <a:pt x="1041" y="418"/>
                </a:lnTo>
                <a:lnTo>
                  <a:pt x="1041" y="383"/>
                </a:lnTo>
                <a:lnTo>
                  <a:pt x="1041" y="348"/>
                </a:lnTo>
                <a:lnTo>
                  <a:pt x="1041" y="313"/>
                </a:lnTo>
                <a:lnTo>
                  <a:pt x="1076" y="277"/>
                </a:lnTo>
                <a:lnTo>
                  <a:pt x="1076" y="246"/>
                </a:lnTo>
                <a:lnTo>
                  <a:pt x="1076" y="211"/>
                </a:lnTo>
                <a:lnTo>
                  <a:pt x="1076" y="176"/>
                </a:lnTo>
                <a:lnTo>
                  <a:pt x="1076" y="141"/>
                </a:lnTo>
                <a:lnTo>
                  <a:pt x="1076" y="105"/>
                </a:lnTo>
                <a:lnTo>
                  <a:pt x="1112" y="105"/>
                </a:lnTo>
                <a:lnTo>
                  <a:pt x="1112" y="70"/>
                </a:lnTo>
                <a:lnTo>
                  <a:pt x="1112" y="35"/>
                </a:lnTo>
                <a:lnTo>
                  <a:pt x="1147" y="35"/>
                </a:lnTo>
                <a:lnTo>
                  <a:pt x="1147" y="0"/>
                </a:lnTo>
                <a:lnTo>
                  <a:pt x="1182" y="0"/>
                </a:lnTo>
                <a:lnTo>
                  <a:pt x="1182" y="35"/>
                </a:lnTo>
                <a:lnTo>
                  <a:pt x="1213" y="35"/>
                </a:lnTo>
                <a:lnTo>
                  <a:pt x="1248" y="35"/>
                </a:lnTo>
                <a:lnTo>
                  <a:pt x="1248" y="70"/>
                </a:lnTo>
                <a:lnTo>
                  <a:pt x="1248" y="105"/>
                </a:lnTo>
                <a:lnTo>
                  <a:pt x="1284" y="141"/>
                </a:lnTo>
                <a:lnTo>
                  <a:pt x="1284" y="176"/>
                </a:lnTo>
                <a:lnTo>
                  <a:pt x="1284" y="211"/>
                </a:lnTo>
                <a:lnTo>
                  <a:pt x="1284" y="246"/>
                </a:lnTo>
                <a:lnTo>
                  <a:pt x="1284" y="277"/>
                </a:lnTo>
                <a:lnTo>
                  <a:pt x="1319" y="277"/>
                </a:lnTo>
                <a:lnTo>
                  <a:pt x="1319" y="313"/>
                </a:lnTo>
                <a:lnTo>
                  <a:pt x="1319" y="348"/>
                </a:lnTo>
                <a:lnTo>
                  <a:pt x="1319" y="383"/>
                </a:lnTo>
                <a:lnTo>
                  <a:pt x="1319" y="418"/>
                </a:lnTo>
                <a:lnTo>
                  <a:pt x="1354" y="454"/>
                </a:lnTo>
                <a:lnTo>
                  <a:pt x="1354" y="489"/>
                </a:lnTo>
                <a:lnTo>
                  <a:pt x="1390" y="489"/>
                </a:lnTo>
                <a:lnTo>
                  <a:pt x="1390" y="524"/>
                </a:lnTo>
                <a:lnTo>
                  <a:pt x="1390" y="560"/>
                </a:lnTo>
                <a:lnTo>
                  <a:pt x="1425" y="595"/>
                </a:lnTo>
                <a:lnTo>
                  <a:pt x="1425" y="630"/>
                </a:lnTo>
                <a:lnTo>
                  <a:pt x="1425" y="665"/>
                </a:lnTo>
                <a:lnTo>
                  <a:pt x="1425" y="736"/>
                </a:lnTo>
                <a:lnTo>
                  <a:pt x="1425" y="771"/>
                </a:lnTo>
                <a:lnTo>
                  <a:pt x="1456" y="802"/>
                </a:lnTo>
                <a:lnTo>
                  <a:pt x="1456" y="837"/>
                </a:lnTo>
                <a:lnTo>
                  <a:pt x="1456" y="908"/>
                </a:lnTo>
                <a:lnTo>
                  <a:pt x="1491" y="908"/>
                </a:lnTo>
                <a:lnTo>
                  <a:pt x="1491" y="943"/>
                </a:lnTo>
                <a:lnTo>
                  <a:pt x="1491" y="978"/>
                </a:lnTo>
                <a:lnTo>
                  <a:pt x="1491" y="1014"/>
                </a:lnTo>
                <a:lnTo>
                  <a:pt x="1491" y="1085"/>
                </a:lnTo>
                <a:lnTo>
                  <a:pt x="1491" y="1121"/>
                </a:lnTo>
                <a:lnTo>
                  <a:pt x="1491" y="1156"/>
                </a:lnTo>
                <a:lnTo>
                  <a:pt x="1491" y="1191"/>
                </a:lnTo>
                <a:lnTo>
                  <a:pt x="1491" y="1226"/>
                </a:lnTo>
                <a:lnTo>
                  <a:pt x="1491" y="1262"/>
                </a:lnTo>
                <a:lnTo>
                  <a:pt x="1491" y="1297"/>
                </a:lnTo>
                <a:lnTo>
                  <a:pt x="1491" y="1328"/>
                </a:lnTo>
                <a:lnTo>
                  <a:pt x="1491" y="1363"/>
                </a:lnTo>
                <a:lnTo>
                  <a:pt x="1491" y="1398"/>
                </a:lnTo>
                <a:lnTo>
                  <a:pt x="1491" y="1469"/>
                </a:lnTo>
                <a:lnTo>
                  <a:pt x="1491" y="1504"/>
                </a:lnTo>
                <a:lnTo>
                  <a:pt x="1491" y="1539"/>
                </a:lnTo>
                <a:lnTo>
                  <a:pt x="1491" y="1575"/>
                </a:lnTo>
                <a:lnTo>
                  <a:pt x="1491" y="1610"/>
                </a:lnTo>
                <a:lnTo>
                  <a:pt x="1491" y="1645"/>
                </a:lnTo>
                <a:lnTo>
                  <a:pt x="1491" y="1681"/>
                </a:lnTo>
                <a:lnTo>
                  <a:pt x="1491" y="1716"/>
                </a:lnTo>
                <a:lnTo>
                  <a:pt x="1491" y="1751"/>
                </a:lnTo>
                <a:lnTo>
                  <a:pt x="1491" y="1786"/>
                </a:lnTo>
                <a:lnTo>
                  <a:pt x="1491" y="1822"/>
                </a:lnTo>
                <a:lnTo>
                  <a:pt x="1491" y="1853"/>
                </a:lnTo>
                <a:lnTo>
                  <a:pt x="1491" y="1888"/>
                </a:lnTo>
                <a:lnTo>
                  <a:pt x="1491" y="1923"/>
                </a:lnTo>
                <a:lnTo>
                  <a:pt x="1491" y="1958"/>
                </a:lnTo>
                <a:lnTo>
                  <a:pt x="1491" y="2029"/>
                </a:lnTo>
                <a:lnTo>
                  <a:pt x="1491" y="2064"/>
                </a:lnTo>
                <a:lnTo>
                  <a:pt x="1491" y="2100"/>
                </a:lnTo>
                <a:lnTo>
                  <a:pt x="1491" y="2135"/>
                </a:lnTo>
                <a:lnTo>
                  <a:pt x="1491" y="2170"/>
                </a:lnTo>
                <a:lnTo>
                  <a:pt x="1491" y="2205"/>
                </a:lnTo>
                <a:lnTo>
                  <a:pt x="1491" y="2241"/>
                </a:lnTo>
                <a:lnTo>
                  <a:pt x="1491" y="2276"/>
                </a:lnTo>
                <a:lnTo>
                  <a:pt x="1526" y="2311"/>
                </a:lnTo>
                <a:lnTo>
                  <a:pt x="1526" y="2342"/>
                </a:lnTo>
                <a:lnTo>
                  <a:pt x="1526" y="2377"/>
                </a:lnTo>
                <a:lnTo>
                  <a:pt x="1526" y="2448"/>
                </a:lnTo>
                <a:lnTo>
                  <a:pt x="1562" y="2483"/>
                </a:lnTo>
                <a:lnTo>
                  <a:pt x="1562" y="2518"/>
                </a:lnTo>
                <a:lnTo>
                  <a:pt x="1562" y="2554"/>
                </a:lnTo>
                <a:lnTo>
                  <a:pt x="1562" y="2589"/>
                </a:lnTo>
                <a:lnTo>
                  <a:pt x="1562" y="2624"/>
                </a:lnTo>
                <a:lnTo>
                  <a:pt x="1562" y="2660"/>
                </a:lnTo>
                <a:lnTo>
                  <a:pt x="1598" y="2660"/>
                </a:lnTo>
                <a:lnTo>
                  <a:pt x="1598" y="2730"/>
                </a:lnTo>
                <a:lnTo>
                  <a:pt x="1598" y="2765"/>
                </a:lnTo>
                <a:lnTo>
                  <a:pt x="1598" y="2801"/>
                </a:lnTo>
                <a:lnTo>
                  <a:pt x="1633" y="2867"/>
                </a:lnTo>
                <a:lnTo>
                  <a:pt x="1633" y="2902"/>
                </a:lnTo>
                <a:lnTo>
                  <a:pt x="1668" y="2937"/>
                </a:lnTo>
                <a:lnTo>
                  <a:pt x="1668" y="2973"/>
                </a:lnTo>
                <a:lnTo>
                  <a:pt x="1668" y="3008"/>
                </a:lnTo>
                <a:lnTo>
                  <a:pt x="1704" y="3078"/>
                </a:lnTo>
                <a:lnTo>
                  <a:pt x="1704" y="3114"/>
                </a:lnTo>
                <a:lnTo>
                  <a:pt x="1704" y="3150"/>
                </a:lnTo>
                <a:lnTo>
                  <a:pt x="1704" y="3185"/>
                </a:lnTo>
                <a:lnTo>
                  <a:pt x="1704" y="3221"/>
                </a:lnTo>
                <a:lnTo>
                  <a:pt x="1735" y="3256"/>
                </a:lnTo>
                <a:lnTo>
                  <a:pt x="1735" y="3291"/>
                </a:lnTo>
                <a:lnTo>
                  <a:pt x="1735" y="3326"/>
                </a:lnTo>
                <a:lnTo>
                  <a:pt x="1770" y="3362"/>
                </a:lnTo>
                <a:lnTo>
                  <a:pt x="1770" y="3393"/>
                </a:lnTo>
                <a:lnTo>
                  <a:pt x="1770" y="3428"/>
                </a:lnTo>
                <a:lnTo>
                  <a:pt x="1770" y="3498"/>
                </a:lnTo>
                <a:lnTo>
                  <a:pt x="1805" y="3534"/>
                </a:lnTo>
                <a:lnTo>
                  <a:pt x="1805" y="3569"/>
                </a:lnTo>
                <a:lnTo>
                  <a:pt x="1805" y="3640"/>
                </a:lnTo>
                <a:lnTo>
                  <a:pt x="1805" y="3675"/>
                </a:lnTo>
                <a:lnTo>
                  <a:pt x="1805" y="3710"/>
                </a:lnTo>
                <a:lnTo>
                  <a:pt x="1840" y="3745"/>
                </a:lnTo>
                <a:lnTo>
                  <a:pt x="1840" y="3781"/>
                </a:lnTo>
                <a:lnTo>
                  <a:pt x="1840" y="3816"/>
                </a:lnTo>
                <a:lnTo>
                  <a:pt x="1840" y="3851"/>
                </a:lnTo>
                <a:lnTo>
                  <a:pt x="1876" y="3851"/>
                </a:lnTo>
                <a:lnTo>
                  <a:pt x="1876" y="3886"/>
                </a:lnTo>
                <a:lnTo>
                  <a:pt x="1911" y="3917"/>
                </a:lnTo>
                <a:lnTo>
                  <a:pt x="1911" y="3953"/>
                </a:lnTo>
                <a:lnTo>
                  <a:pt x="1946" y="3953"/>
                </a:lnTo>
                <a:lnTo>
                  <a:pt x="1946" y="3988"/>
                </a:lnTo>
                <a:lnTo>
                  <a:pt x="1946" y="4058"/>
                </a:lnTo>
                <a:lnTo>
                  <a:pt x="1981" y="4058"/>
                </a:lnTo>
                <a:lnTo>
                  <a:pt x="2012" y="4094"/>
                </a:lnTo>
                <a:lnTo>
                  <a:pt x="2012" y="4129"/>
                </a:lnTo>
                <a:lnTo>
                  <a:pt x="2048" y="4129"/>
                </a:lnTo>
                <a:lnTo>
                  <a:pt x="2083" y="4129"/>
                </a:lnTo>
                <a:lnTo>
                  <a:pt x="2118" y="4129"/>
                </a:lnTo>
                <a:lnTo>
                  <a:pt x="0" y="4164"/>
                </a:lnTo>
                <a:close/>
              </a:path>
            </a:pathLst>
          </a:custGeom>
          <a:solidFill>
            <a:srgbClr val="02ab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56240" y="4927680"/>
            <a:ext cx="1295640" cy="1270440"/>
          </a:xfrm>
          <a:custGeom>
            <a:avLst/>
            <a:gdLst/>
            <a:ahLst/>
            <a:rect l="0" t="0" r="r" b="b"/>
            <a:pathLst>
              <a:path w="3599" h="3529">
                <a:moveTo>
                  <a:pt x="0" y="3529"/>
                </a:moveTo>
                <a:lnTo>
                  <a:pt x="35" y="3529"/>
                </a:lnTo>
                <a:lnTo>
                  <a:pt x="70" y="3529"/>
                </a:lnTo>
                <a:lnTo>
                  <a:pt x="105" y="3529"/>
                </a:lnTo>
                <a:lnTo>
                  <a:pt x="141" y="3529"/>
                </a:lnTo>
                <a:lnTo>
                  <a:pt x="141" y="3494"/>
                </a:lnTo>
                <a:lnTo>
                  <a:pt x="176" y="3494"/>
                </a:lnTo>
                <a:lnTo>
                  <a:pt x="211" y="3494"/>
                </a:lnTo>
                <a:lnTo>
                  <a:pt x="242" y="3459"/>
                </a:lnTo>
                <a:lnTo>
                  <a:pt x="277" y="3459"/>
                </a:lnTo>
                <a:lnTo>
                  <a:pt x="277" y="3423"/>
                </a:lnTo>
                <a:lnTo>
                  <a:pt x="313" y="3423"/>
                </a:lnTo>
                <a:lnTo>
                  <a:pt x="348" y="3423"/>
                </a:lnTo>
                <a:lnTo>
                  <a:pt x="348" y="3388"/>
                </a:lnTo>
                <a:lnTo>
                  <a:pt x="383" y="3388"/>
                </a:lnTo>
                <a:lnTo>
                  <a:pt x="418" y="3388"/>
                </a:lnTo>
                <a:lnTo>
                  <a:pt x="454" y="3388"/>
                </a:lnTo>
                <a:lnTo>
                  <a:pt x="489" y="3388"/>
                </a:lnTo>
                <a:lnTo>
                  <a:pt x="489" y="3353"/>
                </a:lnTo>
                <a:lnTo>
                  <a:pt x="524" y="3353"/>
                </a:lnTo>
                <a:lnTo>
                  <a:pt x="560" y="3353"/>
                </a:lnTo>
                <a:lnTo>
                  <a:pt x="595" y="3353"/>
                </a:lnTo>
                <a:lnTo>
                  <a:pt x="630" y="3388"/>
                </a:lnTo>
                <a:lnTo>
                  <a:pt x="665" y="3388"/>
                </a:lnTo>
                <a:lnTo>
                  <a:pt x="665" y="3423"/>
                </a:lnTo>
                <a:lnTo>
                  <a:pt x="696" y="3423"/>
                </a:lnTo>
                <a:lnTo>
                  <a:pt x="732" y="3423"/>
                </a:lnTo>
                <a:lnTo>
                  <a:pt x="767" y="3423"/>
                </a:lnTo>
                <a:lnTo>
                  <a:pt x="802" y="3423"/>
                </a:lnTo>
                <a:lnTo>
                  <a:pt x="837" y="3423"/>
                </a:lnTo>
                <a:lnTo>
                  <a:pt x="873" y="3423"/>
                </a:lnTo>
                <a:lnTo>
                  <a:pt x="908" y="3423"/>
                </a:lnTo>
                <a:lnTo>
                  <a:pt x="908" y="3459"/>
                </a:lnTo>
                <a:lnTo>
                  <a:pt x="1014" y="3494"/>
                </a:lnTo>
                <a:lnTo>
                  <a:pt x="1049" y="3494"/>
                </a:lnTo>
                <a:lnTo>
                  <a:pt x="1084" y="3494"/>
                </a:lnTo>
                <a:lnTo>
                  <a:pt x="1120" y="3494"/>
                </a:lnTo>
                <a:lnTo>
                  <a:pt x="1150" y="3494"/>
                </a:lnTo>
                <a:lnTo>
                  <a:pt x="1186" y="3494"/>
                </a:lnTo>
                <a:lnTo>
                  <a:pt x="1221" y="3494"/>
                </a:lnTo>
                <a:lnTo>
                  <a:pt x="1221" y="3459"/>
                </a:lnTo>
                <a:lnTo>
                  <a:pt x="1256" y="3459"/>
                </a:lnTo>
                <a:lnTo>
                  <a:pt x="1292" y="3459"/>
                </a:lnTo>
                <a:lnTo>
                  <a:pt x="1327" y="3459"/>
                </a:lnTo>
                <a:lnTo>
                  <a:pt x="1362" y="3459"/>
                </a:lnTo>
                <a:lnTo>
                  <a:pt x="1397" y="3459"/>
                </a:lnTo>
                <a:lnTo>
                  <a:pt x="1433" y="3494"/>
                </a:lnTo>
                <a:lnTo>
                  <a:pt x="1503" y="3494"/>
                </a:lnTo>
                <a:lnTo>
                  <a:pt x="1538" y="3494"/>
                </a:lnTo>
                <a:lnTo>
                  <a:pt x="1574" y="3494"/>
                </a:lnTo>
                <a:lnTo>
                  <a:pt x="1605" y="3494"/>
                </a:lnTo>
                <a:lnTo>
                  <a:pt x="1640" y="3494"/>
                </a:lnTo>
                <a:lnTo>
                  <a:pt x="1640" y="3529"/>
                </a:lnTo>
                <a:lnTo>
                  <a:pt x="1675" y="3529"/>
                </a:lnTo>
                <a:lnTo>
                  <a:pt x="1710" y="3529"/>
                </a:lnTo>
                <a:lnTo>
                  <a:pt x="1746" y="3529"/>
                </a:lnTo>
                <a:lnTo>
                  <a:pt x="1746" y="3494"/>
                </a:lnTo>
                <a:lnTo>
                  <a:pt x="1781" y="3494"/>
                </a:lnTo>
                <a:lnTo>
                  <a:pt x="1781" y="3459"/>
                </a:lnTo>
                <a:lnTo>
                  <a:pt x="1817" y="3423"/>
                </a:lnTo>
                <a:lnTo>
                  <a:pt x="1817" y="3388"/>
                </a:lnTo>
                <a:lnTo>
                  <a:pt x="1817" y="3353"/>
                </a:lnTo>
                <a:lnTo>
                  <a:pt x="1853" y="3353"/>
                </a:lnTo>
                <a:lnTo>
                  <a:pt x="1853" y="3318"/>
                </a:lnTo>
                <a:lnTo>
                  <a:pt x="1888" y="3318"/>
                </a:lnTo>
                <a:lnTo>
                  <a:pt x="1888" y="3287"/>
                </a:lnTo>
                <a:lnTo>
                  <a:pt x="1923" y="3251"/>
                </a:lnTo>
                <a:lnTo>
                  <a:pt x="1923" y="3181"/>
                </a:lnTo>
                <a:lnTo>
                  <a:pt x="1958" y="3181"/>
                </a:lnTo>
                <a:lnTo>
                  <a:pt x="1958" y="3146"/>
                </a:lnTo>
                <a:lnTo>
                  <a:pt x="1958" y="3110"/>
                </a:lnTo>
                <a:lnTo>
                  <a:pt x="1994" y="3110"/>
                </a:lnTo>
                <a:lnTo>
                  <a:pt x="1994" y="3040"/>
                </a:lnTo>
                <a:lnTo>
                  <a:pt x="2025" y="2969"/>
                </a:lnTo>
                <a:lnTo>
                  <a:pt x="2025" y="2934"/>
                </a:lnTo>
                <a:lnTo>
                  <a:pt x="2025" y="2899"/>
                </a:lnTo>
                <a:lnTo>
                  <a:pt x="2025" y="2868"/>
                </a:lnTo>
                <a:lnTo>
                  <a:pt x="2060" y="2833"/>
                </a:lnTo>
                <a:lnTo>
                  <a:pt x="2060" y="2797"/>
                </a:lnTo>
                <a:lnTo>
                  <a:pt x="2060" y="2762"/>
                </a:lnTo>
                <a:lnTo>
                  <a:pt x="2060" y="2727"/>
                </a:lnTo>
                <a:lnTo>
                  <a:pt x="2060" y="2691"/>
                </a:lnTo>
                <a:lnTo>
                  <a:pt x="2060" y="2656"/>
                </a:lnTo>
                <a:lnTo>
                  <a:pt x="2060" y="2620"/>
                </a:lnTo>
                <a:lnTo>
                  <a:pt x="2095" y="2585"/>
                </a:lnTo>
                <a:lnTo>
                  <a:pt x="2095" y="2514"/>
                </a:lnTo>
                <a:lnTo>
                  <a:pt x="2130" y="2443"/>
                </a:lnTo>
                <a:lnTo>
                  <a:pt x="2166" y="2342"/>
                </a:lnTo>
                <a:lnTo>
                  <a:pt x="2166" y="2307"/>
                </a:lnTo>
                <a:lnTo>
                  <a:pt x="2166" y="2236"/>
                </a:lnTo>
                <a:lnTo>
                  <a:pt x="2201" y="2166"/>
                </a:lnTo>
                <a:lnTo>
                  <a:pt x="2201" y="2130"/>
                </a:lnTo>
                <a:lnTo>
                  <a:pt x="2201" y="2095"/>
                </a:lnTo>
                <a:lnTo>
                  <a:pt x="2236" y="2025"/>
                </a:lnTo>
                <a:lnTo>
                  <a:pt x="2272" y="1958"/>
                </a:lnTo>
                <a:lnTo>
                  <a:pt x="2272" y="1888"/>
                </a:lnTo>
                <a:lnTo>
                  <a:pt x="2272" y="1817"/>
                </a:lnTo>
                <a:lnTo>
                  <a:pt x="2272" y="1782"/>
                </a:lnTo>
                <a:lnTo>
                  <a:pt x="2307" y="1711"/>
                </a:lnTo>
                <a:lnTo>
                  <a:pt x="2307" y="1676"/>
                </a:lnTo>
                <a:lnTo>
                  <a:pt x="2342" y="1606"/>
                </a:lnTo>
                <a:lnTo>
                  <a:pt x="2342" y="1539"/>
                </a:lnTo>
                <a:lnTo>
                  <a:pt x="2342" y="1434"/>
                </a:lnTo>
                <a:lnTo>
                  <a:pt x="2342" y="1398"/>
                </a:lnTo>
                <a:lnTo>
                  <a:pt x="2377" y="1328"/>
                </a:lnTo>
                <a:lnTo>
                  <a:pt x="2377" y="1293"/>
                </a:lnTo>
                <a:lnTo>
                  <a:pt x="2377" y="1257"/>
                </a:lnTo>
                <a:lnTo>
                  <a:pt x="2377" y="1222"/>
                </a:lnTo>
                <a:lnTo>
                  <a:pt x="2377" y="1151"/>
                </a:lnTo>
                <a:lnTo>
                  <a:pt x="2413" y="1116"/>
                </a:lnTo>
                <a:lnTo>
                  <a:pt x="2413" y="1085"/>
                </a:lnTo>
                <a:lnTo>
                  <a:pt x="2413" y="1050"/>
                </a:lnTo>
                <a:lnTo>
                  <a:pt x="2413" y="979"/>
                </a:lnTo>
                <a:lnTo>
                  <a:pt x="2413" y="944"/>
                </a:lnTo>
                <a:lnTo>
                  <a:pt x="2448" y="873"/>
                </a:lnTo>
                <a:lnTo>
                  <a:pt x="2448" y="837"/>
                </a:lnTo>
                <a:lnTo>
                  <a:pt x="2448" y="767"/>
                </a:lnTo>
                <a:lnTo>
                  <a:pt x="2448" y="732"/>
                </a:lnTo>
                <a:lnTo>
                  <a:pt x="2479" y="661"/>
                </a:lnTo>
                <a:lnTo>
                  <a:pt x="2479" y="630"/>
                </a:lnTo>
                <a:lnTo>
                  <a:pt x="2479" y="560"/>
                </a:lnTo>
                <a:lnTo>
                  <a:pt x="2479" y="524"/>
                </a:lnTo>
                <a:lnTo>
                  <a:pt x="2479" y="489"/>
                </a:lnTo>
                <a:lnTo>
                  <a:pt x="2514" y="489"/>
                </a:lnTo>
                <a:lnTo>
                  <a:pt x="2514" y="454"/>
                </a:lnTo>
                <a:lnTo>
                  <a:pt x="2514" y="418"/>
                </a:lnTo>
                <a:lnTo>
                  <a:pt x="2514" y="383"/>
                </a:lnTo>
                <a:lnTo>
                  <a:pt x="2514" y="348"/>
                </a:lnTo>
                <a:lnTo>
                  <a:pt x="2549" y="348"/>
                </a:lnTo>
                <a:lnTo>
                  <a:pt x="2549" y="313"/>
                </a:lnTo>
                <a:lnTo>
                  <a:pt x="2549" y="277"/>
                </a:lnTo>
                <a:lnTo>
                  <a:pt x="2549" y="242"/>
                </a:lnTo>
                <a:lnTo>
                  <a:pt x="2585" y="211"/>
                </a:lnTo>
                <a:lnTo>
                  <a:pt x="2585" y="176"/>
                </a:lnTo>
                <a:lnTo>
                  <a:pt x="2585" y="141"/>
                </a:lnTo>
                <a:lnTo>
                  <a:pt x="2585" y="105"/>
                </a:lnTo>
                <a:lnTo>
                  <a:pt x="2620" y="105"/>
                </a:lnTo>
                <a:lnTo>
                  <a:pt x="2620" y="70"/>
                </a:lnTo>
                <a:lnTo>
                  <a:pt x="2620" y="35"/>
                </a:lnTo>
                <a:lnTo>
                  <a:pt x="2655" y="35"/>
                </a:lnTo>
                <a:lnTo>
                  <a:pt x="2655" y="0"/>
                </a:lnTo>
                <a:lnTo>
                  <a:pt x="2690" y="0"/>
                </a:lnTo>
                <a:lnTo>
                  <a:pt x="2726" y="0"/>
                </a:lnTo>
                <a:lnTo>
                  <a:pt x="2761" y="35"/>
                </a:lnTo>
                <a:lnTo>
                  <a:pt x="2796" y="35"/>
                </a:lnTo>
                <a:lnTo>
                  <a:pt x="2796" y="70"/>
                </a:lnTo>
                <a:lnTo>
                  <a:pt x="2832" y="70"/>
                </a:lnTo>
                <a:lnTo>
                  <a:pt x="2832" y="105"/>
                </a:lnTo>
                <a:lnTo>
                  <a:pt x="2867" y="141"/>
                </a:lnTo>
                <a:lnTo>
                  <a:pt x="2867" y="176"/>
                </a:lnTo>
                <a:lnTo>
                  <a:pt x="2902" y="211"/>
                </a:lnTo>
                <a:lnTo>
                  <a:pt x="2902" y="242"/>
                </a:lnTo>
                <a:lnTo>
                  <a:pt x="2902" y="277"/>
                </a:lnTo>
                <a:lnTo>
                  <a:pt x="2902" y="313"/>
                </a:lnTo>
                <a:lnTo>
                  <a:pt x="2902" y="348"/>
                </a:lnTo>
                <a:lnTo>
                  <a:pt x="2902" y="383"/>
                </a:lnTo>
                <a:lnTo>
                  <a:pt x="2933" y="418"/>
                </a:lnTo>
                <a:lnTo>
                  <a:pt x="2933" y="454"/>
                </a:lnTo>
                <a:lnTo>
                  <a:pt x="2933" y="489"/>
                </a:lnTo>
                <a:lnTo>
                  <a:pt x="2933" y="524"/>
                </a:lnTo>
                <a:lnTo>
                  <a:pt x="2933" y="560"/>
                </a:lnTo>
                <a:lnTo>
                  <a:pt x="2968" y="595"/>
                </a:lnTo>
                <a:lnTo>
                  <a:pt x="2968" y="630"/>
                </a:lnTo>
                <a:lnTo>
                  <a:pt x="2968" y="696"/>
                </a:lnTo>
                <a:lnTo>
                  <a:pt x="2968" y="732"/>
                </a:lnTo>
                <a:lnTo>
                  <a:pt x="2968" y="767"/>
                </a:lnTo>
                <a:lnTo>
                  <a:pt x="3004" y="767"/>
                </a:lnTo>
                <a:lnTo>
                  <a:pt x="3004" y="802"/>
                </a:lnTo>
                <a:lnTo>
                  <a:pt x="3004" y="837"/>
                </a:lnTo>
                <a:lnTo>
                  <a:pt x="3004" y="873"/>
                </a:lnTo>
                <a:lnTo>
                  <a:pt x="3004" y="909"/>
                </a:lnTo>
                <a:lnTo>
                  <a:pt x="3004" y="944"/>
                </a:lnTo>
                <a:lnTo>
                  <a:pt x="3039" y="944"/>
                </a:lnTo>
                <a:lnTo>
                  <a:pt x="3039" y="979"/>
                </a:lnTo>
                <a:lnTo>
                  <a:pt x="3039" y="1015"/>
                </a:lnTo>
                <a:lnTo>
                  <a:pt x="3039" y="1050"/>
                </a:lnTo>
                <a:lnTo>
                  <a:pt x="3039" y="1085"/>
                </a:lnTo>
                <a:lnTo>
                  <a:pt x="3039" y="1116"/>
                </a:lnTo>
                <a:lnTo>
                  <a:pt x="3039" y="1151"/>
                </a:lnTo>
                <a:lnTo>
                  <a:pt x="3039" y="1187"/>
                </a:lnTo>
                <a:lnTo>
                  <a:pt x="3039" y="1222"/>
                </a:lnTo>
                <a:lnTo>
                  <a:pt x="3039" y="1257"/>
                </a:lnTo>
                <a:lnTo>
                  <a:pt x="3039" y="1328"/>
                </a:lnTo>
                <a:lnTo>
                  <a:pt x="3039" y="1363"/>
                </a:lnTo>
                <a:lnTo>
                  <a:pt x="3039" y="1398"/>
                </a:lnTo>
                <a:lnTo>
                  <a:pt x="3039" y="1434"/>
                </a:lnTo>
                <a:lnTo>
                  <a:pt x="3039" y="1469"/>
                </a:lnTo>
                <a:lnTo>
                  <a:pt x="3074" y="1539"/>
                </a:lnTo>
                <a:lnTo>
                  <a:pt x="3074" y="1570"/>
                </a:lnTo>
                <a:lnTo>
                  <a:pt x="3074" y="1641"/>
                </a:lnTo>
                <a:lnTo>
                  <a:pt x="3074" y="1676"/>
                </a:lnTo>
                <a:lnTo>
                  <a:pt x="3109" y="1711"/>
                </a:lnTo>
                <a:lnTo>
                  <a:pt x="3109" y="1782"/>
                </a:lnTo>
                <a:lnTo>
                  <a:pt x="3109" y="1817"/>
                </a:lnTo>
                <a:lnTo>
                  <a:pt x="3109" y="1853"/>
                </a:lnTo>
                <a:lnTo>
                  <a:pt x="3145" y="1853"/>
                </a:lnTo>
                <a:lnTo>
                  <a:pt x="3145" y="1888"/>
                </a:lnTo>
                <a:lnTo>
                  <a:pt x="3145" y="1958"/>
                </a:lnTo>
                <a:lnTo>
                  <a:pt x="3180" y="1989"/>
                </a:lnTo>
                <a:lnTo>
                  <a:pt x="3180" y="2060"/>
                </a:lnTo>
                <a:lnTo>
                  <a:pt x="3180" y="2130"/>
                </a:lnTo>
                <a:lnTo>
                  <a:pt x="3215" y="2201"/>
                </a:lnTo>
                <a:lnTo>
                  <a:pt x="3250" y="2272"/>
                </a:lnTo>
                <a:lnTo>
                  <a:pt x="3250" y="2342"/>
                </a:lnTo>
                <a:lnTo>
                  <a:pt x="3250" y="2413"/>
                </a:lnTo>
                <a:lnTo>
                  <a:pt x="3286" y="2443"/>
                </a:lnTo>
                <a:lnTo>
                  <a:pt x="3286" y="2514"/>
                </a:lnTo>
                <a:lnTo>
                  <a:pt x="3321" y="2585"/>
                </a:lnTo>
                <a:lnTo>
                  <a:pt x="3321" y="2656"/>
                </a:lnTo>
                <a:lnTo>
                  <a:pt x="3321" y="2691"/>
                </a:lnTo>
                <a:lnTo>
                  <a:pt x="3356" y="2762"/>
                </a:lnTo>
                <a:lnTo>
                  <a:pt x="3356" y="2797"/>
                </a:lnTo>
                <a:lnTo>
                  <a:pt x="3356" y="2868"/>
                </a:lnTo>
                <a:lnTo>
                  <a:pt x="3387" y="2934"/>
                </a:lnTo>
                <a:lnTo>
                  <a:pt x="3387" y="3005"/>
                </a:lnTo>
                <a:lnTo>
                  <a:pt x="3387" y="3075"/>
                </a:lnTo>
                <a:lnTo>
                  <a:pt x="3387" y="3110"/>
                </a:lnTo>
                <a:lnTo>
                  <a:pt x="3422" y="3146"/>
                </a:lnTo>
                <a:lnTo>
                  <a:pt x="3422" y="3181"/>
                </a:lnTo>
                <a:lnTo>
                  <a:pt x="3422" y="3216"/>
                </a:lnTo>
                <a:lnTo>
                  <a:pt x="3422" y="3251"/>
                </a:lnTo>
                <a:lnTo>
                  <a:pt x="3458" y="3287"/>
                </a:lnTo>
                <a:lnTo>
                  <a:pt x="3458" y="3318"/>
                </a:lnTo>
                <a:lnTo>
                  <a:pt x="3458" y="3353"/>
                </a:lnTo>
                <a:lnTo>
                  <a:pt x="3458" y="3388"/>
                </a:lnTo>
                <a:lnTo>
                  <a:pt x="3493" y="3388"/>
                </a:lnTo>
                <a:lnTo>
                  <a:pt x="3493" y="3423"/>
                </a:lnTo>
                <a:lnTo>
                  <a:pt x="3493" y="3459"/>
                </a:lnTo>
                <a:lnTo>
                  <a:pt x="3528" y="3459"/>
                </a:lnTo>
                <a:lnTo>
                  <a:pt x="3528" y="3494"/>
                </a:lnTo>
                <a:lnTo>
                  <a:pt x="3528" y="3529"/>
                </a:lnTo>
                <a:lnTo>
                  <a:pt x="3564" y="3529"/>
                </a:lnTo>
                <a:lnTo>
                  <a:pt x="3599" y="3529"/>
                </a:lnTo>
                <a:lnTo>
                  <a:pt x="0" y="3529"/>
                </a:lnTo>
                <a:close/>
              </a:path>
            </a:pathLst>
          </a:custGeom>
          <a:solidFill>
            <a:srgbClr val="0000d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35160" y="534024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95480" y="5265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33360" y="52783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0600" y="5391000"/>
            <a:ext cx="119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75520" y="53164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68800" y="5329080"/>
            <a:ext cx="0" cy="11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360440" y="3911760"/>
            <a:ext cx="3235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NUMBER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90640" y="1092240"/>
            <a:ext cx="49086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WAYS ANTIBOD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25440" y="1857240"/>
            <a:ext cx="39387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BIND TO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0840" y="3408480"/>
            <a:ext cx="1546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Specif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09760" y="3713040"/>
            <a:ext cx="2467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Fab to epi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371600" y="4046400"/>
            <a:ext cx="2924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Fc to Fc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0960" y="4454640"/>
            <a:ext cx="6058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binding is high affinity and sat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2680" y="5376960"/>
            <a:ext cx="2271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Non Specif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5600" y="5842080"/>
            <a:ext cx="6532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binding is low affinity and not sat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92440" y="5583240"/>
            <a:ext cx="147168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5760" y="977760"/>
            <a:ext cx="5649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pecific Acti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is the concentratio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38040" y="2160720"/>
            <a:ext cx="5996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bindable antibody t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epitope divi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67000" y="3279600"/>
            <a:ext cx="37288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by the prot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00093"/>
                </a:solidFill>
                <a:latin typeface="Bookman Old Style"/>
                <a:ea typeface="Bookman Old Style"/>
              </a:rPr>
              <a:t>concent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86120" y="5072040"/>
            <a:ext cx="2222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SA = {F(ab')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06400" y="5630760"/>
            <a:ext cx="2467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Bookman Old Style"/>
                <a:ea typeface="Bookman Old Style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4960" y="2698920"/>
            <a:ext cx="5757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Reasons antibodies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4960" y="3157560"/>
            <a:ext cx="29192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20884"/>
                </a:solidFill>
                <a:latin typeface="Bookman Old Style"/>
                <a:ea typeface="Bookman Old Style"/>
              </a:rPr>
              <a:t>bind to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3560" y="3846600"/>
            <a:ext cx="37735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1. overconju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3560" y="4289400"/>
            <a:ext cx="28544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2. not pu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3560" y="4732200"/>
            <a:ext cx="56437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3. degradation of bind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3560" y="5173560"/>
            <a:ext cx="29336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d4"/>
                </a:solidFill>
                <a:latin typeface="Bookman Old Style"/>
                <a:ea typeface="Bookman Old Style"/>
              </a:rPr>
              <a:t>4. aggre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pci</dc:creator>
  <dc:description>This tutorial was produced by Dr. Carleton Stewart. Any use of the material should acknowledge the source of the slides.</dc:description>
  <dc:language>en-US</dc:language>
  <cp:lastModifiedBy>Cytometry Laboratories</cp:lastModifiedBy>
  <cp:revision>0</cp:revision>
  <dc:subject>tutorial</dc:subject>
  <dc:title>rimini slides</dc:title>
</cp:coreProperties>
</file>