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0" y="1828800"/>
            <a:ext cx="914256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utomated Reticulocyte Analysis:</a:t>
            </a:r>
            <a:br>
              <a:rPr sz="1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Parameters for Anemia Diagnosis and Therapeutic Monitorin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mproved Precision &amp; Laboratory Efficienc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47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H. Davis, M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lliam Beaumont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yal Oak, Michi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33520" y="4343400"/>
            <a:ext cx="8153280" cy="76320"/>
            <a:chOff x="533520" y="4343400"/>
            <a:chExt cx="8153280" cy="76320"/>
          </a:xfrm>
        </p:grpSpPr>
        <p:sp>
          <p:nvSpPr>
            <p:cNvPr id="42" name=""/>
            <p:cNvSpPr/>
            <p:nvPr/>
          </p:nvSpPr>
          <p:spPr>
            <a:xfrm>
              <a:off x="533520" y="434340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3520" y="4419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562720" y="457200"/>
            <a:ext cx="3579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ythopoi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867280" y="2133720"/>
            <a:ext cx="327492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turational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P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lood retic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RF retics (CD71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te 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ess 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562720" y="1752480"/>
            <a:ext cx="3579840" cy="76320"/>
            <a:chOff x="5562720" y="1752480"/>
            <a:chExt cx="3579840" cy="76320"/>
          </a:xfrm>
        </p:grpSpPr>
        <p:sp>
          <p:nvSpPr>
            <p:cNvPr id="96" name=""/>
            <p:cNvSpPr/>
            <p:nvPr/>
          </p:nvSpPr>
          <p:spPr>
            <a:xfrm>
              <a:off x="5562720" y="1752480"/>
              <a:ext cx="357984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1828800"/>
              <a:ext cx="357984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600" y="42840"/>
            <a:ext cx="541980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culocyte Maturation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ivo biotinylati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K. Au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5640" y="1676520"/>
            <a:ext cx="3476520" cy="2486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5640" y="4267080"/>
            <a:ext cx="3476520" cy="2486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981680" y="4227480"/>
            <a:ext cx="3476520" cy="2476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918480" y="4327560"/>
            <a:ext cx="145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919920" y="1736640"/>
            <a:ext cx="128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422440" y="4327560"/>
            <a:ext cx="145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4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57200" y="1736640"/>
            <a:ext cx="257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-biotiny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371600"/>
            <a:ext cx="8153280" cy="76320"/>
            <a:chOff x="457200" y="1371600"/>
            <a:chExt cx="8153280" cy="76320"/>
          </a:xfrm>
        </p:grpSpPr>
        <p:sp>
          <p:nvSpPr>
            <p:cNvPr id="109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3816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ne Marrow Regeneration Response:  Consistent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2560" cy="563724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457200" y="1143000"/>
            <a:ext cx="8153280" cy="76320"/>
            <a:chOff x="457200" y="1143000"/>
            <a:chExt cx="8153280" cy="76320"/>
          </a:xfrm>
        </p:grpSpPr>
        <p:sp>
          <p:nvSpPr>
            <p:cNvPr id="114" name=""/>
            <p:cNvSpPr/>
            <p:nvPr/>
          </p:nvSpPr>
          <p:spPr>
            <a:xfrm>
              <a:off x="457200" y="114300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12193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ythroid Parameters with Erythropoietic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1600200"/>
            <a:ext cx="8153280" cy="76320"/>
            <a:chOff x="457200" y="1600200"/>
            <a:chExt cx="8153280" cy="76320"/>
          </a:xfrm>
        </p:grpSpPr>
        <p:sp>
          <p:nvSpPr>
            <p:cNvPr id="118" name=""/>
            <p:cNvSpPr/>
            <p:nvPr/>
          </p:nvSpPr>
          <p:spPr>
            <a:xfrm>
              <a:off x="457200" y="160020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16765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800" y="1819440"/>
            <a:ext cx="81676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aluation of Erythropoiesi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variate IRF and Retic Count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360" y="1066680"/>
            <a:ext cx="9051840" cy="578952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09480" y="1143000"/>
            <a:ext cx="8153640" cy="76320"/>
            <a:chOff x="609480" y="1143000"/>
            <a:chExt cx="8153640" cy="76320"/>
          </a:xfrm>
        </p:grpSpPr>
        <p:sp>
          <p:nvSpPr>
            <p:cNvPr id="124" name=""/>
            <p:cNvSpPr/>
            <p:nvPr/>
          </p:nvSpPr>
          <p:spPr>
            <a:xfrm>
              <a:off x="609480" y="1143000"/>
              <a:ext cx="815364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1219320"/>
              <a:ext cx="815364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6320" y="15228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mature Reticulocyte Fraction (IRF)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nical Utility in Medica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320" y="1447920"/>
            <a:ext cx="457200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Monitor BM or Stem Cell Regeneration post-BMT or ChemoR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Monitor Renal Transplant Engraftment (Epo produ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Monitor Neonatal Transfusion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Monitor Anemia Therap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Monitor EPO Therapy: Renal Failure, AIDS, Infants, M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Monitor Bone Marrow Toxic Insults from drugs (eg. AZ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Prognostic in Anemia of AIDS and Premat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495680" y="1447920"/>
            <a:ext cx="464652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Timing for Stem Cell Harvests following Growth Factor or Cytotoxic Drug Thera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Detection of Aplastic Crisis in Hemolytic Anem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Diagnosis and monitoring of aplastic ane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Evaluate Normochromic Anemias of Various Eti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Detection of Occult or Compensated  Hemorrhage or Hemo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  <a:ea typeface="Arial"/>
              </a:rPr>
              <a:t>Classification of Anemi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86400" y="4572000"/>
            <a:ext cx="0" cy="763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38160">
            <a:solidFill>
              <a:srgbClr val="8901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71600"/>
            <a:ext cx="8153280" cy="0"/>
          </a:xfrm>
          <a:prstGeom prst="line">
            <a:avLst/>
          </a:prstGeom>
          <a:ln w="25560">
            <a:solidFill>
              <a:srgbClr val="fb02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terns of IRF and Retic counts in An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523880"/>
            <a:ext cx="40384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plastic anemia/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ypoplastic 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M re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hron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ron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halass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late/B12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Myelodyspl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molytic 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lood loss/ano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19720" y="1523880"/>
            <a:ext cx="2286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w/W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w/W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NL/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w/W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n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NL/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6560" y="1447920"/>
            <a:ext cx="2286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igh/W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NL/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NL/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7680" y="1036800"/>
            <a:ext cx="3379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  <a:ea typeface="Times New Roman"/>
              </a:rPr>
              <a:t>Clinic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03880" y="1036800"/>
            <a:ext cx="16178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  <a:ea typeface="Times New Roman"/>
              </a:rPr>
              <a:t>Retic 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918480" y="1036800"/>
            <a:ext cx="884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  <a:ea typeface="Times New Roman"/>
              </a:rPr>
              <a:t>I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3520" y="838080"/>
            <a:ext cx="8153280" cy="76320"/>
            <a:chOff x="533520" y="838080"/>
            <a:chExt cx="8153280" cy="76320"/>
          </a:xfrm>
        </p:grpSpPr>
        <p:sp>
          <p:nvSpPr>
            <p:cNvPr id="140" name=""/>
            <p:cNvSpPr/>
            <p:nvPr/>
          </p:nvSpPr>
          <p:spPr>
            <a:xfrm>
              <a:off x="533520" y="83808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520" y="9144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method Correlation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44792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ngle site studies:  multiple pu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ed precision - CVs &lt;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method bias, but “clinically insignifica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vis et al:  AJCP 102:468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 sites, 11 instruments, 310 blood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RF and Retic counts com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llege of American Pathologists’ Reticulocyte RT Survey 1994-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2,600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rogate blood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tic % only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" y="1295280"/>
            <a:ext cx="8153280" cy="76320"/>
            <a:chOff x="457200" y="1295280"/>
            <a:chExt cx="8153280" cy="76320"/>
          </a:xfrm>
        </p:grpSpPr>
        <p:sp>
          <p:nvSpPr>
            <p:cNvPr id="145" name=""/>
            <p:cNvSpPr/>
            <p:nvPr/>
          </p:nvSpPr>
          <p:spPr>
            <a:xfrm>
              <a:off x="457200" y="129528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15228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tic Counts:  Inter-method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6600" y="990720"/>
            <a:ext cx="2905200" cy="289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095640" y="990720"/>
            <a:ext cx="292428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6320" y="4044960"/>
            <a:ext cx="2895480" cy="2658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048120" y="4037040"/>
            <a:ext cx="2971800" cy="2668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086520" y="4038480"/>
            <a:ext cx="2981160" cy="2666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6095880" y="990720"/>
            <a:ext cx="29718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57200" y="762120"/>
            <a:ext cx="8153280" cy="75960"/>
            <a:chOff x="457200" y="762120"/>
            <a:chExt cx="8153280" cy="75960"/>
          </a:xfrm>
        </p:grpSpPr>
        <p:sp>
          <p:nvSpPr>
            <p:cNvPr id="155" name=""/>
            <p:cNvSpPr/>
            <p:nvPr/>
          </p:nvSpPr>
          <p:spPr>
            <a:xfrm>
              <a:off x="457200" y="762120"/>
              <a:ext cx="8153280" cy="0"/>
            </a:xfrm>
            <a:prstGeom prst="line">
              <a:avLst/>
            </a:prstGeom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83808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RF: Inter-method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76520" y="1409760"/>
            <a:ext cx="5599080" cy="52196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304920" y="914400"/>
            <a:ext cx="8153280" cy="76320"/>
            <a:chOff x="304920" y="914400"/>
            <a:chExt cx="8153280" cy="76320"/>
          </a:xfrm>
        </p:grpSpPr>
        <p:sp>
          <p:nvSpPr>
            <p:cNvPr id="160" name=""/>
            <p:cNvSpPr/>
            <p:nvPr/>
          </p:nvSpPr>
          <p:spPr>
            <a:xfrm>
              <a:off x="304920" y="914400"/>
              <a:ext cx="8153280" cy="0"/>
            </a:xfrm>
            <a:prstGeom prst="line">
              <a:avLst/>
            </a:prstGeom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990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1522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utomated Hematolog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sirable New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5200" y="1600200"/>
            <a:ext cx="83073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D4 and CD8 Lymphocyte Sub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ticulocytes with immature reticulocyte maturation (IRF) - alias 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eutrophil activation marker, such as quantitative PMN CD64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ticulated plate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latelet activation markers (eg. CD62 or CD41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b F containing RBC enumeration (Kleihauer-Bett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mmune activation profile (cytokine/chemokine 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D5+ B Cells or light chain+ B cells (CLL, etc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em Cell enumeration (CD34+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520" y="1295280"/>
            <a:ext cx="8153280" cy="76320"/>
            <a:chOff x="533520" y="1295280"/>
            <a:chExt cx="8153280" cy="76320"/>
          </a:xfrm>
        </p:grpSpPr>
        <p:sp>
          <p:nvSpPr>
            <p:cNvPr id="47" name=""/>
            <p:cNvSpPr/>
            <p:nvPr/>
          </p:nvSpPr>
          <p:spPr>
            <a:xfrm>
              <a:off x="533520" y="129528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520" y="13716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culocyte Proficiency Test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ge of American Patholog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49160" y="2452680"/>
            <a:ext cx="7738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94-96 Program - surrogate blood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Methodologies Approved fo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ew Methylene Blue visual mic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ysmex R series (auramine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low Cytometry - Thiazole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low Cytometry - Other d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oulter STKS/MAXM - N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Miles Technicon H3 - Oxazine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1752480"/>
            <a:ext cx="8153280" cy="76320"/>
            <a:chOff x="457200" y="1752480"/>
            <a:chExt cx="8153280" cy="76320"/>
          </a:xfrm>
        </p:grpSpPr>
        <p:sp>
          <p:nvSpPr>
            <p:cNvPr id="165" name=""/>
            <p:cNvSpPr/>
            <p:nvPr/>
          </p:nvSpPr>
          <p:spPr>
            <a:xfrm>
              <a:off x="457200" y="1752480"/>
              <a:ext cx="8153280" cy="0"/>
            </a:xfrm>
            <a:prstGeom prst="line">
              <a:avLst/>
            </a:prstGeom>
            <a:ln w="38160">
              <a:solidFill>
                <a:srgbClr val="f766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2560" cy="6323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66840" y="90360"/>
            <a:ext cx="8364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 Survey 1995 RT-C:  Distribution of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" y="685800"/>
            <a:ext cx="8153280" cy="76320"/>
            <a:chOff x="457200" y="685800"/>
            <a:chExt cx="8153280" cy="76320"/>
          </a:xfrm>
        </p:grpSpPr>
        <p:sp>
          <p:nvSpPr>
            <p:cNvPr id="170" name=""/>
            <p:cNvSpPr/>
            <p:nvPr/>
          </p:nvSpPr>
          <p:spPr>
            <a:xfrm>
              <a:off x="457200" y="685800"/>
              <a:ext cx="8153280" cy="0"/>
            </a:xfrm>
            <a:prstGeom prst="line">
              <a:avLst/>
            </a:prstGeom>
            <a:ln w="38160">
              <a:solidFill>
                <a:srgbClr val="f766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762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256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7360" y="76320"/>
            <a:ext cx="8950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91960" y="914400"/>
            <a:ext cx="8699760" cy="5915160"/>
            <a:chOff x="291960" y="914400"/>
            <a:chExt cx="8699760" cy="591516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291960" y="914400"/>
              <a:ext cx="4267080" cy="52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4865760" y="914400"/>
              <a:ext cx="4125960" cy="52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278000" y="6089760"/>
              <a:ext cx="7564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118120" y="6249960"/>
              <a:ext cx="366228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         B         C         D        E         F        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ow Cytometer Instr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1684440" y="6249960"/>
              <a:ext cx="25560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       2       3       4       5      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men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3319560" y="1071720"/>
              <a:ext cx="349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8143920" y="1071720"/>
              <a:ext cx="349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 txBox="1"/>
          <p:nvPr/>
        </p:nvSpPr>
        <p:spPr>
          <a:xfrm>
            <a:off x="176040" y="90360"/>
            <a:ext cx="88995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P RT Survey Experience:  No Bias with T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ondary to FCM instr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n or Potential Interfe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63720" y="1173240"/>
            <a:ext cx="794052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ellular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telet clumps or giant plate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cleated cells or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BC I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ell-Jolly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inz or Pappenheimer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rasites (malaris, babe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Miscellaneous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flourescence (drugs, porphy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BC aggregation (paraproteins, cold agglutin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incidence (eg. platelet and R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normal RBCs, hemo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3520" y="914400"/>
            <a:ext cx="8153280" cy="76320"/>
            <a:chOff x="533520" y="914400"/>
            <a:chExt cx="8153280" cy="76320"/>
          </a:xfrm>
        </p:grpSpPr>
        <p:sp>
          <p:nvSpPr>
            <p:cNvPr id="188" name=""/>
            <p:cNvSpPr/>
            <p:nvPr/>
          </p:nvSpPr>
          <p:spPr>
            <a:xfrm>
              <a:off x="533520" y="91440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520" y="990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for Clinical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24040" y="1476360"/>
            <a:ext cx="668808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ommericial Prep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&amp;D Systems, Minneapolis, 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eck Lab, Omaha,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trument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frigerated blood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hort term QC by carry-over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ast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ll not detect long-term d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Veterinary blood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b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r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1143000"/>
            <a:ext cx="8153280" cy="76320"/>
            <a:chOff x="457200" y="1143000"/>
            <a:chExt cx="8153280" cy="76320"/>
          </a:xfrm>
        </p:grpSpPr>
        <p:sp>
          <p:nvSpPr>
            <p:cNvPr id="193" name=""/>
            <p:cNvSpPr/>
            <p:nvPr/>
          </p:nvSpPr>
          <p:spPr>
            <a:xfrm>
              <a:off x="457200" y="114300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12193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5800" y="3808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sons for NOT utilizing automated reticulocyt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6524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Volume does not exceed 3-5/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hysicians expect “stat”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aiting for the “next generation” instr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’ve always done it this w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echnologists like doing manual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33520" y="1828800"/>
            <a:ext cx="8153280" cy="76320"/>
            <a:chOff x="533520" y="1828800"/>
            <a:chExt cx="8153280" cy="76320"/>
          </a:xfrm>
        </p:grpSpPr>
        <p:sp>
          <p:nvSpPr>
            <p:cNvPr id="198" name=""/>
            <p:cNvSpPr/>
            <p:nvPr/>
          </p:nvSpPr>
          <p:spPr>
            <a:xfrm>
              <a:off x="533520" y="182880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520" y="1905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6320" y="0"/>
            <a:ext cx="9066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 of Automated Reticulocyte 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1066680"/>
            <a:ext cx="861048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80-90 Flow cytometr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nke: Pyronin Y                   - Jacobberger: DiOC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tho:  Acridine Orange       - Others: PI, ethidium 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zger, Corash:  Thioflavin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e (BDIS), Davis &amp; Bigelow: Thiazole 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90:  TOA Sysmex R instruments: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uramine 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92-96: Hematology instruments light sc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chnicon - H3:  Oxazine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ulter Gen-S, STKS &amp; MAXM: N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bott Cell Dyn 3500:  N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96:  Hematology instruments - flu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bott Cell Dyn 4000: thiazole-like 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ulter Gen-S: CPO dy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838080"/>
            <a:ext cx="8153280" cy="76320"/>
            <a:chOff x="457200" y="838080"/>
            <a:chExt cx="8153280" cy="76320"/>
          </a:xfrm>
        </p:grpSpPr>
        <p:sp>
          <p:nvSpPr>
            <p:cNvPr id="52" name=""/>
            <p:cNvSpPr/>
            <p:nvPr/>
          </p:nvSpPr>
          <p:spPr>
            <a:xfrm>
              <a:off x="457200" y="83808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9144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0880" y="457200"/>
            <a:ext cx="83818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tomated Reticulocyte Count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hods Available -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360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iazole Orange (BD) by Flow Cyt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PO dye (Coulter) by flow cyt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OA Sysmex R series and SE-Avante by  Auramine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bbott Cell-Dyn 4000 by CD4K5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BX Vega by thiazole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00600" y="2513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ayer Technicon H3, Advia by oxazine d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ulter STKS/MAXM and Gen-S with new methylene blue (N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bbott Cell-Dyn 3500 with N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7680" y="1919160"/>
            <a:ext cx="341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Fluoresenc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84760" y="1919160"/>
            <a:ext cx="3602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Light Scatt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752480"/>
            <a:ext cx="8153280" cy="76320"/>
            <a:chOff x="457200" y="1752480"/>
            <a:chExt cx="8153280" cy="76320"/>
          </a:xfrm>
        </p:grpSpPr>
        <p:sp>
          <p:nvSpPr>
            <p:cNvPr id="60" name=""/>
            <p:cNvSpPr/>
            <p:nvPr/>
          </p:nvSpPr>
          <p:spPr>
            <a:xfrm>
              <a:off x="457200" y="175248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3808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Automated Reticulocyt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1752480"/>
            <a:ext cx="8153280" cy="76320"/>
            <a:chOff x="533520" y="1752480"/>
            <a:chExt cx="8153280" cy="76320"/>
          </a:xfrm>
        </p:grpSpPr>
        <p:sp>
          <p:nvSpPr>
            <p:cNvPr id="64" name=""/>
            <p:cNvSpPr/>
            <p:nvPr/>
          </p:nvSpPr>
          <p:spPr>
            <a:xfrm>
              <a:off x="533520" y="175248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352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685800" y="2092320"/>
            <a:ext cx="77598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menable to labor efficiencies or 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ster analysis per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ows for batch analysis or random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mproved precision of retic 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erior to visual microscopic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eater obj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ew parameters of erythropoi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mature Reticulocyte Fraction (IR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ticulocyte hemoglobin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3808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ew Parameters with Automated Reticulocyte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1828800"/>
            <a:ext cx="8153280" cy="76320"/>
            <a:chOff x="457200" y="1828800"/>
            <a:chExt cx="8153280" cy="76320"/>
          </a:xfrm>
        </p:grpSpPr>
        <p:sp>
          <p:nvSpPr>
            <p:cNvPr id="69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1905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762120" y="2411280"/>
            <a:ext cx="83059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mmature Reticulocyte Fraction (IR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flects rate of erythropoiet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vailable on many instruments,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erly termed reticulocyte maturity index (R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laces need for “corrected” reticulocyte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ticulocyte MCHC (hypochromic Re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cts early functional iron deficiency in Epo -     Studies by Brugnaro, d’Onof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vailable only on Technicon H3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1600200"/>
            <a:ext cx="9142560" cy="44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RF measured as fraction (0.00 - 1.00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ysmex R:  IRF = HFR + MFR (Ref Range: 0.05-0.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iazole Orange:  Cursor at 95% interval  (Ref Range: 0.2-0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port with reticulocyte % and absolute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Graphic display of retic count vs. IR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perimpose refernce ranges for anemia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lotting sequential samples shows erythroi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port results with other CBC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lags for increased reticulocytosis and hypoproliferativ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utomated, random access, discret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50840" y="198360"/>
            <a:ext cx="729756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ticulocyte Enumeration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mature Reticulocyte Fraction (I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33520" y="1371600"/>
            <a:ext cx="8153280" cy="76320"/>
            <a:chOff x="533520" y="1371600"/>
            <a:chExt cx="8153280" cy="76320"/>
          </a:xfrm>
        </p:grpSpPr>
        <p:sp>
          <p:nvSpPr>
            <p:cNvPr id="75" name=""/>
            <p:cNvSpPr/>
            <p:nvPr/>
          </p:nvSpPr>
          <p:spPr>
            <a:xfrm>
              <a:off x="533520" y="137160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mature Reticulocyte Fraction (IRF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azole Orange by Flow Cyt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486400" y="1752480"/>
            <a:ext cx="365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RF =  #HFR/#R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clude nucleated cells (nRBCs, PMNS, lym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clude plate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IRF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r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1790640"/>
            <a:ext cx="4724280" cy="4533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181160" y="2597040"/>
            <a:ext cx="738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B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054160" y="251460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culoc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125880" y="4540320"/>
            <a:ext cx="1020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59200" y="2119320"/>
            <a:ext cx="1155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ucl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955960" y="287172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" y="1371600"/>
            <a:ext cx="8153280" cy="76320"/>
            <a:chOff x="457200" y="1371600"/>
            <a:chExt cx="8153280" cy="76320"/>
          </a:xfrm>
        </p:grpSpPr>
        <p:sp>
          <p:nvSpPr>
            <p:cNvPr id="86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52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idence for Pathophysiologic Relevanc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Immature Reticulocyte Fraction (IR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rythropoietin therapeutic effect:  IRF 1- 3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D71 vs TO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JH study, Major et 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 vivo biotinylation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D71 vs. TO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MT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RF earliest parameter of engraf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various methods with demonstrated 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1447920"/>
            <a:ext cx="8153280" cy="75960"/>
            <a:chOff x="533520" y="1447920"/>
            <a:chExt cx="8153280" cy="75960"/>
          </a:xfrm>
        </p:grpSpPr>
        <p:sp>
          <p:nvSpPr>
            <p:cNvPr id="91" name=""/>
            <p:cNvSpPr/>
            <p:nvPr/>
          </p:nvSpPr>
          <p:spPr>
            <a:xfrm>
              <a:off x="533520" y="1447920"/>
              <a:ext cx="8153280" cy="0"/>
            </a:xfrm>
            <a:prstGeom prst="line">
              <a:avLst/>
            </a:prstGeom>
            <a:ln w="38160">
              <a:solidFill>
                <a:srgbClr val="8901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152388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uce H. Davis, M.D.</dc:creator>
  <dc:description/>
  <dc:language>en-US</dc:language>
  <cp:lastModifiedBy>Bruce H. Davis, M.D.</cp:lastModifiedBy>
  <cp:revision>0</cp:revision>
  <dc:subject/>
  <dc:title>PMN CD64 talk Abbott</dc:title>
</cp:coreProperties>
</file>