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3.wmf" ContentType="image/x-wmf"/>
  <Override PartName="/ppt/media/image9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B7AD-5FA1-4BDC-A7D7-37659190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7764-EFA3-4F30-806C-41CB2F44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94E1-0EFF-458C-AD1B-7DE5524D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C608-E9FA-4BC6-B3A9-D8EA6515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50A3-FB95-4CAE-B183-973A6DA8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621A-AA13-4429-9175-72C50B02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0886-C84A-401D-A08E-BE2C5BFA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0E7F-C2AB-4C3B-9A14-DDF2007A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E69E-EF71-489E-8F2D-27779423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F2C7-36DA-40FB-B0D7-3BA9B3B4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BD00-DAA3-4B3B-AEE6-94C82526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85C2-2866-4EF8-8110-3F7B14F1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afd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afd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afd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3452-BE67-474D-A010-7ECEC76EF812}" type="slidenum">
              <a:rPr b="0" lang="en-US" sz="14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utomated Reticulocyte Analysis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Parameters for Anemia Diagnosis and Therapeutic Monitorin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amp;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mproved Precision &amp; Laboratory Efficienc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Bruce H. Davis, M.D.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William Beaumont Hospita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Royal Oak, Michiga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4343400"/>
            <a:ext cx="8153280" cy="76320"/>
            <a:chOff x="533520" y="4343400"/>
            <a:chExt cx="8153280" cy="76320"/>
          </a:xfrm>
        </p:grpSpPr>
        <p:sp>
          <p:nvSpPr>
            <p:cNvPr id="44" name=""/>
            <p:cNvSpPr/>
            <p:nvPr/>
          </p:nvSpPr>
          <p:spPr>
            <a:xfrm>
              <a:off x="533520" y="434340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33520" y="44197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62720" y="457200"/>
            <a:ext cx="3579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rma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ythopoie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867280" y="2133720"/>
            <a:ext cx="3275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aturational continuu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EPO effec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blood retic populati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RF retics (CD71+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ate retic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tress retic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562720" y="1752480"/>
            <a:ext cx="3579840" cy="76320"/>
            <a:chOff x="5562720" y="1752480"/>
            <a:chExt cx="3579840" cy="76320"/>
          </a:xfrm>
        </p:grpSpPr>
        <p:sp>
          <p:nvSpPr>
            <p:cNvPr id="98" name=""/>
            <p:cNvSpPr/>
            <p:nvPr/>
          </p:nvSpPr>
          <p:spPr>
            <a:xfrm>
              <a:off x="5562720" y="1752480"/>
              <a:ext cx="357984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62720" y="1828800"/>
              <a:ext cx="357984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aphicFrame>
        <p:nvGraphicFramePr>
          <p:cNvPr id="100" name=""/>
          <p:cNvGraphicFramePr/>
          <p:nvPr/>
        </p:nvGraphicFramePr>
        <p:xfrm>
          <a:off x="66600" y="42840"/>
          <a:ext cx="5419800" cy="67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42840"/>
                    <a:ext cx="5419800" cy="67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ticulocyte Maturation: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vivo biotinylation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K. Aul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5640" y="1676520"/>
            <a:ext cx="3476880" cy="2485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952880" y="1676520"/>
            <a:ext cx="3505320" cy="2438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85640" y="4267080"/>
            <a:ext cx="3476880" cy="2486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981680" y="4227480"/>
            <a:ext cx="3476520" cy="2476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918480" y="4327560"/>
            <a:ext cx="145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72 hou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19560" y="1736640"/>
            <a:ext cx="128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 hou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22440" y="4327560"/>
            <a:ext cx="145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4 hou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54320" y="1736640"/>
            <a:ext cx="2574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e-biotinyl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57200" y="1371600"/>
            <a:ext cx="8153280" cy="76320"/>
            <a:chOff x="457200" y="1371600"/>
            <a:chExt cx="8153280" cy="76320"/>
          </a:xfrm>
        </p:grpSpPr>
        <p:sp>
          <p:nvSpPr>
            <p:cNvPr id="112" name=""/>
            <p:cNvSpPr/>
            <p:nvPr/>
          </p:nvSpPr>
          <p:spPr>
            <a:xfrm>
              <a:off x="457200" y="137160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" y="14479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ne Marrow Regeneration Response:  Consistent Patte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1219320"/>
          <a:ext cx="9142560" cy="563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256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"/>
          <p:cNvGrpSpPr/>
          <p:nvPr/>
        </p:nvGrpSpPr>
        <p:grpSpPr>
          <a:xfrm>
            <a:off x="457200" y="1143000"/>
            <a:ext cx="8153280" cy="76320"/>
            <a:chOff x="457200" y="1143000"/>
            <a:chExt cx="8153280" cy="76320"/>
          </a:xfrm>
        </p:grpSpPr>
        <p:sp>
          <p:nvSpPr>
            <p:cNvPr id="118" name=""/>
            <p:cNvSpPr/>
            <p:nvPr/>
          </p:nvSpPr>
          <p:spPr>
            <a:xfrm>
              <a:off x="457200" y="114300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7200" y="12193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rythroid Parameters with Erythropoietic Respon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57200" y="1600200"/>
            <a:ext cx="8153280" cy="76320"/>
            <a:chOff x="457200" y="1600200"/>
            <a:chExt cx="8153280" cy="76320"/>
          </a:xfrm>
        </p:grpSpPr>
        <p:sp>
          <p:nvSpPr>
            <p:cNvPr id="122" name=""/>
            <p:cNvSpPr/>
            <p:nvPr/>
          </p:nvSpPr>
          <p:spPr>
            <a:xfrm>
              <a:off x="457200" y="160020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200" y="16765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442800" y="1819440"/>
          <a:ext cx="8167680" cy="48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800" y="1819440"/>
                    <a:ext cx="8167680" cy="48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tion of Erythropoiesi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variate IRF and Retic Count Disp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0360" y="1066680"/>
          <a:ext cx="9052200" cy="578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1066680"/>
                    <a:ext cx="9052200" cy="578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9" name=""/>
          <p:cNvGrpSpPr/>
          <p:nvPr/>
        </p:nvGrpSpPr>
        <p:grpSpPr>
          <a:xfrm>
            <a:off x="609480" y="1143000"/>
            <a:ext cx="8153640" cy="76320"/>
            <a:chOff x="609480" y="1143000"/>
            <a:chExt cx="8153640" cy="76320"/>
          </a:xfrm>
        </p:grpSpPr>
        <p:sp>
          <p:nvSpPr>
            <p:cNvPr id="130" name=""/>
            <p:cNvSpPr/>
            <p:nvPr/>
          </p:nvSpPr>
          <p:spPr>
            <a:xfrm>
              <a:off x="609480" y="1143000"/>
              <a:ext cx="815364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480" y="1219320"/>
              <a:ext cx="815364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mature Reticulocyte Fraction (IRF)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nical Utility in Medical Pract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320" y="14479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55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Monitor BM or Stem Cell Regeneration post-BMT or ChemoRx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55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Monitor Renal Transplant Engraftment (Epo production)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55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Monitor Neonatal Transfusion Need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55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Monitor Anemia Therapy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55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Monitor EPO Therapy: Renal Failure, AIDS, Infants, MD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55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Monitor Bone Marrow Toxic Insults from drugs (eg. AZT)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55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gnostic in Anemia of AIDS and Prematurity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95680" y="1447920"/>
            <a:ext cx="4646880" cy="487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iming for Stem Cell Harvests following Growth Factor or Cytotoxic Drug Therapy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Detection of Aplastic Crisis in Hemolytic Anemia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Diagnosis and monitoring of aplastic anemia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Evaluate Normochromic Anemias of Various Etiologie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Detection of Occult or Compensated  Hemorrhage or Hemolysi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lassification of Anemias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486400" y="4572000"/>
            <a:ext cx="0" cy="7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50760">
            <a:solidFill>
              <a:srgbClr val="890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371600"/>
            <a:ext cx="8153280" cy="0"/>
          </a:xfrm>
          <a:prstGeom prst="line">
            <a:avLst/>
          </a:prstGeom>
          <a:ln w="25560">
            <a:solidFill>
              <a:srgbClr val="fb0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tterns of IRF and Retic counts in Anem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Aplastic anemia/crisi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hypoplastic anemia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BM regeneration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Chronic diseas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Iron deficiency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Thalassemia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Folate/B12 deficiency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Myelodysplasia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Hemolytic anemia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Blood loss/anoxia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419720" y="152388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Low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Low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Low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Low/WN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Low/WN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WNL/hig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Low/WN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Any lev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Hig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WNL/hig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6560" y="1447920"/>
            <a:ext cx="228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Low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Low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High/WN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WN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Hig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WNL/hig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Hig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WNL/hig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Hig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Hig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5520" y="1036800"/>
            <a:ext cx="338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b02fb"/>
                </a:solidFill>
                <a:uFillTx/>
                <a:latin typeface="Times New Roman"/>
              </a:rPr>
              <a:t>Clinical Conditio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01720" y="1036800"/>
            <a:ext cx="1622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b02fb"/>
                </a:solidFill>
                <a:uFillTx/>
                <a:latin typeface="Times New Roman"/>
              </a:rPr>
              <a:t>Retic C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17760" y="1036800"/>
            <a:ext cx="885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b02fb"/>
                </a:solidFill>
                <a:uFillTx/>
                <a:latin typeface="Times New Roman"/>
              </a:rPr>
              <a:t>IRF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33520" y="838080"/>
            <a:ext cx="8153280" cy="76320"/>
            <a:chOff x="533520" y="838080"/>
            <a:chExt cx="8153280" cy="76320"/>
          </a:xfrm>
        </p:grpSpPr>
        <p:sp>
          <p:nvSpPr>
            <p:cNvPr id="146" name=""/>
            <p:cNvSpPr/>
            <p:nvPr/>
          </p:nvSpPr>
          <p:spPr>
            <a:xfrm>
              <a:off x="533520" y="83808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520" y="91440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rmethod Correlation Stud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ingle site studies:  multiple publishe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564480" indent="-217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roved precision - CVs &lt;15%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564480" indent="-217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method bias, but “clinically insignificant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Davis et al:  AJCP 102:468, 1994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564480" indent="-217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 sites, 11 instruments, 310 blood samp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564480" indent="-217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RF and Retic counts compar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College of American Pathologists’ Reticulocyte RT Survey 1994-96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564480" indent="-217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gt;2,600 participa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564480" indent="-217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rogate blood materi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564480" indent="-217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ic % only repor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57200" y="1295280"/>
            <a:ext cx="8153280" cy="76320"/>
            <a:chOff x="457200" y="1295280"/>
            <a:chExt cx="8153280" cy="76320"/>
          </a:xfrm>
        </p:grpSpPr>
        <p:sp>
          <p:nvSpPr>
            <p:cNvPr id="151" name=""/>
            <p:cNvSpPr/>
            <p:nvPr/>
          </p:nvSpPr>
          <p:spPr>
            <a:xfrm>
              <a:off x="457200" y="129528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7200" y="137160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25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tic Counts:  Inter-method Correl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6600" y="990720"/>
          <a:ext cx="290520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990720"/>
                    <a:ext cx="29052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3095640" y="990720"/>
          <a:ext cx="2924280" cy="28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95640" y="990720"/>
                    <a:ext cx="292428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76320" y="4044960"/>
          <a:ext cx="2895480" cy="265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4044960"/>
                    <a:ext cx="289548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048120" y="4037040"/>
          <a:ext cx="2971800" cy="2668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8120" y="4037040"/>
                    <a:ext cx="297180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6086520" y="4038480"/>
          <a:ext cx="2981160" cy="2667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86520" y="4038480"/>
                    <a:ext cx="298116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6095880" y="990720"/>
          <a:ext cx="2971800" cy="2895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990720"/>
                    <a:ext cx="29718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6" name=""/>
          <p:cNvGrpSpPr/>
          <p:nvPr/>
        </p:nvGrpSpPr>
        <p:grpSpPr>
          <a:xfrm>
            <a:off x="457200" y="762120"/>
            <a:ext cx="8153280" cy="75960"/>
            <a:chOff x="457200" y="762120"/>
            <a:chExt cx="8153280" cy="75960"/>
          </a:xfrm>
        </p:grpSpPr>
        <p:sp>
          <p:nvSpPr>
            <p:cNvPr id="167" name=""/>
            <p:cNvSpPr/>
            <p:nvPr/>
          </p:nvSpPr>
          <p:spPr>
            <a:xfrm>
              <a:off x="457200" y="76212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" y="83808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RF: Inter-method Correl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676520" y="1409760"/>
          <a:ext cx="5599080" cy="52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409760"/>
                    <a:ext cx="559908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2" name=""/>
          <p:cNvGrpSpPr/>
          <p:nvPr/>
        </p:nvGrpSpPr>
        <p:grpSpPr>
          <a:xfrm>
            <a:off x="304920" y="914400"/>
            <a:ext cx="8153280" cy="76320"/>
            <a:chOff x="304920" y="914400"/>
            <a:chExt cx="8153280" cy="76320"/>
          </a:xfrm>
        </p:grpSpPr>
        <p:sp>
          <p:nvSpPr>
            <p:cNvPr id="173" name=""/>
            <p:cNvSpPr/>
            <p:nvPr/>
          </p:nvSpPr>
          <p:spPr>
            <a:xfrm>
              <a:off x="304920" y="91440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920" y="9907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omated Hematology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irable New Parame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5200" y="1600200"/>
            <a:ext cx="83073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D4 and CD8 Lymphocyte Subse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ticulocytes with immature reticulocyte maturation (IRF) - alias RMI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utrophil activation marker, such as quantitative PMN CD64 express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ticulated platele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latelet activation markers (eg. CD62 or CD41 expression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b F containing RBC enumeration (Kleihauer-Bettke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mune activation profile (cytokine/chemokine R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D5+ B Cells or light chain+ B cells (CLL, etc.)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em Cell enumeration (CD34+ cell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33520" y="1295280"/>
            <a:ext cx="8153280" cy="76320"/>
            <a:chOff x="533520" y="1295280"/>
            <a:chExt cx="8153280" cy="76320"/>
          </a:xfrm>
        </p:grpSpPr>
        <p:sp>
          <p:nvSpPr>
            <p:cNvPr id="49" name=""/>
            <p:cNvSpPr/>
            <p:nvPr/>
          </p:nvSpPr>
          <p:spPr>
            <a:xfrm>
              <a:off x="533520" y="129528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137160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ticulocyte Proficiency Testing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llege of American Pathologis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3840" y="2452680"/>
            <a:ext cx="773784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1994-96 Program - surrogate blood materia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Methodologies Approved for Testing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New Methylene Blue visual microscopy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ysmex R series (auramine O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low Cytometry - Thiazole Orang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low Cytometry - Other dy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oulter STKS/MAXM - NMB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Miles Technicon H3 - Oxazine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57200" y="1752480"/>
            <a:ext cx="8153280" cy="76320"/>
            <a:chOff x="457200" y="1752480"/>
            <a:chExt cx="8153280" cy="76320"/>
          </a:xfrm>
        </p:grpSpPr>
        <p:sp>
          <p:nvSpPr>
            <p:cNvPr id="178" name=""/>
            <p:cNvSpPr/>
            <p:nvPr/>
          </p:nvSpPr>
          <p:spPr>
            <a:xfrm>
              <a:off x="457200" y="175248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7200" y="182880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0" y="533520"/>
          <a:ext cx="9142560" cy="632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2560" cy="63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369000" y="90360"/>
            <a:ext cx="8359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P Survey 1995 RT-C:  Distribution of Method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57200" y="685800"/>
            <a:ext cx="8153280" cy="76320"/>
            <a:chOff x="457200" y="685800"/>
            <a:chExt cx="8153280" cy="76320"/>
          </a:xfrm>
        </p:grpSpPr>
        <p:sp>
          <p:nvSpPr>
            <p:cNvPr id="184" name=""/>
            <p:cNvSpPr/>
            <p:nvPr/>
          </p:nvSpPr>
          <p:spPr>
            <a:xfrm>
              <a:off x="457200" y="68580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7200" y="7621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0" y="76320"/>
          <a:ext cx="9142560" cy="67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320"/>
                    <a:ext cx="9142560" cy="67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17360" y="76320"/>
          <a:ext cx="895032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76320"/>
                    <a:ext cx="895032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291960" y="914400"/>
            <a:ext cx="8699760" cy="5915520"/>
            <a:chOff x="291960" y="914400"/>
            <a:chExt cx="8699760" cy="5915520"/>
          </a:xfrm>
        </p:grpSpPr>
        <p:pic>
          <p:nvPicPr>
            <p:cNvPr id="195" name="" descr=""/>
            <p:cNvPicPr/>
            <p:nvPr/>
          </p:nvPicPr>
          <p:blipFill>
            <a:blip r:embed="rId1"/>
            <a:srcRect l="0" t="0" r="0" b="11652"/>
            <a:stretch/>
          </p:blipFill>
          <p:spPr>
            <a:xfrm>
              <a:off x="291960" y="914400"/>
              <a:ext cx="4267440" cy="528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2"/>
            <a:srcRect l="26726" t="0" r="2480" b="11650"/>
            <a:stretch/>
          </p:blipFill>
          <p:spPr>
            <a:xfrm>
              <a:off x="4865760" y="914400"/>
              <a:ext cx="4125960" cy="52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278000" y="6089760"/>
              <a:ext cx="75643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94360" y="6249960"/>
              <a:ext cx="3710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A          B         C         D        E         F        G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low Cytometer Instrumen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67520" y="6249960"/>
              <a:ext cx="2589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        2       3       4       5       6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pecimen Number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319560" y="1071720"/>
              <a:ext cx="349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afd00"/>
                  </a:solidFill>
                  <a:uFillTx/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143920" y="1071720"/>
              <a:ext cx="349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afd00"/>
                  </a:solidFill>
                  <a:uFillTx/>
                  <a:latin typeface="Arial"/>
                </a:rPr>
                <a:t>B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74600" y="90360"/>
            <a:ext cx="8902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 RT Survey Experience:  No Bias with TO method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ary to FCM instrumen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nown or Potential Interfer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59760" y="1173240"/>
            <a:ext cx="7941960" cy="55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Cellular Element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atelet clumps or giant platele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cleated cells or fragme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RBC Inclusion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ell-Jolly bod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inz or Pappenheimer bod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asites (malaris, babesia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Miscellaneous caus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oflourescence (drugs, porphyria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BC aggregation (paraproteins, cold agglutinin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incidence (eg. platelet and RBC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normal RBCs, hemolysi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33520" y="914400"/>
            <a:ext cx="8153280" cy="76320"/>
            <a:chOff x="533520" y="914400"/>
            <a:chExt cx="8153280" cy="76320"/>
          </a:xfrm>
        </p:grpSpPr>
        <p:sp>
          <p:nvSpPr>
            <p:cNvPr id="206" name=""/>
            <p:cNvSpPr/>
            <p:nvPr/>
          </p:nvSpPr>
          <p:spPr>
            <a:xfrm>
              <a:off x="533520" y="91440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3520" y="9907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rols for Clinical Pract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23680" y="1476360"/>
            <a:ext cx="6690600" cy="50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ommericial Preparation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&amp;D Systems, Minneapolis, M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ck Lab, Omaha, N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rument manufacture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Refrigerated blood sampl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t term QC by carry-over comparis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st expensiv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ll not detect long-term dri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Veterinary blood sampl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bb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rcin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57200" y="1143000"/>
            <a:ext cx="8153280" cy="76320"/>
            <a:chOff x="457200" y="1143000"/>
            <a:chExt cx="8153280" cy="76320"/>
          </a:xfrm>
        </p:grpSpPr>
        <p:sp>
          <p:nvSpPr>
            <p:cNvPr id="211" name=""/>
            <p:cNvSpPr/>
            <p:nvPr/>
          </p:nvSpPr>
          <p:spPr>
            <a:xfrm>
              <a:off x="457200" y="114300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7200" y="12193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asons for NOT utilizing automated reticulocyte coun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524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Volume does not exceed 3-5/day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Physicians expect “stat” result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Waiting for the “next generation” instrumen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We’ve always done it this way”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Technologists like doing manual count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33520" y="1828800"/>
            <a:ext cx="8153280" cy="76320"/>
            <a:chOff x="533520" y="1828800"/>
            <a:chExt cx="8153280" cy="76320"/>
          </a:xfrm>
        </p:grpSpPr>
        <p:sp>
          <p:nvSpPr>
            <p:cNvPr id="216" name=""/>
            <p:cNvSpPr/>
            <p:nvPr/>
          </p:nvSpPr>
          <p:spPr>
            <a:xfrm>
              <a:off x="533520" y="182880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3520" y="19051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62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Automated Reticulocyte Coun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1980-90 Flow cytometric method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nke: Pyronin Y                   - Jacobberger: DiOC(3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tho:  Acridine Orange       - Others: PI, ethidium B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zger, Corash:  Thioflavin 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e (BDIS), Davis &amp; Bigelow: Thiazole Orang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1990:  TOA Sysmex R instruments: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Auramine O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1992-96: Hematology instruments light scatte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chnicon - H3:  Oxazine 7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lter Gen-S, STKS &amp; MAXM: NM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bott Cell Dyn 3500:  NM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1996:  Hematology instruments - fluorescenc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bott Cell Dyn 4000: thiazole-like dy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lter Gen-S: CPO dye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57200" y="838080"/>
            <a:ext cx="8153280" cy="76320"/>
            <a:chOff x="457200" y="838080"/>
            <a:chExt cx="8153280" cy="76320"/>
          </a:xfrm>
        </p:grpSpPr>
        <p:sp>
          <p:nvSpPr>
            <p:cNvPr id="54" name=""/>
            <p:cNvSpPr/>
            <p:nvPr/>
          </p:nvSpPr>
          <p:spPr>
            <a:xfrm>
              <a:off x="457200" y="83808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7200" y="91440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utomated Reticulocyte Counting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Available - 199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2360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azole Orange (BD) by Flow Cytometr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PO dye (Coulter) by flow cytometr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A Sysmex R series and SE-Avante by  Auramine O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bott Cell-Dyn 4000 by CD4K53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X Vega by thiazole orang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00240" y="2513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yer Technicon H3, Advia by oxazine dy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ulter STKS/MAXM and Gen-S with new methylene blue (NMB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bott Cell-Dyn 3500 with NM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7680" y="1919160"/>
            <a:ext cx="3411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dfca"/>
                </a:solidFill>
                <a:uFillTx/>
                <a:latin typeface="Times New Roman"/>
              </a:rPr>
              <a:t>Fluoresence Method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84760" y="1919160"/>
            <a:ext cx="360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dfca"/>
                </a:solidFill>
                <a:uFillTx/>
                <a:latin typeface="Times New Roman"/>
              </a:rPr>
              <a:t>Light Scatter Method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57200" y="1752480"/>
            <a:ext cx="8153280" cy="76320"/>
            <a:chOff x="457200" y="1752480"/>
            <a:chExt cx="8153280" cy="76320"/>
          </a:xfrm>
        </p:grpSpPr>
        <p:sp>
          <p:nvSpPr>
            <p:cNvPr id="62" name=""/>
            <p:cNvSpPr/>
            <p:nvPr/>
          </p:nvSpPr>
          <p:spPr>
            <a:xfrm>
              <a:off x="457200" y="175248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7200" y="182880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dvantages of Automated Reticulocyte Analy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3520" y="1752480"/>
            <a:ext cx="8153280" cy="76320"/>
            <a:chOff x="533520" y="1752480"/>
            <a:chExt cx="8153280" cy="76320"/>
          </a:xfrm>
        </p:grpSpPr>
        <p:sp>
          <p:nvSpPr>
            <p:cNvPr id="66" name=""/>
            <p:cNvSpPr/>
            <p:nvPr/>
          </p:nvSpPr>
          <p:spPr>
            <a:xfrm>
              <a:off x="533520" y="175248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182880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82920" y="2092320"/>
            <a:ext cx="7752960" cy="44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menable to labor efficiencies or robotic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ster analysis per samp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ws for batch analysis or random acces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mproved precision of retic counting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erior to visual microscopic cou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eater objectiv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ew parameters of erythropoiesi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mature Reticulocyte Fraction (IR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iculocyte hemoglobin cont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w Parameters with Automated Reticulocyte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57200" y="1828800"/>
            <a:ext cx="8153280" cy="76320"/>
            <a:chOff x="457200" y="1828800"/>
            <a:chExt cx="8153280" cy="76320"/>
          </a:xfrm>
        </p:grpSpPr>
        <p:sp>
          <p:nvSpPr>
            <p:cNvPr id="71" name=""/>
            <p:cNvSpPr/>
            <p:nvPr/>
          </p:nvSpPr>
          <p:spPr>
            <a:xfrm>
              <a:off x="457200" y="182880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19051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762120" y="2411280"/>
            <a:ext cx="830556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Immature Reticulocyte Fraction (IRF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lects rate of erythropoietic activ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vailable on many instruments, method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erly termed reticulocyte maturity index (RMI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laces need for “corrected” reticulocyte cou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Reticulocyte MCHC (hypochromic Retics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tects early functional iron deficiency in Epo -     Studies by Brugnaro, d’Onofrio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vailable only on Technicon H3 to dat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25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IRF measured as fraction (0.00 - 1.00 range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mex R:  IRF = HFR + MFR (Ref Range: 0.05-0.20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azole Orange:  Cursor at 95% interval  (Ref Range: 0.2-0.5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Report with reticulocyte % and absolute coun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Graphic display of retic count vs. IRF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erimpose refernce ranges for anemia classific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otting sequential samples shows erythroid respon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Report results with other CBC parameter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lags for increased reticulocytosis and hypoproliferative respons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Automated, random access, discrete testing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50120" y="198360"/>
            <a:ext cx="729756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ticulocyte Enumeration wit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mature Reticulocyte Fraction (IRF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33520" y="1371600"/>
            <a:ext cx="8153280" cy="76320"/>
            <a:chOff x="533520" y="1371600"/>
            <a:chExt cx="8153280" cy="76320"/>
          </a:xfrm>
        </p:grpSpPr>
        <p:sp>
          <p:nvSpPr>
            <p:cNvPr id="77" name=""/>
            <p:cNvSpPr/>
            <p:nvPr/>
          </p:nvSpPr>
          <p:spPr>
            <a:xfrm>
              <a:off x="533520" y="137160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33520" y="14479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mature Reticulocyte Fraction (IRF)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azole Orange by Flow Cytome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86400" y="1752480"/>
            <a:ext cx="365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RF =  #HFR/#Retic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Data Analysi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8901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clude nucleated cells (nRBCs, PMNS, lymph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8901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clude platele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8901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e IRF reg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8901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e retic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1790640"/>
            <a:ext cx="4724280" cy="4533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180440" y="2597040"/>
            <a:ext cx="73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BC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55600" y="2514600"/>
            <a:ext cx="150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iculocyte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6600" y="4540320"/>
            <a:ext cx="1018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60640" y="2119320"/>
            <a:ext cx="1152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cleated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55240" y="2871720"/>
            <a:ext cx="55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57200" y="1371600"/>
            <a:ext cx="8153280" cy="76320"/>
            <a:chOff x="457200" y="1371600"/>
            <a:chExt cx="8153280" cy="76320"/>
          </a:xfrm>
        </p:grpSpPr>
        <p:sp>
          <p:nvSpPr>
            <p:cNvPr id="88" name=""/>
            <p:cNvSpPr/>
            <p:nvPr/>
          </p:nvSpPr>
          <p:spPr>
            <a:xfrm>
              <a:off x="457200" y="137160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" y="14479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vidence for Pathophysiologic Relevance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Immature Reticulocyte Fraction (IRF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rythropoietin therapeutic effect:  IRF 1- 3 day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D71 vs TO stud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JH study, Major et al.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imal model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vivo biotinylation stud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D71 vs. TO stud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MT recover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RF earliest parameter of engraft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ous methods with demonstrated efficac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33520" y="1447920"/>
            <a:ext cx="8153280" cy="75960"/>
            <a:chOff x="533520" y="1447920"/>
            <a:chExt cx="8153280" cy="75960"/>
          </a:xfrm>
        </p:grpSpPr>
        <p:sp>
          <p:nvSpPr>
            <p:cNvPr id="93" name=""/>
            <p:cNvSpPr/>
            <p:nvPr/>
          </p:nvSpPr>
          <p:spPr>
            <a:xfrm>
              <a:off x="533520" y="144792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3520" y="152388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8T10:23:20Z</dcterms:created>
  <dc:creator>Bruce H. Davis, M.D.</dc:creator>
  <dc:description/>
  <dc:language>en-US</dc:language>
  <cp:lastModifiedBy>Cytometry Laboratories</cp:lastModifiedBy>
  <dcterms:modified xsi:type="dcterms:W3CDTF">1998-04-13T19:53:04Z</dcterms:modified>
  <cp:revision>59</cp:revision>
  <dc:subject/>
  <dc:title>PMN CD64 talk Abbot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K:\htdocs\flowcyt\educate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